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31FB-6F71-44B7-8075-746371C581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8B9E-836F-4BB3-8D5E-082A676A4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20D-49F4-410D-AC86-37F95155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ADC-9516-451C-88D6-85A74057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D05-0949-4FE6-AE9F-31569FF2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AFB-F4CB-4485-85D1-EFA7B485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94B3-6679-493D-90D2-347121B5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731A-5E06-41B1-936F-CAD09873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5066-7DBF-42ED-AF2E-E9E62AE8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734E-BDC3-4B23-A1FD-7DD5CA7F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D95F-E355-48D4-8F43-11E4BCAC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E459-6647-48D6-A6DC-79531540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F02C-F344-4FAD-B14F-675FE5FE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81A-7303-4E66-9302-AC02C719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F063-CABB-4FF5-A331-944AFAEE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F1BC-50DA-4E50-AC5A-07034399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38E6-DAB2-44EB-AAF8-D00087A6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302F-5AC6-4B11-914C-A396081F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BBEC-3CAE-4BAE-8009-0D919EA5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8E8-5BD0-4C80-802F-26FDDD22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B3E-981C-47AB-84F3-60437D76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869-5B45-43C8-97C6-C18EE4A7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B8B-7282-439C-8C1B-22812B2C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8BC-5513-4122-BC9C-F3BD6A8C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881-A383-451A-B2A2-6622A68A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4DE-449E-4B8E-BB4D-FBFC163A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89EF-66A9-47D7-B8F4-E29317F5C4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AD41-3C68-4EF7-8140-612B241936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коммуникативных умений дошкольников в сюжетно ролевых иг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ошкольном детстве важным для коммуникативного развития является деятельность, свободная от влияния взрослых, – общение со сверс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-ролевая игра вполне может являться эффективным средством формирования коммуникативных умений у детей старшего дошкольного возраста благодаря следующим своим характеристикам. Сюжетно-ролевые игры – одни из самых любимых игр детей. Эти игры «учат поведению в различных жизненных ситуациях, создают 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уктуре сюжетно-ролевой игры, Д. Б. Эльконин выделяет «подготовительный этап (планирование игры) и такие ее элементы, как воображаемая ситуация, замысел, сюжет, игровые действия и ролевое поведение». При реализации каждого из этих этапов и элементов сюжетно-ролевой игры старшие дошкольники пользуются разными коммуникативными ум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Объект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446200" cy="480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ли мы с друзьями, что в космос полетим, на чем не знаем сами но это мы решим. Корабль мы построим из винтиков пружин как хорошо нас много, достанем черте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5" descr=""/>
          <p:cNvPicPr/>
          <p:nvPr/>
        </p:nvPicPr>
        <p:blipFill>
          <a:blip r:embed="rId2"/>
          <a:stretch/>
        </p:blipFill>
        <p:spPr>
          <a:xfrm>
            <a:off x="5211720" y="1562040"/>
            <a:ext cx="194472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Рисунок 6" descr=""/>
          <p:cNvPicPr/>
          <p:nvPr/>
        </p:nvPicPr>
        <p:blipFill>
          <a:blip r:embed="rId3"/>
          <a:stretch/>
        </p:blipFill>
        <p:spPr>
          <a:xfrm>
            <a:off x="3036960" y="1600200"/>
            <a:ext cx="2023920" cy="175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" name="Рисунок 7" descr=""/>
          <p:cNvPicPr/>
          <p:nvPr/>
        </p:nvPicPr>
        <p:blipFill>
          <a:blip r:embed="rId4"/>
          <a:stretch/>
        </p:blipFill>
        <p:spPr>
          <a:xfrm>
            <a:off x="3441600" y="5118120"/>
            <a:ext cx="1981440" cy="16714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"/>
          <p:cNvPicPr/>
          <p:nvPr/>
        </p:nvPicPr>
        <p:blipFill>
          <a:blip r:embed="rId5"/>
          <a:stretch/>
        </p:blipFill>
        <p:spPr>
          <a:xfrm>
            <a:off x="3179880" y="3397320"/>
            <a:ext cx="1738080" cy="166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Рисунок 9" descr=""/>
          <p:cNvPicPr/>
          <p:nvPr/>
        </p:nvPicPr>
        <p:blipFill>
          <a:blip r:embed="rId6"/>
          <a:srcRect l="0" t="0" r="-5066" b="-1417"/>
          <a:stretch/>
        </p:blipFill>
        <p:spPr>
          <a:xfrm>
            <a:off x="7307280" y="1636560"/>
            <a:ext cx="1881000" cy="185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Рисунок 10" descr=""/>
          <p:cNvPicPr/>
          <p:nvPr/>
        </p:nvPicPr>
        <p:blipFill>
          <a:blip r:embed="rId7"/>
          <a:stretch/>
        </p:blipFill>
        <p:spPr>
          <a:xfrm>
            <a:off x="5060880" y="3505320"/>
            <a:ext cx="2590920" cy="153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южет игры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холодным голубым высотам, спешит ракета как стрела, мчим на привычную работу К далеким звездам, там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Объект 3" descr=""/>
          <p:cNvPicPr/>
          <p:nvPr/>
        </p:nvPicPr>
        <p:blipFill>
          <a:blip r:embed="rId1"/>
          <a:stretch/>
        </p:blipFill>
        <p:spPr>
          <a:xfrm>
            <a:off x="326880" y="1447920"/>
            <a:ext cx="3089520" cy="304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Рисунок 4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2392560" cy="29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Рисунок 5" descr=""/>
          <p:cNvPicPr/>
          <p:nvPr/>
        </p:nvPicPr>
        <p:blipFill>
          <a:blip r:embed="rId3"/>
          <a:stretch/>
        </p:blipFill>
        <p:spPr>
          <a:xfrm>
            <a:off x="6248520" y="1562040"/>
            <a:ext cx="2571480" cy="281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овой замысел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строили ракету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коробок стульев штор .Взяли сок и бутерброды .Вдруг, лететь придётся  годы. Завели мотор и раз полетели мы на мар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Объект 3" descr=""/>
          <p:cNvPicPr/>
          <p:nvPr/>
        </p:nvPicPr>
        <p:blipFill>
          <a:blip r:embed="rId1"/>
          <a:stretch/>
        </p:blipFill>
        <p:spPr>
          <a:xfrm>
            <a:off x="237960" y="1208160"/>
            <a:ext cx="2971800" cy="327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" name="Рисунок 4" descr=""/>
          <p:cNvPicPr/>
          <p:nvPr/>
        </p:nvPicPr>
        <p:blipFill>
          <a:blip r:embed="rId2"/>
          <a:stretch/>
        </p:blipFill>
        <p:spPr>
          <a:xfrm>
            <a:off x="6095880" y="1208160"/>
            <a:ext cx="2819520" cy="343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Рисунок 1" descr=""/>
          <p:cNvPicPr/>
          <p:nvPr/>
        </p:nvPicPr>
        <p:blipFill>
          <a:blip r:embed="rId3"/>
          <a:stretch/>
        </p:blipFill>
        <p:spPr>
          <a:xfrm>
            <a:off x="3014640" y="4084560"/>
            <a:ext cx="3276720" cy="26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ершение игры. Возвращение до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ка космонавты –быстро - все убрать, чтоб было чисто. Завтра мы корабль построим, чтобы плыть по свету мор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Объект 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2003400" cy="239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5" name="Рисунок 4" descr=""/>
          <p:cNvPicPr/>
          <p:nvPr/>
        </p:nvPicPr>
        <p:blipFill>
          <a:blip r:embed="rId2"/>
          <a:stretch/>
        </p:blipFill>
        <p:spPr>
          <a:xfrm>
            <a:off x="152280" y="4157640"/>
            <a:ext cx="2224080" cy="244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Рисунок 5" descr=""/>
          <p:cNvPicPr/>
          <p:nvPr/>
        </p:nvPicPr>
        <p:blipFill>
          <a:blip r:embed="rId3"/>
          <a:stretch/>
        </p:blipFill>
        <p:spPr>
          <a:xfrm>
            <a:off x="2822400" y="2127240"/>
            <a:ext cx="2541600" cy="58212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"/>
          <p:cNvPicPr/>
          <p:nvPr/>
        </p:nvPicPr>
        <p:blipFill>
          <a:blip r:embed="rId4"/>
          <a:stretch/>
        </p:blipFill>
        <p:spPr>
          <a:xfrm>
            <a:off x="5815080" y="1828800"/>
            <a:ext cx="277956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09120" y="21337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-ролевую игру можно отнести к играм, в которых старшие дошкольники активно используют коммуникативные умения на всех этапах (подготовительном, непосредственно при проведении игры, при анализе игры) и во всех ее элементах. Именно этот тип игр позволяет моделировать общение в различных речевых ситуациях, мотивирует каждого участника на владение коммуникативными умениями, способствует развитию диалогических умений, вот почему сюжетно-ролевая игра – это эффективное средство формирования коммуникативных умений у старших до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Марина</cp:lastModifiedBy>
  <dcterms:modified xsi:type="dcterms:W3CDTF">2022-12-04T09:04:54Z</dcterms:modified>
  <cp:revision>44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