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D360-A781-4103-8E2C-00E85DEB8D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0638-1DCE-4D52-A945-F39D8BA11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541-2707-416D-83AC-8B629E41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4D4-1023-49BC-9D41-41A6D088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5D2-B671-4A77-ADF2-4BF161CC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1A8-387E-4994-93E9-CC62005F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0405-38E2-4E98-AC39-AFEA902F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4865-DFA1-40A2-B69F-861BDD48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501E-3E64-401B-A80A-946644EF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4E7C-050C-4FB7-9F06-9C567866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946B-4FDD-407F-BB9C-4DCF1FB1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33BE-50D1-4122-B481-A6EA8F47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79A8-A931-4EB7-B80A-C0F2A2FE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53B-F89C-4BCF-9459-AE887716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7935-F520-456D-B917-A885658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54BB-1AA1-4491-B83D-639AEEB5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908A-59D4-450F-B54A-FC226A7A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13A6-860B-46E0-B980-016FF34C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98F5-8713-4A41-B424-D5F7EE30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E4B-0E37-4281-B256-5818A265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C31-A8EF-4EDE-A7D2-A0A58A0E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736-1C7B-467C-8D26-DBC15088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86F-BFC3-4822-B283-B6D72CE5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2D6-E372-4A4C-B012-3720432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C34-17A8-49B2-A545-315BBD4C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2163-51CC-4DDB-BC71-D018B99E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2AAD-CE69-4A69-981F-9048819C72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1D0D-53C0-4ECA-9C58-FD07A36C6D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коммуникативных умений дошкольников в сюжетно ролевых иг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ошкольном детстве важным для коммуникативного развития является деятельность, свободная от влияния взрослых, – общение со сверс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-ролевая игра вполне может являться эффективным средством формирования коммуникативных умений у детей старшего дошкольного возраста благодаря следующим своим характеристикам. Сюжетно-ролевые игры – одни из самых любимых игр детей. Эти игры «учат поведению в различных жизненных ситуациях, создают 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уктуре сюжетно-ролевой игры, Д. Б. Эльконин выделяет «подготовительный этап (планирование игры) и такие ее элементы, как воображаемая ситуация, замысел, сюжет, игровые действия и ролевое поведение». При реализации каждого из этих этапов и элементов сюжетно-ролевой игры старшие дошкольники пользуются разными коммуникативными ум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Объект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446200" cy="480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ли мы с друзьями, что в космос полетим, на чем не знаем сами но это мы решим. Корабль мы построим из винтиков пружин как хорошо нас много, достанем черте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5" descr=""/>
          <p:cNvPicPr/>
          <p:nvPr/>
        </p:nvPicPr>
        <p:blipFill>
          <a:blip r:embed="rId2"/>
          <a:stretch/>
        </p:blipFill>
        <p:spPr>
          <a:xfrm>
            <a:off x="5211720" y="1562040"/>
            <a:ext cx="194472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Рисунок 6" descr=""/>
          <p:cNvPicPr/>
          <p:nvPr/>
        </p:nvPicPr>
        <p:blipFill>
          <a:blip r:embed="rId3"/>
          <a:stretch/>
        </p:blipFill>
        <p:spPr>
          <a:xfrm>
            <a:off x="3036960" y="1600200"/>
            <a:ext cx="2023920" cy="175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" name="Рисунок 7" descr=""/>
          <p:cNvPicPr/>
          <p:nvPr/>
        </p:nvPicPr>
        <p:blipFill>
          <a:blip r:embed="rId4"/>
          <a:stretch/>
        </p:blipFill>
        <p:spPr>
          <a:xfrm>
            <a:off x="3441600" y="5118120"/>
            <a:ext cx="1981440" cy="16714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"/>
          <p:cNvPicPr/>
          <p:nvPr/>
        </p:nvPicPr>
        <p:blipFill>
          <a:blip r:embed="rId5"/>
          <a:stretch/>
        </p:blipFill>
        <p:spPr>
          <a:xfrm>
            <a:off x="3179880" y="3397320"/>
            <a:ext cx="1738080" cy="166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Рисунок 9" descr=""/>
          <p:cNvPicPr/>
          <p:nvPr/>
        </p:nvPicPr>
        <p:blipFill>
          <a:blip r:embed="rId6"/>
          <a:srcRect l="0" t="0" r="-5066" b="-1417"/>
          <a:stretch/>
        </p:blipFill>
        <p:spPr>
          <a:xfrm>
            <a:off x="7307280" y="1636560"/>
            <a:ext cx="1881000" cy="185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Рисунок 10" descr=""/>
          <p:cNvPicPr/>
          <p:nvPr/>
        </p:nvPicPr>
        <p:blipFill>
          <a:blip r:embed="rId7"/>
          <a:stretch/>
        </p:blipFill>
        <p:spPr>
          <a:xfrm>
            <a:off x="5060880" y="3505320"/>
            <a:ext cx="2590920" cy="153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южет игры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холодным голубым высотам, спешит ракета как стрела, мчим на привычную работу К далеким звездам, там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Объект 3" descr=""/>
          <p:cNvPicPr/>
          <p:nvPr/>
        </p:nvPicPr>
        <p:blipFill>
          <a:blip r:embed="rId1"/>
          <a:stretch/>
        </p:blipFill>
        <p:spPr>
          <a:xfrm>
            <a:off x="326880" y="1447920"/>
            <a:ext cx="3089520" cy="304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Рисунок 4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2392560" cy="29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Рисунок 5" descr=""/>
          <p:cNvPicPr/>
          <p:nvPr/>
        </p:nvPicPr>
        <p:blipFill>
          <a:blip r:embed="rId3"/>
          <a:stretch/>
        </p:blipFill>
        <p:spPr>
          <a:xfrm>
            <a:off x="6248520" y="1562040"/>
            <a:ext cx="2571480" cy="281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овой замысел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строили ракету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коробок стульев штор .Взяли сок и бутерброды .Вдруг, лететь придётся  годы. Завели мотор и раз полетели мы на мар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Объект 3" descr=""/>
          <p:cNvPicPr/>
          <p:nvPr/>
        </p:nvPicPr>
        <p:blipFill>
          <a:blip r:embed="rId1"/>
          <a:stretch/>
        </p:blipFill>
        <p:spPr>
          <a:xfrm>
            <a:off x="237960" y="1208160"/>
            <a:ext cx="2971800" cy="327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" name="Рисунок 4" descr=""/>
          <p:cNvPicPr/>
          <p:nvPr/>
        </p:nvPicPr>
        <p:blipFill>
          <a:blip r:embed="rId2"/>
          <a:stretch/>
        </p:blipFill>
        <p:spPr>
          <a:xfrm>
            <a:off x="6095880" y="1208160"/>
            <a:ext cx="2819520" cy="343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Рисунок 1" descr=""/>
          <p:cNvPicPr/>
          <p:nvPr/>
        </p:nvPicPr>
        <p:blipFill>
          <a:blip r:embed="rId3"/>
          <a:stretch/>
        </p:blipFill>
        <p:spPr>
          <a:xfrm>
            <a:off x="3014640" y="4084560"/>
            <a:ext cx="3276720" cy="26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ершение игры. Возвращение до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ка космонавты –быстро - все убрать, чтоб было чисто. Завтра мы корабль построим, чтобы плыть по свету мор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Объект 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2003400" cy="239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5" name="Рисунок 4" descr=""/>
          <p:cNvPicPr/>
          <p:nvPr/>
        </p:nvPicPr>
        <p:blipFill>
          <a:blip r:embed="rId2"/>
          <a:stretch/>
        </p:blipFill>
        <p:spPr>
          <a:xfrm>
            <a:off x="152280" y="4157640"/>
            <a:ext cx="2224080" cy="244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Рисунок 5" descr=""/>
          <p:cNvPicPr/>
          <p:nvPr/>
        </p:nvPicPr>
        <p:blipFill>
          <a:blip r:embed="rId3"/>
          <a:stretch/>
        </p:blipFill>
        <p:spPr>
          <a:xfrm>
            <a:off x="2822400" y="2127240"/>
            <a:ext cx="2541600" cy="58212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"/>
          <p:cNvPicPr/>
          <p:nvPr/>
        </p:nvPicPr>
        <p:blipFill>
          <a:blip r:embed="rId4"/>
          <a:stretch/>
        </p:blipFill>
        <p:spPr>
          <a:xfrm>
            <a:off x="5815080" y="1828800"/>
            <a:ext cx="277956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09120" y="21337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-ролевую игру можно отнести к играм, в которых старшие дошкольники активно используют коммуникативные умения на всех этапах (подготовительном, непосредственно при проведении игры, при анализе игры) и во всех ее элементах. Именно этот тип игр позволяет моделировать общение в различных речевых ситуациях, мотивирует каждого участника на владение коммуникативными умениями, способствует развитию диалогических умений, вот почему сюжетно-ролевая игра – это эффективное средство формирования коммуникативных умений у старших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Марина</cp:lastModifiedBy>
  <dcterms:modified xsi:type="dcterms:W3CDTF">2022-12-04T09:04:54Z</dcterms:modified>
  <cp:revision>44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