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6D11-2DA1-4F7C-9F9E-ACB1374AD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A17D-9284-4757-87B4-03C157D06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58788-4EF1-43E4-8EB8-FDFF343B8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E202D-F9A3-43E4-BF26-852B410A3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46B02-60F4-4F73-B9E6-CE6248901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1B165-223F-40C2-9634-A417385E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531C-4ED0-4CA7-8A92-6935D6D17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372DA-50D8-4E31-9CB0-74FA79BDB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C4EDE-08A1-4A4E-B153-2C21D4908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C9384-8C88-4AA0-A1E5-F86ABE455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11237-2CBF-419D-B457-D5F6B0186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741B-034C-4913-99DE-0645C4C1A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71E07-9A88-45C2-A6FA-9A5341302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1168-C6AE-415D-BA47-42793A1F0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9ACAF-6AA9-4901-B3A0-BADCF8D82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45975-E776-4063-A729-A762FCD65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E54E2-DF82-4F68-9DA5-738E4C587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D5C3C2-6215-4377-992A-B47EA0A27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1FDE3-ACE3-41CD-BC78-6584AC7E6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739F9-C6C9-4DD0-8611-966901C10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66245-C0B5-475E-9058-D14C44C03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2DCA9-D49E-46BA-9BB4-E4FA8D993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52F3A-A7A0-4F23-A8D1-ED31754D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830CC-3DC3-4E6C-9706-8CD12E45B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B705E-698E-4A3C-89F7-2241832A4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5C824-340E-4854-A570-D331EF355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596FE-20FD-4D13-A9D2-2C4695ED6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4C3C7-3E4E-475B-8C69-4E1D117D5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9E34FA-E210-4087-AD9A-BF94F9ADF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9185D-99C3-4631-9FEA-0EF750B561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B1A52-18E3-462B-93A0-96FB93177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15AFA1-49AF-4C21-92D0-B4DAEB2A9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1EDCA-0DA1-4802-83EA-DED645B64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4E64-269F-407F-89C1-8C9C7878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A0DD9-1E2D-45D6-8607-BE8B38251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35961-EBF8-4D53-9721-C5164D29F1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0D5F3-2B24-4617-AD88-DAF583AA2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E0821-ED8C-41B4-93D1-A1F1773ED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3EB83-82E1-4385-BEF4-952D39545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720D3-D317-437B-9175-2F72EBE4F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FE775C-6D22-417F-A86E-E70FC3068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F682F-3342-4B74-90F7-1C6784528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8430AF-8123-4472-BAB0-C4C89AD12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3F473-27D7-4FEF-BD99-DC41C36EA1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871D-A921-441E-A174-0371C6C2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A44CC1-9A94-46EF-8304-DCCD1731A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922E3-65C9-413F-8F3A-FBDE3DA2A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84141-4E73-4FE2-A745-300C06CE5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9AFAA-646A-48FB-8A20-722103421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9A52D-1CE3-48AF-A072-22103B37C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687FE-D2BC-46F2-AF8F-6BD1248E5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CD9B0-FD3E-4FC0-AB64-2C3B4AFDD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C66EA-E878-47E5-8521-262E7F72B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C05A3-BE9E-4FAB-B321-97BAA4C0A2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F349ED-F5E0-474C-BDB0-BF17FE460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ADDD-B2D9-4797-A557-2CCDD456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16CCC5-7D80-4300-A3D5-6A60B4EFC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F44607-39EC-4BA4-BA68-C569A68D3B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6FA4A-94AB-4C02-A94C-D57A2C447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D9BCE-3D96-44D2-AEA0-9A667DA407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34FFC-5FE4-4661-904F-DBE61A46B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46580-F91B-48A4-A2EE-D41BE4413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FFBBA-EF8C-46F2-A1EA-B79BC7B5C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45819-23DF-4D2D-9B7A-AB6705938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76BB9-97A1-44E3-98CF-5AE59766A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E7455-DD9E-4A1C-A3CD-BDE595EB1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23DC-05CB-4968-B581-7C1F1A7B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4D4E8-7677-499E-B670-F9C8A50DEF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8B8431-3550-4AD2-BBE5-933B3ACD4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C2C85D-4962-4F32-9828-5532A4869F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7B4AB-261D-4712-BBD6-2E65143A21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9CCF9-AFA1-49F0-9FFB-16AFE3A53B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1ADB4-C980-4A3E-9872-FE86595E6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C744E8-E4C8-4735-BD78-4D4DB206E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F63E2B-E903-4DA1-A292-F69A81D5D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984DC-7738-4698-B60E-56851A08AB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86D89-AD74-442F-908A-7D7ECDF24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6E47D-6A42-48B8-9481-88C291B2C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4E4DD-7ADC-4CB2-AB4B-31F41D4BA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98652-CBA8-4234-8F31-D9F2D2781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4847E-70B3-4F71-B294-4C0EED448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5F90B-4A66-4991-9C50-41C26DDA1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B80896-A93E-4927-8D06-0FCF7C3398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33CD3B-9DB7-473D-A625-53047DFEB0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63D29-7A15-4BD8-A2EE-E970E34356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9BAF15-7902-427D-9D04-518B6C61A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A6F2BC-2A72-4ABD-8E55-879B7C773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2C78B7-1637-4E6E-A596-05B71689F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2963-DECE-439E-A60E-02CD2EC8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B6247-9811-4939-B9E1-0D2CEE8CB1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0B58E-8714-487F-9E2F-115D5DD4F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529AD-7764-4923-8161-2F47D3CED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41915-4884-43BA-9181-B59B25F9E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03A5C-70DB-4C04-B1F7-AF03EBE5F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573138-2728-4E26-89EB-BB478FBEF6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ABB4A5-8016-4912-AFBF-C27817CDF1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4994-DABD-431F-B80C-6376C5539CC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12E7-B464-4918-81D8-1C20DDE9FB85}"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B532-E472-4E38-818E-864793B56E1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7754-B281-48E6-AF12-518FD7BB68D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2CF3-A049-4046-8A8A-F3F697E9C51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0154-A929-4706-A97E-756F3CED935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97D3-FCD3-4F6E-9C2A-FA6F676B48F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75D2-C9E5-404A-BC50-FEF5AF038E4F}"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1828800" y="1706400"/>
            <a:ext cx="6297480" cy="25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5280" y="2349000"/>
            <a:ext cx="8229600" cy="32403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гу кон кече. Оза кува мелна руашым луга. Кечывал деч вара мончаш олтат. Мончаш пурен , чыла ошым, арум чият. Комбо шыл да келшыше шӱраш дене когыльо кӧргым шол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кугу пашам ышташ ок йӧрӧ: кӱварым ӱшташ, ӱпым шераш /кеҥеж мучко чывет пакчатым удыраш тӱҥалеш/, вургемым мушкаш.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тулым ылыжташ, ломыжым тарваташ ок йӧрӧ.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еҥ деке пураш ок йӧрӧ. «Неле кид-йолан пура гын, идалык мучко нелын илаш тӱҥалат» малденыт. Комбигыже, лудигыже ок лек, вольык дене иктаж-мо лиеш – кечывал марте пурышо еҥым титаклаш тӱҥалы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де кечын еҥлан нимом пуаш ок йӧрӧ.</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р эрденак чодырашке каен, лӱмегожым налыт, капкашке, пӧрт омса, вӱта омса, леваш омса, монча омса ӱмбаке осал пурен ынже керт манын пижык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ьыклан шаньык дене шудым огыт пу, кид ӧндалтыш дене  налын пуат.</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84" name="Заголовок 1" descr=""/>
          <p:cNvPicPr/>
          <p:nvPr/>
        </p:nvPicPr>
        <p:blipFill>
          <a:blip r:embed="rId1"/>
          <a:stretch/>
        </p:blipFill>
        <p:spPr>
          <a:xfrm>
            <a:off x="2114640" y="-6480"/>
            <a:ext cx="4762440" cy="23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fontScale="95000"/>
          </a:bodyPr>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УШАРНЯ. Кажне суртышто эрак кынелаш тыршат, молан манаш гын, Кугечын модын лекше кече кечым ончаш вашкат. Тидыже – кугу пиал. Кечын модын лекмыжым ужат гын, илышет ласка, кече гаяк модын-воштыл эрта, маныт.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ы кечын тӱрлеман когыльым тӱрлат. Озавате шӱрашан мелнам кӱэштеш. Сурт оза кок сортам пӱтыра:Юмо пусак да пура леҥежлан. Вара шоган шӱм дене муным чиялтат. Муно – тиде илышым пуышо тамга. Кугече курык гыч муным «куржталыктен» модыныт. Курык гыч шуко муно куржын вола гын, Мланде ӱмбалне айдеме тукым шукеммым ончыктен.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ҥга лиймеке, когыльым кӱктат, комбо шыл дене шӱрым шолтат, эгерчым, ӱян туарам кӱктен ямдылат. Чыла тиде чесым, ӱстембаке яндар ош солыкым шарен, радам дене шындылыт: пура леҥеж, леҥеж воктене шыште сортам, шке ыштыме кинде сукырым, сукыр ӱмбалне ӱян эгерчым, ӱян туарам,туара ӱмбаке ший оксам, шӱрашан тичмаш мелна кышылым, кӱмыж дене тӱрлеман когыльым, чиялтыме муным, шолтымо шӧрым, комбо шыл шӱрым. </a:t>
            </a:r>
            <a:endParaRPr b="0" lang="en-US" sz="1400" spc="-1" strike="noStrike">
              <a:solidFill>
                <a:srgbClr val="000000"/>
              </a:solidFill>
              <a:latin typeface="Lucida Sans Unicode"/>
            </a:endParaRPr>
          </a:p>
          <a:p>
            <a:pPr marL="346680" indent="-24264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ыла чесым ӱстембак поген шындымеке, оза кугыза Юмо пусакеш сортам чӱкта, тушко пыштыме ӱмашсе Кугече муным у дене вашталта. Пура леҥеж воктеке сортам чӱкта да ешыжлан сукен шинчаш кӱшта. Сурт оза шкеже пелештен ок мошто гын, карт кугызам ӱжын конден кертеш.  Чоклымо мутым ойлаш тӱҥалеш, коҥга воктеке миен, тулышко пурам кышкалеш, тушкак мелна катышым, когыльо катышым кудалта да ойла: «Юмо виктарен шого. Тул водыж, тыйын шикшет кужу, йылмет пӱсӧ, тӧрсырым тӧрлатен, налын миен, виктарен шуктен пу!» Тыге кум гана ышта, Тул-авалан, Тул водыжлан, кумалме Юмо-влаклан шуктен виктара. Ӱстелтӧр воктеке мия, кӱчык кумалтыш мутым ойла. Вара оза ден ватыже пурам сукалтен шинчын йӱыт, пӧртысӧ моло еҥ-влаклан йӱктат. Чылан ӱстелтӧрыш кочкаш шинчыт. Кочкын-йӱын теммеке, унала каят.  </a:t>
            </a:r>
            <a:endParaRPr b="0" lang="en-US" sz="1400" spc="-1" strike="noStrike">
              <a:solidFill>
                <a:srgbClr val="000000"/>
              </a:solidFill>
              <a:latin typeface="Lucida Sans Unicode"/>
            </a:endParaRPr>
          </a:p>
          <a:p>
            <a:pPr marL="346680" indent="-2426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86" name="Заголовок 1" descr=""/>
          <p:cNvPicPr/>
          <p:nvPr/>
        </p:nvPicPr>
        <p:blipFill>
          <a:blip r:embed="rId1"/>
          <a:stretch/>
        </p:blipFill>
        <p:spPr>
          <a:xfrm>
            <a:off x="1633680" y="-152280"/>
            <a:ext cx="5443560" cy="193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5280" y="3357360"/>
            <a:ext cx="8229600" cy="18745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АШЛАМА КОРКА кече. Пурам йӱыт. Кугыеҥ-влак пура йӱмылан оксам пыштат, а йоча-влак пар дене ӱчашен йӱыт. Кӧ ондак йӱын пытара, тудлан оксам пуат.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Заголовок 1" descr=""/>
          <p:cNvPicPr/>
          <p:nvPr/>
        </p:nvPicPr>
        <p:blipFill>
          <a:blip r:embed="rId1"/>
          <a:stretch/>
        </p:blipFill>
        <p:spPr>
          <a:xfrm>
            <a:off x="1384200" y="85680"/>
            <a:ext cx="5765760" cy="267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ичмаш кинде сукыр гай илышда пеҥгыде лийже, ош туара гай уш-акылда кавапомышто волгалтше. Илыш аҥада кугече мелна гай кумда лийже! Чевер муно гай модын-пӧрдын илыза, тичмаш ташлама корка гай кумылда шоҥешталт шогыжо. А Кугече лӱҥгалтыш порсын кумылдам сандалыкын йӱксӧ корныж марте нӧлтен аралыже!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Заголовок 2" descr=""/>
          <p:cNvPicPr/>
          <p:nvPr/>
        </p:nvPicPr>
        <p:blipFill>
          <a:blip r:embed="rId1"/>
          <a:stretch/>
        </p:blipFill>
        <p:spPr>
          <a:xfrm>
            <a:off x="2475000" y="396720"/>
            <a:ext cx="4840200" cy="10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1. Кугече шуматкече деч ончыч шырчык толеш гын, шошо эр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 Сорта чӱктыш йӱдым кылмыкта гын, Семык марте ок тӧрлане: нылле кылме эркын эрта.</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3. Кугече кечын лум лумеш гын, шурно сай шоч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4. Кугече кечын кечан игече лиеш – шыдаҥ сай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5. Кугече кечын ояр гын, мӱй лектыш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6. Кугече деч ончыч кӱдырчо кӱдырта  - кеҥеж шолеман лиеш.</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7. Кугече вӱргече могай, кеҥеж тугай.</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8. Кугече эрдене мардежан гын, кеҥеж мардежан лиеш.</a:t>
            </a:r>
            <a:endParaRPr b="0" lang="en-US" sz="2500" spc="-1" strike="noStrike">
              <a:solidFill>
                <a:srgbClr val="000000"/>
              </a:solidFill>
              <a:latin typeface="Lucida Sans Unicode"/>
            </a:endParaRPr>
          </a:p>
        </p:txBody>
      </p:sp>
      <p:pic>
        <p:nvPicPr>
          <p:cNvPr id="392" name="Заголовок 1" descr=""/>
          <p:cNvPicPr/>
          <p:nvPr/>
        </p:nvPicPr>
        <p:blipFill>
          <a:blip r:embed="rId1"/>
          <a:stretch/>
        </p:blipFill>
        <p:spPr>
          <a:xfrm>
            <a:off x="2189160" y="212760"/>
            <a:ext cx="533880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6280"/>
            <a:ext cx="8229600" cy="54007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ылан кече ояра гын,  кеҥеж шокшо лиеш, пылан гын – йӱштӧ да кукшо.</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йӱдым пылан гын, идалык шурно лектышым сӧра, а шӧр лӱштыш, мӧҥгешла, огеш куандаре. Ояр гын, шурно огеш куш, а чыве-влак сайын мунчаш тӱҥалыт. Кугече арнян йӱр чот йӱреш гын, шурно лектыш поян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годым кукун мурыжым колшо еҥ пиалан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лык ой почеш, Кугече кечын чот шонымым йодаш лиеш.</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ы кечын еҥлан ыштыме поро паша сулыкым касара маныт.</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е арнян икымше кечын муным шолтымо да ший вӱд дене мушкылтат гын, эре мотор кодат, а товар ӱмбак шогалат гын, пеҥгыде лият.</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ландыште шукш ынже пошо манын, Кугече деч варасе мунышӱмым пакчаште тояште араленыт.</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Чеснокым шындыме годым мунышӱмым мландыш кералме кок тояш пижыктеныт, тыге чеснок муно гай йыргешке кушкеш манын ӱшанены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угече кечын шочшо йоча кугу кӱкшытыш шуэш, а Кугече арнясе кеч-могай кечынже шочшо таза да пеҥгыде лиеш.</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чеш кутыраш тӱҥалше йочам, иктаҥашыже-влакым поктен шужо манын, кугече кечын пу кӱвар мучко чарайолын коштыктены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угечылан шиште перкалымым колат – шке пачеран, суртан лият.</a:t>
            </a:r>
            <a:endParaRPr b="0" lang="en-US" sz="1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9228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гече – ожнысек жаплыме, ик тукым гыч весыш куснен толшо шошымсо пайрем.Тудо тӱрлӧ йӱлаж дене ойыртемалтеш.Но эн тӱҥжӧ – эрдене эрак мончаш пурен, ош тувырым чийыман. Мелнам кӱэштман,  шоган шӱмым кучылтын, муным чиялтыман, комбо шыл  да шӱраш гыч когыльым ыштыман.  Шоҥешталтше пурам кум-ныл кече ончычак  шолтыман. Погынен, пырля кочкын-йӱын, веселан пайремым эртарыман</a:t>
            </a:r>
            <a:r>
              <a:rPr b="0" lang="ru-RU" sz="2000" spc="-1" strike="noStrike">
                <a:solidFill>
                  <a:srgbClr val="000000"/>
                </a:solidFill>
                <a:latin typeface="Times New Roman"/>
                <a:ea typeface="Times New Roman"/>
              </a:rPr>
              <a:t>.</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68360" y="6206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гече – тӱнян, пӱртӱсын ылыжме, чыла чонанын илыш вийым налме кече. Православный вераште тудым Пасха маныт, а ош марий калык Кугече пайрем манеш.Теле йӱштӧ деч вара пӱртӱсна помыжалтеш, Мландава мыланна шке шокшыжым пуа, а чиялтен ямдылыме чевер муно пайрем кумылым ешара. Таклан огыл муно – тичмаш кинде-шинчал семынак Кугече ӱстембалне ик эн тӱҥ пайрем сий. Тудо у тукымлан илышым веле огыл пуа, эше осал вий дечат утара – калыкна тидлан ожнысек ӱшана. Кугече муным вашталтыме йӱла кугуракланат, изиракланат келша.</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11280" y="6206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Ӱдыр-рвезе-влак йӧратыме кугече пайремым мокталтен, гармонь почеш муралтен колтат. Лӱҥгалтыш дене лӱҥгалтат. Лӱҥгалтме годым самырык еҥ-влак утларак кӱшкӧ лияш тыршыман. Тыге пуйто кава дене кылым кучымо йӱла лиеш. Мыняр кӱшкӧ лӱҥгалтен кӱзет, тунаре илышет саемеш. Илалшырак еҥже-влак, пурам йӱын, пӧрт еда коштыт. Кугече Юмо деч серлагышым, порылыкым йодын кумалын, кажне суртышто сугыньым пуэн кодат.</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Заголовок 1" descr=""/>
          <p:cNvPicPr/>
          <p:nvPr/>
        </p:nvPicPr>
        <p:blipFill>
          <a:blip r:embed="rId1"/>
          <a:stretch/>
        </p:blipFill>
        <p:spPr>
          <a:xfrm>
            <a:off x="201600" y="12600"/>
            <a:ext cx="8601120" cy="37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24000" y="3357360"/>
            <a:ext cx="8229600" cy="880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Ямдылалтме, мушкылтмо, тоштыеным ӱжмӧ кече</a:t>
            </a:r>
            <a:endParaRPr b="0" lang="en-US" sz="2700" spc="-1" strike="noStrike">
              <a:solidFill>
                <a:srgbClr val="000000"/>
              </a:solidFill>
              <a:latin typeface="Lucida Sans Unicode"/>
            </a:endParaRPr>
          </a:p>
        </p:txBody>
      </p:sp>
      <p:pic>
        <p:nvPicPr>
          <p:cNvPr id="376" name="Заголовок 1" descr=""/>
          <p:cNvPicPr/>
          <p:nvPr/>
        </p:nvPicPr>
        <p:blipFill>
          <a:blip r:embed="rId1"/>
          <a:stretch/>
        </p:blipFill>
        <p:spPr>
          <a:xfrm>
            <a:off x="1341360" y="665280"/>
            <a:ext cx="6126120" cy="25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2492280"/>
            <a:ext cx="8229600" cy="30290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Тоштыеным ушташ ямдылалтме кече.</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кугу пашам ышташ ок йӧрӧ: кӱварым ӱшташ, ӱпым шераш /кеҥеж мучко чывет пакчатым удыраш тӱҥалеш/, вургемым мушкаш.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тулым ылыжташ, ломыжым тарваташ ок йӧрӧ. </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чывал марте еҥ деке пураш ок йӧрӧ. «Неле кид-йолан пура гын, идалык мучко нелын илаш тӱҥалат» малденыт. Комбигыже, лудигыже ок лек, вольык дене иктаж-мо лиеш – кечывал марте пурышо еҥым титаклаш тӱҥалы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де кечын еҥлан нимом пуаш ок йӧрӧ.</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р эрденак чодырашке каен, лӱмегожым налыт, капкашке, пӧрт омса, вӱта омса, леваш омса, монча омса ӱмбаке осал пурен ынже керт манын пижыктат.</a:t>
            </a: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ьыклан шаньык дене шудым огыт пу, кид ӧндалтыш дене  налын пуат.</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378" name="Заголовок 1" descr=""/>
          <p:cNvPicPr/>
          <p:nvPr/>
        </p:nvPicPr>
        <p:blipFill>
          <a:blip r:embed="rId1"/>
          <a:stretch/>
        </p:blipFill>
        <p:spPr>
          <a:xfrm>
            <a:off x="401760" y="-249120"/>
            <a:ext cx="6615000" cy="271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280" y="3141720"/>
            <a:ext cx="8229600" cy="1727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Тоштыеным уштымаш да ужатымаш.</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Lucida Sans Unicode"/>
              </a:rPr>
              <a:t>Оза кува мелнам кӱэштеш, пурам ямдыла. Ӱстембаке чыла чесым поген шындат. Оза кугыза 5-6 см. кутышан сортам колышо еҥ лӱмеш ямдылыме оҥаш чӱкта да уштен пелешта. Тоштыеҥым, кочкын-йӱын тӧрлатымеке, ужатен колтымо шотым ыштат.</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80" name="Заголовок 1" descr=""/>
          <p:cNvPicPr/>
          <p:nvPr/>
        </p:nvPicPr>
        <p:blipFill>
          <a:blip r:embed="rId1"/>
          <a:stretch/>
        </p:blipFill>
        <p:spPr>
          <a:xfrm>
            <a:off x="963720" y="255600"/>
            <a:ext cx="5802120" cy="259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2565000"/>
            <a:ext cx="8229600" cy="10112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Эрдене оза кува Кугече лӱм дене пурам шолта.</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048040" y="182520"/>
            <a:ext cx="4133520" cy="22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7:04:48Z</dcterms:created>
  <dc:creator>Пользователь</dc:creator>
  <dc:description/>
  <dc:language>en-US</dc:language>
  <cp:lastModifiedBy>Римма</cp:lastModifiedBy>
  <dcterms:modified xsi:type="dcterms:W3CDTF">2022-12-04T19:14:57Z</dcterms:modified>
  <cp:revision>10</cp:revision>
  <dc:subject/>
  <dc:title>17.04.Шертне(Воштыр) рушарня</dc:title>
</cp:coreProperties>
</file>