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6.jpeg" ContentType="image/jpeg"/>
  <Override PartName="/ppt/media/image30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11.jpeg" ContentType="image/jpeg"/>
  <Override PartName="/ppt/media/image1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8.png" ContentType="image/png"/>
  <Override PartName="/ppt/media/image14.wmf" ContentType="image/x-wmf"/>
  <Override PartName="/ppt/media/image18.jpeg" ContentType="image/jpeg"/>
  <Override PartName="/ppt/media/image19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media/image2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F062-B1CC-40C1-A507-87146F5AF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BCCA-5B1A-4E12-A0CF-3EE8353EC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16E0-C5CE-4848-B457-2DDF3E6F9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5DB0-99C9-49D4-A9F6-78B1E533D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13A4-224B-4624-89A3-3B5469226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AC74-40A5-4403-BADA-924A28B2E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0C85-38C9-41A2-B85C-9928B2563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B69A-11C9-4316-B93F-CEB5BF8D7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F971-5AC8-478A-B212-A435DEC20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12C7-0FD8-49B4-BD13-1D57B2E0E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C597-E0B8-474B-B41C-951E8A7B5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1B52-A5F4-43C0-945B-D453F2EEB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D2E5-20B1-4E91-9024-8216F3837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1CAF-4CB1-4483-B628-E2AEE0905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068F-B83D-49AD-A3E1-7C068CB0D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FFE-FA3E-4053-A846-1D9869BB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6FE-062C-4BC3-83AA-B3A1DC99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C07-C03B-4658-88E7-EE1D2303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649-8C91-4AC5-B5AA-E4B46414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7F52-6F59-4930-8126-4CAC5FDC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17CE-AC2F-4D3B-8EE6-8E3C8FB4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2BDF-669A-43C1-95A7-EB893AF4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3C79-5518-47CD-AD42-63160FF7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FB36-716A-4083-A9EC-54CF3A0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0820-8738-4EEB-9FBA-A0F5A07C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23D7-0892-439C-8645-1A4BFE14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109-FBB9-4398-8CD6-D5E35F99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950E-34F8-4915-A5DB-8E877852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A538-41FE-4A6A-B30C-B6B67A2C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5084-B00B-49B6-B8AB-3DA4ECD5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4F9D-D379-4E08-A3DB-3C60ED73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F8B1-D588-4E43-B96A-41C2FC54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2892-3680-4CE5-9F24-060E3F52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8AE1-F469-4B57-9A46-4D21880C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EEAD-271A-4052-AE5B-55CB1223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29578-6465-4FFE-B991-B02C2035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DB02-0778-4644-A9BB-90AF853F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1A0-ABF1-4647-9B5F-7FFCBC52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3C30-00E0-40DC-921F-247345C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4973-A813-4EB1-A10A-17FE496C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598F-266D-49D2-9407-50ECCD3E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A670-1996-4D60-9F74-BCB56B2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3A19-408C-4584-8EB7-394CBDD0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5B68-EB77-4C25-B535-5D4F9D9F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BA49-A52B-4A42-941E-5ADE94FF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9FF3-9CAE-4486-8CCF-611D2F2A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E069-1D8E-4FE9-AFC8-B19897D2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6786-CF6D-460A-A466-0FF73B17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096-C814-412C-BE4C-1DEC37AE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4ABC-DBA7-4CBB-8662-F71DB162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5DCA-1587-484C-A5A7-25425886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FE9F6-3C75-4294-BB02-5A1DF1A3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04995-384F-4842-A288-EE848CFA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18598-514B-4124-8BCD-F221421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B7E3-3765-44A7-91A7-111846D8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4062-156C-4E69-BD79-932CCF2D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EE04-4B59-47A1-99BD-8BF26324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9BBAC-ADAA-4953-8A5D-FA54268D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9503-5EFA-4BC1-8989-FEA0DADC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FD8-69A2-47A8-AA8F-2C6A2CE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2EA01-9885-4F75-B04C-4F0CD823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3DE2-A831-4B20-9E9B-CEC61A40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88D07-0B21-49C5-9665-165DC666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1A2B-2CE3-45AF-82B5-1034B05D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0368-0E81-4CF7-84D6-20A698A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1C1D-EBAA-4354-9BA9-42B7591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714A4-FE24-44F1-9611-C8678504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83C2B-08B4-4969-B324-87948CAF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56368-CADE-44A9-9DE1-36E5AE8F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7637A-5100-4790-838A-6A4C8C89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C6F-9119-4EF8-A6AA-FE6D9D5A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8BEF9-682C-4A2C-9E73-7438EA1F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21B53-C3EC-4C4C-ACA6-429FBFD7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097A0-F401-44EF-B0CB-7AF84ED5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54A50-66BD-451B-B16D-F7D9239C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50671-1CE9-41F3-927A-EA1964FE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E4214-60D9-4E36-BE94-362428EC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905D2-5411-4765-80B3-4CDD2242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823AB-87FB-49B3-84A0-E58E1EAB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6269-8173-4C7E-8005-CCB9F343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11EC-2EBF-4176-9C56-FD75AA6B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DC0-3CC5-477C-8D06-0347574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5DF4C-B089-4E26-949B-EC2AF9D5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540C-5090-49BC-87F6-0A0E9118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E2EA-FD01-4C23-95BD-E74178CA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DA4-E0BE-4902-8E1D-9C7737B0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207-3022-421F-AC4C-B8561C2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CD57-2B38-4301-8A65-B9E895DB8CE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A9C4-9083-42D2-852C-49518FB1618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163F-85B2-4B62-BC36-2584A4736E1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E725-D7F9-42EB-979E-3162A6DFAE8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29C3-9A42-457F-BD74-F94B4D8F8A7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E80E-83AE-4D74-A895-C36D02B4138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43280" y="7045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Урок математики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2 клас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3068640"/>
            <a:ext cx="43164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                 </a:t>
            </a: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Тимина И.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8" descr="1205947523_11885263680"/>
          <p:cNvPicPr/>
          <p:nvPr/>
        </p:nvPicPr>
        <p:blipFill>
          <a:blip r:embed="rId1"/>
          <a:stretch/>
        </p:blipFill>
        <p:spPr>
          <a:xfrm>
            <a:off x="684360" y="1700280"/>
            <a:ext cx="310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75120" y="3284280"/>
            <a:ext cx="588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Отдохнё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0" name="Танец утят.mid" descr=""/>
          <p:cNvPicPr/>
          <p:nvPr/>
        </p:nvPicPr>
        <p:blipFill>
          <a:blip r:embed="rId1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mult39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26828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82650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632720" cy="18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Comic Sans MS"/>
              </a:rPr>
              <a:t>Вычисл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 устным объяснением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5280" y="2420640"/>
            <a:ext cx="8362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2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54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 6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39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  28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  1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school3"/>
          <p:cNvPicPr/>
          <p:nvPr/>
        </p:nvPicPr>
        <p:blipFill>
          <a:blip r:embed="rId1"/>
          <a:stretch/>
        </p:blipFill>
        <p:spPr>
          <a:xfrm>
            <a:off x="357120" y="4143240"/>
            <a:ext cx="2104920" cy="21337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7"/>
          <p:cNvSpPr txBox="1"/>
          <p:nvPr/>
        </p:nvSpPr>
        <p:spPr>
          <a:xfrm>
            <a:off x="468360" y="3068640"/>
            <a:ext cx="36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3492360" y="2997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7020000" y="2997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399" name="Picture 11" descr="images"/>
          <p:cNvPicPr/>
          <p:nvPr/>
        </p:nvPicPr>
        <p:blipFill>
          <a:blip r:embed="rId2"/>
          <a:stretch/>
        </p:blipFill>
        <p:spPr>
          <a:xfrm>
            <a:off x="6929280" y="4857840"/>
            <a:ext cx="150048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ff"/>
                </a:solidFill>
                <a:latin typeface="Calibri"/>
              </a:rPr>
              <a:t>Самостоятельно   № 1, стр. 10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3284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6" descr="chet_1"/>
          <p:cNvPicPr/>
          <p:nvPr/>
        </p:nvPicPr>
        <p:blipFill>
          <a:blip r:embed="rId1"/>
          <a:stretch/>
        </p:blipFill>
        <p:spPr>
          <a:xfrm>
            <a:off x="6012000" y="4508640"/>
            <a:ext cx="2857320" cy="18763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1"/>
          <p:cNvSpPr/>
          <p:nvPr/>
        </p:nvSpPr>
        <p:spPr>
          <a:xfrm>
            <a:off x="755640" y="4869000"/>
            <a:ext cx="51944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92, 73, 74, 41, 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Задача № 3, стр. 10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395280" y="2205000"/>
            <a:ext cx="822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тояло – 18 м. и  7  б.  лод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шло – 3  ло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талось –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NA01344_"/>
          <p:cNvPicPr/>
          <p:nvPr/>
        </p:nvPicPr>
        <p:blipFill>
          <a:blip r:embed="rId1"/>
          <a:stretch/>
        </p:blipFill>
        <p:spPr>
          <a:xfrm>
            <a:off x="5703840" y="3643200"/>
            <a:ext cx="229716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14160" y="499680"/>
            <a:ext cx="67294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00"/>
                </a:solidFill>
                <a:latin typeface="Calibri"/>
              </a:rPr>
              <a:t>Сколько весит дыня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89000" y="4815360"/>
            <a:ext cx="70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 одной чаше 2 дыни и гиря весом 2 к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 на другой – 1 дыня и гиря весом 3 к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колько весит одна ды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9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606920" cy="2428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"/>
          <p:cNvPicPr/>
          <p:nvPr/>
        </p:nvPicPr>
        <p:blipFill>
          <a:blip r:embed="rId2"/>
          <a:stretch/>
        </p:blipFill>
        <p:spPr>
          <a:xfrm>
            <a:off x="4714920" y="2071800"/>
            <a:ext cx="684000" cy="5810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3"/>
          <a:stretch/>
        </p:blipFill>
        <p:spPr>
          <a:xfrm>
            <a:off x="2000160" y="2214720"/>
            <a:ext cx="684360" cy="5810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"/>
          <p:cNvPicPr/>
          <p:nvPr/>
        </p:nvPicPr>
        <p:blipFill>
          <a:blip r:embed="rId4"/>
          <a:stretch/>
        </p:blipFill>
        <p:spPr>
          <a:xfrm>
            <a:off x="3071880" y="2143080"/>
            <a:ext cx="68400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857240" y="785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и черте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857160" y="2643120"/>
            <a:ext cx="2786040" cy="2714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3"/>
          <p:cNvSpPr/>
          <p:nvPr/>
        </p:nvSpPr>
        <p:spPr>
          <a:xfrm>
            <a:off x="5429160" y="2643120"/>
            <a:ext cx="2786040" cy="2714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5"/>
          <p:cNvSpPr/>
          <p:nvPr/>
        </p:nvSpPr>
        <p:spPr>
          <a:xfrm>
            <a:off x="857160" y="2643120"/>
            <a:ext cx="278604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7"/>
          <p:cNvSpPr/>
          <p:nvPr/>
        </p:nvSpPr>
        <p:spPr>
          <a:xfrm flipH="1">
            <a:off x="856800" y="2642400"/>
            <a:ext cx="278604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9"/>
          <p:cNvSpPr/>
          <p:nvPr/>
        </p:nvSpPr>
        <p:spPr>
          <a:xfrm flipV="1">
            <a:off x="5428440" y="400068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1"/>
          <p:cNvSpPr/>
          <p:nvPr/>
        </p:nvSpPr>
        <p:spPr>
          <a:xfrm>
            <a:off x="6821640" y="2643120"/>
            <a:ext cx="1440" cy="27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BRD311"/>
          <p:cNvPicPr/>
          <p:nvPr/>
        </p:nvPicPr>
        <p:blipFill>
          <a:blip r:embed="rId1"/>
          <a:stretch/>
        </p:blipFill>
        <p:spPr>
          <a:xfrm>
            <a:off x="395280" y="1341360"/>
            <a:ext cx="4500720" cy="46814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14680" y="571680"/>
            <a:ext cx="696096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Comic Sans MS"/>
              </a:rPr>
              <a:t>Домашнее  задание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71640" y="4149720"/>
            <a:ext cx="324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Страница  10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4, № 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6" descr="14"/>
          <p:cNvPicPr/>
          <p:nvPr/>
        </p:nvPicPr>
        <p:blipFill>
          <a:blip r:embed="rId2"/>
          <a:stretch/>
        </p:blipFill>
        <p:spPr>
          <a:xfrm>
            <a:off x="7667640" y="5373720"/>
            <a:ext cx="101448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689040" y="987480"/>
            <a:ext cx="1036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934640"/>
            <a:ext cx="754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21, 40, 76, 91, 30, 10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BULLEYE"/>
          <p:cNvPicPr/>
          <p:nvPr/>
        </p:nvPicPr>
        <p:blipFill>
          <a:blip r:embed="rId2"/>
          <a:stretch/>
        </p:blipFill>
        <p:spPr>
          <a:xfrm>
            <a:off x="1428840" y="428760"/>
            <a:ext cx="1687320" cy="1295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дартс"/>
          <p:cNvPicPr/>
          <p:nvPr/>
        </p:nvPicPr>
        <p:blipFill>
          <a:blip r:embed="rId3"/>
          <a:stretch/>
        </p:blipFill>
        <p:spPr>
          <a:xfrm>
            <a:off x="6000840" y="785880"/>
            <a:ext cx="2689200" cy="1295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mult35"/>
          <p:cNvPicPr/>
          <p:nvPr/>
        </p:nvPicPr>
        <p:blipFill>
          <a:blip r:embed="rId4"/>
          <a:stretch/>
        </p:blipFill>
        <p:spPr>
          <a:xfrm>
            <a:off x="6858000" y="4286160"/>
            <a:ext cx="1700280" cy="183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mult7"/>
          <p:cNvPicPr/>
          <p:nvPr/>
        </p:nvPicPr>
        <p:blipFill>
          <a:blip r:embed="rId5"/>
          <a:stretch/>
        </p:blipFill>
        <p:spPr>
          <a:xfrm>
            <a:off x="642960" y="4572000"/>
            <a:ext cx="1714320" cy="16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 flipH="1">
            <a:off x="-720" y="1413000"/>
            <a:ext cx="637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Научиться решать примеры нового вида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Быть дружными, внимательными, помогать друг друг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boy_works"/>
          <p:cNvPicPr/>
          <p:nvPr/>
        </p:nvPicPr>
        <p:blipFill>
          <a:blip r:embed="rId1"/>
          <a:stretch/>
        </p:blipFill>
        <p:spPr>
          <a:xfrm>
            <a:off x="5643720" y="3143160"/>
            <a:ext cx="2985840" cy="31003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Наши цел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1125000"/>
            <a:ext cx="755496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Пишу…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кладываю …, пишу…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кладываю …, пишу…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Ответ 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0" name="Picture 4" descr="school"/>
          <p:cNvPicPr/>
          <p:nvPr/>
        </p:nvPicPr>
        <p:blipFill>
          <a:blip r:embed="rId1"/>
          <a:stretch/>
        </p:blipFill>
        <p:spPr>
          <a:xfrm>
            <a:off x="0" y="0"/>
            <a:ext cx="2050920" cy="1994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school4"/>
          <p:cNvPicPr/>
          <p:nvPr/>
        </p:nvPicPr>
        <p:blipFill>
          <a:blip r:embed="rId2"/>
          <a:stretch/>
        </p:blipFill>
        <p:spPr>
          <a:xfrm>
            <a:off x="6788160" y="4940280"/>
            <a:ext cx="235584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71760" y="428760"/>
            <a:ext cx="71974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Помог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564000" y="1773360"/>
            <a:ext cx="2016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  7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4  8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7 1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WordArt 5"/>
          <p:cNvSpPr txBox="1"/>
          <p:nvPr/>
        </p:nvSpPr>
        <p:spPr>
          <a:xfrm>
            <a:off x="3419640" y="2349360"/>
            <a:ext cx="360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326" name="Picture 7" descr="циркуль2"/>
          <p:cNvPicPr/>
          <p:nvPr/>
        </p:nvPicPr>
        <p:blipFill>
          <a:blip r:embed="rId1"/>
          <a:stretch/>
        </p:blipFill>
        <p:spPr>
          <a:xfrm>
            <a:off x="6516720" y="4149720"/>
            <a:ext cx="2349360" cy="2492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mult16"/>
          <p:cNvPicPr/>
          <p:nvPr/>
        </p:nvPicPr>
        <p:blipFill>
          <a:blip r:embed="rId2"/>
          <a:stretch/>
        </p:blipFill>
        <p:spPr>
          <a:xfrm>
            <a:off x="395280" y="2637000"/>
            <a:ext cx="1714680" cy="21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6"/>
          <p:cNvSpPr/>
          <p:nvPr/>
        </p:nvSpPr>
        <p:spPr>
          <a:xfrm>
            <a:off x="684360" y="1557360"/>
            <a:ext cx="45720" cy="460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755640" y="4000680"/>
            <a:ext cx="76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7+48=8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428920" y="3286080"/>
            <a:ext cx="48564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4617b"/>
                </a:solidFill>
                <a:latin typeface="Arial"/>
              </a:rPr>
              <a:t>+</a:t>
            </a:r>
            <a:endParaRPr b="1" lang="en-US" sz="6600" spc="1" strike="noStrike">
              <a:ln w="0">
                <a:noFill/>
              </a:ln>
              <a:solidFill>
                <a:srgbClr val="04617b"/>
              </a:solidFill>
              <a:latin typeface="Arial"/>
              <a:ea typeface="Arial"/>
            </a:endParaRPr>
          </a:p>
        </p:txBody>
      </p:sp>
      <p:sp>
        <p:nvSpPr>
          <p:cNvPr id="331" name="WordArt 9"/>
          <p:cNvSpPr txBox="1"/>
          <p:nvPr/>
        </p:nvSpPr>
        <p:spPr>
          <a:xfrm>
            <a:off x="4929120" y="3429000"/>
            <a:ext cx="48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4617b"/>
                </a:solidFill>
                <a:latin typeface="Arial"/>
              </a:rPr>
              <a:t>=</a:t>
            </a:r>
            <a:endParaRPr b="1" lang="en-US" sz="6600" spc="1" strike="noStrike">
              <a:ln w="0">
                <a:noFill/>
              </a:ln>
              <a:solidFill>
                <a:srgbClr val="04617b"/>
              </a:solidFill>
              <a:latin typeface="Arial"/>
              <a:ea typeface="Arial"/>
            </a:endParaRPr>
          </a:p>
        </p:txBody>
      </p:sp>
      <p:sp>
        <p:nvSpPr>
          <p:cNvPr id="332" name="AutoShape 11"/>
          <p:cNvSpPr/>
          <p:nvPr/>
        </p:nvSpPr>
        <p:spPr>
          <a:xfrm>
            <a:off x="5500800" y="257184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6286680" y="257184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1143000" y="357192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>
            <a:off x="468360" y="314172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>
            <a:off x="3000240" y="2643120"/>
            <a:ext cx="792360" cy="8622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7837560" y="3789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7"/>
          <p:cNvSpPr/>
          <p:nvPr/>
        </p:nvSpPr>
        <p:spPr>
          <a:xfrm>
            <a:off x="8124840" y="3789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7980480" y="3573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7548480" y="3789360"/>
            <a:ext cx="25740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7693200" y="3573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7837560" y="335772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2"/>
          <p:cNvSpPr/>
          <p:nvPr/>
        </p:nvSpPr>
        <p:spPr>
          <a:xfrm>
            <a:off x="7261200" y="3789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3"/>
          <p:cNvSpPr/>
          <p:nvPr/>
        </p:nvSpPr>
        <p:spPr>
          <a:xfrm>
            <a:off x="7404120" y="35733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4"/>
          <p:cNvSpPr/>
          <p:nvPr/>
        </p:nvSpPr>
        <p:spPr>
          <a:xfrm>
            <a:off x="7548480" y="3357720"/>
            <a:ext cx="25740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5"/>
          <p:cNvSpPr/>
          <p:nvPr/>
        </p:nvSpPr>
        <p:spPr>
          <a:xfrm>
            <a:off x="1928880" y="321480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6"/>
          <p:cNvSpPr/>
          <p:nvPr/>
        </p:nvSpPr>
        <p:spPr>
          <a:xfrm>
            <a:off x="1928880" y="3500280"/>
            <a:ext cx="21600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7"/>
          <p:cNvSpPr/>
          <p:nvPr/>
        </p:nvSpPr>
        <p:spPr>
          <a:xfrm>
            <a:off x="1928880" y="3786120"/>
            <a:ext cx="21600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8"/>
          <p:cNvSpPr/>
          <p:nvPr/>
        </p:nvSpPr>
        <p:spPr>
          <a:xfrm>
            <a:off x="4357800" y="4071960"/>
            <a:ext cx="21564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4357800" y="3786120"/>
            <a:ext cx="21564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4572000" y="392904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4357800" y="2928960"/>
            <a:ext cx="21564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4357800" y="3214800"/>
            <a:ext cx="21564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4357800" y="3500280"/>
            <a:ext cx="21564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7693200" y="314172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2143080" y="335772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2143080" y="3643200"/>
            <a:ext cx="21600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8572680" y="321480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8572680" y="29289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9" descr="mult20"/>
          <p:cNvPicPr/>
          <p:nvPr/>
        </p:nvPicPr>
        <p:blipFill>
          <a:blip r:embed="rId1"/>
          <a:stretch/>
        </p:blipFill>
        <p:spPr>
          <a:xfrm>
            <a:off x="428760" y="928800"/>
            <a:ext cx="1714320" cy="2174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1" descr="mult34"/>
          <p:cNvPicPr/>
          <p:nvPr/>
        </p:nvPicPr>
        <p:blipFill>
          <a:blip r:embed="rId2"/>
          <a:stretch/>
        </p:blipFill>
        <p:spPr>
          <a:xfrm>
            <a:off x="6732720" y="4292640"/>
            <a:ext cx="2124000" cy="20160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13"/>
          <p:cNvSpPr/>
          <p:nvPr/>
        </p:nvSpPr>
        <p:spPr>
          <a:xfrm>
            <a:off x="500040" y="4000680"/>
            <a:ext cx="79236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7"/>
          <p:cNvSpPr/>
          <p:nvPr/>
        </p:nvSpPr>
        <p:spPr>
          <a:xfrm>
            <a:off x="2143080" y="392904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7"/>
          <p:cNvSpPr/>
          <p:nvPr/>
        </p:nvSpPr>
        <p:spPr>
          <a:xfrm>
            <a:off x="1928880" y="407196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5"/>
          <p:cNvSpPr/>
          <p:nvPr/>
        </p:nvSpPr>
        <p:spPr>
          <a:xfrm>
            <a:off x="3571920" y="321480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2857680" y="357192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5"/>
          <p:cNvSpPr/>
          <p:nvPr/>
        </p:nvSpPr>
        <p:spPr>
          <a:xfrm>
            <a:off x="3429000" y="4143240"/>
            <a:ext cx="792000" cy="8622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1"/>
          <p:cNvSpPr/>
          <p:nvPr/>
        </p:nvSpPr>
        <p:spPr>
          <a:xfrm>
            <a:off x="4572000" y="3357720"/>
            <a:ext cx="216000" cy="214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1"/>
          <p:cNvSpPr/>
          <p:nvPr/>
        </p:nvSpPr>
        <p:spPr>
          <a:xfrm>
            <a:off x="4572000" y="3643200"/>
            <a:ext cx="216000" cy="2145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>
            <a:off x="5500800" y="342900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1"/>
          <p:cNvSpPr/>
          <p:nvPr/>
        </p:nvSpPr>
        <p:spPr>
          <a:xfrm>
            <a:off x="6286680" y="3429000"/>
            <a:ext cx="792000" cy="86184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5500800" y="4286160"/>
            <a:ext cx="792000" cy="8622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6286680" y="4286160"/>
            <a:ext cx="792000" cy="8622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5857920" y="1643040"/>
            <a:ext cx="792000" cy="862200"/>
          </a:xfrm>
          <a:prstGeom prst="triangle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8"/>
          <p:cNvSpPr/>
          <p:nvPr/>
        </p:nvSpPr>
        <p:spPr>
          <a:xfrm>
            <a:off x="8572680" y="3500280"/>
            <a:ext cx="257040" cy="22572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38"/>
          <p:cNvSpPr/>
          <p:nvPr/>
        </p:nvSpPr>
        <p:spPr>
          <a:xfrm>
            <a:off x="8572680" y="378612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38"/>
          <p:cNvSpPr/>
          <p:nvPr/>
        </p:nvSpPr>
        <p:spPr>
          <a:xfrm>
            <a:off x="8572680" y="407196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8"/>
          <p:cNvSpPr/>
          <p:nvPr/>
        </p:nvSpPr>
        <p:spPr>
          <a:xfrm>
            <a:off x="8572680" y="4357800"/>
            <a:ext cx="257040" cy="22536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0438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66ff33"/>
                </a:solidFill>
                <a:uFillTx/>
                <a:latin typeface="Calibri"/>
              </a:rPr>
              <a:t>Сделаем</a:t>
            </a:r>
            <a:r>
              <a:rPr b="1" i="1" lang="ru-RU" sz="5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i="1" lang="ru-RU" sz="5000" spc="-1" strike="noStrike" u="sng">
                <a:solidFill>
                  <a:srgbClr val="66ff33"/>
                </a:solidFill>
                <a:uFillTx/>
                <a:latin typeface="Calibri"/>
              </a:rPr>
              <a:t>вывод</a:t>
            </a:r>
            <a:r>
              <a:rPr b="1" i="1" lang="ru-RU" sz="5000" spc="-1" strike="noStrike">
                <a:solidFill>
                  <a:srgbClr val="66ff33"/>
                </a:solidFill>
                <a:latin typeface="Calibri"/>
              </a:rPr>
              <a:t>!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131640" y="1499760"/>
            <a:ext cx="57610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и сложении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диниц получилось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двузначное число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и десяток перешё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свой разряд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1" name="Picture 5" descr="girl_works"/>
          <p:cNvPicPr/>
          <p:nvPr/>
        </p:nvPicPr>
        <p:blipFill>
          <a:blip r:embed="rId1"/>
          <a:stretch/>
        </p:blipFill>
        <p:spPr>
          <a:xfrm>
            <a:off x="324000" y="1844640"/>
            <a:ext cx="2471760" cy="31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1285920" y="571680"/>
            <a:ext cx="7483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Ура! Я понял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39280" y="1483920"/>
            <a:ext cx="2016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3 7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Comic Sans MS"/>
              </a:rPr>
              <a:t>4 8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8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WordArt 5"/>
          <p:cNvSpPr txBox="1"/>
          <p:nvPr/>
        </p:nvSpPr>
        <p:spPr>
          <a:xfrm>
            <a:off x="611280" y="278136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386" name="Picture 7" descr="циркуль2"/>
          <p:cNvPicPr/>
          <p:nvPr/>
        </p:nvPicPr>
        <p:blipFill>
          <a:blip r:embed="rId1"/>
          <a:stretch/>
        </p:blipFill>
        <p:spPr>
          <a:xfrm>
            <a:off x="285840" y="4143240"/>
            <a:ext cx="2349360" cy="2492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mult17"/>
          <p:cNvPicPr/>
          <p:nvPr/>
        </p:nvPicPr>
        <p:blipFill>
          <a:blip r:embed="rId2"/>
          <a:stretch/>
        </p:blipFill>
        <p:spPr>
          <a:xfrm>
            <a:off x="5940360" y="3141720"/>
            <a:ext cx="171468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3:39:15Z</dcterms:created>
  <dc:creator>www.PHILka.RU</dc:creator>
  <dc:description/>
  <cp:keywords>"PowerLexis" - Презентационное агентство</cp:keywords>
  <dc:language>en-US</dc:language>
  <cp:lastModifiedBy>Отец</cp:lastModifiedBy>
  <dcterms:modified xsi:type="dcterms:W3CDTF">2022-12-04T15:36:09Z</dcterms:modified>
  <cp:revision>29</cp:revision>
  <dc:subject/>
  <dc:title>Урок математики  2 класс</dc:title>
</cp:coreProperties>
</file>