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6.jpeg" ContentType="image/jpeg"/>
  <Override PartName="/ppt/media/image30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11.jpeg" ContentType="image/jpe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media/image14.wmf" ContentType="image/x-wmf"/>
  <Override PartName="/ppt/media/image18.jpeg" ContentType="image/jpeg"/>
  <Override PartName="/ppt/media/image19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2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69E5-8F5E-4DD7-BC96-ADD9168D5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CD5-9883-465F-A82A-97247BABA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8FF8-FA34-4827-A478-F6738CA9F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7E5-EB1F-4CF7-8B81-21BF936B4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4C4-1EB8-490A-B8C3-9D281F405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D7DD-2C83-45FF-B189-5239B609E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5474-8998-4407-8F56-5C20CE43F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445-15BD-4BA6-B783-A996F10F1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255-AADB-42D8-8265-FB9C03E00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1D4-5177-4D84-83E7-16433B423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9644-8C38-4CFA-90A4-4D79C34D9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A3F-37CA-4DDC-B81F-378F15E27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CEB-189F-4AD2-85F8-2E2BFC026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225-22E7-430F-A3D0-BD9DD2F90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E31-3245-4149-BC56-B088DDE54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FEC-6F02-47E2-B81F-97930EF4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891-05EF-4DE2-88DB-A661790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88F-C410-4BCC-9089-6EE76F67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B66-290B-4AA7-8E35-E5861D25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CF8-0135-4AB3-B79C-01136D26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7247-7927-41A8-9777-1AC6AE12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9B6-0AE4-40A6-94D0-1D3FC41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CC4E-8289-4CAA-919E-5E78EB7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179-3A1C-42B2-8F4A-A0892CA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114-A7ED-4FA3-80D0-12A67CC4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6EAF-6971-4BA7-B169-45ADAA8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74B-6FD5-485E-9055-954DDE2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1BEC-1E3C-4CE8-92CD-4CE8125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47F6-599B-4639-AE31-4DF5250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FB6-A58D-419E-9B05-8B6EAC1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4C5-C6FB-4273-B2C6-418C44CA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EC0F-51DD-4D65-ABE5-A6122790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25F3-2AF4-4CEE-B1C9-B72C3F1F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5964-5FEF-42E1-BEAB-B7AA3AE5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752C-E69C-479C-95AC-D59D6DD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1BEE-1320-44A1-943D-DA0BE3D6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8905-1649-4900-849F-D3572F3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E65-7419-4813-B592-0275E99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B5CD-3152-44B7-820D-AC78A26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6A77-203B-44F5-A269-0F4CC3B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152E-9009-40CE-81FF-5A2A8ECA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A519-D897-4ECD-9F89-126D776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6C3E-2F1C-48F7-9812-FB4DFB8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9167-41CA-4762-A65A-0EC3FFA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936E-13AD-40F6-B813-39771135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C144-2CC5-4065-89B9-5E59C467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C4F0-43A1-41E6-8C16-AAEA44DE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1302-CA23-4E7B-8381-CEC67AB4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CF2-FB01-4CBA-89BA-740B0C27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E639-6DCE-4C60-A5E8-186171B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019D-1FE8-4B67-B150-D2120A4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0097-E676-433E-92AF-B1AF722D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582C-036B-4457-BFFB-A57FBE46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95A0-1F98-4D31-9F25-8E0CB8E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607C-A08B-4128-A587-585B93F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75DD-AF4C-4328-8D2C-FA482A5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1A88-68BD-4926-A05D-20C22EBC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2355-75CA-4C67-AF4A-E4334D5D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B251-95FB-4E2E-AF30-60C38424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FF0-D141-4058-9C7E-3D9982B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4ACA-60D7-4A9E-9A67-B0A9578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2DF1-4923-49ED-ADB9-9BB2A36A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F862-BA26-44BD-A585-DE43A33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4FE1-F440-4DF7-94EA-97420321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C8CA-9E7D-4F22-96D1-40FCA4CA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24D6B-494D-4E8F-B638-7DAA452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81A5-991A-4BDC-8C70-AFE48DE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7930-6AA8-4BBF-B8F4-7624F56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FAAB-CC9B-4063-BFA4-61185EBD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79D3-13AC-40AA-8B36-5FD10B69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1EC-060A-4F92-BD69-7953826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9AAE-6CC7-4500-B13C-BBED8F5D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52C0-CCD6-4BC5-BC5A-9C15171A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E9CC-B0B1-4F35-976A-94EDDCBE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44BA-F052-4BC4-A643-4F49112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ABEA-B1A0-4676-92E8-BC46C97B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7C3C-E5D3-4A82-93D8-442C6B4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CEE8-CA0E-4C11-9BF9-C40BB823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4C26-9182-4D5E-A832-49142F93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B40D-2DEF-4DCA-BE5D-1879C38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00FB-11A9-4100-95CC-DDF82FA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FD3-2A27-4C98-AD0F-99F4F1A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AA27-4E0A-4DAC-9ECD-415439C3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9A7B-3DBA-463C-8F67-DF7E5CA6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AE71-8460-4D45-8880-01E68BDE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280-2F61-4E30-A5BA-AEE7D41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AD0-2948-40D8-8766-D48AEB2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7AF-653F-4CEA-A573-0C9032BDD8B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F1E-1572-4137-9E13-3837DAE3717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3C2A-A693-4FCB-B12E-F8CCE745B5A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760-6B3B-446C-AFA3-B6F90385744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D20-1A7E-400B-A4CB-4838DE51D61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BE69-48CD-4624-8A0E-EAB80FCF01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43280" y="7045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Урок математики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2 клас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3068640"/>
            <a:ext cx="4316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                 </a:t>
            </a: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Тимина И.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8" descr="1205947523_11885263680"/>
          <p:cNvPicPr/>
          <p:nvPr/>
        </p:nvPicPr>
        <p:blipFill>
          <a:blip r:embed="rId1"/>
          <a:stretch/>
        </p:blipFill>
        <p:spPr>
          <a:xfrm>
            <a:off x="684360" y="1700280"/>
            <a:ext cx="310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75120" y="3284280"/>
            <a:ext cx="588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Отдохнё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0" name="Танец утят.mid" descr=""/>
          <p:cNvPicPr/>
          <p:nvPr/>
        </p:nvPicPr>
        <p:blipFill>
          <a:blip r:embed="rId1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mult39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26828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82650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632720" cy="18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Comic Sans MS"/>
              </a:rPr>
              <a:t>Вычисл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 устным объяснение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5280" y="2420640"/>
            <a:ext cx="8362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2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54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6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9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28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1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school3"/>
          <p:cNvPicPr/>
          <p:nvPr/>
        </p:nvPicPr>
        <p:blipFill>
          <a:blip r:embed="rId1"/>
          <a:stretch/>
        </p:blipFill>
        <p:spPr>
          <a:xfrm>
            <a:off x="357120" y="4143240"/>
            <a:ext cx="2104920" cy="2133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468360" y="306864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3492360" y="2997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7020000" y="2997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99" name="Picture 11" descr="images"/>
          <p:cNvPicPr/>
          <p:nvPr/>
        </p:nvPicPr>
        <p:blipFill>
          <a:blip r:embed="rId2"/>
          <a:stretch/>
        </p:blipFill>
        <p:spPr>
          <a:xfrm>
            <a:off x="6929280" y="4857840"/>
            <a:ext cx="150048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ff"/>
                </a:solidFill>
                <a:latin typeface="Calibri"/>
              </a:rPr>
              <a:t>Самостоятельно   № 1, стр. 10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chet_1"/>
          <p:cNvPicPr/>
          <p:nvPr/>
        </p:nvPicPr>
        <p:blipFill>
          <a:blip r:embed="rId1"/>
          <a:stretch/>
        </p:blipFill>
        <p:spPr>
          <a:xfrm>
            <a:off x="6012000" y="4508640"/>
            <a:ext cx="2857320" cy="18763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1"/>
          <p:cNvSpPr/>
          <p:nvPr/>
        </p:nvSpPr>
        <p:spPr>
          <a:xfrm>
            <a:off x="755640" y="4869000"/>
            <a:ext cx="51944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92, 73, 74, 41, 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Задача № 3, стр. 10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395280" y="220500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ояло – 18 м. и  7  б.  лод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шло – 3  ло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талось –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NA01344_"/>
          <p:cNvPicPr/>
          <p:nvPr/>
        </p:nvPicPr>
        <p:blipFill>
          <a:blip r:embed="rId1"/>
          <a:stretch/>
        </p:blipFill>
        <p:spPr>
          <a:xfrm>
            <a:off x="5703840" y="3643200"/>
            <a:ext cx="229716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14160" y="499680"/>
            <a:ext cx="67294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00"/>
                </a:solidFill>
                <a:latin typeface="Calibri"/>
              </a:rPr>
              <a:t>Сколько весит дын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89000" y="4815360"/>
            <a:ext cx="70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одной чаше 2 дыни и гиря весом 2 к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на другой – 1 дыня и гиря весом 3 к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олько весит одна ды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606920" cy="2428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2"/>
          <a:stretch/>
        </p:blipFill>
        <p:spPr>
          <a:xfrm>
            <a:off x="4714920" y="2071800"/>
            <a:ext cx="684000" cy="581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2000160" y="2214720"/>
            <a:ext cx="684360" cy="581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"/>
          <p:cNvPicPr/>
          <p:nvPr/>
        </p:nvPicPr>
        <p:blipFill>
          <a:blip r:embed="rId4"/>
          <a:stretch/>
        </p:blipFill>
        <p:spPr>
          <a:xfrm>
            <a:off x="3071880" y="2143080"/>
            <a:ext cx="6840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857240" y="785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и черте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857160" y="2643120"/>
            <a:ext cx="2786040" cy="2714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5429160" y="2643120"/>
            <a:ext cx="2786040" cy="2714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5"/>
          <p:cNvSpPr/>
          <p:nvPr/>
        </p:nvSpPr>
        <p:spPr>
          <a:xfrm>
            <a:off x="857160" y="2643120"/>
            <a:ext cx="278604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7"/>
          <p:cNvSpPr/>
          <p:nvPr/>
        </p:nvSpPr>
        <p:spPr>
          <a:xfrm flipH="1">
            <a:off x="856800" y="2642400"/>
            <a:ext cx="278604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"/>
          <p:cNvSpPr/>
          <p:nvPr/>
        </p:nvSpPr>
        <p:spPr>
          <a:xfrm flipV="1">
            <a:off x="5428440" y="400068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1"/>
          <p:cNvSpPr/>
          <p:nvPr/>
        </p:nvSpPr>
        <p:spPr>
          <a:xfrm>
            <a:off x="6821640" y="2643120"/>
            <a:ext cx="1440" cy="27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BRD311"/>
          <p:cNvPicPr/>
          <p:nvPr/>
        </p:nvPicPr>
        <p:blipFill>
          <a:blip r:embed="rId1"/>
          <a:stretch/>
        </p:blipFill>
        <p:spPr>
          <a:xfrm>
            <a:off x="395280" y="1341360"/>
            <a:ext cx="4500720" cy="4681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96096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Comic Sans MS"/>
              </a:rPr>
              <a:t>Домашнее  задание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71640" y="4149720"/>
            <a:ext cx="324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Страница  10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4, № 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14"/>
          <p:cNvPicPr/>
          <p:nvPr/>
        </p:nvPicPr>
        <p:blipFill>
          <a:blip r:embed="rId2"/>
          <a:stretch/>
        </p:blipFill>
        <p:spPr>
          <a:xfrm>
            <a:off x="7667640" y="5373720"/>
            <a:ext cx="101448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89040" y="987480"/>
            <a:ext cx="1036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934640"/>
            <a:ext cx="754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21, 40, 76, 91, 30, 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BULLEYE"/>
          <p:cNvPicPr/>
          <p:nvPr/>
        </p:nvPicPr>
        <p:blipFill>
          <a:blip r:embed="rId2"/>
          <a:stretch/>
        </p:blipFill>
        <p:spPr>
          <a:xfrm>
            <a:off x="1428840" y="428760"/>
            <a:ext cx="1687320" cy="1295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дартс"/>
          <p:cNvPicPr/>
          <p:nvPr/>
        </p:nvPicPr>
        <p:blipFill>
          <a:blip r:embed="rId3"/>
          <a:stretch/>
        </p:blipFill>
        <p:spPr>
          <a:xfrm>
            <a:off x="6000840" y="785880"/>
            <a:ext cx="2689200" cy="1295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mult35"/>
          <p:cNvPicPr/>
          <p:nvPr/>
        </p:nvPicPr>
        <p:blipFill>
          <a:blip r:embed="rId4"/>
          <a:stretch/>
        </p:blipFill>
        <p:spPr>
          <a:xfrm>
            <a:off x="6858000" y="4286160"/>
            <a:ext cx="1700280" cy="183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mult7"/>
          <p:cNvPicPr/>
          <p:nvPr/>
        </p:nvPicPr>
        <p:blipFill>
          <a:blip r:embed="rId5"/>
          <a:stretch/>
        </p:blipFill>
        <p:spPr>
          <a:xfrm>
            <a:off x="642960" y="4572000"/>
            <a:ext cx="171432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 flipH="1">
            <a:off x="-720" y="1413000"/>
            <a:ext cx="637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Научиться решать примеры нового вида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Быть дружными, внимательными, помогать друг друг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boy_works"/>
          <p:cNvPicPr/>
          <p:nvPr/>
        </p:nvPicPr>
        <p:blipFill>
          <a:blip r:embed="rId1"/>
          <a:stretch/>
        </p:blipFill>
        <p:spPr>
          <a:xfrm>
            <a:off x="5643720" y="3143160"/>
            <a:ext cx="2985840" cy="31003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Наши цел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1125000"/>
            <a:ext cx="755496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ладываю …, 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ладываю …, 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Ответ 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0" name="Picture 4" descr="school"/>
          <p:cNvPicPr/>
          <p:nvPr/>
        </p:nvPicPr>
        <p:blipFill>
          <a:blip r:embed="rId1"/>
          <a:stretch/>
        </p:blipFill>
        <p:spPr>
          <a:xfrm>
            <a:off x="0" y="0"/>
            <a:ext cx="2050920" cy="1994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school4"/>
          <p:cNvPicPr/>
          <p:nvPr/>
        </p:nvPicPr>
        <p:blipFill>
          <a:blip r:embed="rId2"/>
          <a:stretch/>
        </p:blipFill>
        <p:spPr>
          <a:xfrm>
            <a:off x="6788160" y="494028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71760" y="428760"/>
            <a:ext cx="71974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Помог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64000" y="1773360"/>
            <a:ext cx="201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  7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4  8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7 1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3419640" y="234936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26" name="Picture 7" descr="циркуль2"/>
          <p:cNvPicPr/>
          <p:nvPr/>
        </p:nvPicPr>
        <p:blipFill>
          <a:blip r:embed="rId1"/>
          <a:stretch/>
        </p:blipFill>
        <p:spPr>
          <a:xfrm>
            <a:off x="6516720" y="4149720"/>
            <a:ext cx="2349360" cy="2492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mult16"/>
          <p:cNvPicPr/>
          <p:nvPr/>
        </p:nvPicPr>
        <p:blipFill>
          <a:blip r:embed="rId2"/>
          <a:stretch/>
        </p:blipFill>
        <p:spPr>
          <a:xfrm>
            <a:off x="395280" y="2637000"/>
            <a:ext cx="1714680" cy="21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6"/>
          <p:cNvSpPr/>
          <p:nvPr/>
        </p:nvSpPr>
        <p:spPr>
          <a:xfrm>
            <a:off x="684360" y="1557360"/>
            <a:ext cx="45720" cy="460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55640" y="4000680"/>
            <a:ext cx="76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7+48=8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428920" y="3286080"/>
            <a:ext cx="48564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4617b"/>
                </a:solidFill>
                <a:latin typeface="Arial"/>
              </a:rPr>
              <a:t>+</a:t>
            </a:r>
            <a:endParaRPr b="1" lang="en-US" sz="6600" spc="1" strike="noStrike">
              <a:ln w="0">
                <a:noFill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331" name="WordArt 9"/>
          <p:cNvSpPr txBox="1"/>
          <p:nvPr/>
        </p:nvSpPr>
        <p:spPr>
          <a:xfrm>
            <a:off x="4929120" y="3429000"/>
            <a:ext cx="48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4617b"/>
                </a:solidFill>
                <a:latin typeface="Arial"/>
              </a:rPr>
              <a:t>=</a:t>
            </a:r>
            <a:endParaRPr b="1" lang="en-US" sz="6600" spc="1" strike="noStrike">
              <a:ln w="0">
                <a:noFill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332" name="AutoShape 11"/>
          <p:cNvSpPr/>
          <p:nvPr/>
        </p:nvSpPr>
        <p:spPr>
          <a:xfrm>
            <a:off x="5500800" y="257184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6286680" y="257184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1143000" y="35719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468360" y="31417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3000240" y="2643120"/>
            <a:ext cx="792360" cy="862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783756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812484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798048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7548480" y="3789360"/>
            <a:ext cx="25740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769320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7837560" y="33577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726120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740412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7548480" y="3357720"/>
            <a:ext cx="25740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1928880" y="321480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1928880" y="350028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28880" y="378612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4357800" y="407196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4357800" y="3786120"/>
            <a:ext cx="21564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4572000" y="392904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4357800" y="292896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4357800" y="321480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4357800" y="3500280"/>
            <a:ext cx="21564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7693200" y="31417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2143080" y="335772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2143080" y="364320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8572680" y="321480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8572680" y="29289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9" descr="mult20"/>
          <p:cNvPicPr/>
          <p:nvPr/>
        </p:nvPicPr>
        <p:blipFill>
          <a:blip r:embed="rId1"/>
          <a:stretch/>
        </p:blipFill>
        <p:spPr>
          <a:xfrm>
            <a:off x="428760" y="928800"/>
            <a:ext cx="1714320" cy="2174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1" descr="mult34"/>
          <p:cNvPicPr/>
          <p:nvPr/>
        </p:nvPicPr>
        <p:blipFill>
          <a:blip r:embed="rId2"/>
          <a:stretch/>
        </p:blipFill>
        <p:spPr>
          <a:xfrm>
            <a:off x="6732720" y="429264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3"/>
          <p:cNvSpPr/>
          <p:nvPr/>
        </p:nvSpPr>
        <p:spPr>
          <a:xfrm>
            <a:off x="500040" y="4000680"/>
            <a:ext cx="79236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2143080" y="392904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7"/>
          <p:cNvSpPr/>
          <p:nvPr/>
        </p:nvSpPr>
        <p:spPr>
          <a:xfrm>
            <a:off x="1928880" y="407196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>
            <a:off x="3571920" y="32148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2857680" y="35719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/>
          <p:cNvSpPr/>
          <p:nvPr/>
        </p:nvSpPr>
        <p:spPr>
          <a:xfrm>
            <a:off x="3429000" y="414324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1"/>
          <p:cNvSpPr/>
          <p:nvPr/>
        </p:nvSpPr>
        <p:spPr>
          <a:xfrm>
            <a:off x="4572000" y="335772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1"/>
          <p:cNvSpPr/>
          <p:nvPr/>
        </p:nvSpPr>
        <p:spPr>
          <a:xfrm>
            <a:off x="4572000" y="364320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>
            <a:off x="5500800" y="34290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6286680" y="34290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5500800" y="428616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6286680" y="428616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5857920" y="164304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8"/>
          <p:cNvSpPr/>
          <p:nvPr/>
        </p:nvSpPr>
        <p:spPr>
          <a:xfrm>
            <a:off x="8572680" y="3500280"/>
            <a:ext cx="257040" cy="22572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8"/>
          <p:cNvSpPr/>
          <p:nvPr/>
        </p:nvSpPr>
        <p:spPr>
          <a:xfrm>
            <a:off x="8572680" y="37861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8"/>
          <p:cNvSpPr/>
          <p:nvPr/>
        </p:nvSpPr>
        <p:spPr>
          <a:xfrm>
            <a:off x="8572680" y="40719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8"/>
          <p:cNvSpPr/>
          <p:nvPr/>
        </p:nvSpPr>
        <p:spPr>
          <a:xfrm>
            <a:off x="8572680" y="435780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66ff33"/>
                </a:solidFill>
                <a:uFillTx/>
                <a:latin typeface="Calibri"/>
              </a:rPr>
              <a:t>Сделаем</a:t>
            </a:r>
            <a:r>
              <a:rPr b="1" i="1" lang="ru-RU" sz="5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i="1" lang="ru-RU" sz="5000" spc="-1" strike="noStrike" u="sng">
                <a:solidFill>
                  <a:srgbClr val="66ff33"/>
                </a:solidFill>
                <a:uFillTx/>
                <a:latin typeface="Calibri"/>
              </a:rPr>
              <a:t>вывод</a:t>
            </a:r>
            <a:r>
              <a:rPr b="1" i="1" lang="ru-RU" sz="5000" spc="-1" strike="noStrike">
                <a:solidFill>
                  <a:srgbClr val="66ff33"/>
                </a:solidFill>
                <a:latin typeface="Calibri"/>
              </a:rPr>
              <a:t>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131640" y="1499760"/>
            <a:ext cx="57610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и сложени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диниц получилось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двузначное числ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 десяток перешё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свой разряд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5" descr="girl_works"/>
          <p:cNvPicPr/>
          <p:nvPr/>
        </p:nvPicPr>
        <p:blipFill>
          <a:blip r:embed="rId1"/>
          <a:stretch/>
        </p:blipFill>
        <p:spPr>
          <a:xfrm>
            <a:off x="324000" y="1844640"/>
            <a:ext cx="247176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285920" y="571680"/>
            <a:ext cx="748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Ура! Я понял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9280" y="1483920"/>
            <a:ext cx="2016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 7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Comic Sans MS"/>
              </a:rPr>
              <a:t>4 8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8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WordArt 5"/>
          <p:cNvSpPr txBox="1"/>
          <p:nvPr/>
        </p:nvSpPr>
        <p:spPr>
          <a:xfrm>
            <a:off x="611280" y="2781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86" name="Picture 7" descr="циркуль2"/>
          <p:cNvPicPr/>
          <p:nvPr/>
        </p:nvPicPr>
        <p:blipFill>
          <a:blip r:embed="rId1"/>
          <a:stretch/>
        </p:blipFill>
        <p:spPr>
          <a:xfrm>
            <a:off x="285840" y="4143240"/>
            <a:ext cx="2349360" cy="2492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mult17"/>
          <p:cNvPicPr/>
          <p:nvPr/>
        </p:nvPicPr>
        <p:blipFill>
          <a:blip r:embed="rId2"/>
          <a:stretch/>
        </p:blipFill>
        <p:spPr>
          <a:xfrm>
            <a:off x="5940360" y="3141720"/>
            <a:ext cx="171468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39:15Z</dcterms:created>
  <dc:creator>www.PHILka.RU</dc:creator>
  <dc:description/>
  <cp:keywords>"PowerLexis" - Презентационное агентство</cp:keywords>
  <dc:language>en-US</dc:language>
  <cp:lastModifiedBy>Отец</cp:lastModifiedBy>
  <dcterms:modified xsi:type="dcterms:W3CDTF">2022-12-04T15:36:09Z</dcterms:modified>
  <cp:revision>29</cp:revision>
  <dc:subject/>
  <dc:title>Урок математики  2 класс</dc:title>
</cp:coreProperties>
</file>