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4.jpeg" ContentType="image/jpeg"/>
  <Override PartName="/ppt/media/image37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01D6-3000-47FF-A648-E8DB30119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95F2-5E9B-4173-9571-748FC19E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15B4-41A0-4A64-9249-D2BE3EFE5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E596-DEFE-4F9C-81EF-34479BF74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5491-8393-4A64-8FB9-FF6F6E40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64C6-4193-4544-B305-C32B81F9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C98F-4747-42CA-851D-8BD89F23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7F8C-1E74-43A6-9CA2-6705EEAC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2106-975C-45A5-A8C7-5EF19677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B9FD-576B-436B-AF25-7F986F69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F691-A30F-42DA-B466-6F4BFE52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40E0-B952-44C8-BA7A-119C0155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2057-C5C2-4D62-B330-B990E34C224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D325-275A-451D-B2B4-4BB66CB167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" Target="slide3.xml"/><Relationship Id="rId4" Type="http://schemas.openxmlformats.org/officeDocument/2006/relationships/slide" Target="slide10.xm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optina-pustin.ru/15&#8230;" TargetMode="External"/><Relationship Id="rId2" Type="http://schemas.openxmlformats.org/officeDocument/2006/relationships/hyperlink" Target="http://dayoflife.ru/sedtour/?contr=rez&amp;que=b%20&#1041;&#1080;&#1090;&#1074;&#1072;%20&#1085;&#1072;%20b%20&#1053;&#1077;&#1074;&#1077;" TargetMode="External"/><Relationship Id="rId3" Type="http://schemas.openxmlformats.org/officeDocument/2006/relationships/hyperlink" Target="http://ggaliba.ucoz.ru/index/jubilejnye_daty_2012_goda/0-66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2143080"/>
            <a:ext cx="8486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рия</a:t>
            </a:r>
            <a:br>
              <a:rPr sz="7200"/>
            </a:br>
            <a:r>
              <a:rPr b="1" lang="ru-RU" sz="7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авянской азбук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4143240" y="4286160"/>
            <a:ext cx="450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 - ОБУЧЕНИЕ ГРАМО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: Евдокимова Виктория Викт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СОШ №10 с УИО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Дмит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ков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C:\Users\user\Pictures\d3250fbf3dd1.png"/>
          <p:cNvPicPr/>
          <p:nvPr/>
        </p:nvPicPr>
        <p:blipFill>
          <a:blip r:embed="rId2"/>
          <a:stretch/>
        </p:blipFill>
        <p:spPr>
          <a:xfrm>
            <a:off x="1428840" y="4143240"/>
            <a:ext cx="1577880" cy="1928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2"/>
          <p:cNvSpPr/>
          <p:nvPr/>
        </p:nvSpPr>
        <p:spPr>
          <a:xfrm>
            <a:off x="4500720" y="857160"/>
            <a:ext cx="42145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9 апреля 1563 года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ван Фёдоров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крыл в Москве первую на Руси "печатню", то есть типографию. Открыл он её по царскому веленью. Печатный станок тогда был делом государственной важности, и без указания царя никто книгопечатанием заняться не сме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428760" y="785880"/>
            <a:ext cx="3906720" cy="535788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6"/>
          <p:cNvSpPr/>
          <p:nvPr/>
        </p:nvSpPr>
        <p:spPr>
          <a:xfrm>
            <a:off x="500040" y="6143760"/>
            <a:ext cx="385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равов А. В.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ван Фёдоров ("Первопечатник"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4714920" y="1143000"/>
            <a:ext cx="38577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Руси первый печатный станок сделал тоже Иван. В историю он вошёл как первопечатник Иван Фёдоров, хотя в некоторых напечатанных им книгах подписывался как Иван Фёдорович Москвити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714240" y="1000080"/>
            <a:ext cx="3314880" cy="47433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714240" y="5860080"/>
            <a:ext cx="3643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бразцовый стан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осковского печатного двора XVII в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Государственный Исторический музей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5143680" y="1000080"/>
            <a:ext cx="36432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авил тогда Иван Грозный — царь страшный и жестокий. Зато значение книги царь понимал. И, решив не отставать от Европы, повелел Иван Грозный построить Государев Печатный дво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1071720" y="6072120"/>
            <a:ext cx="285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ван Грозный.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Реконструкц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28760" y="857160"/>
            <a:ext cx="4333680" cy="5245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428760" y="781200"/>
            <a:ext cx="4214520" cy="52909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 flipV="1" rot="10800000">
            <a:off x="428400" y="6144480"/>
            <a:ext cx="407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осковский Печатный двор в середине XVII в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еконструкция Румянцева В.Е. Литограф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3"/>
          <p:cNvSpPr/>
          <p:nvPr/>
        </p:nvSpPr>
        <p:spPr>
          <a:xfrm>
            <a:off x="4714920" y="857160"/>
            <a:ext cx="4071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тоял Печатный двор в Москве, в Китай-городе. Его руководителем и стал церковный дьякон Иван Фёдоров, будущий первопечат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4714920" y="785880"/>
            <a:ext cx="40003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ван Фёдоров создал азбуку, используя славянские буквы. Эту азбуку напечатали, и стали по ней учить детей не только из богатых семей, но и из бедных. Чтобы украсить страницы, Иван Фёдоров придумывал и сам вырезал различные заставки, концов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2643120" y="3286080"/>
            <a:ext cx="1905120" cy="3114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1643040" y="785880"/>
            <a:ext cx="2857680" cy="2286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3"/>
          <a:stretch/>
        </p:blipFill>
        <p:spPr>
          <a:xfrm>
            <a:off x="357120" y="3071880"/>
            <a:ext cx="1795680" cy="26431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6"/>
          <p:cNvSpPr/>
          <p:nvPr/>
        </p:nvSpPr>
        <p:spPr>
          <a:xfrm>
            <a:off x="285840" y="5715000"/>
            <a:ext cx="1928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траница из первого печатного букваря Ивана Фёдорова 1574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4"/>
          <a:stretch/>
        </p:blipFill>
        <p:spPr>
          <a:xfrm>
            <a:off x="357120" y="1571760"/>
            <a:ext cx="1085760" cy="799920"/>
          </a:xfrm>
          <a:prstGeom prst="rect">
            <a:avLst/>
          </a:prstGeom>
          <a:ln w="0">
            <a:noFill/>
          </a:ln>
        </p:spPr>
      </p:pic>
      <p:sp>
        <p:nvSpPr>
          <p:cNvPr id="94" name="TextBox 8"/>
          <p:cNvSpPr/>
          <p:nvPr/>
        </p:nvSpPr>
        <p:spPr>
          <a:xfrm>
            <a:off x="285840" y="2428920"/>
            <a:ext cx="1214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Металлические литер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3"/>
          <p:cNvSpPr/>
          <p:nvPr/>
        </p:nvSpPr>
        <p:spPr>
          <a:xfrm>
            <a:off x="214200" y="642960"/>
            <a:ext cx="864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скольку книга стоила дорого, её берег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ля защиты от механических повреждений дел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реплёт из двух досок, обтянутых кожей и имевш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стёжку на боковом срез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4" descr="переплёты древних рукописных книг.jpg"/>
          <p:cNvPicPr/>
          <p:nvPr/>
        </p:nvPicPr>
        <p:blipFill>
          <a:blip r:embed="rId1"/>
          <a:stretch/>
        </p:blipFill>
        <p:spPr>
          <a:xfrm>
            <a:off x="1000080" y="2357280"/>
            <a:ext cx="3214800" cy="21830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6" descr="rybuf.jpg"/>
          <p:cNvPicPr/>
          <p:nvPr/>
        </p:nvPicPr>
        <p:blipFill>
          <a:blip r:embed="rId2"/>
          <a:stretch/>
        </p:blipFill>
        <p:spPr>
          <a:xfrm>
            <a:off x="4786200" y="2286000"/>
            <a:ext cx="3448080" cy="226548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5" descr="b_stuart2.jpg"/>
          <p:cNvPicPr/>
          <p:nvPr/>
        </p:nvPicPr>
        <p:blipFill>
          <a:blip r:embed="rId3"/>
          <a:stretch/>
        </p:blipFill>
        <p:spPr>
          <a:xfrm>
            <a:off x="1285920" y="4643280"/>
            <a:ext cx="2865240" cy="18748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3" descr="44.jpg"/>
          <p:cNvPicPr/>
          <p:nvPr/>
        </p:nvPicPr>
        <p:blipFill>
          <a:blip r:embed="rId4"/>
          <a:stretch/>
        </p:blipFill>
        <p:spPr>
          <a:xfrm>
            <a:off x="5072040" y="4572000"/>
            <a:ext cx="2643120" cy="1884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3" descr="Русский-язык.jpg"/>
          <p:cNvPicPr/>
          <p:nvPr/>
        </p:nvPicPr>
        <p:blipFill>
          <a:blip r:embed="rId1"/>
          <a:stretch/>
        </p:blipFill>
        <p:spPr>
          <a:xfrm>
            <a:off x="2071800" y="1000080"/>
            <a:ext cx="4849560" cy="48578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4"/>
          <p:cNvSpPr/>
          <p:nvPr/>
        </p:nvSpPr>
        <p:spPr>
          <a:xfrm>
            <a:off x="71280" y="6072120"/>
            <a:ext cx="907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ньше каждая буква азбуки имела своё наз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8" descr="s6254592"/>
          <p:cNvPicPr/>
          <p:nvPr/>
        </p:nvPicPr>
        <p:blipFill>
          <a:blip r:embed="rId1"/>
          <a:stretch/>
        </p:blipFill>
        <p:spPr>
          <a:xfrm>
            <a:off x="428760" y="928800"/>
            <a:ext cx="3770280" cy="46083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4"/>
          <p:cNvSpPr/>
          <p:nvPr/>
        </p:nvSpPr>
        <p:spPr>
          <a:xfrm>
            <a:off x="357120" y="585792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авните буквы современного и древнерусского алфави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http://school.xvatit.com/images/thumb/e/ef/24d4cce354ad.jpg/468px-24d4cce354ad.jpg"/>
          <p:cNvPicPr/>
          <p:nvPr/>
        </p:nvPicPr>
        <p:blipFill>
          <a:blip r:embed="rId2"/>
          <a:stretch/>
        </p:blipFill>
        <p:spPr>
          <a:xfrm>
            <a:off x="4714920" y="928800"/>
            <a:ext cx="3643200" cy="4670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357200" y="785880"/>
            <a:ext cx="6316920" cy="447336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3"/>
          <p:cNvSpPr/>
          <p:nvPr/>
        </p:nvSpPr>
        <p:spPr>
          <a:xfrm>
            <a:off x="214200" y="5357880"/>
            <a:ext cx="8715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5 (15) декабря 1583 г. Иван Фёдоров скончался и был похоронен во Львове в Святоонуфриевском монастыр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1285920" y="1643040"/>
            <a:ext cx="2857320" cy="4287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5429160" y="1643040"/>
            <a:ext cx="2141640" cy="423396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4"/>
          <p:cNvSpPr/>
          <p:nvPr/>
        </p:nvSpPr>
        <p:spPr>
          <a:xfrm>
            <a:off x="4643280" y="5929200"/>
            <a:ext cx="3786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о Львов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рхитектор А. Консулов, скульптор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. Борисенко и В. Подоль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>
            <a:off x="714240" y="5929200"/>
            <a:ext cx="385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 Москв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кульптор С. М. Волнухин, архитектурное оформление И. П. Мошк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642960" y="92880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вану Фёдорову был установлен памят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Управляющая кнопка: домой 6">
            <a:hlinkClick r:id="rId3" action="ppaction://hlinksldjump"/>
          </p:cNvPr>
          <p:cNvSpPr/>
          <p:nvPr/>
        </p:nvSpPr>
        <p:spPr>
          <a:xfrm>
            <a:off x="8286840" y="607212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12338" y="3837"/>
                </a:moveTo>
                <a:lnTo>
                  <a:pt x="14915" y="6448"/>
                </a:lnTo>
                <a:lnTo>
                  <a:pt x="14915" y="4707"/>
                </a:lnTo>
                <a:lnTo>
                  <a:pt x="16690" y="4707"/>
                </a:lnTo>
                <a:lnTo>
                  <a:pt x="16690" y="8224"/>
                </a:lnTo>
                <a:lnTo>
                  <a:pt x="19301" y="10800"/>
                </a:lnTo>
                <a:lnTo>
                  <a:pt x="17648" y="10800"/>
                </a:lnTo>
                <a:lnTo>
                  <a:pt x="17648" y="17989"/>
                </a:lnTo>
                <a:lnTo>
                  <a:pt x="7029" y="17989"/>
                </a:lnTo>
                <a:lnTo>
                  <a:pt x="7029" y="10800"/>
                </a:lnTo>
                <a:lnTo>
                  <a:pt x="5375" y="10800"/>
                </a:lnTo>
                <a:close/>
              </a:path>
              <a:path fill="darkenLess" w="24677" h="21600">
                <a:moveTo>
                  <a:pt x="14915" y="6448"/>
                </a:moveTo>
                <a:lnTo>
                  <a:pt x="14915" y="4707"/>
                </a:lnTo>
                <a:lnTo>
                  <a:pt x="16690" y="4707"/>
                </a:lnTo>
                <a:lnTo>
                  <a:pt x="16690" y="8224"/>
                </a:lnTo>
                <a:close/>
              </a:path>
              <a:path fill="darkenLess" w="24677" h="21600">
                <a:moveTo>
                  <a:pt x="11416" y="14299"/>
                </a:moveTo>
                <a:lnTo>
                  <a:pt x="13261" y="14299"/>
                </a:lnTo>
                <a:lnTo>
                  <a:pt x="13261" y="17989"/>
                </a:lnTo>
                <a:lnTo>
                  <a:pt x="17648" y="17989"/>
                </a:lnTo>
                <a:lnTo>
                  <a:pt x="17648" y="10800"/>
                </a:lnTo>
                <a:lnTo>
                  <a:pt x="7029" y="10800"/>
                </a:lnTo>
                <a:lnTo>
                  <a:pt x="7029" y="17989"/>
                </a:lnTo>
                <a:lnTo>
                  <a:pt x="11416" y="17989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4a452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3" descr="e1076c30d2a9.png"/>
          <p:cNvPicPr/>
          <p:nvPr/>
        </p:nvPicPr>
        <p:blipFill>
          <a:blip r:embed="rId1"/>
          <a:stretch/>
        </p:blipFill>
        <p:spPr>
          <a:xfrm>
            <a:off x="642960" y="2428920"/>
            <a:ext cx="3535200" cy="392904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3" descr="e1076c30d2a9.png"/>
          <p:cNvPicPr/>
          <p:nvPr/>
        </p:nvPicPr>
        <p:blipFill>
          <a:blip r:embed="rId2"/>
          <a:stretch/>
        </p:blipFill>
        <p:spPr>
          <a:xfrm>
            <a:off x="4857840" y="2428920"/>
            <a:ext cx="3537000" cy="3929040"/>
          </a:xfrm>
          <a:prstGeom prst="rect">
            <a:avLst/>
          </a:prstGeom>
          <a:ln w="0">
            <a:noFill/>
          </a:ln>
        </p:spPr>
      </p:pic>
      <p:sp>
        <p:nvSpPr>
          <p:cNvPr id="46" name="TextBox 7"/>
          <p:cNvSpPr/>
          <p:nvPr/>
        </p:nvSpPr>
        <p:spPr>
          <a:xfrm>
            <a:off x="571680" y="1071720"/>
            <a:ext cx="357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ПЕРВОУЧИТЕЛИ СЛАВЯН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4929120" y="10717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ПЕРВЫЙ БУКВА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9" descr="KIRILL-MEFODIY.jpg"/>
          <p:cNvPicPr/>
          <p:nvPr/>
        </p:nvPicPr>
        <p:blipFill>
          <a:blip r:embed="rId5"/>
          <a:stretch/>
        </p:blipFill>
        <p:spPr>
          <a:xfrm>
            <a:off x="1214280" y="3071880"/>
            <a:ext cx="2389320" cy="2643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http://s44.radikal.ru/i103/0908/94/36b3858c2e71.jpg"/>
          <p:cNvPicPr/>
          <p:nvPr/>
        </p:nvPicPr>
        <p:blipFill>
          <a:blip r:embed="rId6"/>
          <a:stretch/>
        </p:blipFill>
        <p:spPr>
          <a:xfrm>
            <a:off x="5214960" y="3286080"/>
            <a:ext cx="2900520" cy="2095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тернет-ресур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optina-pustin.ru/15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dayoflife.ru/sedtour/?c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ggaliba.ucoz.ru/index/j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childrenpedia.org/8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childrenpedia.org/8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worldtemples.ru/fot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photosight.ru/photo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zamok.pp.ua/Forum/showt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school.xvatit.com/index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Файл:Kyrill&amp;Method.jpg"/>
          <p:cNvPicPr/>
          <p:nvPr/>
        </p:nvPicPr>
        <p:blipFill>
          <a:blip r:embed="rId1"/>
          <a:stretch/>
        </p:blipFill>
        <p:spPr>
          <a:xfrm>
            <a:off x="714240" y="1714680"/>
            <a:ext cx="3760920" cy="468144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642960" y="9288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вноапостольные Кирилл и Мефод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4857840" y="2000160"/>
            <a:ext cx="40003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авянские просветители, создатели славянской азбуки, проповедники христианства, первые переводчики богослужебных книг с греческого на славянский язы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4643280" y="1143000"/>
            <a:ext cx="4071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фодий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старший из восьми братьев, состоял на военной службе. В течение 10 лет он был правителем одной из славянской области, потом ушел в монастырь 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Мефодий Моравский"/>
          <p:cNvPicPr/>
          <p:nvPr/>
        </p:nvPicPr>
        <p:blipFill>
          <a:blip r:embed="rId1"/>
          <a:stretch/>
        </p:blipFill>
        <p:spPr>
          <a:xfrm>
            <a:off x="500040" y="857160"/>
            <a:ext cx="3830760" cy="5715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Равноапостольный Кирилл"/>
          <p:cNvPicPr/>
          <p:nvPr/>
        </p:nvPicPr>
        <p:blipFill>
          <a:blip r:embed="rId1"/>
          <a:stretch/>
        </p:blipFill>
        <p:spPr>
          <a:xfrm>
            <a:off x="357120" y="1000080"/>
            <a:ext cx="4000680" cy="52261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2"/>
          <p:cNvSpPr/>
          <p:nvPr/>
        </p:nvSpPr>
        <p:spPr>
          <a:xfrm>
            <a:off x="4572000" y="855720"/>
            <a:ext cx="4071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рил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ыл самым младшим из братьев, с младенчества он обнаружил необычайные умственные способности. Под руководством лучших наставников Кирилл изучил многие науки. Он хорошо знал еврейский, славянский, греческий, латинский и арабский языки. Тогда он и получил прозвище «Философ», оставшееся за ним навсег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greece09205.jpg"/>
          <p:cNvPicPr/>
          <p:nvPr/>
        </p:nvPicPr>
        <p:blipFill>
          <a:blip r:embed="rId1"/>
          <a:stretch/>
        </p:blipFill>
        <p:spPr>
          <a:xfrm>
            <a:off x="1071720" y="785880"/>
            <a:ext cx="6858000" cy="385740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428760" y="4786200"/>
            <a:ext cx="7929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тья вместе посещали многие земли и многие народы. Их целью было – донести до других народов истинные ценности христиан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179280" y="5667480"/>
            <a:ext cx="864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аздник </a:t>
            </a: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славянской письменност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4 м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992 года в Москве на Славянской площади состоялось торжественное открытие памятника святым Кириллу и Мефодию работы скульптора Клыкова Вячеслава Михайлович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Файл:Cyril-and-Methodius.JPG"/>
          <p:cNvPicPr/>
          <p:nvPr/>
        </p:nvPicPr>
        <p:blipFill>
          <a:blip r:embed="rId1"/>
          <a:stretch/>
        </p:blipFill>
        <p:spPr>
          <a:xfrm>
            <a:off x="2714760" y="857160"/>
            <a:ext cx="3430440" cy="457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2"/>
          <p:cNvSpPr/>
          <p:nvPr/>
        </p:nvSpPr>
        <p:spPr>
          <a:xfrm>
            <a:off x="357120" y="785880"/>
            <a:ext cx="8429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ни славянской письменности - единственный церковно-государственный праздник в России. Официальный статус он получил 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нваре 1991 г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Ежегодно в весенние дни по всей стране отмечаются дни славянской письменности и культуры, чтобы люди не забывали – Кирилл и Мефодий помогли через буквы и письменность сохранить язык и культуру славя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Ohrid_%20St%20Cyril%20and%20his%20brother%20St%20Methodius%20-%20Apostles%20to%20the%20Slavs"/>
          <p:cNvPicPr/>
          <p:nvPr/>
        </p:nvPicPr>
        <p:blipFill>
          <a:blip r:embed="rId1"/>
          <a:stretch/>
        </p:blipFill>
        <p:spPr>
          <a:xfrm>
            <a:off x="571680" y="2286000"/>
            <a:ext cx="2114280" cy="2643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" descr="1213605822_imgp7105"/>
          <p:cNvPicPr/>
          <p:nvPr/>
        </p:nvPicPr>
        <p:blipFill>
          <a:blip r:embed="rId2"/>
          <a:srcRect l="-2128" t="-1876" r="111" b="106"/>
          <a:stretch/>
        </p:blipFill>
        <p:spPr>
          <a:xfrm>
            <a:off x="3429000" y="2214720"/>
            <a:ext cx="2173320" cy="2585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samara"/>
          <p:cNvPicPr/>
          <p:nvPr/>
        </p:nvPicPr>
        <p:blipFill>
          <a:blip r:embed="rId3"/>
          <a:stretch/>
        </p:blipFill>
        <p:spPr>
          <a:xfrm>
            <a:off x="6286680" y="2247840"/>
            <a:ext cx="1847520" cy="2706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mukachev33"/>
          <p:cNvPicPr/>
          <p:nvPr/>
        </p:nvPicPr>
        <p:blipFill>
          <a:blip r:embed="rId4"/>
          <a:stretch/>
        </p:blipFill>
        <p:spPr>
          <a:xfrm>
            <a:off x="4929120" y="4500720"/>
            <a:ext cx="2494080" cy="2071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8_23"/>
          <p:cNvPicPr/>
          <p:nvPr/>
        </p:nvPicPr>
        <p:blipFill>
          <a:blip r:embed="rId5"/>
          <a:stretch/>
        </p:blipFill>
        <p:spPr>
          <a:xfrm>
            <a:off x="1357200" y="4572000"/>
            <a:ext cx="2571840" cy="200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142920" y="785880"/>
            <a:ext cx="878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есть Св. Мефодия и Кирилла построено множество храмов, церквей и соборов как в нашей стране, так и за рубеж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Картинка 14 из 9779"/>
          <p:cNvPicPr/>
          <p:nvPr/>
        </p:nvPicPr>
        <p:blipFill>
          <a:blip r:embed="rId1"/>
          <a:stretch/>
        </p:blipFill>
        <p:spPr>
          <a:xfrm>
            <a:off x="2714760" y="1714680"/>
            <a:ext cx="3300120" cy="40860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5" descr="белорусия.jpg"/>
          <p:cNvPicPr/>
          <p:nvPr/>
        </p:nvPicPr>
        <p:blipFill>
          <a:blip r:embed="rId2"/>
          <a:stretch/>
        </p:blipFill>
        <p:spPr>
          <a:xfrm rot="21331800">
            <a:off x="347400" y="1657080"/>
            <a:ext cx="2257200" cy="16923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9" descr="польша.jpg"/>
          <p:cNvPicPr/>
          <p:nvPr/>
        </p:nvPicPr>
        <p:blipFill>
          <a:blip r:embed="rId3"/>
          <a:stretch/>
        </p:blipFill>
        <p:spPr>
          <a:xfrm rot="213600">
            <a:off x="6267240" y="1572840"/>
            <a:ext cx="2381040" cy="17812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1" descr="чехия.jpg"/>
          <p:cNvPicPr/>
          <p:nvPr/>
        </p:nvPicPr>
        <p:blipFill>
          <a:blip r:embed="rId4"/>
          <a:stretch/>
        </p:blipFill>
        <p:spPr>
          <a:xfrm>
            <a:off x="6858000" y="3357720"/>
            <a:ext cx="1809720" cy="24112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3" descr="украина.jpg"/>
          <p:cNvPicPr/>
          <p:nvPr/>
        </p:nvPicPr>
        <p:blipFill>
          <a:blip r:embed="rId5"/>
          <a:stretch/>
        </p:blipFill>
        <p:spPr>
          <a:xfrm>
            <a:off x="357120" y="3571920"/>
            <a:ext cx="1901880" cy="20527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5" descr="4n1.jpg"/>
          <p:cNvPicPr/>
          <p:nvPr/>
        </p:nvPicPr>
        <p:blipFill>
          <a:blip r:embed="rId6"/>
          <a:stretch/>
        </p:blipFill>
        <p:spPr>
          <a:xfrm>
            <a:off x="1928880" y="5143680"/>
            <a:ext cx="1084320" cy="15476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6" descr="08591_20071211_113941.jpg"/>
          <p:cNvPicPr/>
          <p:nvPr/>
        </p:nvPicPr>
        <p:blipFill>
          <a:blip r:embed="rId7"/>
          <a:stretch/>
        </p:blipFill>
        <p:spPr>
          <a:xfrm>
            <a:off x="5786280" y="5072040"/>
            <a:ext cx="1059120" cy="1548000"/>
          </a:xfrm>
          <a:prstGeom prst="rect">
            <a:avLst/>
          </a:prstGeom>
          <a:ln w="0">
            <a:noFill/>
          </a:ln>
        </p:spPr>
      </p:pic>
      <p:sp>
        <p:nvSpPr>
          <p:cNvPr id="75" name="Управляющая кнопка: домой 9">
            <a:hlinkClick r:id="rId8" action="ppaction://hlinksldjump"/>
          </p:cNvPr>
          <p:cNvSpPr/>
          <p:nvPr/>
        </p:nvSpPr>
        <p:spPr>
          <a:xfrm>
            <a:off x="8001000" y="6072120"/>
            <a:ext cx="571680" cy="500040"/>
          </a:xfrm>
          <a:custGeom>
            <a:avLst/>
            <a:gdLst>
              <a:gd name="textAreaLeft" fmla="*/ 32400 w 571680"/>
              <a:gd name="textAreaRight" fmla="*/ 539280 w 5716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12346" y="3837"/>
                </a:moveTo>
                <a:lnTo>
                  <a:pt x="14922" y="6448"/>
                </a:lnTo>
                <a:lnTo>
                  <a:pt x="14922" y="4707"/>
                </a:lnTo>
                <a:lnTo>
                  <a:pt x="16698" y="4707"/>
                </a:lnTo>
                <a:lnTo>
                  <a:pt x="16698" y="8224"/>
                </a:lnTo>
                <a:lnTo>
                  <a:pt x="19309" y="10800"/>
                </a:lnTo>
                <a:lnTo>
                  <a:pt x="17655" y="10800"/>
                </a:lnTo>
                <a:lnTo>
                  <a:pt x="17655" y="17989"/>
                </a:lnTo>
                <a:lnTo>
                  <a:pt x="7037" y="17989"/>
                </a:lnTo>
                <a:lnTo>
                  <a:pt x="7037" y="10800"/>
                </a:lnTo>
                <a:lnTo>
                  <a:pt x="5383" y="10800"/>
                </a:lnTo>
                <a:close/>
              </a:path>
              <a:path fill="darkenLess" w="24692" h="21600">
                <a:moveTo>
                  <a:pt x="14922" y="6448"/>
                </a:moveTo>
                <a:lnTo>
                  <a:pt x="14922" y="4707"/>
                </a:lnTo>
                <a:lnTo>
                  <a:pt x="16698" y="4707"/>
                </a:lnTo>
                <a:lnTo>
                  <a:pt x="16698" y="8224"/>
                </a:lnTo>
                <a:close/>
              </a:path>
              <a:path fill="darkenLess" w="24692" h="21600">
                <a:moveTo>
                  <a:pt x="11424" y="14299"/>
                </a:moveTo>
                <a:lnTo>
                  <a:pt x="13269" y="14299"/>
                </a:lnTo>
                <a:lnTo>
                  <a:pt x="13269" y="17989"/>
                </a:lnTo>
                <a:lnTo>
                  <a:pt x="17655" y="17989"/>
                </a:lnTo>
                <a:lnTo>
                  <a:pt x="17655" y="10800"/>
                </a:lnTo>
                <a:lnTo>
                  <a:pt x="7037" y="10800"/>
                </a:lnTo>
                <a:lnTo>
                  <a:pt x="7037" y="17989"/>
                </a:lnTo>
                <a:lnTo>
                  <a:pt x="11424" y="17989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4a452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3T12:22:04Z</dcterms:created>
  <dc:creator>Ольга</dc:creator>
  <dc:description/>
  <dc:language>en-US</dc:language>
  <cp:lastModifiedBy>Виктория</cp:lastModifiedBy>
  <dcterms:modified xsi:type="dcterms:W3CDTF">2022-12-04T19:36:36Z</dcterms:modified>
  <cp:revision>57</cp:revision>
  <dc:subject/>
  <dc:title>Мастера печатных де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8140000000000010243100207f6000400038000</vt:lpwstr>
  </property>
</Properties>
</file>