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2DB-917E-4427-8C12-2D167CD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7F5-BDF4-456F-9FAB-175F6F21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20C-3FA0-446C-9368-7B42EA2D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1A6-6F54-4ECA-A1EC-BA0109C1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98C-8A98-4C60-AA79-2700372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E14-0BF1-4F6B-980D-3C8EBDA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57F-5993-4296-A90E-1DD0C815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E13-5A8C-4015-9DA1-C0403ED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0D-DA5C-46C7-893A-7C9A8E10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25A-5C36-4B1B-9E32-07B7777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99F-0A21-4AB2-818E-6323075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A13-9714-4032-A0DD-C440D5E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2BEF-F91B-46F5-B718-DB32B2940B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5AF5-DADB-4D77-9F28-F743A50BC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tina-pustin.ru/15&#8230;" TargetMode="External"/><Relationship Id="rId2" Type="http://schemas.openxmlformats.org/officeDocument/2006/relationships/hyperlink" Target="http://dayoflife.ru/sedtour/?contr=rez&amp;que=b%20&#1041;&#1080;&#1090;&#1074;&#1072;%20&#1085;&#1072;%20b%20&#1053;&#1077;&#1074;&#1077;" TargetMode="External"/><Relationship Id="rId3" Type="http://schemas.openxmlformats.org/officeDocument/2006/relationships/hyperlink" Target="http://ggaliba.ucoz.ru/index/jubilejnye_daty_2012_goda/0-6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143080"/>
            <a:ext cx="8486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вянской азбу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143240" y="4286160"/>
            <a:ext cx="45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- ОБУЧЕНИЕ ГРАМ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Евдокимова Виктори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СОШ №10 с УИ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м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Pictures\d3250fbf3dd1.png"/>
          <p:cNvPicPr/>
          <p:nvPr/>
        </p:nvPicPr>
        <p:blipFill>
          <a:blip r:embed="rId2"/>
          <a:stretch/>
        </p:blipFill>
        <p:spPr>
          <a:xfrm>
            <a:off x="1428840" y="4143240"/>
            <a:ext cx="15778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4500720" y="85716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714920" y="1143000"/>
            <a:ext cx="385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ервый печатный станок сделал тоже Иван. В историю он вошёл как первопечатник Иван Фёдоров, хотя в некоторых напечатанных им книгах подписывался как Иван Фёдорович Москви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331488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714240" y="586008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Государев Печатный д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8760" y="781200"/>
            <a:ext cx="4214520" cy="5290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 flipV="1" rot="10800000">
            <a:off x="428400" y="614448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ий Печатный двор в середине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конструкция Румянцева В.Е. Литограф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714920" y="85716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л Печатный двор в Москве, в Китай-городе. Его руководителем и стал церковный дьякон Иван Фёдоров, будущий первопеча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14200" y="6429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щиты от механических повреждений дел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лёт из двух досок, обтянутых кожей и име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1000080" y="2357280"/>
            <a:ext cx="3214800" cy="2183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2286000"/>
            <a:ext cx="3448080" cy="2265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b_stuart2.jpg"/>
          <p:cNvPicPr/>
          <p:nvPr/>
        </p:nvPicPr>
        <p:blipFill>
          <a:blip r:embed="rId3"/>
          <a:stretch/>
        </p:blipFill>
        <p:spPr>
          <a:xfrm>
            <a:off x="1285920" y="4643280"/>
            <a:ext cx="2865240" cy="1874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44.jpg"/>
          <p:cNvPicPr/>
          <p:nvPr/>
        </p:nvPicPr>
        <p:blipFill>
          <a:blip r:embed="rId4"/>
          <a:stretch/>
        </p:blipFill>
        <p:spPr>
          <a:xfrm>
            <a:off x="5072040" y="457200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Русский-язык.jpg"/>
          <p:cNvPicPr/>
          <p:nvPr/>
        </p:nvPicPr>
        <p:blipFill>
          <a:blip r:embed="rId1"/>
          <a:stretch/>
        </p:blipFill>
        <p:spPr>
          <a:xfrm>
            <a:off x="2071800" y="1000080"/>
            <a:ext cx="4849560" cy="4857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1280" y="6072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каждая буква азбуки имела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s6254592"/>
          <p:cNvPicPr/>
          <p:nvPr/>
        </p:nvPicPr>
        <p:blipFill>
          <a:blip r:embed="rId1"/>
          <a:stretch/>
        </p:blipFill>
        <p:spPr>
          <a:xfrm>
            <a:off x="428760" y="928800"/>
            <a:ext cx="377028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57120" y="5857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буквы современного и древнерусского алфав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school.xvatit.com/images/thumb/e/ef/24d4cce354ad.jpg/468px-24d4cce354ad.jpg"/>
          <p:cNvPicPr/>
          <p:nvPr/>
        </p:nvPicPr>
        <p:blipFill>
          <a:blip r:embed="rId2"/>
          <a:stretch/>
        </p:blipFill>
        <p:spPr>
          <a:xfrm>
            <a:off x="4714920" y="928800"/>
            <a:ext cx="3643200" cy="467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6316920" cy="4473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14200" y="53578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 (15) декабря 1583 г. Иван Фёдоров скончался и был похоронен во Львове в Святоонуфриевском монасты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57320" cy="4287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429160" y="1643040"/>
            <a:ext cx="2141640" cy="4233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4643280" y="5929200"/>
            <a:ext cx="378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 Льв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ор А. Консулов, скульпто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. Борисенко и В. Подо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14240" y="592920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6">
            <a:hlinkClick r:id="rId3" action="ppaction://hlinksldjump"/>
          </p:cNvPr>
          <p:cNvSpPr/>
          <p:nvPr/>
        </p:nvSpPr>
        <p:spPr>
          <a:xfrm>
            <a:off x="828684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e1076c30d2a9.png"/>
          <p:cNvPicPr/>
          <p:nvPr/>
        </p:nvPicPr>
        <p:blipFill>
          <a:blip r:embed="rId1"/>
          <a:stretch/>
        </p:blipFill>
        <p:spPr>
          <a:xfrm>
            <a:off x="642960" y="2428920"/>
            <a:ext cx="3535200" cy="3929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e1076c30d2a9.png"/>
          <p:cNvPicPr/>
          <p:nvPr/>
        </p:nvPicPr>
        <p:blipFill>
          <a:blip r:embed="rId2"/>
          <a:stretch/>
        </p:blipFill>
        <p:spPr>
          <a:xfrm>
            <a:off x="4857840" y="2428920"/>
            <a:ext cx="3537000" cy="3929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571680" y="107172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ЕРВОУЧИТЕЛИ 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929120" y="1071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ЕРВЫЙ БУК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KIRILL-MEFODIY.jpg"/>
          <p:cNvPicPr/>
          <p:nvPr/>
        </p:nvPicPr>
        <p:blipFill>
          <a:blip r:embed="rId5"/>
          <a:stretch/>
        </p:blipFill>
        <p:spPr>
          <a:xfrm>
            <a:off x="1214280" y="3071880"/>
            <a:ext cx="2389320" cy="264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44.radikal.ru/i103/0908/94/36b3858c2e71.jpg"/>
          <p:cNvPicPr/>
          <p:nvPr/>
        </p:nvPicPr>
        <p:blipFill>
          <a:blip r:embed="rId6"/>
          <a:stretch/>
        </p:blipFill>
        <p:spPr>
          <a:xfrm>
            <a:off x="5214960" y="3286080"/>
            <a:ext cx="2900520" cy="209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tina-pustin.ru/15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oflife.ru/sedtour/?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galiba.ucoz.ru/index/j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orldtemples.ru/fo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hotosight.ru/pho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zamok.pp.ua/Forum/show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school.xvatit.com/index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Файл:Kyrill&amp;Method.jpg"/>
          <p:cNvPicPr/>
          <p:nvPr/>
        </p:nvPicPr>
        <p:blipFill>
          <a:blip r:embed="rId1"/>
          <a:stretch/>
        </p:blipFill>
        <p:spPr>
          <a:xfrm>
            <a:off x="714240" y="1714680"/>
            <a:ext cx="37609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296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апостольные Кирилл и Мефо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857840" y="2000160"/>
            <a:ext cx="4000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вянские просветители, создатели славянской азбуки, проповедники христианства, первые переводчики богослужебных книг с греческого на славянс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643280" y="114300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фод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рший из восьми братьев, состоял на военной службе. В течение 10 лет он был правителем одной из славянской области, потом ушел в монастырь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Мефодий Моравский"/>
          <p:cNvPicPr/>
          <p:nvPr/>
        </p:nvPicPr>
        <p:blipFill>
          <a:blip r:embed="rId1"/>
          <a:stretch/>
        </p:blipFill>
        <p:spPr>
          <a:xfrm>
            <a:off x="500040" y="857160"/>
            <a:ext cx="3830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Равноапостольный Кирилл"/>
          <p:cNvPicPr/>
          <p:nvPr/>
        </p:nvPicPr>
        <p:blipFill>
          <a:blip r:embed="rId1"/>
          <a:stretch/>
        </p:blipFill>
        <p:spPr>
          <a:xfrm>
            <a:off x="357120" y="1000080"/>
            <a:ext cx="4000680" cy="5226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572000" y="85572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ил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самым младшим из братьев, с младенчества он обнаружил необычайные умственные способности. Под руководством лучших наставников Кирилл изучил многие науки. Он хорошо знал еврейский, славянский, греческий, латинский и арабский языки. Тогда он и получил прозвище «Философ», оставшееся за ним на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greece09205.jpg"/>
          <p:cNvPicPr/>
          <p:nvPr/>
        </p:nvPicPr>
        <p:blipFill>
          <a:blip r:embed="rId1"/>
          <a:stretch/>
        </p:blipFill>
        <p:spPr>
          <a:xfrm>
            <a:off x="1071720" y="78588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428760" y="478620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я вместе посещали многие земли и многие народы. Их целью было – донести до других народов истинные ценности христи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6674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здник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лавянской письмен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992 года в Москве на Славянской площади состоялось торжественное открытие памятника святым Кириллу и Мефодию работы скульптора Клыкова Вячеслава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Файл:Cyril-and-Methodius.JPG"/>
          <p:cNvPicPr/>
          <p:nvPr/>
        </p:nvPicPr>
        <p:blipFill>
          <a:blip r:embed="rId1"/>
          <a:stretch/>
        </p:blipFill>
        <p:spPr>
          <a:xfrm>
            <a:off x="2714760" y="857160"/>
            <a:ext cx="34304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357120" y="78588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и славянской письменности - единственный церковно-государственный праздник в России. Официальный статус он получил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е 1991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жегодно в весенние дни по всей стране отмечаются дни славянской письменности и культуры, чтобы люди не забывали – Кирилл и Мефодий помогли через буквы и письменность сохранить язык и культуру слав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Ohrid_%20St%20Cyril%20and%20his%20brother%20St%20Methodius%20-%20Apostles%20to%20the%20Slavs"/>
          <p:cNvPicPr/>
          <p:nvPr/>
        </p:nvPicPr>
        <p:blipFill>
          <a:blip r:embed="rId1"/>
          <a:stretch/>
        </p:blipFill>
        <p:spPr>
          <a:xfrm>
            <a:off x="571680" y="2286000"/>
            <a:ext cx="211428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213605822_imgp7105"/>
          <p:cNvPicPr/>
          <p:nvPr/>
        </p:nvPicPr>
        <p:blipFill>
          <a:blip r:embed="rId2"/>
          <a:srcRect l="-2128" t="-1876" r="111" b="106"/>
          <a:stretch/>
        </p:blipFill>
        <p:spPr>
          <a:xfrm>
            <a:off x="3429000" y="2214720"/>
            <a:ext cx="2173320" cy="258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amara"/>
          <p:cNvPicPr/>
          <p:nvPr/>
        </p:nvPicPr>
        <p:blipFill>
          <a:blip r:embed="rId3"/>
          <a:stretch/>
        </p:blipFill>
        <p:spPr>
          <a:xfrm>
            <a:off x="6286680" y="2247840"/>
            <a:ext cx="1847520" cy="270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ukachev33"/>
          <p:cNvPicPr/>
          <p:nvPr/>
        </p:nvPicPr>
        <p:blipFill>
          <a:blip r:embed="rId4"/>
          <a:stretch/>
        </p:blipFill>
        <p:spPr>
          <a:xfrm>
            <a:off x="4929120" y="4500720"/>
            <a:ext cx="249408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_23"/>
          <p:cNvPicPr/>
          <p:nvPr/>
        </p:nvPicPr>
        <p:blipFill>
          <a:blip r:embed="rId5"/>
          <a:stretch/>
        </p:blipFill>
        <p:spPr>
          <a:xfrm>
            <a:off x="1357200" y="4572000"/>
            <a:ext cx="257184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42920" y="7858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 Св. Мефодия и Кирилла построено множество храмов, церквей и соборов как в нашей стране, так и за рубеж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артинка 14 из 9779"/>
          <p:cNvPicPr/>
          <p:nvPr/>
        </p:nvPicPr>
        <p:blipFill>
          <a:blip r:embed="rId1"/>
          <a:stretch/>
        </p:blipFill>
        <p:spPr>
          <a:xfrm>
            <a:off x="2714760" y="1714680"/>
            <a:ext cx="3300120" cy="4086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белорусия.jpg"/>
          <p:cNvPicPr/>
          <p:nvPr/>
        </p:nvPicPr>
        <p:blipFill>
          <a:blip r:embed="rId2"/>
          <a:stretch/>
        </p:blipFill>
        <p:spPr>
          <a:xfrm rot="21331800">
            <a:off x="347400" y="1657080"/>
            <a:ext cx="2257200" cy="1692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польша.jpg"/>
          <p:cNvPicPr/>
          <p:nvPr/>
        </p:nvPicPr>
        <p:blipFill>
          <a:blip r:embed="rId3"/>
          <a:stretch/>
        </p:blipFill>
        <p:spPr>
          <a:xfrm rot="213600">
            <a:off x="6267240" y="157284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чехия.jpg"/>
          <p:cNvPicPr/>
          <p:nvPr/>
        </p:nvPicPr>
        <p:blipFill>
          <a:blip r:embed="rId4"/>
          <a:stretch/>
        </p:blipFill>
        <p:spPr>
          <a:xfrm>
            <a:off x="6858000" y="3357720"/>
            <a:ext cx="1809720" cy="2411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украина.jpg"/>
          <p:cNvPicPr/>
          <p:nvPr/>
        </p:nvPicPr>
        <p:blipFill>
          <a:blip r:embed="rId5"/>
          <a:stretch/>
        </p:blipFill>
        <p:spPr>
          <a:xfrm>
            <a:off x="357120" y="3571920"/>
            <a:ext cx="1901880" cy="2052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4n1.jpg"/>
          <p:cNvPicPr/>
          <p:nvPr/>
        </p:nvPicPr>
        <p:blipFill>
          <a:blip r:embed="rId6"/>
          <a:stretch/>
        </p:blipFill>
        <p:spPr>
          <a:xfrm>
            <a:off x="1928880" y="5143680"/>
            <a:ext cx="1084320" cy="154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08591_20071211_113941.jpg"/>
          <p:cNvPicPr/>
          <p:nvPr/>
        </p:nvPicPr>
        <p:blipFill>
          <a:blip r:embed="rId7"/>
          <a:stretch/>
        </p:blipFill>
        <p:spPr>
          <a:xfrm>
            <a:off x="5786280" y="5072040"/>
            <a:ext cx="1059120" cy="15480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9">
            <a:hlinkClick r:id="rId8" action="ppaction://hlinksldjump"/>
          </p:cNvPr>
          <p:cNvSpPr/>
          <p:nvPr/>
        </p:nvSpPr>
        <p:spPr>
          <a:xfrm>
            <a:off x="800100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Ольга</dc:creator>
  <dc:description/>
  <dc:language>en-US</dc:language>
  <cp:lastModifiedBy>Виктория</cp:lastModifiedBy>
  <dcterms:modified xsi:type="dcterms:W3CDTF">2022-12-04T19:36:36Z</dcterms:modified>
  <cp:revision>57</cp:revision>
  <dc:subject/>
  <dc:title>Мастера печатных д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40000000000010243100207f6000400038000</vt:lpwstr>
  </property>
</Properties>
</file>