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3.png" ContentType="image/png"/>
  <Override PartName="/ppt/media/image5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30.gif" ContentType="image/gif"/>
  <Override PartName="/ppt/media/image2.png" ContentType="image/png"/>
  <Override PartName="/ppt/media/image25.png" ContentType="image/png"/>
  <Override PartName="/ppt/media/image9.jpeg" ContentType="image/jpeg"/>
  <Override PartName="/ppt/media/image12.jpeg" ContentType="image/jpeg"/>
  <Override PartName="/ppt/media/image4.wmf" ContentType="image/x-wmf"/>
  <Override PartName="/ppt/media/image10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13.png" ContentType="image/png"/>
  <Override PartName="/ppt/media/image20.gif" ContentType="image/gif"/>
  <Override PartName="/ppt/media/image22.jpeg" ContentType="image/jpeg"/>
  <Override PartName="/ppt/media/image23.jpeg" ContentType="image/jpeg"/>
  <Override PartName="/ppt/media/image26.jpeg" ContentType="image/jpeg"/>
  <Override PartName="/ppt/media/image27.png" ContentType="image/png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065-9639-4CB3-8CF3-7F9D6535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497-73F0-41E3-B9C6-3E286C35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D39-1C47-4872-BBE0-BE1CBAC5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05F-52D9-4086-B483-13C981E4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71A5-09EB-428F-B708-AE937F8F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14E2-A2DC-4F0F-9BCA-0A55C0BD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4DCD-BFC2-4CE4-B422-A58E14F5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055-2E37-4E53-9CBC-6CFE622A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CF76-69A0-4A90-9D18-B9FCC2A4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C04C-983F-4536-A6F5-F6145DCB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2177-5F47-4275-85C0-CBE7E06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623-2628-455A-8D73-DDB708DF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62D4-B26C-4FD4-A29A-3C15146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367D-72FB-4E75-99FA-24279F3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F1AF-DDC3-43D2-8C8B-AD12A9BA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9EB4-8EAB-4FB9-88D5-39B1496C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D38D-9E2B-4023-9A25-BB22BD89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35FD-5334-4FDF-B116-6E5D6DFB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2050-0920-4AB5-8B52-119C14A4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BFD2-5723-410C-B3C4-E57505E8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7712-74C5-4918-AD6A-0C29BABC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1280-DAF6-4E85-A332-0EB8BC02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0C1-C580-47E8-BF1E-6D6B4452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4A3E-5C68-4537-B9C2-F749DE02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3326-1215-4C57-81DD-072ABF28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61E7-C146-4365-B35A-DD54277C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F432-9105-41F8-81D7-DE8FAD9A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30911-33E4-4EF6-8F0D-0586DF99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F7B7-0349-454C-8232-763BE671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EB3C-0547-4CE8-AF0D-B0DCD565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DD1B-DD48-4B5B-A3EE-0C917CAD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5FD83-180B-4438-BAE4-7BCA200B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63F6E-7DE0-45DC-98AA-274EEEE8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607-E548-460B-B813-71223639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137F2-B0F7-4C2D-AE52-5D449319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6DAB-F64A-4672-93A7-AE0D70E8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381D-12D1-4754-BD15-C0F3A3CC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82E4-0413-496F-B2D5-2CD3771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8B23-BEBE-4A26-BB9A-8A35438A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BA22-FA4E-4FEC-8F63-1B371D0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5AC8-AA63-43E3-AC4B-069B61B4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8420-59B1-4EA7-B1E6-044FBB64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2827-69C2-422F-936A-344CE09F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89D9B-18AB-4EA6-B112-E3FAD3E0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48F-8DDB-4BBB-BDF5-9187B9AF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FDC0-C1CC-49F5-A766-2F3FE1EC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9D68-E67B-416F-8A87-33AD24FB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22396-C32F-44D9-8B3A-82F05738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E637F-AAC7-448A-A7DB-A3F0291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6CEFD-C689-404C-AF78-712F39D9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EA5FC-5442-43E4-AE86-B65AB163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CDF7D-42FC-41F0-88A8-27D64A7F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75383-1BB2-4148-AC17-99F576E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1D4B6-9127-4403-BD98-2DA47697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B278-13BF-4AB3-9609-0C6E7527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110-7876-4C5E-95ED-EB2547AE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9EB6-0A02-412C-B132-CCE61F0B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168D3-8137-484B-A2B9-353A4F17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7C783-0684-45A7-9716-7C30E54C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48E7D-2E9A-45FF-AA79-69F792D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0CE2-C4E2-410D-9BDE-24BC8710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3EF2D-3B20-411D-8604-E21CFEF7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0A8C0-2D4B-4068-B2D7-056E4788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0508-0ED0-480E-833F-40A0162C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C94A-CEB9-4D0D-889D-3FB2F0D0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0C412-4E6F-4839-A156-DE029D3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4D6-097B-4AE1-ADF2-03F387BC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A8BCF-2B9B-4F40-BEB8-C2EC6691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E76DA-2569-4277-B027-D063D8E9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5FC91-FF08-498A-BDFF-3B436683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358CE-1FBF-46E1-96D5-1049945E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36800-A2DC-40DF-81AE-05AFEAD7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30511-2B53-45F3-905E-8FD81CCE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93AEC-E44D-4A97-A061-DAE09CD2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92725-B017-4D9D-8404-C58F1881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EA374-89C7-4E68-AC32-DEA8578F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65255-ADB4-4C0F-9187-893A27AA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D58-3F90-4467-9AC5-FCAF2344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B7C23-C60B-4997-BFF9-C15B068D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5171-E50A-438C-BF09-BF46E6C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521D3-59D9-4978-91F5-CE132D21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38489-438E-4C06-BF0A-1896F00F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44E80-5F3B-439C-9BD7-E59AD286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EA9-E5AA-43A3-AEA0-463CA1B2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01BE-7C6E-4639-8312-94860BEB61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0434-04FF-4830-8084-5DAEFC020FD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E6D3-EDAC-45DC-8F5A-9399F81D06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301-5988-455D-8BE0-732E489707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9B79-CAB0-4140-934C-E22E2BF6E4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9CAE-B3B4-4074-BC8C-6B4D06D2EA19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73A7-9FBE-4D11-B0BB-9773CAEABC0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272360" cy="21146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71320" y="3785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ассный час в 7 А класс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ассный руководитель Кирякова Ю.Н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26960" y="-85680"/>
            <a:ext cx="8454960" cy="14875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-360" y="1356840"/>
            <a:ext cx="4714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5160" indent="-4525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Мойте волосы не по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51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расписани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51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1 раз в неделю, а по мере того, как они становятся грязными.  Не забывайте и о народных средствах: можно мыть голову желтком, размоченным ржаным хлебом, простоквашей. Полезно ополаскивать волосы настоем репейника, ромашки. Хорошо споласкивать их талой водой 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51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51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5" descr="Гигиена волос"/>
          <p:cNvPicPr/>
          <p:nvPr/>
        </p:nvPicPr>
        <p:blipFill>
          <a:blip r:embed="rId2"/>
          <a:stretch/>
        </p:blipFill>
        <p:spPr>
          <a:xfrm>
            <a:off x="4786200" y="1000080"/>
            <a:ext cx="4143600" cy="5143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CAT33"/>
          <p:cNvPicPr/>
          <p:nvPr/>
        </p:nvPicPr>
        <p:blipFill>
          <a:blip r:embed="rId3"/>
          <a:stretch/>
        </p:blipFill>
        <p:spPr>
          <a:xfrm>
            <a:off x="428760" y="-214200"/>
            <a:ext cx="124452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4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4929120" y="1500120"/>
            <a:ext cx="360036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Уход за полостью рта - это сохранение зубов в здоровом состоянии, профилактика таких заболеваний, как карие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дить кариес можно регулярной чисткой зу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5" descr="Гигиена зубов"/>
          <p:cNvPicPr/>
          <p:nvPr/>
        </p:nvPicPr>
        <p:blipFill>
          <a:blip r:embed="rId1"/>
          <a:stretch/>
        </p:blipFill>
        <p:spPr>
          <a:xfrm>
            <a:off x="571680" y="1285920"/>
            <a:ext cx="4038480" cy="535788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297560" cy="78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6186600" cy="1073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0" y="1071720"/>
            <a:ext cx="4495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Тщательно следите за своим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ками. Ногти должны быть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стыми и коротко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стриженными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язательно мойте руки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дя с улицы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ле посещения туалета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 едой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ле игры с животным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Не забывайте о ногах. Они часто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теют, появляется неприятный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пах, поэтому их также надо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ыть ежедневно и ежедневно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евать чистые носки ил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готк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Picture 9" descr="CAT33"/>
          <p:cNvPicPr/>
          <p:nvPr/>
        </p:nvPicPr>
        <p:blipFill>
          <a:blip r:embed="rId2"/>
          <a:stretch/>
        </p:blipFill>
        <p:spPr>
          <a:xfrm>
            <a:off x="7643880" y="-214200"/>
            <a:ext cx="1244520" cy="152388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7" descr="12.jpg"/>
          <p:cNvPicPr/>
          <p:nvPr/>
        </p:nvPicPr>
        <p:blipFill>
          <a:blip r:embed="rId3"/>
          <a:stretch/>
        </p:blipFill>
        <p:spPr>
          <a:xfrm>
            <a:off x="4500720" y="1857240"/>
            <a:ext cx="428616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500040" y="371520"/>
            <a:ext cx="8229600" cy="212724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6" descr="пляж.png"/>
          <p:cNvPicPr/>
          <p:nvPr/>
        </p:nvPicPr>
        <p:blipFill>
          <a:blip r:embed="rId2"/>
          <a:stretch/>
        </p:blipFill>
        <p:spPr>
          <a:xfrm>
            <a:off x="1143000" y="2357280"/>
            <a:ext cx="700092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47120" cy="1395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440"/>
            <a:ext cx="82296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такое личная гигиена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относится к средствам гигиены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вы правила личной гигиены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Times New Roman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8" descr="smile05"/>
          <p:cNvPicPr/>
          <p:nvPr/>
        </p:nvPicPr>
        <p:blipFill>
          <a:blip r:embed="rId2"/>
          <a:stretch/>
        </p:blipFill>
        <p:spPr>
          <a:xfrm>
            <a:off x="214200" y="500040"/>
            <a:ext cx="114300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61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618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8229600" cy="1749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285840" y="135720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Понятие о личной  гигиен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Что включает в себя личная гигиена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Средства личной гигиены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Правила соблюдения личной гигиены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Вопросы для закрепления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213840" y="1142640"/>
            <a:ext cx="43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ое развитие и здоровье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 первую очередь лична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гиена. И это не случайно. Сам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 «гигиена» происходит о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ческого «гигиэйнос» —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ебный, приносящий здоровь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широком понимании гигиена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наука, изучающая условия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ые для сохранени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я. Чистота и личная гигие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тъемлемые спутник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а на протяжении всей ег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ая гигиена — это комплекс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, выполняя которые в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ите и укрепите сво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2" descr="C:\Program Files\Microsoft Office\MEDIA\CAGCAT10\j0240719.wmf"/>
          <p:cNvPicPr/>
          <p:nvPr/>
        </p:nvPicPr>
        <p:blipFill>
          <a:blip r:embed="rId2"/>
          <a:stretch/>
        </p:blipFill>
        <p:spPr>
          <a:xfrm>
            <a:off x="4572000" y="1071720"/>
            <a:ext cx="392904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1671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28840"/>
            <a:ext cx="4038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людени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тоты тела,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ья, одежды, жилищ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8" descr="JANITOR"/>
          <p:cNvPicPr/>
          <p:nvPr/>
        </p:nvPicPr>
        <p:blipFill>
          <a:blip r:embed="rId2"/>
          <a:stretch/>
        </p:blipFill>
        <p:spPr>
          <a:xfrm>
            <a:off x="785880" y="4143240"/>
            <a:ext cx="3016080" cy="2714760"/>
          </a:xfrm>
          <a:prstGeom prst="rect">
            <a:avLst/>
          </a:prstGeom>
          <a:ln w="0">
            <a:noFill/>
          </a:ln>
        </p:spPr>
      </p:pic>
      <p:pic>
        <p:nvPicPr>
          <p:cNvPr id="311" name="Содержимое 7" descr="11.jpg"/>
          <p:cNvPicPr/>
          <p:nvPr/>
        </p:nvPicPr>
        <p:blipFill>
          <a:blip r:embed="rId3"/>
          <a:stretch/>
        </p:blipFill>
        <p:spPr>
          <a:xfrm>
            <a:off x="4648320" y="1857240"/>
            <a:ext cx="413856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530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готовлени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регулярный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пищ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Содержимое 5" descr="2.jpg"/>
          <p:cNvPicPr/>
          <p:nvPr/>
        </p:nvPicPr>
        <p:blipFill>
          <a:blip r:embed="rId2"/>
          <a:stretch/>
        </p:blipFill>
        <p:spPr>
          <a:xfrm>
            <a:off x="142920" y="1785960"/>
            <a:ext cx="4352760" cy="38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ередование труда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активного отдыха,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48320" y="17226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ственного 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изического тру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2"/>
          <a:stretch/>
        </p:blipFill>
        <p:spPr>
          <a:xfrm>
            <a:off x="4500720" y="157176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"/>
          <p:cNvPicPr/>
          <p:nvPr/>
        </p:nvPicPr>
        <p:blipFill>
          <a:blip r:embed="rId3"/>
          <a:stretch/>
        </p:blipFill>
        <p:spPr>
          <a:xfrm>
            <a:off x="571680" y="3000240"/>
            <a:ext cx="364320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714920" y="128592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Полноценный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сон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85840" y="157176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нят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изкультурой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7" descr=""/>
          <p:cNvPicPr/>
          <p:nvPr/>
        </p:nvPicPr>
        <p:blipFill>
          <a:blip r:embed="rId2"/>
          <a:stretch/>
        </p:blipFill>
        <p:spPr>
          <a:xfrm>
            <a:off x="857160" y="3071880"/>
            <a:ext cx="3071880" cy="3392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"/>
          <p:cNvPicPr/>
          <p:nvPr/>
        </p:nvPicPr>
        <p:blipFill>
          <a:blip r:embed="rId3"/>
          <a:stretch/>
        </p:blipFill>
        <p:spPr>
          <a:xfrm>
            <a:off x="4857840" y="300024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395280" y="476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5" descr="Средства личной гигиены"/>
          <p:cNvPicPr/>
          <p:nvPr/>
        </p:nvPicPr>
        <p:blipFill>
          <a:blip r:embed="rId1"/>
          <a:stretch/>
        </p:blipFill>
        <p:spPr>
          <a:xfrm>
            <a:off x="214200" y="1571760"/>
            <a:ext cx="5143680" cy="42145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5429160" y="1643040"/>
            <a:ext cx="3571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 средствам личной гигиены обычно относят всё то, что позволяет соблюдать гигиенические правила: зубную щётку, мыло, полотенце, расчёску, носовой платок и т.д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Прямоугольник 6" descr=""/>
          <p:cNvPicPr/>
          <p:nvPr/>
        </p:nvPicPr>
        <p:blipFill>
          <a:blip r:embed="rId2"/>
          <a:stretch/>
        </p:blipFill>
        <p:spPr>
          <a:xfrm>
            <a:off x="712800" y="426960"/>
            <a:ext cx="8175600" cy="101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4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356840"/>
            <a:ext cx="4495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мните о том, что кожа быстро загрязняется, ее поры закупориваются, и она перестает «дышать». Это одна из причин плохого самочувствия, усталости, вялости. Вы наверняка не раз замечали, как после душа проходит усталость, улучшается настроение. Вода как бы смывает ваше плохое настроение и проблемы, а также прекрасно закаливает организ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1" name="Содержимое 9" descr="сауна.png"/>
          <p:cNvPicPr/>
          <p:nvPr/>
        </p:nvPicPr>
        <p:blipFill>
          <a:blip r:embed="rId2"/>
          <a:stretch/>
        </p:blipFill>
        <p:spPr>
          <a:xfrm>
            <a:off x="4429080" y="1857240"/>
            <a:ext cx="4500720" cy="40006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3"/>
          <p:cNvSpPr/>
          <p:nvPr/>
        </p:nvSpPr>
        <p:spPr>
          <a:xfrm>
            <a:off x="0" y="214200"/>
            <a:ext cx="8001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9" descr="CAT33"/>
          <p:cNvPicPr/>
          <p:nvPr/>
        </p:nvPicPr>
        <p:blipFill>
          <a:blip r:embed="rId3"/>
          <a:stretch/>
        </p:blipFill>
        <p:spPr>
          <a:xfrm>
            <a:off x="7643880" y="-214200"/>
            <a:ext cx="124452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7:31:08Z</dcterms:created>
  <dc:creator>Admin</dc:creator>
  <dc:description/>
  <dc:language>en-US</dc:language>
  <cp:lastModifiedBy>111</cp:lastModifiedBy>
  <dcterms:modified xsi:type="dcterms:W3CDTF">2022-12-04T10:14:23Z</dcterms:modified>
  <cp:revision>35</cp:revision>
  <dc:subject/>
  <dc:title>Правила личной гигиены и здоровья </dc:title>
</cp:coreProperties>
</file>