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3.png" ContentType="image/png"/>
  <Override PartName="/ppt/media/image5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30.gif" ContentType="image/gif"/>
  <Override PartName="/ppt/media/image2.png" ContentType="image/png"/>
  <Override PartName="/ppt/media/image25.png" ContentType="image/png"/>
  <Override PartName="/ppt/media/image9.jpeg" ContentType="image/jpeg"/>
  <Override PartName="/ppt/media/image12.jpeg" ContentType="image/jpeg"/>
  <Override PartName="/ppt/media/image4.wmf" ContentType="image/x-wmf"/>
  <Override PartName="/ppt/media/image10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13.png" ContentType="image/png"/>
  <Override PartName="/ppt/media/image20.gif" ContentType="image/gif"/>
  <Override PartName="/ppt/media/image22.jpeg" ContentType="image/jpeg"/>
  <Override PartName="/ppt/media/image23.jpeg" ContentType="image/jpeg"/>
  <Override PartName="/ppt/media/image26.jpeg" ContentType="image/jpeg"/>
  <Override PartName="/ppt/media/image27.png" ContentType="image/pn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2DC-48E2-45F2-B2DC-55909440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692-D0A9-42D7-9402-392FB24E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D3C-5CD6-4528-91BD-0186DE09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03B-129B-4CA1-AB36-5EE1C920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074-15D1-4FD2-A846-E33C9E1A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C004-2785-42AE-8E94-5EA291A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C75-F768-4A3D-AF29-C6EB518C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BB63-32BB-4EDC-99FD-FCB26AAB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80E5-B2B4-4E4F-AE75-55D08CC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DCEC-6F8D-440C-B383-8F95747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8312-8DFC-4F70-BB4E-7A8470C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1CC-9E1B-4BE3-9963-10FC16BC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CCBA-F175-4B6D-B6DB-01EB187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F246-142F-4B7C-A290-327E85B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99F-9A1C-42A8-A331-9F50C4A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14F-EA13-4AB8-90FD-B36D0A5D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796-6FFF-40AB-A9E8-E393C0E5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2A17-3C53-4AB3-B02A-FF03424F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7C1D-6069-4A9E-B20E-906C3B9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E46D-FADA-474A-9B3C-FCE318E8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AB08-6147-4628-A542-41845CE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4406-F4CE-4614-B367-0A755A5A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EC3-73DD-476B-91A3-EBFE7EAE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D877-F613-42A1-A977-78B3D533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3208-6DF6-44D6-97FC-4DB3CA76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8B70-B4CB-402B-B126-D00E124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B300-6A56-4A2C-A9B6-7500671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EAD0-675C-4A67-B0D6-C3976104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B264-7C97-4C93-9B70-501AA22A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43F3-0EC0-45E0-AE38-2AB17BB6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52E2-BF12-4B6F-A5B0-80E5C9A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BA13-22DE-4ABF-9803-2834149B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6C1FF-C208-4817-870C-A87B631E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6AE-6950-4005-A7FD-8B4E59CB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F145-197A-4ED5-B9CC-D2711317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1C23-64BF-4418-9058-5BE91D4B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3FD7-455F-488E-A405-0AE6770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CC76-6DF7-4AA2-9086-86D0A5A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C5A6-0F4C-4FEB-A475-D6EB40E2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0190-FA7F-4369-A00A-DAD67DF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9385-A893-42A7-9339-0AD2FDC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8288-314E-4074-8D0A-B26A757A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CB54-885E-4143-909F-766FD8C0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865F-EE17-48B2-913F-2A811597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C61-6683-4883-A249-E3146B33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4243-7DE9-40CD-A2CE-85B01FD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125D2-7835-44E1-9F87-2FDEC838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944C7-93B7-4EA4-B715-9025897B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854A-AF13-4964-8270-B4CB7C58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0887-1CA8-4ADD-BBEF-675EDE6D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4995-8669-4E8E-BBF7-B715D9B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C914-C8C7-429A-BBDF-96C241F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3651-8A49-435F-B4AB-F421587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4E24A-91B7-49DE-A873-EFFC91C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9B20-35BC-49CC-A28B-7AAFAEF4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58A-E142-4E54-8255-7353263A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F3B3-7C71-44FA-AC16-18A65CA8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A7FA-2251-41C7-932C-BC430525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0427-DD76-489F-9715-01F83946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D72D-0BC6-4F52-B257-F82060EC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A837-8753-421D-B558-38F7E953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2B24-3E64-44C1-B732-25DF894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B6AC-8AE6-4DD1-8AE9-EE81C35C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CA491-D969-4B74-92A5-D34ED8B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A96D1-CC75-477A-83A8-55CDAF0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6DF3-CAA9-46F6-A284-FDD92AE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2B2-9395-45BE-8217-F260F7B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55A1-4115-45E3-9E1F-A1416CF8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FE58-2EA4-483E-A041-927CA44F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EA96-1CAC-406F-BFFF-CA8F6DEC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21A2-9353-4323-8546-9FD3C2DF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A31C-BB5E-49F9-8487-572C493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2BE9-0925-46E6-8AB9-52DAC383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BBFBE-8A3A-4E49-853C-D65501D1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F049-3F74-4950-B2EE-712ED8F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2BA0-B378-4F25-8AEF-C5EFFCB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3D934-636D-436D-978F-F75B781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40C-0120-4093-A49C-F347020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6ED2-915D-4950-B253-4ECD0E2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8049-4C08-41DD-93FB-10941AAB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A0C2-23A9-4D9F-83EB-8F71341D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02DE0-0CF4-445C-B4C2-8D43EFAC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A74C-3223-49FD-87F2-59040179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802-7734-4676-8851-C782616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2F6-4F98-4215-8679-9755764E6A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04E8-B99E-44AB-A870-600E84AE613C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0CCB-434D-4879-8A67-758D71A912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A83-97AD-45A4-ABC3-356FC36173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D20C-8098-4BFC-945D-381D8808D1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5CE-7F61-4951-B390-947013E85C4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EE50-63C9-412C-8DFE-CFBEC3667EF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72360" cy="21146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71320" y="3785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сный час в 7 А класс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сный руководитель Кирякова Ю.Н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26960" y="-85680"/>
            <a:ext cx="8454960" cy="14875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-360" y="1356840"/>
            <a:ext cx="4714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5160" indent="-4525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Мойте волосы не п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расписани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1 раз в неделю, а по мере того, как они становятся грязными.  Не забывайте и о народных средствах: можно мыть голову желтком, размоченным ржаным хлебом, простоквашей. Полезно ополаскивать волосы настоем репейника, ромашки. Хорошо споласкивать их талой водой 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afd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516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5" descr="Гигиена волос"/>
          <p:cNvPicPr/>
          <p:nvPr/>
        </p:nvPicPr>
        <p:blipFill>
          <a:blip r:embed="rId2"/>
          <a:stretch/>
        </p:blipFill>
        <p:spPr>
          <a:xfrm>
            <a:off x="4786200" y="1000080"/>
            <a:ext cx="4143600" cy="514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CAT33"/>
          <p:cNvPicPr/>
          <p:nvPr/>
        </p:nvPicPr>
        <p:blipFill>
          <a:blip r:embed="rId3"/>
          <a:stretch/>
        </p:blipFill>
        <p:spPr>
          <a:xfrm>
            <a:off x="428760" y="-214200"/>
            <a:ext cx="12445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4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4929120" y="1500120"/>
            <a:ext cx="36003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Уход за полостью рта - это сохранение зубов в здоровом состоянии, профилактика таких заболеваний, как карие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дить кариес можно регулярной чисткой зу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5" descr="Гигиена зубов"/>
          <p:cNvPicPr/>
          <p:nvPr/>
        </p:nvPicPr>
        <p:blipFill>
          <a:blip r:embed="rId1"/>
          <a:stretch/>
        </p:blipFill>
        <p:spPr>
          <a:xfrm>
            <a:off x="571680" y="1285920"/>
            <a:ext cx="4038480" cy="53578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285840"/>
            <a:ext cx="7297560" cy="78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6186600" cy="1073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0" y="1071720"/>
            <a:ext cx="449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Тщательно следите за своим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ками. Ногти должны быть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тыми и коротк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стриженными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язательно мойте руки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дя с улицы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ле посещения туалета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 едой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ле игры с животным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Не забывайте о ногах. Они част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еют, появляется неприятный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пах, поэтому их также над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ыть ежедневно и ежедневно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евать чистые носки ил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готк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Picture 9" descr="CAT33"/>
          <p:cNvPicPr/>
          <p:nvPr/>
        </p:nvPicPr>
        <p:blipFill>
          <a:blip r:embed="rId2"/>
          <a:stretch/>
        </p:blipFill>
        <p:spPr>
          <a:xfrm>
            <a:off x="7643880" y="-214200"/>
            <a:ext cx="1244520" cy="152388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7" descr="12.jpg"/>
          <p:cNvPicPr/>
          <p:nvPr/>
        </p:nvPicPr>
        <p:blipFill>
          <a:blip r:embed="rId3"/>
          <a:stretch/>
        </p:blipFill>
        <p:spPr>
          <a:xfrm>
            <a:off x="4500720" y="1857240"/>
            <a:ext cx="428616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500040" y="371520"/>
            <a:ext cx="8229600" cy="212724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6" descr="пляж.png"/>
          <p:cNvPicPr/>
          <p:nvPr/>
        </p:nvPicPr>
        <p:blipFill>
          <a:blip r:embed="rId2"/>
          <a:stretch/>
        </p:blipFill>
        <p:spPr>
          <a:xfrm>
            <a:off x="1143000" y="2357280"/>
            <a:ext cx="700092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47120" cy="1395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440"/>
            <a:ext cx="82296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такое личная гигиена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относится к средствам гигие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ы правила личной гигиены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ff388c"/>
              </a:buClr>
              <a:buSzPct val="80000"/>
              <a:buFont typeface="Times New Roman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8" descr="smile05"/>
          <p:cNvPicPr/>
          <p:nvPr/>
        </p:nvPicPr>
        <p:blipFill>
          <a:blip r:embed="rId2"/>
          <a:stretch/>
        </p:blipFill>
        <p:spPr>
          <a:xfrm>
            <a:off x="214200" y="50004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1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1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8229600" cy="1749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85840" y="135720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Понятие о личной  гигиен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Что включает в себя личная гигиена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Средства личной гигиены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Правила соблюдения личной гигиены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ff5698"/>
                </a:solidFill>
                <a:latin typeface="Century Gothic"/>
              </a:rPr>
              <a:t>Вопросы для закреплени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213840" y="1142640"/>
            <a:ext cx="43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ое развитие и здоровье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 первую очередь лична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гиена. И это не случайно. Сам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«гигиена» происходит о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ческого «гигиэйнос» —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бный, приносящий здоровь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ироком понимании гигиена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наука, изучающая условия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ые для сохране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я. Чистота и личная гигие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тъемлемые спутник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а на протяжении всей ег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ая гигиена — это комплекс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, выполняя которые в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ите и укрепите сво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2" descr="C:\Program Files\Microsoft Office\MEDIA\CAGCAT10\j0240719.wmf"/>
          <p:cNvPicPr/>
          <p:nvPr/>
        </p:nvPicPr>
        <p:blipFill>
          <a:blip r:embed="rId2"/>
          <a:stretch/>
        </p:blipFill>
        <p:spPr>
          <a:xfrm>
            <a:off x="4572000" y="1071720"/>
            <a:ext cx="39290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67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28840"/>
            <a:ext cx="4038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люде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тоты тела,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ья, одежды, жилищ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8" descr="JANITOR"/>
          <p:cNvPicPr/>
          <p:nvPr/>
        </p:nvPicPr>
        <p:blipFill>
          <a:blip r:embed="rId2"/>
          <a:stretch/>
        </p:blipFill>
        <p:spPr>
          <a:xfrm>
            <a:off x="785880" y="4143240"/>
            <a:ext cx="3016080" cy="2714760"/>
          </a:xfrm>
          <a:prstGeom prst="rect">
            <a:avLst/>
          </a:prstGeom>
          <a:ln w="0">
            <a:noFill/>
          </a:ln>
        </p:spPr>
      </p:pic>
      <p:pic>
        <p:nvPicPr>
          <p:cNvPr id="311" name="Содержимое 7" descr="11.jpg"/>
          <p:cNvPicPr/>
          <p:nvPr/>
        </p:nvPicPr>
        <p:blipFill>
          <a:blip r:embed="rId3"/>
          <a:stretch/>
        </p:blipFill>
        <p:spPr>
          <a:xfrm>
            <a:off x="4648320" y="1857240"/>
            <a:ext cx="413856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530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готовле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регулярный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пищ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Содержимое 5" descr="2.jpg"/>
          <p:cNvPicPr/>
          <p:nvPr/>
        </p:nvPicPr>
        <p:blipFill>
          <a:blip r:embed="rId2"/>
          <a:stretch/>
        </p:blipFill>
        <p:spPr>
          <a:xfrm>
            <a:off x="142920" y="1785960"/>
            <a:ext cx="4352760" cy="38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редование труда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активного отдыха,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17226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ственного 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изического тру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2"/>
          <a:stretch/>
        </p:blipFill>
        <p:spPr>
          <a:xfrm>
            <a:off x="4500720" y="157176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"/>
          <p:cNvPicPr/>
          <p:nvPr/>
        </p:nvPicPr>
        <p:blipFill>
          <a:blip r:embed="rId3"/>
          <a:stretch/>
        </p:blipFill>
        <p:spPr>
          <a:xfrm>
            <a:off x="571680" y="3000240"/>
            <a:ext cx="36432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714920" y="128592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Полноценный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сон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85840" y="15717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нят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культуро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2"/>
          <a:stretch/>
        </p:blipFill>
        <p:spPr>
          <a:xfrm>
            <a:off x="857160" y="3071880"/>
            <a:ext cx="3071880" cy="339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"/>
          <p:cNvPicPr/>
          <p:nvPr/>
        </p:nvPicPr>
        <p:blipFill>
          <a:blip r:embed="rId3"/>
          <a:stretch/>
        </p:blipFill>
        <p:spPr>
          <a:xfrm>
            <a:off x="4857840" y="30002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395280" y="476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5" descr="Средства личной гигиены"/>
          <p:cNvPicPr/>
          <p:nvPr/>
        </p:nvPicPr>
        <p:blipFill>
          <a:blip r:embed="rId1"/>
          <a:stretch/>
        </p:blipFill>
        <p:spPr>
          <a:xfrm>
            <a:off x="214200" y="1571760"/>
            <a:ext cx="5143680" cy="42145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5429160" y="1643040"/>
            <a:ext cx="3571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 средствам личной гигиены обычно относят всё то, что позволяет соблюдать гигиенические правила: зубную щётку, мыло, полотенце, расчёску, носовой платок и т.д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Прямоугольник 6" descr=""/>
          <p:cNvPicPr/>
          <p:nvPr/>
        </p:nvPicPr>
        <p:blipFill>
          <a:blip r:embed="rId2"/>
          <a:stretch/>
        </p:blipFill>
        <p:spPr>
          <a:xfrm>
            <a:off x="712800" y="426960"/>
            <a:ext cx="8175600" cy="101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4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356840"/>
            <a:ext cx="4495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мните о том, что кожа быстро загрязняется, ее поры закупориваются, и она перестает «дышать». Это одна из причин плохого самочувствия, усталости, вялости. Вы наверняка не раз замечали, как после душа проходит усталость, улучшается настроение. Вода как бы смывает ваше плохое настроение и проблемы, а также прекрасно закаливает организ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Содержимое 9" descr="сауна.png"/>
          <p:cNvPicPr/>
          <p:nvPr/>
        </p:nvPicPr>
        <p:blipFill>
          <a:blip r:embed="rId2"/>
          <a:stretch/>
        </p:blipFill>
        <p:spPr>
          <a:xfrm>
            <a:off x="4429080" y="1857240"/>
            <a:ext cx="4500720" cy="4000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3"/>
          <p:cNvSpPr/>
          <p:nvPr/>
        </p:nvSpPr>
        <p:spPr>
          <a:xfrm>
            <a:off x="0" y="214200"/>
            <a:ext cx="8001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9" descr="CAT33"/>
          <p:cNvPicPr/>
          <p:nvPr/>
        </p:nvPicPr>
        <p:blipFill>
          <a:blip r:embed="rId3"/>
          <a:stretch/>
        </p:blipFill>
        <p:spPr>
          <a:xfrm>
            <a:off x="7643880" y="-214200"/>
            <a:ext cx="12445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31:08Z</dcterms:created>
  <dc:creator>Admin</dc:creator>
  <dc:description/>
  <dc:language>en-US</dc:language>
  <cp:lastModifiedBy>111</cp:lastModifiedBy>
  <dcterms:modified xsi:type="dcterms:W3CDTF">2022-12-04T10:14:23Z</dcterms:modified>
  <cp:revision>35</cp:revision>
  <dc:subject/>
  <dc:title>Правила личной гигиены и здоровья </dc:title>
</cp:coreProperties>
</file>