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346-BCD0-4344-9CDD-F28920CA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ADF-9343-4F22-9E89-376E4872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6FE-E29A-4ECD-A6E5-19B0588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BD8-F2AE-48C8-B138-A7047B32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CB6F-4D23-47CD-9D48-00ADC747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D86-D6DE-49BC-A9BE-7AE26632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1773-8E4B-4AEB-B9B5-B557A184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5D3C-48DA-4AC6-8E06-E86405E2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E137-3DE8-44C8-B0CF-2A1E5817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E640-5F65-46C4-B23B-AE027B59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E49B-3FA2-4D69-8A1A-B3271F3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47E-201B-4E7A-88F2-CBB08EC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29C6-017A-46FE-98DF-327ECA8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1A01-C479-4A9E-8448-2CE661F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86EE-D19F-4905-82F8-BBB59AE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970-76C8-41DE-955B-11EEEC27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A903-F515-4C2F-9A6B-86F83CCB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A198-B2E1-4115-AAEF-EB62524F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1C15-95A8-4CB9-99A8-B80381D1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E671-AB2F-491F-A730-ED47119A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D1C8-823E-4765-BE37-2A778E1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AB8B-E7D3-4F52-BF8B-F43B20B6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167-FD34-4839-95EF-AA6518F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549A-F8D9-4AD7-8AFC-7FAFC0B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21E0-2E40-473B-AFFF-8DC8C66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A76C-B852-41A5-95A1-04244114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99F7-7246-4A1F-BB93-B0F25D5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4184-A06D-43E9-9850-1394D173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C263-52EC-4FFB-872F-60C98995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D342-400B-4E4F-A8D5-FA4CD05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96FA-7A44-472B-9A80-E9631BE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6864-70EB-4F9C-AAD4-EE1DDE4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E63B-4F3B-49EC-BC8D-832814B6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DA5-6C6E-4EBB-AA57-6EB6BA4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54FF-45AF-4C9D-A75C-2AFB0F7C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EB22-4544-4423-B31E-5CCB0832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3085-E8F3-4E57-9436-BFE620E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3F94-C775-44EC-934A-B6A1A18A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A1DB-0854-4D68-BB29-8D03C55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02B4-AFC6-4FFC-96BF-542B48C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F70C-025C-47BC-B9E1-6B2BB3C9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E536-1AAE-4FE7-A867-E3CCF91F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7C9E-BB7A-4BA8-9DC0-C44D7E96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7D6-EBF0-47CA-9776-EF4FB6D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88B-1581-4C89-B690-5128A53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D25-9261-4F44-A091-07F4723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9FF-D4B7-4556-9EFB-50FACD3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CD2-CCC0-4A6A-A347-326BB94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2A0-C037-4D17-85B2-EE3FACFCA2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A5D-ADD2-4C58-A5EC-7E23BC8D97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052-B048-4AF0-878A-CD087C3D40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9F4-F48C-421C-8B69-C247D613FA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e"/>
                </a:solidFill>
                <a:latin typeface="Tahoma"/>
              </a:rPr>
              <a:t>Виды кровотечений и оказание первой медицинской помощ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2920" y="3928680"/>
            <a:ext cx="4038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Презентацию урока</a:t>
            </a:r>
            <a:br>
              <a:rPr sz="2800"/>
            </a:b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подготовил </a:t>
            </a:r>
            <a:r>
              <a:rPr b="0" lang="ru-RU" sz="2800" spc="-1" strike="noStrike">
                <a:solidFill>
                  <a:srgbClr val="e5f60e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e5f60e"/>
                </a:solidFill>
                <a:latin typeface="Tahoma"/>
              </a:rPr>
              <a:t> ОБЖ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60e"/>
                </a:solidFill>
                <a:latin typeface="Arial"/>
              </a:rPr>
              <a:t>Жилкин А.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857160" y="42876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МП при носовом кровотече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85840" y="178596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адить пострадавшего, наклонив     туловище    впе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нести к подбородку любую емк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ложить холод к перенос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жать крылья носа к носовой перегород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ле остановки кровотечения предложить выпить стакан холодной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кровотечение продолжается более 30-40 минут, вызвать «Скорую помощ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85840" y="2142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МП при носовом кровотеч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214200" y="1428840"/>
            <a:ext cx="4929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езинфицировать кожу вокруг 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жить стерильную, давящ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ть обезболиваю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авить в бол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rani"/>
          <p:cNvPicPr/>
          <p:nvPr/>
        </p:nvPicPr>
        <p:blipFill>
          <a:blip r:embed="rId1"/>
          <a:stretch/>
        </p:blipFill>
        <p:spPr>
          <a:xfrm rot="1137000">
            <a:off x="4944600" y="3605040"/>
            <a:ext cx="386568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357120" y="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авила оказания первой медицинской помощи при артериальном кровотеч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214200" y="1714680"/>
            <a:ext cx="5643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жать пальцами артерию     выше кровот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жить жгут (Вместо жгута можно использовать любые подручные предметы (ремень, плат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ть обезболивающ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ставить в больн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jgyt"/>
          <p:cNvPicPr/>
          <p:nvPr/>
        </p:nvPicPr>
        <p:blipFill>
          <a:blip r:embed="rId1"/>
          <a:stretch/>
        </p:blipFill>
        <p:spPr>
          <a:xfrm>
            <a:off x="6357960" y="3714840"/>
            <a:ext cx="2494080" cy="24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1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0" y="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тановка артериального кровотечения подручными средст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214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3"/>
          <p:cNvSpPr/>
          <p:nvPr/>
        </p:nvSpPr>
        <p:spPr>
          <a:xfrm>
            <a:off x="500040" y="335772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жать пальцем артерию выше кровоте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3286080" y="3286080"/>
            <a:ext cx="25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На расстоянии 3-5 см выше раны вокруг конечности наложить любую чистую и мягкую мат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6215040" y="5143680"/>
            <a:ext cx="2643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януть закрутку двумя руками в средней части, плотно приложить  к конечности, сделать необходимое число оборотов вокруг конеч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929120" y="6215040"/>
            <a:ext cx="278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крепить к закрутке записку с указанием точного времени его на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0" y="628668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ставить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пострадавшег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с наложенным жгутом в мед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02800" y="516960"/>
            <a:ext cx="78426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авила наложения жгу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511308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Наложение жгута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– основной способ временной остановки кровотечения при повреждении крупных артериальных сосудов конеч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должен быть наложен выше повреждения на расстоянии примерно 5с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накладывают на одежду или мягкую подкладку из бинта, чтобы не прищемить кож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накладывают с такой силой, чтобы остановить кровотечени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авильность наложения жгута контролируется отсутствием пульса на периферическом сосуд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ремя наложения жгута с указанием даты, часа и минуты отмечают в записке, которую подкладывают под ход жгут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Жгут  на конечности следует держать не более 1 часа. В случае когда с момента его наложения прошёл 1 час, выполнить пальцевое прижатие артерии, медленно ослабить жгут на 5 – 10 мин, а затем снова наложить его немного выше предыдущего места.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724000" y="1267920"/>
            <a:ext cx="3095640" cy="475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оказание ПМП 003"/>
          <p:cNvPicPr/>
          <p:nvPr/>
        </p:nvPicPr>
        <p:blipFill>
          <a:blip r:embed="rId2"/>
          <a:stretch/>
        </p:blipFill>
        <p:spPr>
          <a:xfrm>
            <a:off x="7308720" y="3429000"/>
            <a:ext cx="1401840" cy="2340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оказание ПМП 001"/>
          <p:cNvPicPr/>
          <p:nvPr/>
        </p:nvPicPr>
        <p:blipFill>
          <a:blip r:embed="rId3"/>
          <a:stretch/>
        </p:blipFill>
        <p:spPr>
          <a:xfrm>
            <a:off x="6227640" y="1484280"/>
            <a:ext cx="2087640" cy="1351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оказание ПМП 002"/>
          <p:cNvPicPr/>
          <p:nvPr/>
        </p:nvPicPr>
        <p:blipFill>
          <a:blip r:embed="rId4"/>
          <a:stretch/>
        </p:blipFill>
        <p:spPr>
          <a:xfrm>
            <a:off x="5796000" y="3429000"/>
            <a:ext cx="1368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3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3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42960" y="508320"/>
            <a:ext cx="7860600" cy="44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очки пальцевого прижатия артери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576108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Височную артери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прижимают большим пальцем к височной кости впереди ушной раковины при кровотечении из ран голов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Нижнечелюстную артерию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ют большим пальцем к углу нижней челюсти при кровотечении из ран, расположенных на лиц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Сонную артерию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ют к позвонкам на передней поверхности шеи сбоку от гортани. Затем накладывают давящую повязку, под которую на поврежденную артерию подкладывают плотный валик из бинта, салфеток или ва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одключичную артери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прижимают к 1-му ребру в ямке над ключиц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лечевая артер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верхняя и внутрення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Лучевая артер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- при повреждении артерии ки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Бедренная артерия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жимается в паховой области к лобковой кости путём надавливания сжатым кулак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Подколенная артерия</a:t>
            </a:r>
            <a:r>
              <a:rPr b="1" i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в области подколенной ямк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Артерия тыла стопы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ыполнив пальцевое прижатие сосуда, надо быстро наложить, где это возможно, жгут или закрутку и стерильную повязку на ран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12" descr="PIC_0002"/>
          <p:cNvPicPr/>
          <p:nvPr/>
        </p:nvPicPr>
        <p:blipFill>
          <a:blip r:embed="rId1"/>
          <a:stretch/>
        </p:blipFill>
        <p:spPr>
          <a:xfrm>
            <a:off x="6516720" y="1773360"/>
            <a:ext cx="2332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1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4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00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45600" y="94680"/>
            <a:ext cx="8245800" cy="13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Меры личной безопасности при оказании помощи пострадавшему с кровотечением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имите следующие меры для уменьшения риска передачи заболеваний при остановке кровотечени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прикасайтесь к ране незащищёнными руками. Между вашей рукой и раной проложите марлевую салфетку или какую-нибудь чистую и сухую ткань, или используйте руку пострадавшего. В качестве защиты можно также взять целлофановую обёртку, резиновые или одноразовые перчатки, а также чистую сложенную в несколько раз матер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разу после оказания первой помощи тщательно вымойте руки с мылом, даже если вы надевали перчатки. Используйте отдельный умывальник или раковину в туалете, не мойте руки вблизи пищевых продук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збегайте принимать пищу или пить во время оказания первой помощи или до тех пор, пока не вымоете ру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илактика инфицирования ра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 повреждениях  поверхностного слоя кожи следует сделать всё возможное для предотвращения попадания инфекции в организм . Наилучшей первичной защитой является промывание повреждённой области. Если кровотечение незначительно, промойте рану антисептиком или водой с мылом. В большинстве случаев мыло удаляет болезнетворные бакте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3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3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14200" y="-25200"/>
            <a:ext cx="871560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1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ДТП. Мальчик 9 лет сбит велосипедистом при переходе улицы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смотре: Обильное носовое кровотечение. Обширная ссадина в области левой скуловой кости, ссадины на  локтях.  Кожные покровы бледные. Дыхание поверхностное с частотой 44 в 1 минуту. При выслушивании легких дыхание слева не проводится. Тоны сердца приглушены, ритмичные. Пульс 140 в 1 минуту, слабого наполнения. По всей вероятности низкое артериальное давление. Живот несколько напряжен, имеется выраженная болезненность в области печени. Вы оказались рядом, неравнодушны, пытаетесь оказать первую помощ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1. Виды кровотечения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еотложные мероприят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3. Дальнейшая тактика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285840" y="100008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2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ша ехал на велосипеде, во дворе дома, мимо мусорного бака, упал на осколки битого стекла, повредил ногу. Небольшой осколок в ране. Из раны вытекает кровь медленной темной струйкой. Друзья Миши, свидетели произошедшего  осмотрели рану. Вспомнив уроки ОБЖ, решили незамедлительно помочь, действуя согласно алгорит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85840" y="3132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туационная задач №3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бильное промокание повязки кровью свидетельствует, скорее всего, о продолжающемся артериальном кровотечении из раны бед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медицинск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ить кровоостанавливающий жгут тот час выше повяз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езболить (дать анальгетик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ить дополнительные туры бинта на промокшую повяз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 жгут записку с указанием даты и времени его нало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ммобилизация (поднятие) поврежденной конеч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бильно напоить ране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крыть раненого накидкой медицинской для профилактики общего перегре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. Вызвать скорую. Госпитализац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928800" y="14292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f80"/>
                </a:solidFill>
                <a:latin typeface="Arial"/>
              </a:rPr>
              <a:t>Первая медицинская помощ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21420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ервая помощь представляет собой совокупность мероприятий, направленных на спасение жизни человека, который получил травму. Первая помощь оказывается любым человеком до прибытия врача, поэтому каждый должен владеть основными приемами перв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214200" y="3643200"/>
            <a:ext cx="542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Первая помощь ни в коем случае не заменяет квалифицированной медицинской помощи. Человек, оказавшийся рядом с пострадавшим, обязан вызвать бригаду скорой помощи и доставить пострадавшего в больницу. Он должен быть уверен в правильности своих действий и во время оказания первой помощи сохранять спокойств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aptechka"/>
          <p:cNvPicPr/>
          <p:nvPr/>
        </p:nvPicPr>
        <p:blipFill>
          <a:blip r:embed="rId1"/>
          <a:stretch/>
        </p:blipFill>
        <p:spPr>
          <a:xfrm flipH="1" rot="20494800">
            <a:off x="5586120" y="1292400"/>
            <a:ext cx="3078000" cy="1947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 pervaia_pomosch1"/>
          <p:cNvPicPr/>
          <p:nvPr/>
        </p:nvPicPr>
        <p:blipFill>
          <a:blip r:embed="rId2"/>
          <a:stretch/>
        </p:blipFill>
        <p:spPr>
          <a:xfrm rot="1266600">
            <a:off x="5563800" y="4270320"/>
            <a:ext cx="3036960" cy="21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57120" y="35712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 к ситуационной задаче №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осовое кровотечение (капиллярное). Капиллярное кровотечение на локтях. Внутрибрюшное кровотечение. Травматический шо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еотложная помощь: описание (работа в пар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яя тампонада носовых 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ботка вокруг ссадин  локтей дезинфицирующи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ожение стерильной повязки на ра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 на жив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Вызов скорой помощи (030) Госпитализаци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785880" y="714240"/>
            <a:ext cx="7715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 к ситуационной задаче №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озное  кровоте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совершили неотложные мероприя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у обработали принесенным из  дома йо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жили давящую повязку ниже ран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жите небольшую стирильную  повя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ощь врача нужна только в том случае, если есть риск инфицирования ра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0" y="655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итуационная задач №3., для разбора с классом (фронтальная рабо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неный наложил на рану бедра повязку. Повязка и одежда обильно промокли кровью. Температура воздуха +40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про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иды 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еотложные меропри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Дальнейшая так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571760" y="522000"/>
            <a:ext cx="62150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Как остановить венозное кровотеч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А- наложить давящую повяз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Б- наложить жг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В- обработать вокруг раны спиртом и закрыть стерильной салфет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Г- продезинфицировать спиртом и обработать йо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Д- посыпать сол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</a:rPr>
              <a:t>Ответ: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4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642960" y="1944360"/>
            <a:ext cx="75009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43b41"/>
                </a:solidFill>
                <a:latin typeface="Arial"/>
                <a:ea typeface="Times New Roman"/>
              </a:rPr>
              <a:t>Как правильно обработать ра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А- продезинфицировать рану спиртом и туго завяз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Б- смочить йодом марлю и наложить на ран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В- обработать рану перекисью водор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Г- смазать саму рану йод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b41"/>
                </a:solidFill>
                <a:latin typeface="Arial"/>
                <a:ea typeface="Times New Roman"/>
              </a:rPr>
              <a:t>Д- посыпать сол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714600" y="44290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b41"/>
                </a:solidFill>
                <a:latin typeface="Arial"/>
              </a:rPr>
              <a:t>Ответ: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05600" y="928800"/>
            <a:ext cx="30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500040" y="428760"/>
            <a:ext cx="8143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амым надежным способом остановки кровотечения в случае повреждения крупных артериальных сосудов рук и ног явля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928800" y="3000240"/>
            <a:ext cx="53578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ение давящей повяз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Б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альцевое прижат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аксимальное сгибание конеч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ложение жгут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вет: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0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862000" y="357120"/>
            <a:ext cx="29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b41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0" y="121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информацию необходимо указать в записке, прикрепляемой к жгут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428760" y="250020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- фамилию, имя, отчество пострадавшего, время получения ра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- дату и точное время (часы и минуты) наложения жгу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- дату, точное время (часы и минуты) наложения жгута, а также фамилию, имя, отчество пострадавшего, фамилию, имя отечество наложившего жг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e5e38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60000" y="29628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ключительная част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24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поминаю тему и цель занят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ъявляю оцен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твечаю на вопрос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ю домашнее задание. (Составить кроссворд по данной тем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тправляю на следующие занятия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4" descr="оказание ПМП 007"/>
          <p:cNvPicPr/>
          <p:nvPr/>
        </p:nvPicPr>
        <p:blipFill>
          <a:blip r:embed="rId1"/>
          <a:stretch/>
        </p:blipFill>
        <p:spPr>
          <a:xfrm>
            <a:off x="2124000" y="3645000"/>
            <a:ext cx="28306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3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3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3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3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Виды кровотечений и оказание первой медицинской помощ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7800" y="1357200"/>
            <a:ext cx="40384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177e8"/>
                </a:solidFill>
                <a:latin typeface="Tahoma"/>
              </a:rPr>
              <a:t>Учебные вопросы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иды кровотечений и их характерис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ичины, вызывающие кровотеч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оказания первой медицинской помощи при кровотечени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Точки пальцевого прижатия артери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наложения жгут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-4852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Меры личной безопасности при оказании помощи пострадавшему с кровотечением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8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13840" y="1499760"/>
            <a:ext cx="4038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177e8"/>
                </a:solidFill>
                <a:latin typeface="Tahoma"/>
              </a:rPr>
              <a:t>Цели занятия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.    Дать свед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о кровеносных сосуд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идах кровотечений и их характеристи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.   Дать практические навы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о оказанию первой медицинской помощи при кровотечения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правила наложения жгут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соблюдение мер безопасности при остановке кровотечени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.   Изучить точки пальцевого прижатия артерий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39720" y="282240"/>
            <a:ext cx="7907760" cy="94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ичины, вызывающие кровотеч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71320" y="264276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сновными причинами кровотечений являются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71680" y="12142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д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кровотечением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нимается выход крови из повреждённых кровяных сосудов. Оно может быть 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первичным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гда возникает сразу же после повреждения сосудов, 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вторичным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если появляется спустя некоторое врем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571680" y="40006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реждение кожи и других органов острым предм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1714680" y="5349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642960" y="4786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ударе или 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571680" y="514368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дорожно-транспортных происшест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642960" y="4429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нарушении техники безопас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571680" y="5572080"/>
            <a:ext cx="66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не соблюдении правил обращения с инструментом приборами и механизм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3640" y="300960"/>
            <a:ext cx="7950600" cy="5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Виды кровотечени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99680" y="1571760"/>
            <a:ext cx="8209080" cy="29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ри наружном кровотечении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ровь вытекает через рану кожных покровов и видимых слизистых оболочек или из полос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Паренхиматозное кровотечение</a:t>
            </a:r>
            <a:r>
              <a:rPr b="1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зникает при повреждении внутренних органов: печени, селезёнки, почек, лёгких (оно всегда опасно для жизни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Острая потеря 1 – 2 л крови, особенно при тяжёлых комбинированных поражениях, может привести к смер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95280" y="472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9640" y="4653000"/>
            <a:ext cx="79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57120" y="4071960"/>
            <a:ext cx="835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зависимости от характера повреждённых сосудов разли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пиллярное кровотеч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нозное кровотече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ртериальное кровотеч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енхиматозное кровотеч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PIC_0001"/>
          <p:cNvPicPr/>
          <p:nvPr/>
        </p:nvPicPr>
        <p:blipFill>
          <a:blip r:embed="rId1"/>
          <a:stretch/>
        </p:blipFill>
        <p:spPr>
          <a:xfrm>
            <a:off x="5214960" y="4357800"/>
            <a:ext cx="1380960" cy="21524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8"/>
          <p:cNvSpPr/>
          <p:nvPr/>
        </p:nvSpPr>
        <p:spPr>
          <a:xfrm>
            <a:off x="428760" y="10717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овотечения могут быть наружные и внутрен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200"/>
                            </p:stCondLst>
                            <p:childTnLst>
                              <p:par>
                                <p:cTn id="183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d4d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0748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0f25"/>
                </a:solidFill>
                <a:latin typeface="Arial"/>
              </a:rPr>
              <a:t>Штатные и подручные средства для остановки кровотеч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48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Штатные средств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зиновый жгут широк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зиновый жгут трубчат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инты (для закрутки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дручные средств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емен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Широкая полоска материи сложенная в несколько раз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Шарфи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лотенц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осовой плато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Запрещается использовать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ерёв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ов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ечёв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300360" y="1989000"/>
            <a:ext cx="2257560" cy="379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PIC_0006"/>
          <p:cNvPicPr/>
          <p:nvPr/>
        </p:nvPicPr>
        <p:blipFill>
          <a:blip r:embed="rId2"/>
          <a:stretch/>
        </p:blipFill>
        <p:spPr>
          <a:xfrm>
            <a:off x="5429160" y="1285920"/>
            <a:ext cx="34434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e5e38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68360" y="333360"/>
          <a:ext cx="8351640" cy="50328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иды кровотечений и их 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39640" y="1785960"/>
          <a:ext cx="2664000" cy="459576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зникает при повреждении мелких сосудов кожи, подкожной клетчатки и мышц. При капиллярном кровотечении кровоточит вся поверхность ра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76720" y="1785960"/>
          <a:ext cx="2590560" cy="459576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актеризуется непрерывным вытеканием крови, имеющим более тёмный цвет, при этом явной струи не бывае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940360" y="1785960"/>
          <a:ext cx="2879640" cy="4595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45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иболее опасно при котором за короткий срок из организма может излиться значительное количество крови. Признаками артериального кровотечения являются алая окраска крови, её вытекание пульсирующей струё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36" descr="PIC_0005"/>
          <p:cNvPicPr/>
          <p:nvPr/>
        </p:nvPicPr>
        <p:blipFill>
          <a:blip r:embed="rId1"/>
          <a:stretch/>
        </p:blipFill>
        <p:spPr>
          <a:xfrm>
            <a:off x="755640" y="3573360"/>
            <a:ext cx="2114640" cy="266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7" descr="PIC_0008"/>
          <p:cNvPicPr/>
          <p:nvPr/>
        </p:nvPicPr>
        <p:blipFill>
          <a:blip r:embed="rId2"/>
          <a:stretch/>
        </p:blipFill>
        <p:spPr>
          <a:xfrm>
            <a:off x="3809880" y="3429000"/>
            <a:ext cx="163368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PIC_0009"/>
          <p:cNvPicPr/>
          <p:nvPr/>
        </p:nvPicPr>
        <p:blipFill>
          <a:blip r:embed="rId3"/>
          <a:stretch/>
        </p:blipFill>
        <p:spPr>
          <a:xfrm>
            <a:off x="6516720" y="4292640"/>
            <a:ext cx="1538280" cy="18730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500040" y="1000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апилляр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286080" y="1071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ноз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5929200" y="1143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енозное крово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85840" y="28584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0f25"/>
                </a:solidFill>
                <a:latin typeface="Arial"/>
              </a:rPr>
              <a:t>Правила оказания первой медицинской помощи при 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пиллярном </a:t>
            </a:r>
            <a:r>
              <a:rPr b="1" lang="en-US" sz="3200" spc="-1" strike="noStrike">
                <a:solidFill>
                  <a:srgbClr val="a90f25"/>
                </a:solidFill>
                <a:latin typeface="Arial"/>
              </a:rPr>
              <a:t>кровотеч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285840" y="2286000"/>
            <a:ext cx="82868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мойте рану раствором антисептика или водой   с мы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чистки загрязнённых ран используйте чистую салфетку или стерильный тампон: всегда начинайте с середины раны, двигаясь к краям. Меняйте салфетку при каждом последующем действ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ложите небольшую стирильную  повя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ь врача нужна только в том случае, если есть риск инфицирования раны. Не используйте спирт для промывания 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4dc8a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071800" y="2858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НЕЛЬЗЯ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357120" y="1003320"/>
            <a:ext cx="842976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мывать рану водой из водоем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пускать попадания прижигающих антисептических веществ на  раневую поверхнос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сыпать рану порошка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ладывать на рану маз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кладывать вату непосредственно к раневой поверх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 время перевязки касаться поверхности раны рука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лать перевязку грязными руками (по возможности протрите руки одеколоном, спиртом или водкой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4:45:02Z</dcterms:created>
  <dc:creator>User</dc:creator>
  <dc:description/>
  <dc:language>en-US</dc:language>
  <cp:lastModifiedBy>User</cp:lastModifiedBy>
  <dcterms:modified xsi:type="dcterms:W3CDTF">2022-12-04T06:43:21Z</dcterms:modified>
  <cp:revision>76</cp:revision>
  <dc:subject/>
  <dc:title>Основы безопасности жизнедеятельности</dc:title>
</cp:coreProperties>
</file>