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E0B-1DB4-48AD-82D2-07A4CCB5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3FC-BD63-4128-BE9E-19F8C852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11B-3E5B-46A9-9B94-58BFCF4A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90E-61C4-4E58-A8DC-65C572BE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04AF-56FD-4A9F-A45A-F54B4344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746A-CF57-41F4-91E1-9A0A233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E036-59A3-4377-829A-BE921E9B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5A06-E931-47E2-944A-327C6B5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1AFF-CAAD-42B2-8D74-E3EAFD7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1EFD-7E39-417A-A574-2DDFAC9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3EB8-012C-4BC5-B3F1-8F4D72C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15E-1118-4A45-89FA-B698876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B4B5-1FEB-4420-97CB-E887975D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FF82-D3C2-40D7-9500-E260CE6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933B-D1C8-4FE1-8C63-F3BBD370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FC74-FDB2-4DB7-BFC0-F9B89796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75FB-FD2B-468A-A101-A60D1D0E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20AC-E1AD-4A34-81ED-CF29402A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05D8-14C0-4AE5-BDBD-27299046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E218-8FD1-42BE-B04E-D1253529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6A8C-535E-46E7-A2F2-F902EB16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CD46-F7AE-466D-9C19-BF4D4B8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511-C6C7-4372-A104-60794C47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0E3B-E0C5-457C-8761-998B4DD4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0D81-06CF-43FE-95AF-6354444C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92B5D-901A-4511-9224-EE0BB81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9690-74C3-4D0A-8FD2-A33C11C6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8850-DADE-4826-9055-745B8C36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C2FB-0875-4708-8E80-C504CE96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0C85-438A-4A44-9C8C-E4464EA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E2E0-9BD0-4E8F-A144-EAE813D1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91E3-ED6F-4921-86B0-E7FF3621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07EB-A1FD-4EF7-9D72-4BADC620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BF5-7B22-480E-A6BC-FC34BB9D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EF30-6343-41A6-8289-7785C096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B377C-7BD7-4C5C-885C-DA8134B0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976CE-D312-4EB8-8BEE-770EC511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C6B1-B366-45E5-9DCF-6B0A027E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2DBE-CBA7-4242-91A1-3BBF4B4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F0FD-7A9D-4952-AC62-1E1DEE3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C0F80-F9D7-4424-81AE-56A8EE6E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96CCB-9E0F-4C7D-A204-F68D1D16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C116-CA0F-4B38-8C17-99B47EB5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455-345C-44BC-9127-16FAE1AA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CB9-825D-467B-A916-0C1F9DD1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7BF-0EFA-4D01-8673-1CFC4EA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2AB-BE88-4C59-A4C6-DD292A3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5FE-8D07-4055-8894-CFA2D3B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D5B-A05A-486B-88A4-86A651661C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25CE-141C-43AC-8060-F94B77BD5D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93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515C-8527-4D40-B60C-308F320C89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FBB4-A915-4B19-9917-18599E63BB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1800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e"/>
                </a:solidFill>
                <a:latin typeface="Tahoma"/>
              </a:rPr>
              <a:t>Виды кровотечений и оказание первой медицинской помощ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2920" y="3928680"/>
            <a:ext cx="40388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60e"/>
                </a:solidFill>
                <a:latin typeface="Tahoma"/>
              </a:rPr>
              <a:t>Презентацию урока</a:t>
            </a:r>
            <a:br>
              <a:rPr sz="2800"/>
            </a:br>
            <a:r>
              <a:rPr b="0" lang="ru-RU" sz="2800" spc="-1" strike="noStrike">
                <a:solidFill>
                  <a:srgbClr val="e5f60e"/>
                </a:solidFill>
                <a:latin typeface="Tahoma"/>
              </a:rPr>
              <a:t>подготовил </a:t>
            </a:r>
            <a:r>
              <a:rPr b="0" lang="ru-RU" sz="2800" spc="-1" strike="noStrike">
                <a:solidFill>
                  <a:srgbClr val="e5f60e"/>
                </a:solidFill>
                <a:latin typeface="Arial"/>
              </a:rPr>
              <a:t>учитель</a:t>
            </a:r>
            <a:r>
              <a:rPr b="0" lang="ru-RU" sz="2800" spc="-1" strike="noStrike">
                <a:solidFill>
                  <a:srgbClr val="e5f60e"/>
                </a:solidFill>
                <a:latin typeface="Tahoma"/>
              </a:rPr>
              <a:t> ОБЖ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60e"/>
                </a:solidFill>
                <a:latin typeface="Arial"/>
              </a:rPr>
              <a:t>Жилкин А.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857160" y="42876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МП при носовом кровотече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285840" y="1785960"/>
            <a:ext cx="88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адить пострадавшего, наклонив     туловище    впер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нести к подбородку любую емк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ложить холод к переноси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жать крылья носа к носовой перегород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ле остановки кровотечения предложить выпить стакан холодной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кровотечение продолжается более 30-40 минут, вызвать «Скорую помощ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285840" y="21420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МП при носовом кровотеч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214200" y="1428840"/>
            <a:ext cx="4929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дезинфицировать кожу вокруг 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жить стерильную, давящ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ть обезболиваю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авить в боль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rani"/>
          <p:cNvPicPr/>
          <p:nvPr/>
        </p:nvPicPr>
        <p:blipFill>
          <a:blip r:embed="rId1"/>
          <a:stretch/>
        </p:blipFill>
        <p:spPr>
          <a:xfrm rot="1137000">
            <a:off x="4944600" y="3605040"/>
            <a:ext cx="3865680" cy="26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357120" y="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равила оказания первой медицинской помощи при артериальном кровотеч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214200" y="1714680"/>
            <a:ext cx="5643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жать пальцами артерию     выше кровоте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жить жгут (Вместо жгута можно использовать любые подручные предметы (ремень, плат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ть обезболивающ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ставить в больни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jgyt"/>
          <p:cNvPicPr/>
          <p:nvPr/>
        </p:nvPicPr>
        <p:blipFill>
          <a:blip r:embed="rId1"/>
          <a:stretch/>
        </p:blipFill>
        <p:spPr>
          <a:xfrm>
            <a:off x="6357960" y="3714840"/>
            <a:ext cx="2494080" cy="24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0" y="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тановка артериального кровотечения подручными средст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214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3"/>
          <p:cNvSpPr/>
          <p:nvPr/>
        </p:nvSpPr>
        <p:spPr>
          <a:xfrm>
            <a:off x="500040" y="335772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жать пальцем артерию выше кровоте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3286080" y="3286080"/>
            <a:ext cx="25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На расстоянии 3-5 см выше раны вокруг конечности наложить любую чистую и мягкую мат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6215040" y="5143680"/>
            <a:ext cx="2643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януть закрутку двумя руками в средней части, плотно приложить  к конечности, сделать необходимое число оборотов вокруг конеч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929120" y="6215040"/>
            <a:ext cx="278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крепить к закрутке записку с указанием точного времени его на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0" y="628668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оставить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пострадавшег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с наложенным жгутом в медучре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02800" y="516960"/>
            <a:ext cx="78426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Правила наложения жгу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511308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Наложение жгута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– основной способ временной остановки кровотечения при повреждении крупных артериальных сосудов конечнос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Жгут должен быть наложен выше повреждения на расстоянии примерно 5с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Жгут накладывают на одежду или мягкую подкладку из бинта, чтобы не прищемить кож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Жгут накладывают с такой силой, чтобы остановить кровотечени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авильность наложения жгута контролируется отсутствием пульса на периферическом сосуд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ремя наложения жгута с указанием даты, часа и минуты отмечают в записке, которую подкладывают под ход жгут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Жгут  на конечности следует держать не более 1 часа. В случае когда с момента его наложения прошёл 1 час, выполнить пальцевое прижатие артерии, медленно ослабить жгут на 5 – 10 мин, а затем снова наложить его немного выше предыдущего места.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24000" y="1267920"/>
            <a:ext cx="3095640" cy="4753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оказание ПМП 003"/>
          <p:cNvPicPr/>
          <p:nvPr/>
        </p:nvPicPr>
        <p:blipFill>
          <a:blip r:embed="rId2"/>
          <a:stretch/>
        </p:blipFill>
        <p:spPr>
          <a:xfrm>
            <a:off x="7308720" y="3429000"/>
            <a:ext cx="1401840" cy="2340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оказание ПМП 001"/>
          <p:cNvPicPr/>
          <p:nvPr/>
        </p:nvPicPr>
        <p:blipFill>
          <a:blip r:embed="rId3"/>
          <a:stretch/>
        </p:blipFill>
        <p:spPr>
          <a:xfrm>
            <a:off x="6227640" y="1484280"/>
            <a:ext cx="2087640" cy="1351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оказание ПМП 002"/>
          <p:cNvPicPr/>
          <p:nvPr/>
        </p:nvPicPr>
        <p:blipFill>
          <a:blip r:embed="rId4"/>
          <a:stretch/>
        </p:blipFill>
        <p:spPr>
          <a:xfrm>
            <a:off x="5796000" y="3429000"/>
            <a:ext cx="13683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3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6000"/>
                            </p:stCondLst>
                            <p:childTnLst>
                              <p:par>
                                <p:cTn id="6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3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3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3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3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3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3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d4d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42960" y="508320"/>
            <a:ext cx="7860600" cy="44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Точки пальцевого прижатия артери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576108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Височную артери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прижимают большим пальцем к височной кости впереди ушной раковины при кровотечении из ран голов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Нижнечелюстную артерию</a:t>
            </a:r>
            <a:r>
              <a:rPr b="1" i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ижимают большим пальцем к углу нижней челюсти при кровотечении из ран, расположенных на лиц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Сонную артерию</a:t>
            </a:r>
            <a:r>
              <a:rPr b="1" i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ижимают к позвонкам на передней поверхности шеи сбоку от гортани. Затем накладывают давящую повязку, под которую на поврежденную артерию подкладывают плотный валик из бинта, салфеток или ват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Подключичную артери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прижимают к 1-му ребру в ямке над ключиц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Плечевая артери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верхняя и внутрення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Лучевая артери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- при повреждении артерии ки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Бедренная артерия</a:t>
            </a:r>
            <a:r>
              <a:rPr b="1" i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ижимается в паховой области к лобковой кости путём надавливания сжатым кулак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Подколенная артерия</a:t>
            </a:r>
            <a:r>
              <a:rPr b="1" i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 в области подколенной ямк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Артерия тыла стопы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ыполнив пальцевое прижатие сосуда, надо быстро наложить, где это возможно, жгут или закрутку и стерильную повязку на ран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Picture 12" descr="PIC_0002"/>
          <p:cNvPicPr/>
          <p:nvPr/>
        </p:nvPicPr>
        <p:blipFill>
          <a:blip r:embed="rId1"/>
          <a:stretch/>
        </p:blipFill>
        <p:spPr>
          <a:xfrm>
            <a:off x="6516720" y="1773360"/>
            <a:ext cx="2332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2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6000"/>
                            </p:stCondLst>
                            <p:childTnLst>
                              <p:par>
                                <p:cTn id="6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7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000"/>
                            </p:stCondLst>
                            <p:childTnLst>
                              <p:par>
                                <p:cTn id="7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9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45600" y="94680"/>
            <a:ext cx="8245800" cy="13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Меры личной безопасности при оказании помощи пострадавшему с кровотечением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имите следующие меры для уменьшения риска передачи заболеваний при остановке кровотечени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е прикасайтесь к ране незащищёнными руками. Между вашей рукой и раной проложите марлевую салфетку или какую-нибудь чистую и сухую ткань, или используйте руку пострадавшего. В качестве защиты можно также взять целлофановую обёртку, резиновые или одноразовые перчатки, а также чистую сложенную в несколько раз матер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разу после оказания первой помощи тщательно вымойте руки с мылом, даже если вы надевали перчатки. Используйте отдельный умывальник или раковину в туалете, не мойте руки вблизи пищевых продук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збегайте принимать пищу или пить во время оказания первой помощи или до тех пор, пока не вымоете ру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илактика инфицирования ра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 повреждениях  поверхностного слоя кожи следует сделать всё возможное для предотвращения попадания инфекции в организм . Наилучшей первичной защитой является промывание повреждённой области. Если кровотечение незначительно, промойте рану антисептиком или водой с мылом. В большинстве случаев мыло удаляет болезнетворные бакте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3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3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3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3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14200" y="-25200"/>
            <a:ext cx="8715600" cy="67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туационная задач №1., для разбора с классом (фронтальная рабо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ДТП. Мальчик 9 лет сбит велосипедистом при переходе улицы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смотре: Обильное носовое кровотечение. Обширная ссадина в области левой скуловой кости, ссадины на  локтях.  Кожные покровы бледные. Дыхание поверхностное с частотой 44 в 1 минуту. При выслушивании легких дыхание слева не проводится. Тоны сердца приглушены, ритмичные. Пульс 140 в 1 минуту, слабого наполнения. По всей вероятности низкое артериальное давление. Живот несколько напряжен, имеется выраженная болезненность в области печени. Вы оказались рядом, неравнодушны, пытаетесь оказать первую помощь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1. Виды кровотечени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еотложные мероприят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3. Дальнейшая тактика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285840" y="100008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туационная задач №2., для разбора с классом (фронтальная рабо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ша ехал на велосипеде, во дворе дома, мимо мусорного бака, упал на осколки битого стекла, повредил ногу. Небольшой осколок в ране. Из раны вытекает кровь медленной темной струйкой. Друзья Миши, свидетели произошедшего  осмотрели рану. Вспомнив уроки ОБЖ, решили незамедлительно помочь, действуя согласно алгорит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285840" y="31320"/>
            <a:ext cx="864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туационная задач №3., для разбора с классом (фронтальная рабо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бильное промокание повязки кровью свидетельствует, скорее всего, о продолжающемся артериальном кровотечении из раны бед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медицинск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ложить кровоостанавливающий жгут тот час выше повяз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езболить (дать анальгетик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ложить дополнительные туры бинта на промокшую повяз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 жгут записку с указанием даты и времени его нало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ммобилизация (поднятие) поврежденной конеч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ильно напоить ране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крыть раненого накидкой медицинской для профилактики общего перегре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. Вызвать скорую. Госпитализац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3"/>
          <p:cNvSpPr/>
          <p:nvPr/>
        </p:nvSpPr>
        <p:spPr>
          <a:xfrm>
            <a:off x="928800" y="142920"/>
            <a:ext cx="742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f80"/>
                </a:solidFill>
                <a:latin typeface="Arial"/>
              </a:rPr>
              <a:t>Первая медицинск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21420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Первая помощь представляет собой совокупность мероприятий, направленных на спасение жизни человека, который получил травму. Первая помощь оказывается любым человеком до прибытия врача, поэтому каждый должен владеть основными приемами первой помо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214200" y="3643200"/>
            <a:ext cx="542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Первая помощь ни в коем случае не заменяет квалифицированной медицинской помощи. Человек, оказавшийся рядом с пострадавшим, обязан вызвать бригаду скорой помощи и доставить пострадавшего в больницу. Он должен быть уверен в правильности своих действий и во время оказания первой помощи сохранять спокойств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aptechka"/>
          <p:cNvPicPr/>
          <p:nvPr/>
        </p:nvPicPr>
        <p:blipFill>
          <a:blip r:embed="rId1"/>
          <a:stretch/>
        </p:blipFill>
        <p:spPr>
          <a:xfrm flipH="1" rot="20494800">
            <a:off x="5586120" y="1292400"/>
            <a:ext cx="3078000" cy="1947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 pervaia_pomosch1"/>
          <p:cNvPicPr/>
          <p:nvPr/>
        </p:nvPicPr>
        <p:blipFill>
          <a:blip r:embed="rId2"/>
          <a:stretch/>
        </p:blipFill>
        <p:spPr>
          <a:xfrm rot="1266600">
            <a:off x="5563800" y="4270320"/>
            <a:ext cx="3036960" cy="21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57120" y="35712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 к ситуационной задаче №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осовое кровотечение (капиллярное). Капиллярное кровотечение на локтях. Внутрибрюшное кровотечение. Травматический шок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еотложная помощь: описание (работа в пара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яя тампонада носовых х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ботка вокруг ссадин  локтей дезинфицирующим сре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ожение стерильной повязки на ра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олод на жив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 Вызов скорой помощи (030) Госпитализация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785880" y="714240"/>
            <a:ext cx="7715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 к ситуационной задаче №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озное  кровоте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совершили неотложные мероприят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ну обработали принесенным из  дома йо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жили давящую повязку ниже ран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жите небольшую стирильную  повяз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ощь врача нужна только в том случае, если есть риск инфицирования ра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0" y="655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итуационная задач №3., для разбора с классом (фронтальная рабо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неный наложил на рану бедра повязку. Повязка и одежда обильно промокли кровью. Температура воздуха +40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опрос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Виды крово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Неотложные мероприя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Дальнейшая так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571760" y="522000"/>
            <a:ext cx="62150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проверь себ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b41"/>
                </a:solidFill>
                <a:latin typeface="Arial"/>
                <a:ea typeface="Times New Roman"/>
              </a:rPr>
              <a:t>Как остановить венозное кровотеч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А- наложить давящую повяз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Б- наложить жг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В- обработать вокруг раны спиртом и закрыть стерильной салфетк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Г- продезинфицировать спиртом и обработать йод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Д- посыпать сол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</a:rPr>
              <a:t>Ответ: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5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5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4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4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4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642960" y="1944360"/>
            <a:ext cx="750096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b4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43b41"/>
                </a:solidFill>
                <a:latin typeface="Arial"/>
                <a:ea typeface="Times New Roman"/>
              </a:rPr>
              <a:t>Как правильно обработать ран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А- продезинфицировать рану спиртом и туго завяз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Б- смочить йодом марлю и наложить на ран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В- обработать рану перекисью водор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Г- смазать саму рану йод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Д- посыпать сол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714600" y="44290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</a:rPr>
              <a:t>Ответ: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05600" y="928800"/>
            <a:ext cx="30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проверь себ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9" dur="2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8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500040" y="428760"/>
            <a:ext cx="8143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проверь себ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амым надежным способом остановки кровотечения в случае повреждения крупных артериальных сосудов рук и ног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928800" y="3000240"/>
            <a:ext cx="53578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ложение давящей повяз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Б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альцевое прижат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аксимальное сгибание конеч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Г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ложение жгут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вет: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862000" y="357120"/>
            <a:ext cx="29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0" y="121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информацию необходимо указать в записке, прикрепляемой к жгут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428760" y="2500200"/>
            <a:ext cx="835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- фамилию, имя, отчество пострадавшего, время получения ран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Б- дату и точное время (часы и минуты) наложения жгу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- дату, точное время (часы и минуты) наложения жгута, а также фамилию, имя, отчество пострадавшего, фамилию, имя отечество наложившего жг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ве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8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e5e38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60000" y="29628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ключительная часть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24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поминаю тему и цель занят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бъявляю оцен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твечаю на вопрос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ю домашнее задание. (Составить кроссворд по данной теме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тправляю на следующие занятия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4" descr="оказание ПМП 007"/>
          <p:cNvPicPr/>
          <p:nvPr/>
        </p:nvPicPr>
        <p:blipFill>
          <a:blip r:embed="rId1"/>
          <a:stretch/>
        </p:blipFill>
        <p:spPr>
          <a:xfrm>
            <a:off x="2124000" y="3645000"/>
            <a:ext cx="28306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3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3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3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3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1800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Виды кровотечений и оказание первой медицинской помощ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7800" y="1357200"/>
            <a:ext cx="40384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177e8"/>
                </a:solidFill>
                <a:latin typeface="Tahoma"/>
              </a:rPr>
              <a:t>Учебные вопросы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иды кровотечений и их характерис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ричины, вызывающие кровотеч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равила оказания первой медицинской помощи при кровотечени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Точки пальцевого прижатия артерий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равила наложения жгут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Меры личной безопасности при оказании помощи пострадавшему с кровотечением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13840" y="1499760"/>
            <a:ext cx="4038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177e8"/>
                </a:solidFill>
                <a:latin typeface="Tahoma"/>
              </a:rPr>
              <a:t>Цели занятия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1.    Дать сведе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о кровеносных сосуда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идах кровотечений и их характеристи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2.   Дать практические навы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о оказанию первой медицинской помощи при кровотечения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равила наложения жгут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блюдение мер безопасности при остановке кровотечений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3.   Изучить точки пальцевого прижатия артерий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d4d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39720" y="282240"/>
            <a:ext cx="7907760" cy="94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Причины, вызывающие кровотеч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71320" y="264276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Основными причинами кровотечений являются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571680" y="121428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д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кровотечением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нимается выход крови из повреждённых кровяных сосудов. Оно может быть 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первичным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гда возникает сразу же после повреждения сосудов, 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вторичным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если появляется спустя некоторое врем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571680" y="400068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вреждение кожи и других органов острым предме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1714680" y="5349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642960" y="4786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ударе или пад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571680" y="514368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дорожно-транспортных происшеств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642960" y="4429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нарушении техники безопас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0"/>
          <p:cNvSpPr/>
          <p:nvPr/>
        </p:nvSpPr>
        <p:spPr>
          <a:xfrm>
            <a:off x="571680" y="5572080"/>
            <a:ext cx="66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не соблюдении правил обращения с инструментом приборами и механизм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3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3640" y="300960"/>
            <a:ext cx="7950600" cy="5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Виды кровотечений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99680" y="1571760"/>
            <a:ext cx="8209080" cy="29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ри наружном кровотечении</a:t>
            </a: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ровь вытекает через рану кожных покровов и видимых слизистых оболочек или из полост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аренхиматозное кровотечение</a:t>
            </a: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зникает при повреждении внутренних органов: печени, селезёнки, почек, лёгких (оно всегда опасно для жизни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Острая потеря 1 – 2 л крови, особенно при тяжёлых комбинированных поражениях, может привести к смер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95280" y="4724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39640" y="4653000"/>
            <a:ext cx="79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57120" y="4071960"/>
            <a:ext cx="835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 зависимости от характера повреждённых сосудов различ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пиллярное кровотеч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нозное кровотеч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ртериальное кровотеч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енхиматозное кровотеч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PIC_0001"/>
          <p:cNvPicPr/>
          <p:nvPr/>
        </p:nvPicPr>
        <p:blipFill>
          <a:blip r:embed="rId1"/>
          <a:stretch/>
        </p:blipFill>
        <p:spPr>
          <a:xfrm>
            <a:off x="5214960" y="4357800"/>
            <a:ext cx="1380960" cy="21524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8"/>
          <p:cNvSpPr/>
          <p:nvPr/>
        </p:nvSpPr>
        <p:spPr>
          <a:xfrm>
            <a:off x="428760" y="10717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овотечения могут быть наружные и внутрен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1200"/>
                            </p:stCondLst>
                            <p:childTnLst>
                              <p:par>
                                <p:cTn id="19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d4d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07480" y="45036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90f25"/>
                </a:solidFill>
                <a:latin typeface="Arial"/>
              </a:rPr>
              <a:t>Штатные и подручные средства для остановки кровотеч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4824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Штатные средств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езиновый жгут широк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езиновый жгут трубчат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инты (для закрутки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дручные средств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емен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Широкая полоска материи сложенная в несколько раз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Шарфи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лотенц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осовой плато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Запрещается использовать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ерёвк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ово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ечёвк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300360" y="1989000"/>
            <a:ext cx="2257560" cy="3795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PIC_0006"/>
          <p:cNvPicPr/>
          <p:nvPr/>
        </p:nvPicPr>
        <p:blipFill>
          <a:blip r:embed="rId2"/>
          <a:stretch/>
        </p:blipFill>
        <p:spPr>
          <a:xfrm>
            <a:off x="5429160" y="1285920"/>
            <a:ext cx="34434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8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e5e38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468360" y="333360"/>
          <a:ext cx="8351640" cy="50328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иды кровотечений и их 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39640" y="1785960"/>
          <a:ext cx="2664000" cy="459576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45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зникает при повреждении мелких сосудов кожи, подкожной клетчатки и мышц. При капиллярном кровотечении кровоточит вся поверхность ран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76720" y="1785960"/>
          <a:ext cx="2590560" cy="45957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арактеризуется непрерывным вытеканием крови, имеющим более тёмный цвет, при этом явной струи не бывае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940360" y="1785960"/>
          <a:ext cx="2879640" cy="459576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45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иболее опасно при котором за короткий срок из организма может излиться значительное количество крови. Признаками артериального кровотечения являются алая окраска крови, её вытекание пульсирующей струё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36" descr="PIC_0005"/>
          <p:cNvPicPr/>
          <p:nvPr/>
        </p:nvPicPr>
        <p:blipFill>
          <a:blip r:embed="rId1"/>
          <a:stretch/>
        </p:blipFill>
        <p:spPr>
          <a:xfrm>
            <a:off x="755640" y="3573360"/>
            <a:ext cx="2114640" cy="2665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7" descr="PIC_0008"/>
          <p:cNvPicPr/>
          <p:nvPr/>
        </p:nvPicPr>
        <p:blipFill>
          <a:blip r:embed="rId2"/>
          <a:stretch/>
        </p:blipFill>
        <p:spPr>
          <a:xfrm>
            <a:off x="3809880" y="3429000"/>
            <a:ext cx="163368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PIC_0009"/>
          <p:cNvPicPr/>
          <p:nvPr/>
        </p:nvPicPr>
        <p:blipFill>
          <a:blip r:embed="rId3"/>
          <a:stretch/>
        </p:blipFill>
        <p:spPr>
          <a:xfrm>
            <a:off x="6516720" y="4292640"/>
            <a:ext cx="1538280" cy="18730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8"/>
          <p:cNvSpPr/>
          <p:nvPr/>
        </p:nvSpPr>
        <p:spPr>
          <a:xfrm>
            <a:off x="500040" y="10000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апиллярное крово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3286080" y="1071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енозное крово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5929200" y="11430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енозное крово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285840" y="28584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0f25"/>
                </a:solidFill>
                <a:latin typeface="Arial"/>
              </a:rPr>
              <a:t>Правила оказания первой медицинской помощи при 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пиллярном </a:t>
            </a:r>
            <a:r>
              <a:rPr b="1" lang="en-US" sz="3200" spc="-1" strike="noStrike">
                <a:solidFill>
                  <a:srgbClr val="a90f25"/>
                </a:solidFill>
                <a:latin typeface="Arial"/>
              </a:rPr>
              <a:t>кровотеч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285840" y="2286000"/>
            <a:ext cx="82868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мойте рану раствором антисептика или водой   с мы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очистки загрязнённых ран используйте чистую салфетку или стерильный тампон: всегда начинайте с середины раны, двигаясь к краям. Меняйте салфетку при каждом последующем действ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ложите небольшую стирильную  повяз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ь врача нужна только в том случае, если есть риск инфицирования раны. Не используйте спирт для промывания 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071800" y="2858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НЕЛЬЗЯ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357120" y="1003320"/>
            <a:ext cx="842976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мывать рану водой из водоемо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пускать попадания прижигающих антисептических веществ на  раневую поверхнос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сыпать рану порошка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ладывать на рану маз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кладывать вату непосредственно к раневой поверхн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 время перевязки касаться поверхности раны рука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лать перевязку грязными руками (по возможности протрите руки одеколоном, спиртом или водкой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4:45:02Z</dcterms:created>
  <dc:creator>User</dc:creator>
  <dc:description/>
  <dc:language>en-US</dc:language>
  <cp:lastModifiedBy>User</cp:lastModifiedBy>
  <dcterms:modified xsi:type="dcterms:W3CDTF">2022-12-04T06:43:21Z</dcterms:modified>
  <cp:revision>76</cp:revision>
  <dc:subject/>
  <dc:title>Основы безопасности жизнедеятельности</dc:title>
</cp:coreProperties>
</file>