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488-5C2E-4D51-BAAF-D159109E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17B-C247-42A5-9484-F28779FE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700-D880-48EF-B8BD-947E8247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125-F1F5-446E-B485-77A0AFB6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31D-F32D-4231-BE27-510E95CB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179-9D0D-4644-9CAD-9BA4CBD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452-A4A4-446C-BFA1-5190EF9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50D-E6D4-4F89-88CD-7471A319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32C-4CD3-42AD-9F14-6A59413B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01A-FA53-4874-86E3-A5FDB66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7BB5-3262-4C83-B082-EB0529AE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784-9E72-458E-AE34-6D6F1054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3"/>
            </a:gs>
            <a:gs pos="100000">
              <a:srgbClr val="ffef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2C16C-11BA-412B-99B9-B850A95BE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4381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нковский детский сад № 3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06360" y="186516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звивающей предметно-пространственной среды в образовательных организац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57000" y="3521160"/>
            <a:ext cx="87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Предметно-пространственная среда в старшей групп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020480" y="4836960"/>
            <a:ext cx="76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лификационной категории Тумаева Людмила Иван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лификационной категории Яшков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588480" y="39672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двигательной актив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6467400" y="1538280"/>
            <a:ext cx="5054760" cy="3781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450800" y="5675400"/>
            <a:ext cx="92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двигательной активности»: «Физическ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4664520" y="47772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дежурст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7543800" y="896760"/>
            <a:ext cx="3780000" cy="5054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2"/>
          <a:stretch/>
        </p:blipFill>
        <p:spPr>
          <a:xfrm>
            <a:off x="868320" y="2171880"/>
            <a:ext cx="5170680" cy="3779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1258920" y="6048360"/>
            <a:ext cx="96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дежурства»: «Социально-коммуникатив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025360" y="54288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театр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72396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7663680" y="5302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музы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6" descr=""/>
          <p:cNvPicPr/>
          <p:nvPr/>
        </p:nvPicPr>
        <p:blipFill>
          <a:blip r:embed="rId2"/>
          <a:stretch/>
        </p:blipFill>
        <p:spPr>
          <a:xfrm>
            <a:off x="638640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941400" y="5681520"/>
            <a:ext cx="104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театра» и «Центре музыки»: «Художественно-эстетическ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4961520" y="4366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книг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62388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"/>
          <p:cNvPicPr/>
          <p:nvPr/>
        </p:nvPicPr>
        <p:blipFill>
          <a:blip r:embed="rId2"/>
          <a:stretch/>
        </p:blipFill>
        <p:spPr>
          <a:xfrm>
            <a:off x="651528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934920" y="5495760"/>
            <a:ext cx="103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книги»: «Речев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4608720" y="47772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творчест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67140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"/>
          <p:cNvPicPr/>
          <p:nvPr/>
        </p:nvPicPr>
        <p:blipFill>
          <a:blip r:embed="rId2"/>
          <a:stretch/>
        </p:blipFill>
        <p:spPr>
          <a:xfrm>
            <a:off x="646740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941400" y="5456160"/>
            <a:ext cx="103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творчества»: «Художественно-эстетическ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5078520" y="38268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прир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65088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2"/>
          <a:stretch/>
        </p:blipFill>
        <p:spPr>
          <a:xfrm>
            <a:off x="644040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1458720" y="5691240"/>
            <a:ext cx="92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природы»: «Познаватель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4435920" y="47484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исследов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458720" y="5727600"/>
            <a:ext cx="92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исследования»: «Познаватель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76440" y="1427040"/>
            <a:ext cx="5054400" cy="3780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"/>
          <p:cNvPicPr/>
          <p:nvPr/>
        </p:nvPicPr>
        <p:blipFill>
          <a:blip r:embed="rId2"/>
          <a:stretch/>
        </p:blipFill>
        <p:spPr>
          <a:xfrm>
            <a:off x="6580080" y="1427040"/>
            <a:ext cx="50529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548080" y="366840"/>
            <a:ext cx="66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ини-лаборатория для проведения опыт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703440" y="1538280"/>
            <a:ext cx="4913280" cy="3781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rcRect l="0" t="0" r="-150" b="0"/>
          <a:stretch/>
        </p:blipFill>
        <p:spPr>
          <a:xfrm>
            <a:off x="6427800" y="1643040"/>
            <a:ext cx="5060880" cy="3780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249920" y="5843520"/>
            <a:ext cx="92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Лаборатории»: «Познаватель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451320" y="344520"/>
            <a:ext cx="52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занимательной математ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62388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6515280" y="1538280"/>
            <a:ext cx="5119560" cy="3781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4018680" y="6083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1607040" y="5621400"/>
            <a:ext cx="927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занимательной математики»: «Познаватель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4474800" y="2779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безопас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517680" y="1538280"/>
            <a:ext cx="5054400" cy="3781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458720" y="5654520"/>
            <a:ext cx="92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безопасности»: «Социально-коммуникатив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4162320" y="35712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конструиров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70632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2"/>
          <a:stretch/>
        </p:blipFill>
        <p:spPr>
          <a:xfrm>
            <a:off x="6561000" y="1538280"/>
            <a:ext cx="5053320" cy="37814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1179360" y="5715000"/>
            <a:ext cx="98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конструирования»: «Познаватель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2756520" y="45072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социально-эмоционального  разви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644400" y="1538280"/>
            <a:ext cx="5061240" cy="3781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009520" y="557676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олок мальчик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6" descr=""/>
          <p:cNvPicPr/>
          <p:nvPr/>
        </p:nvPicPr>
        <p:blipFill>
          <a:blip r:embed="rId2"/>
          <a:stretch/>
        </p:blipFill>
        <p:spPr>
          <a:xfrm>
            <a:off x="649440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8048520" y="55767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олок девоче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1073160" y="6084720"/>
            <a:ext cx="100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социально-эмоционального развития»: «Социально-коммуникатив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3353040" y="33192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патриотического воспит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5" descr=""/>
          <p:cNvPicPr/>
          <p:nvPr/>
        </p:nvPicPr>
        <p:blipFill>
          <a:blip r:embed="rId1"/>
          <a:stretch/>
        </p:blipFill>
        <p:spPr>
          <a:xfrm>
            <a:off x="584280" y="1538280"/>
            <a:ext cx="5052960" cy="3781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9" descr=""/>
          <p:cNvPicPr/>
          <p:nvPr/>
        </p:nvPicPr>
        <p:blipFill>
          <a:blip r:embed="rId2"/>
          <a:stretch/>
        </p:blipFill>
        <p:spPr>
          <a:xfrm>
            <a:off x="6554880" y="1538280"/>
            <a:ext cx="505296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1"/>
          <p:cNvSpPr/>
          <p:nvPr/>
        </p:nvSpPr>
        <p:spPr>
          <a:xfrm>
            <a:off x="1219320" y="5624640"/>
            <a:ext cx="9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образовательная область программы, реализуемая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Центре патриотического воспитания»: «Социально-коммуникативное развит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07T17:56:57Z</dcterms:created>
  <dc:creator>Пользователь</dc:creator>
  <dc:description/>
  <dc:language>en-US</dc:language>
  <cp:lastModifiedBy>Пользователь</cp:lastModifiedBy>
  <dcterms:modified xsi:type="dcterms:W3CDTF">2022-12-04T16:00:14Z</dcterms:modified>
  <cp:revision>9</cp:revision>
  <dc:subject/>
  <dc:title>Муниципальное бюджетное дошкольное образовательное учреждение  Починковский детский сад № 3</dc:title>
</cp:coreProperties>
</file>