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973-1E95-4411-A025-09DA8FB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0BF-78F9-4467-825E-34120AC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B5E-5E43-4899-8B12-D2BD025F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0BB-7B74-4957-921B-442F745C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85D-1C5F-439B-976E-167AF46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F2B-6E37-4DD8-A81F-C71455E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F49-8DB9-42F9-ADBD-5A682EB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47C-A8A1-49E4-BF60-35AB1C8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D58-C96F-404E-A634-63508C9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091-B99A-4362-82FE-3D1A6E0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F74-5198-484A-B61B-2C9D462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50E-EBE7-495C-9D62-1572322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ffe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A1ABA-B6AC-43E3-ADFF-8CFDA5998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4381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нковский детский сад № 3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06360" y="18651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57000" y="3521160"/>
            <a:ext cx="87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Предметно-пространственная среда в старшей групп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20480" y="483696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 Тумаева Людмила Иван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 Яшк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588480" y="39672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двигательной актив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6467400" y="1538280"/>
            <a:ext cx="5054760" cy="3781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450800" y="567540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двигательной активности»: «Физ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4664520" y="47772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дежур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7543800" y="896760"/>
            <a:ext cx="3780000" cy="5054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868320" y="2171880"/>
            <a:ext cx="5170680" cy="3779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258920" y="6048360"/>
            <a:ext cx="96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дежурства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25360" y="54288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теат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72396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663680" y="5302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музы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2"/>
          <a:stretch/>
        </p:blipFill>
        <p:spPr>
          <a:xfrm>
            <a:off x="6386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941400" y="5681520"/>
            <a:ext cx="104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театра» и «Центре музыки»: «Художественно-эстет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961520" y="4366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книг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623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651528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34920" y="5495760"/>
            <a:ext cx="103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книги»: «Речев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4608720" y="4777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творче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7140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6467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941400" y="5456160"/>
            <a:ext cx="103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творчества»: «Художественно-эстет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078520" y="38268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прир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650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6440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458720" y="569124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природы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435920" y="4748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исслед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458720" y="572760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исследования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76440" y="1427040"/>
            <a:ext cx="505440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2"/>
          <a:stretch/>
        </p:blipFill>
        <p:spPr>
          <a:xfrm>
            <a:off x="6580080" y="1427040"/>
            <a:ext cx="5052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548080" y="366840"/>
            <a:ext cx="66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ни-лаборатория для проведения опыт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703440" y="1538280"/>
            <a:ext cx="4913280" cy="3781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rcRect l="0" t="0" r="-150" b="0"/>
          <a:stretch/>
        </p:blipFill>
        <p:spPr>
          <a:xfrm>
            <a:off x="6427800" y="1643040"/>
            <a:ext cx="5060880" cy="37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249920" y="584352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Лаборатории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451320" y="34452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занимательной матема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623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6515280" y="1538280"/>
            <a:ext cx="5119560" cy="378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4018680" y="6083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607040" y="5621400"/>
            <a:ext cx="927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занимательной математики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474800" y="2779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безопас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517680" y="1538280"/>
            <a:ext cx="5054400" cy="3781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58720" y="565452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безопасности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162320" y="35712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конструир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0632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tretch/>
        </p:blipFill>
        <p:spPr>
          <a:xfrm>
            <a:off x="6561000" y="1538280"/>
            <a:ext cx="5053320" cy="3781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1179360" y="5715000"/>
            <a:ext cx="98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конструирования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756520" y="45072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социально-эмоционального  разви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644400" y="1538280"/>
            <a:ext cx="5061240" cy="378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009520" y="55767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олок мальчик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6" descr=""/>
          <p:cNvPicPr/>
          <p:nvPr/>
        </p:nvPicPr>
        <p:blipFill>
          <a:blip r:embed="rId2"/>
          <a:stretch/>
        </p:blipFill>
        <p:spPr>
          <a:xfrm>
            <a:off x="6494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8048520" y="55767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олок девоче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073160" y="6084720"/>
            <a:ext cx="100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социально-эмоционального развития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353040" y="33192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патриотического воспит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5" descr=""/>
          <p:cNvPicPr/>
          <p:nvPr/>
        </p:nvPicPr>
        <p:blipFill>
          <a:blip r:embed="rId1"/>
          <a:stretch/>
        </p:blipFill>
        <p:spPr>
          <a:xfrm>
            <a:off x="5842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"/>
          <p:cNvPicPr/>
          <p:nvPr/>
        </p:nvPicPr>
        <p:blipFill>
          <a:blip r:embed="rId2"/>
          <a:stretch/>
        </p:blipFill>
        <p:spPr>
          <a:xfrm>
            <a:off x="655488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1219320" y="5624640"/>
            <a:ext cx="9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патриотического воспитания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07T17:56:57Z</dcterms:created>
  <dc:creator>Пользователь</dc:creator>
  <dc:description/>
  <dc:language>en-US</dc:language>
  <cp:lastModifiedBy>Пользователь</cp:lastModifiedBy>
  <dcterms:modified xsi:type="dcterms:W3CDTF">2022-12-04T16:00:14Z</dcterms:modified>
  <cp:revision>9</cp:revision>
  <dc:subject/>
  <dc:title>Муниципальное бюджетное дошкольное образовательное учреждение  Починковский детский сад № 3</dc:title>
</cp:coreProperties>
</file>