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44B-FAFD-48FC-AFE8-986E0DA4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8070-5D1E-4E5E-A826-0F40A880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2D89-454B-4B5D-B58F-23C3D908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4DEF-0CDA-4B1F-BBC4-D4F70262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EEC-E0A0-4505-8993-E68DC137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246-9AE3-43AE-BE88-91265D27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62D-4EFE-405E-9546-74542075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059-DC0D-4531-A0DE-A9C6E66E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10E7-A88C-4B2F-8F04-FED915E3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84D-1BD5-434A-A18D-D1B7ED02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BD7-8B89-4337-A8DA-0BCE748A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5B9-61F9-48E8-B03D-A8BBB954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4916-2E10-46AA-ACFA-19F08BDBAB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pt4web.ru/" TargetMode="External"/><Relationship Id="rId2" Type="http://schemas.openxmlformats.org/officeDocument/2006/relationships/hyperlink" Target="https://www.google.ru/imghp?hl=ru&amp;tab=wi" TargetMode="External"/><Relationship Id="rId3" Type="http://schemas.openxmlformats.org/officeDocument/2006/relationships/hyperlink" Target="http://ppt4web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одительское собрание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 1 класс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рицо Татьяна Александро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Лицей №12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анкт-Петербур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куль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тивная форма – длинная, короткая (белая футболка, шорты, спортивная обувь, чешки для ритмики)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, ИЗ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4360" y="14130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ы можете использовать  данное оформление  для создания своих презентаций,  но в своей презентации вы должны указать  источник шаблона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pt4web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и создание шаблона использованы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oogle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артинки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www.google.ru/imghp?hl=ru&amp;tab=w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Шаблон нельзя использовать в коммерческих целях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и использование шаблона на других сайтах, ссылка на серви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Pt4WEB.ru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бязательн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 раз в 1 клас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нейка 1 сентября  в 09.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а одежды парадн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йдж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сен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бор у Лицея №126 (ул. Замшина д. 14) в 08.5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роение в соответствии с план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сен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тфел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ал (2 простых карандаша, цветные карандаши, линейка 20 см, ластик, 2 синие ручки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тылочка с вод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сентяб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1197000"/>
            <a:ext cx="8353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9.00 – 09.30 - линейк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00 – 10.35 - тематический урок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75 лет Победы»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45 – 11.20 - классный час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30 -12.05 - урок чтени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2.05 - дети покидают школу.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тречайте на улице у главного входа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исание звон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268280"/>
            <a:ext cx="7797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урок 9.00 – 9.3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урок 9.55 – 10.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урок 10.55 – 11.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урок 11.55 – 12.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урок 12.50 – 13.2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трак 10.30 – 10.5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592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ение – 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сьмо –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матика –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ружающий мир –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–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 –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культура –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тмика –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 –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ый час –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 ч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 –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культура –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тмика –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гопед –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ПД – каб. №40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1280" y="333360"/>
            <a:ext cx="80755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никул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нние - с 26 октября по 03 ноября 202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имние – с 28 декабря 2020  по 10 января 202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ые для 1 классов – с 08 по 11 феврал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енние – с 22 марта по 28 марта 202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ый год до 25 мая включите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5:04:43Z</dcterms:created>
  <dc:creator>Admin</dc:creator>
  <dc:description/>
  <dc:language>en-US</dc:language>
  <cp:lastModifiedBy>Taniana</cp:lastModifiedBy>
  <dcterms:modified xsi:type="dcterms:W3CDTF">2022-12-04T17:56:37Z</dcterms:modified>
  <cp:revision>32</cp:revision>
  <dc:subject/>
  <dc:title>Презентация PowerPoint</dc:title>
</cp:coreProperties>
</file>