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84F-312A-4ED2-9F09-F54118BC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FDC-0129-4632-90F8-FC32F72E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535-0E64-442C-A402-D40FB81D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89A-DF49-4A05-9C09-A9168E7B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51A-5479-44C3-ADAF-624B3E67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19C-2B20-46FB-88CC-146305FB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885-F238-43C4-851B-ADBC35E2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EC9-998E-44BB-8AE4-99C12BD8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723-B144-46AB-BE71-0523DC59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413-3934-41E0-9E08-E0A5566F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335-EAA2-405D-9C24-AAD81CFD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081-8EBC-4B79-88E7-C8A79C54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C7A7-B3A0-43E9-93B2-9E7F64E0B4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pt4web.ru/" TargetMode="External"/><Relationship Id="rId2" Type="http://schemas.openxmlformats.org/officeDocument/2006/relationships/hyperlink" Target="https://www.google.ru/imghp?hl=ru&amp;tab=wi" TargetMode="External"/><Relationship Id="rId3" Type="http://schemas.openxmlformats.org/officeDocument/2006/relationships/hyperlink" Target="http://ppt4web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дительское собрание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 1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рицо Татьяна Александ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Лицей №1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Петербур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ая форма – длинная, короткая (белая футболка, шорты, спортивная обувь, чешки для ритмики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, ИЗ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14130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ы можете использовать  данное оформление  для создания своих презентаций,  но в своей презентации вы должны указать  источник шаблона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pt4web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и создание шаблона использованы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ogle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артинки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google.ru/imghp?hl=ru&amp;tab=w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Шаблон нельзя использовать в коммерческих целях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и использование шаблона на других сайтах, ссылка на серви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4WEB.ru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язательн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 раз в 1 клас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ейка 1 сентября  в 09.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 одежды парад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йдж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н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бор у Лицея №126 (ул. Замшина д. 14) в 08.5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роение в соответствии с план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н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тф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ал (2 простых карандаша, цветные карандаши, линейка 20 см, ластик, 2 синие ручки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тылочка с вод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н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197000"/>
            <a:ext cx="8353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9.00 – 09.30 - линей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00 – 10.35 - тематический урок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75 лет Победы»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45 – 11.20 - классный час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30 -12.05 - урок чте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2.05 - дети покидают школу.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тречайте на улице у главного вход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исание звон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268280"/>
            <a:ext cx="7797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урок 9.00 – 9.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урок 9.55 – 10.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урок 10.55 – 11.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урок 11.55 – 12.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урок 12.50 – 13.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трак 10.30 – 10.5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592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ение – 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ьмо –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ка –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жающий мир –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ура –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тмика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ый час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 –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ура –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тмика –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опед –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ПД – каб. №40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333360"/>
            <a:ext cx="80755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икул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нние - с 26 октября по 03 ноября 202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мние – с 28 декабря 2020  по 10 января 202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ые для 1 классов – с 08 по 11 февра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енние – с 22 марта по 28 марта 202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й год до 25 мая включи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5:04:43Z</dcterms:created>
  <dc:creator>Admin</dc:creator>
  <dc:description/>
  <dc:language>en-US</dc:language>
  <cp:lastModifiedBy>Taniana</cp:lastModifiedBy>
  <dcterms:modified xsi:type="dcterms:W3CDTF">2022-12-04T17:56:37Z</dcterms:modified>
  <cp:revision>32</cp:revision>
  <dc:subject/>
  <dc:title>Презентация PowerPoint</dc:title>
</cp:coreProperties>
</file>