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796-A8E6-4CB8-85E4-34D00A6D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C50-441B-403B-A303-8ED802D2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64F-1445-4DC9-9B61-8F16260A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77B-B53E-4EB5-8B4D-ABBC8F7F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0738-6D38-49F9-B1A0-4C45B43B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12DB-DEBF-4B9D-9923-FC1D2521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88CE-586A-43FD-8B34-61A53689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351E-EA52-40E9-9F8F-AD2F5B9E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3356-F10E-4C52-A0DB-6F9E338F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0278-0E70-4239-8384-46AF394C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0B8-7C95-4114-8C08-5DF0BD17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68A-DC66-4BFD-BFD7-FFC4111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6348-8A7A-44F2-94C2-F0283B3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F71F-082A-4492-B567-2A2A820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1688-468D-4C21-BFCA-F7DA7EDB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C9AD-2E2B-4353-939F-C0B1027E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8D9F-161E-42DE-9050-36434B6E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F0D-7574-41EC-A5C2-8D394562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FDF-C6FC-498E-9ECD-324EAAF8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D4A-539A-4E8D-B415-360B6327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C6B-7F99-44FD-B7DE-70FF5618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050-FDC3-465B-B3A5-E6333F92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0C9-6F3E-4A5C-AC4F-AEA3BF8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EFB-B943-459E-BAC2-73117BB6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750-C7ED-43A5-A75D-37EE18FF8A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8DA-CF9E-4F6C-87E7-C01810FE56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static2.aif.ru%2Fpublic%2Fhmain%2F500%2F6c75d9642f7fc81c73e46be6af9012a5_1.jpg&amp;iorient=&amp;ih=&amp;nojs=1&amp;icolor=&amp;site=&amp;text=&#1084;&#1072;&#1083;&#1099;&#1096;&#1080;%20&#1080;&#1075;&#1088;&#1072;&#1102;&#1090;%20&#1074;%20&#1076;&#1077;&#1090;&#1089;&#1082;&#1086;&#1084;%20&#1089;&#1072;&#1076;&#1091;&amp;iw=&amp;wp=&amp;pos=13&amp;recent=&amp;type=&amp;isize=&amp;rpt=simage&amp;itype=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tsad-kitty.ru/uploads/posts/2011-10/1318942207_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g1.liveinternet.ru/images/attach/c/6/93/67/93067303_3937459_x_0fe4722c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tunnel.ru/userfiles/ck/images/3313/Igra_v_myachik.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amic.ru/images/gallery_05-2011/640.1241588249_0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img_url=http%3A%2F%2Fmediasubs.ru%2Fgroup%2Fuploads%2Fdy%2Fdyihatelnyie-i-energeticheskie-praktiki%2Fimage2%2FtYWRmYi00.png&amp;iorient=&amp;ih=&amp;nojs=1&amp;icolor=&amp;site=&amp;text=&#1088;&#1077;&#1073;&#1077;&#1085;&#1086;&#1082;%20&#1085;&#1077;%20&#1093;&#1086;&#1095;&#1077;&#1090;&#1080;&#1076;&#1090;&#1080;%20&#1074;%20&#1076;&#1077;&#1090;&#1089;&#1082;&#1080;&#1081;%20&#1089;&#1072;&#1076;&amp;iw=&amp;wp=&amp;pos=8&amp;recent=&amp;type=&amp;isize=&amp;rpt=simage&amp;itype=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img_url=http%3A%2F%2Fadalin.mospsy.ru%2Fimg2%2Fsad_1.jpg&amp;iorient=&amp;ih=&amp;nojs=1&amp;icolor=&amp;site=&amp;text=&#1088;&#1077;&#1073;&#1077;&#1085;&#1086;&#1082;%20&#1085;&#1077;%20&#1093;&#1086;&#1095;&#1077;&#1090;&#1080;&#1076;&#1090;&#1080;%20&#1074;%20&#1076;&#1077;&#1090;&#1089;&#1082;&#1080;&#1081;%20&#1089;&#1072;&#1076;&amp;iw=&amp;wp=&amp;pos=0&amp;recent=&amp;type=&amp;isize=&amp;rpt=simage&amp;itype=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Подготовка ребенка к детскому саду - непростое дело для родите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i?id=19831469-35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К моменту поступления в детский сад предполагается, что ребенок должен уметь:</a:t>
            </a:r>
            <a:br>
              <a:rPr sz="3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ать взрослому о своих желан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 садиться на стул, горш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 пить из чаш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ь с хле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ьзоваться лож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еды благодарить, задвигать свой сту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о участвовать в одевании, умыва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ьзоваться носовым платко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йте у воспитателей, что еще нужно уметь дел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 ЕЩЁ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лядным примером должны выступать, прежде всего, сами родители.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бования к ребенку должны быть последовательны и доступны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свой ритуал прощания с ребёнком. Это может быть поцелуй в щёку и соприкосновение ладоней или коротенький стишок. Главное – всегда его соблюдайте при расставании с сыном или дочерью не только в детском саду, но и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положительный климат 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едлага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ашему вним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ебольшую подборку литерату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оторая, если прочесть её, поможет адаптиров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ребенку и Вам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i?id=173815674-20-73&amp;n=21"/>
          <p:cNvPicPr/>
          <p:nvPr/>
        </p:nvPicPr>
        <p:blipFill>
          <a:blip r:embed="rId1"/>
          <a:stretch/>
        </p:blipFill>
        <p:spPr>
          <a:xfrm>
            <a:off x="782640" y="12207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1000453674"/>
          <p:cNvPicPr/>
          <p:nvPr/>
        </p:nvPicPr>
        <p:blipFill>
          <a:blip r:embed="rId2"/>
          <a:stretch/>
        </p:blipFill>
        <p:spPr>
          <a:xfrm>
            <a:off x="3419640" y="870120"/>
            <a:ext cx="201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596046"/>
          <p:cNvPicPr/>
          <p:nvPr/>
        </p:nvPicPr>
        <p:blipFill>
          <a:blip r:embed="rId3"/>
          <a:stretch/>
        </p:blipFill>
        <p:spPr>
          <a:xfrm>
            <a:off x="6129360" y="870120"/>
            <a:ext cx="2131920" cy="309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1100175_CHitajte_vashego_rebenka_kak_knigu_365_malenkih_podskazok_dlya_roditelej"/>
          <p:cNvPicPr/>
          <p:nvPr/>
        </p:nvPicPr>
        <p:blipFill>
          <a:blip r:embed="rId4"/>
          <a:stretch/>
        </p:blipFill>
        <p:spPr>
          <a:xfrm>
            <a:off x="539640" y="3933720"/>
            <a:ext cx="2133720" cy="27370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3276720" y="3846600"/>
            <a:ext cx="536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м  Вашему вниманию небольшую подборку литературы, которая, если прочесть её, поможет адаптироваться ребенку и Вам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800" spc="-1" strike="noStrike">
                <a:solidFill>
                  <a:srgbClr val="ff0066"/>
                </a:solidFill>
                <a:latin typeface="Times New Roman"/>
              </a:rPr>
              <a:t>Желаем легкой адаптации </a:t>
            </a:r>
            <a:r>
              <a:rPr b="0" i="1" lang="ru-RU" sz="3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r9bVqB2PmZM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                        </a:t>
            </a: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Моему ребенку                                                                         </a:t>
            </a:r>
            <a:br>
              <a:rPr sz="3400"/>
            </a:b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           будет хорошо в детском сад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318942207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93067303_3937459_x_0fe4722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1484280"/>
            <a:ext cx="3097080" cy="228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gra_v_myach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16000" y="3933720"/>
            <a:ext cx="2952720" cy="229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6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3860640"/>
            <a:ext cx="30243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1" lang="ru-RU" sz="3800" spc="-1" strike="noStrike">
                <a:solidFill>
                  <a:srgbClr val="ff0066"/>
                </a:solidFill>
                <a:latin typeface="Times New Roman"/>
              </a:rPr>
              <a:t>Со временем так и будет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дце разрывается при виде плачущего малыша, которого мама ведет утром в детский сад.  Хочется успокоить, отвлечь, защитить, только бы не видеть этой тоски и боли в детских глазах, не слышать жалобного или пронзительного крика.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каково маме, которая возможно спешит на работу?                                                                                          У многих женщин не хватает опыта и выдержки справиться с ситуацией.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говорим о том, как помочь                                                                                     себе и своему малышу, привыкнуть  к детскому са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0NjkzLTg3"/>
          <p:cNvPicPr/>
          <p:nvPr/>
        </p:nvPicPr>
        <p:blipFill>
          <a:blip r:embed="rId1"/>
          <a:stretch/>
        </p:blipFill>
        <p:spPr>
          <a:xfrm>
            <a:off x="826920" y="1628640"/>
            <a:ext cx="2735280" cy="230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ucsi005867"/>
          <p:cNvPicPr/>
          <p:nvPr/>
        </p:nvPicPr>
        <p:blipFill>
          <a:blip r:embed="rId2"/>
          <a:stretch/>
        </p:blipFill>
        <p:spPr>
          <a:xfrm>
            <a:off x="5003640" y="1628640"/>
            <a:ext cx="2664000" cy="230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i?id=53193957-30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4076640"/>
            <a:ext cx="273708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?id=70839906-19-73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27370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адая в незнакомую ситуацию, вынужденно вступая в общение с незнакомыми людьми, даже взрослый человек будет чувствовать себя некомфортно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во же тогда приходится малыш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66"/>
                </a:solidFill>
                <a:latin typeface="Times New Roman"/>
              </a:rPr>
              <a:t>Критерии адаптации, разработанные институтом педиатр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егкая степень адаптации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2-4 неде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редняя степень адаптации (больше месяц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яжелая степень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27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66"/>
                </a:solidFill>
                <a:latin typeface="Times New Roman"/>
              </a:rPr>
              <a:t>Причины тяжелой адаптации к условиям детского са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 в семье режима, совпадающего с режимо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шком сильная зависимость ребёнкаа от ма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резмерная тревожность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желание взрослых давать самостоятельность малы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ребёнка в духе вседозво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зненность мал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у ребенка своеобраз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умение занять себя игру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формированность элементарных культурно-гигиенических навыков (есть и пить самостоятельно; пользоваться носовым платком; пытаться раздеваться; проситься на горшок, садиться на него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Причины тяжелой адаптации к условиям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пыта общения с незнакомыми людь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 между членами семьи по вопросам воспит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гулярное посещение ребенко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ование советов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пыта общения с незнакомыми людь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 между членами семьи по вопросам воспит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гулярное посещение ребенко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ование советов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В период адаптации, дорогие родители, вы можете помочь своему ребенку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допускать высказываний сожа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 ребенке, о том, что приходится отдавать его в детский 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возможности расширять круг общ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, помочь преодолеть ему страх перед незнакомыми людьми: обращать внимание ребенка на действия и поведение посторонних людей, вызывать положительное отношение к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ь обращаться к другому челове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делиться игрушкой, жалеть плачущего и т.д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учать к самообслужив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ощрять попытки самостоятель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мочь ребенку разобраться в игрушк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использовать показ действий с ними, сюжетный показ, совместные действия, вовлекать ребенка в совместную иг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ть подражательность в дейст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: « Полетаем, как воробышки», «Попрыгаем, как зайчики», «Поедем как грузовик, легковая машина», да Вы и сами придумываете много пробных игр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7:42:55Z</dcterms:created>
  <dc:creator>Admin</dc:creator>
  <dc:description/>
  <dc:language>en-US</dc:language>
  <cp:lastModifiedBy>Ирина</cp:lastModifiedBy>
  <dcterms:modified xsi:type="dcterms:W3CDTF">2022-05-18T07:47:50Z</dcterms:modified>
  <cp:revision>18</cp:revision>
  <dc:subject/>
  <dc:title>Подготовка ребенка к детскому саду - непростое дело для родителей </dc:title>
</cp:coreProperties>
</file>