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A670-EAAA-4B1D-941C-F18B518BA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1808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2C65-4DF2-4C00-9A4C-59DE771B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982D-497F-4622-8A73-D8D20B294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19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19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1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71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71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67CE-AC7C-45A5-AAFC-A1E1A18B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3190-453A-4F22-9244-8FCD3A82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CD0A-BCA3-4BF7-8BCF-8EA7213F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E9E4-107B-4F26-B6A6-286E923B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BCA7-6EE4-4344-B270-845DFD78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B926-2813-45B4-9872-57FEE957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286920"/>
            <a:ext cx="82296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FBCE-BB36-4675-87EB-9654A866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6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961E-BBC9-4302-BDB8-D30246CE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9ABD-BE94-4B61-ABEA-7CB650F4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40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868A-6E86-40EF-9E36-98DDE661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71808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40CB-7160-4B84-8CDC-C9EA5482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60" y="371808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50D3-7A10-4F5B-91A3-DF8D72B2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40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EA12-8DC8-4729-BF97-529D95C59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0800" y="119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3240" y="119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360" y="371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0800" y="371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3240" y="371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4E59-2F4F-426A-B118-06C9AB0C0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E372-72B4-4BA7-9C5F-6E4B3BE0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A680-08E5-4C3F-A61B-6593FDC4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BF6D-1369-4358-A050-A03EFFF0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286920"/>
            <a:ext cx="82296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859D-7EA5-48DE-83FA-91AFDB58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26AF-D837-4DC2-813A-C57EA83C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2949-BB78-4C07-A456-EB33F45C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1808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BE7F-950B-47AF-A1F8-097088A1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E9CB-1BF9-4C4F-B68A-F0C2B4CE3B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1931-F1F0-49EF-A50D-DAF786E63C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858960"/>
            <a:ext cx="8353440" cy="520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黑体"/>
              </a:rPr>
              <a:t>Понятие словесного искусства,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黑体"/>
              </a:rPr>
              <a:t>его роль в развитии дошкольник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黑体"/>
              </a:rPr>
              <a:t>Подготовила: учитель-логопед МДОУ «Детский сад № 67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黑体"/>
              </a:rPr>
              <a:t>Стаценко Татьяна Петровн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  <a:ea typeface="黑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В поэтических образах художественная литература открывает и объясняет ребёнку жизнь общества и природы, мир человеческих чувств и взаимоотношений. Она делает эмоции более насыщенными, воспитывает воображение и даёт ребёнку прекрасные образцы русского языка: в рассказах дети узнают лаконичность и точность слова, в стихах улавливают музыкальность, напевность, образность русской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  <a:ea typeface="黑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В работе с детьми активно используются малые фольклорные жанры: приговорки издавна употребляются в воспитании как педагогические приемы, для того, чтобы эмоционально окрасить значимость того или иного момента жизни ребенка, пословицы и поговорки доступны пониманию ребенка старшего дошкольного возра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  <a:ea typeface="黑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68360" y="549000"/>
            <a:ext cx="61423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黑体"/>
              </a:rPr>
              <a:t>Обращенные к детям пословицы могут им внушить некоторые правила поведения. Сказки самый любимый детьми вид народного творчества. Народные сказки раскрывают меткость и выразительность русского слова, показывают, как богата родная речь юмором, живыми и образными выражениями, сравнениями. Сказки помогают формировать художественный вкус, воспитывать доброе отношение к миру и люд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0_9ade3_8cb3241_XL"/>
          <p:cNvPicPr/>
          <p:nvPr/>
        </p:nvPicPr>
        <p:blipFill>
          <a:blip r:embed="rId1"/>
          <a:stretch/>
        </p:blipFill>
        <p:spPr>
          <a:xfrm>
            <a:off x="250920" y="3573360"/>
            <a:ext cx="295272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  <a:ea typeface="黑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333000"/>
            <a:ext cx="83516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黑体"/>
              </a:rPr>
              <a:t>При ознакомлении с произведениями словесности отчетливо выступает связь речевого и эстетического развития, язык усваивается в его эстетической функции. Владение языковыми изобразительно-выразительными средствами служит развитию художественного вкуса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黑体"/>
              </a:rPr>
              <a:t>Воспитательная функция литературы осуществляется особым, присущим лишь искусству способом - силой воздействия художественного обр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загруженное"/>
          <p:cNvPicPr/>
          <p:nvPr/>
        </p:nvPicPr>
        <p:blipFill>
          <a:blip r:embed="rId1"/>
          <a:stretch/>
        </p:blipFill>
        <p:spPr>
          <a:xfrm>
            <a:off x="2771640" y="2708280"/>
            <a:ext cx="35290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851280" y="1052640"/>
            <a:ext cx="4897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Таким образом, словесное искусство помогает детям излагать свое отношение к прослушанному, используя сравнения, метафоры, эпитеты и другие средства образной вырази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DTfd2z_oZ2g"/>
          <p:cNvPicPr/>
          <p:nvPr/>
        </p:nvPicPr>
        <p:blipFill>
          <a:blip r:embed="rId1"/>
          <a:stretch/>
        </p:blipFill>
        <p:spPr>
          <a:xfrm>
            <a:off x="755640" y="907920"/>
            <a:ext cx="29275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  <a:ea typeface="黑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Метафо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 —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Сонное озеро города (А. Блок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Переносное значение слова, основанное на сходств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Олицетворение —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Дождь идёт. Природа радуетс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Наделение неживых е предметов наделяют свойствами жив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Эпитет —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«румяная заря», «золотые руки», «серебряный голос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29052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黑体"/>
              </a:rPr>
              <a:t>Термин «словеснос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36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Термин «словесность» в лингвистической литературе трактуется неоднозначно. Обратимся к словарям. Толковый словарь С.И. Ожегова: «Словесность» - художественное литературное творчество и словесный фольклор. Изящная словесность (устарелое название художественной литератур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9052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黑体"/>
              </a:rPr>
              <a:t>Термин «словеснос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«Толковый словарь русского языка» Д.Н. Ушакова словесность определяется так: Творчество, выражающееся в слове, как устном, так и письменном, словесное творче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«Популярный словарь русского языка» дает такое определение: «Словесность - это художественная литература и устное народное творчество, а также совокупность литературных и фольклорных произведений какого-либо народ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9052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黑体"/>
              </a:rPr>
              <a:t>Термин «словеснос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В современной литературной энциклопедии под словесностью понимается совокупность всех текстов, которые находятся в культурном обращении общества. Понятие словесность шире, чем литература, поскольку включает и устную словесность, в том числе фольклор, а также деловую, академическую и другие виды словес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Эти и другие словари в основном совпадают в формулировке данного пон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  <a:ea typeface="黑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Таким образом, строгого различия между терминами словесность и литература нет, можно одинаково употреблять тот и другой. Разница в том, что литература относится к произведениям писанным, а словесность к устным. Устное творчество осуществляет народ: от поколения к поколению, из уст в уста переходят сказки, песни, былины, пословицы -- все то, что можно объединить под названием словес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  <a:ea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«Литература» происходит от латинского слова litera, которое означает буква, письмо, написание, а отсюда следует, что литература - словесное творчество, запечатленное, закрепленное в письме. Таким образом, «словесность» или словесное искусство - это художественная литература и фолькл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9052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黑体"/>
              </a:rPr>
              <a:t>Литература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Литература - наиболее доступный и действенный в воспитательном отношении вид искусства. В литературном произведении слово выступает в тесном единстве его образной и понятийной сторон. Именно эта особенность словесного искусства расширяет возможности предмета литературы по сравнению с другими видами искус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  <a:ea typeface="黑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С помощью художественного слова ребенок овладевает грамматикой родного языка в единстве с лексикой. Литература расширяет кругозор дошкольника, развивает его восприятие, мышление, память, воображение и творчество, является средством формирования личности ребенка, оказывая сильное морально-идейное воздействие, объединяет детский коллекти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  <a:ea typeface="黑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Искусство слова отражает действительность через художественные образы, показывает наиболее типичное, осмысливая и обобщая реальные жизненные факты. Это помогает ребенку познавать жизнь, формирует его отношение к окружающему. Художественные произведения, раскрывая внутренний мир героев, заставляют детей волноваться, переживать, как свои, радости и горести геро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15:44:56Z</dcterms:created>
  <dc:creator/>
  <dc:description/>
  <cp:keywords/>
  <dc:language>en-US</dc:language>
  <cp:lastModifiedBy>samsung</cp:lastModifiedBy>
  <cp:lastPrinted>1899-12-30T00:00:00Z</cp:lastPrinted>
  <dcterms:modified xsi:type="dcterms:W3CDTF">2022-12-04T13:03:21Z</dcterms:modified>
  <cp:revision>12</cp:revision>
  <dc:subject/>
  <dc:title>Заголовок слай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