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CDB-A56F-4747-87D8-6265529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B71-A183-4E88-8466-B8F04AF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D2E-6E7D-4641-84A9-4435E83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EA7-4DBA-474C-A3A5-3013E88F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97E5-AA68-45FF-8249-1C53A89D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5148-6D8D-425F-B0F6-50B9EE2A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0260-7469-495B-ABBC-34F9B55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E66B-1617-4092-A659-1DAA039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02E2-0D2D-44D4-948A-617634A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5762-EAFE-49B4-97D9-D18F912A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69C9-C60C-462F-BD4E-6048290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641-5716-445E-8D60-D1415567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BFE6-7895-40FA-B219-FBCB567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BDF-A578-40B7-8121-D2EA9F5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D495-1278-4A21-B460-4A11157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B47-F6DA-4E4B-B3C7-B27957C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121A-15C2-4347-9756-E9B24539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498-844F-4ED1-9D12-7636A7B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697-ACA3-4C20-ABA5-99AB41C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AFC-61F4-4ADF-862B-0C64C6C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870-60A5-4257-B7FA-2ECD2705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6A0-78F1-40CD-A1F2-DB1724A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A4D-EEE3-48F9-ACAD-3784AE0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930-6B3A-4EDF-84BF-A8C8B72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BE5-E5CD-4935-BF7D-D5CA290C4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E35-A4F0-475C-9939-5F30019D2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858960"/>
            <a:ext cx="8353440" cy="52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黑体"/>
              </a:rPr>
              <a:t>Понятие словесного искусства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黑体"/>
              </a:rPr>
              <a:t>его роль в развитии дошкольни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黑体"/>
              </a:rPr>
              <a:t>Подготовила: учитель-логопед МДОУ «Детский сад № 67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黑体"/>
              </a:rPr>
              <a:t>Стаценко Татьяна Петров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поэтических образах художественная литература открывает и объясняет ребёнку жизнь общества и природы, мир человеческих чувств и взаимоотношений. Она делает эмоции более насыщенными, воспитывает воображение и даёт ребёнку прекрасные образцы русского языка: в рассказах дети узнают лаконичность и точность слова, в стихах улавливают музыкальность, напевность, образность русск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работе с детьми активно используются малые фольклорные жанры: приговорки издавна употребляются в воспитании как педагогические приемы, для того, чтобы эмоционально окрасить значимость того или иного момента жизни ребенка, пословицы и поговорки доступны пониманию ребенка старшего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68360" y="549000"/>
            <a:ext cx="6142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Обращенные к детям пословицы могут им внушить некоторые правила поведения. Сказки самый любимый детьми вид народного творчества. Народные сказки раскрывают меткость и выразительность русского слова, показывают, как богата родная речь юмором, живыми и образными выражениями, сравнениями. Сказки помогают формировать художественный вкус, воспитывать доброе отношение к миру 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_9ade3_8cb3241_XL"/>
          <p:cNvPicPr/>
          <p:nvPr/>
        </p:nvPicPr>
        <p:blipFill>
          <a:blip r:embed="rId1"/>
          <a:stretch/>
        </p:blipFill>
        <p:spPr>
          <a:xfrm>
            <a:off x="250920" y="3573360"/>
            <a:ext cx="29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При ознакомлении с произведениями словесности отчетливо выступает связь речевого и эстетического развития, язык усваивается в его эстетической функции. Владение языковыми изобразительно-выразительными средствами служит развитию художественного вкус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Воспитательная функция литературы осуществляется особым, присущим лишь искусству способом - силой воздействия художественного об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загруженное"/>
          <p:cNvPicPr/>
          <p:nvPr/>
        </p:nvPicPr>
        <p:blipFill>
          <a:blip r:embed="rId1"/>
          <a:stretch/>
        </p:blipFill>
        <p:spPr>
          <a:xfrm>
            <a:off x="2771640" y="270828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51280" y="1052640"/>
            <a:ext cx="489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аким образом, словесное искусство помогает детям излагать свое отношение к прослушанному, используя сравнения, метафоры, эпитеты и другие средства образной выраз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Tfd2z_oZ2g"/>
          <p:cNvPicPr/>
          <p:nvPr/>
        </p:nvPicPr>
        <p:blipFill>
          <a:blip r:embed="rId1"/>
          <a:stretch/>
        </p:blipFill>
        <p:spPr>
          <a:xfrm>
            <a:off x="755640" y="907920"/>
            <a:ext cx="2927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Метаф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 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Сонное озеро города (А. Бло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Переносное значение слова, основанное на сход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Олицетворение 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Дождь идёт. Природа радуе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Наделение неживых е предметов наделяют свойствами жив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Эпитет 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румяная заря», «золотые руки», «серебряный голос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 в лингвистической литературе трактуется неоднозначно. Обратимся к словарям. Толковый словарь С.И. Ожегова: «Словесность» - художественное литературное творчество и словесный фольклор. Изящная словесность (устарелое название художественной литерату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Толковый словарь русского языка» Д.Н. Ушакова словесность определяется так: Творчество, выражающееся в слове, как устном, так и письменном, словесное твор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Популярный словарь русского языка» дает такое определение: «Словесность - это художественная литература и устное народное творчество, а также совокупность литературных и фольклорных произведений какого-либо на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Термин «словесно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В современной литературной энциклопедии под словесностью понимается совокупность всех текстов, которые находятся в культурном обращении общества. Понятие словесность шире, чем литература, поскольку включает и устную словесность, в том числе фольклор, а также деловую, академическую и другие виды слове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Эти и другие словари в основном совпадают в формулировке данного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Таким образом, строгого различия между терминами словесность и литература нет, можно одинаково употреблять тот и другой. Разница в том, что литература относится к произведениям писанным, а словесность к устным. Устное творчество осуществляет народ: от поколения к поколению, из уст в уста переходят сказки, песни, былины, пословицы -- все то, что можно объединить под названием слове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«Литература» происходит от латинского слова litera, которое означает буква, письмо, написание, а отсюда следует, что литература - словесное творчество, запечатленное, закрепленное в письме. Таким образом, «словесность» или словесное искусство - это художественная литература и фолькл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黑体"/>
              </a:rPr>
              <a:t>Литератур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Литература - наиболее доступный и действенный в воспитательном отношении вид искусства. В литературном произведении слово выступает в тесном единстве его образной и понятийной сторон. Именно эта особенность словесного искусства расширяет возможности предмета литературы по сравнению с другими видами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С помощью художественного слова ребенок овладевает грамматикой родного языка в единстве с лексикой. Литература расширяет кругозор дошкольника, развивает его восприятие, мышление, память, воображение и творчество, является средством формирования личности ребенка, оказывая сильное морально-идейное воздействие, объединяет детский коллек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黑体"/>
              </a:rPr>
              <a:t>Искусство слова отражает действительность через художественные образы, показывает наиболее типичное, осмысливая и обобщая реальные жизненные факты. Это помогает ребенку познавать жизнь, формирует его отношение к окружающему. Художественные произведения, раскрывая внутренний мир героев, заставляют детей волноваться, переживать, как свои, радости и горести гер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/>
  <dc:description/>
  <cp:keywords/>
  <dc:language>en-US</dc:language>
  <cp:lastModifiedBy>samsung</cp:lastModifiedBy>
  <cp:lastPrinted>1899-12-30T00:00:00Z</cp:lastPrinted>
  <dcterms:modified xsi:type="dcterms:W3CDTF">2022-12-04T13:03:21Z</dcterms:modified>
  <cp:revision>12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