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47C9-C30E-490F-ADBF-21CBFAC91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BF9A-C59D-4C14-BCF5-5D2A88159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564A-C001-4A2C-84D7-AC7EF26B4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50EB-AD37-4DF2-90FF-0CE2289E0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3262-9FFD-4D04-9DE7-F5F134129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5F08-BC73-4DAB-B401-CA607E5BA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483-E748-441D-AEAA-B212DB4C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11C-6F3C-4E00-9908-1813A03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A72-CE4D-4FD7-A12B-D3D973B6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069-7D77-49D0-BC52-4682FAE0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935-29D5-4A31-810A-EB7089BA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2B6-667A-486A-B6DA-EA5A1520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AAA-3982-4584-A4BB-7E80B7CD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68B-2202-4618-8585-95D67B6C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BCD-D997-447E-856D-86F654D6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4A7-9915-42C5-9812-A2783EDC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D24-7CE2-42C2-897E-4D1ACD9F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E4C-2992-4AFA-A1B1-9CC2E3EC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0397-D0D0-4FE4-80A7-DCADAA665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hyperlink" Target="http://ru.wikipedia.org/wiki/&#1041;&#1072;&#1076;&#1077;&#1085;&#1074;&#1072;&#1081;&#1083;&#1077;&#1088;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ehov.niv.ru/images/family/chehov_ap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286000" y="8366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творчество      Антона Павло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Чех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(1860 – 1904 го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Светланка\Рабочий стол\чех.jpg"/>
          <p:cNvPicPr/>
          <p:nvPr/>
        </p:nvPicPr>
        <p:blipFill>
          <a:blip r:embed="rId1"/>
          <a:stretch/>
        </p:blipFill>
        <p:spPr>
          <a:xfrm>
            <a:off x="1233360" y="4149720"/>
            <a:ext cx="667728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1214280" y="6072120"/>
            <a:ext cx="67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Подготовила учитель МАОУ «Школа № 7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г.Ростова-на-Дону  Лапа Светлана Олег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835280" y="96840"/>
            <a:ext cx="5308560" cy="7081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4211640" y="1052640"/>
            <a:ext cx="3816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884 году Чехов окончил курс университета и начал работать уездным врачом в Чикинской больниц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воспоминаниям П. А. Архангельск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нтон Павлович производил работу не спеша, иногда в его действиях выражалась как бы неуверенность; но всё он делал с вниманием и видимой любовью к делу, особенно с любовью к тому больному, который проходил через его руки. Душевное состояние больного всегда привлекало особенное внимание Антона Павловича, и наряду с обычными медикаментами он придавал огромное значение воздействию на психику больного со стороны врача и окружающей ср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тем он работал в Звенигороде, где некоторое время заведовал больниц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9ф"/>
          <p:cNvPicPr/>
          <p:nvPr/>
        </p:nvPicPr>
        <p:blipFill>
          <a:blip r:embed="rId2"/>
          <a:stretch/>
        </p:blipFill>
        <p:spPr>
          <a:xfrm>
            <a:off x="1116000" y="981000"/>
            <a:ext cx="2523960" cy="25923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pic>
        <p:nvPicPr>
          <p:cNvPr id="100" name="Picture 6" descr="C:\Documents and Settings\Светланка\Рабочий стол\чех.jpeg"/>
          <p:cNvPicPr/>
          <p:nvPr/>
        </p:nvPicPr>
        <p:blipFill>
          <a:blip r:embed="rId3"/>
          <a:stretch/>
        </p:blipFill>
        <p:spPr>
          <a:xfrm>
            <a:off x="1042920" y="4005360"/>
            <a:ext cx="3097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3" descr=""/>
          <p:cNvPicPr/>
          <p:nvPr/>
        </p:nvPicPr>
        <p:blipFill>
          <a:blip r:embed="rId1"/>
          <a:stretch/>
        </p:blipFill>
        <p:spPr>
          <a:xfrm>
            <a:off x="2371680" y="85680"/>
            <a:ext cx="4181400" cy="63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3ф"/>
          <p:cNvPicPr/>
          <p:nvPr/>
        </p:nvPicPr>
        <p:blipFill>
          <a:blip r:embed="rId2"/>
          <a:stretch/>
        </p:blipFill>
        <p:spPr>
          <a:xfrm>
            <a:off x="826920" y="907920"/>
            <a:ext cx="2370240" cy="23781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03" name="Прямоугольник 7"/>
          <p:cNvSpPr/>
          <p:nvPr/>
        </p:nvSpPr>
        <p:spPr>
          <a:xfrm>
            <a:off x="3276720" y="83664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енью 1889 года А.П. Чехов начинает готовиться к поездке на Сахалин, куда его ведет огромное желание рассказать правду об этом месте «невыносимых страданий, на какие только бывает способен человек вольный и подневольны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900000" y="335772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</a:rPr>
              <a:t>А.П. Чехов перед отъездом на Сахал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3348000" y="2565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90 году Чехов отправляется в Сибирь, чтобы затем посетить остров Сахалин – место ссылки осужденных на каторгу. В июле он прибыл на Сахалин, где в течение трех месяцев вел работу исследователя, медика, социол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27ф"/>
          <p:cNvPicPr/>
          <p:nvPr/>
        </p:nvPicPr>
        <p:blipFill>
          <a:blip r:embed="rId3"/>
          <a:stretch/>
        </p:blipFill>
        <p:spPr>
          <a:xfrm>
            <a:off x="4356000" y="4292640"/>
            <a:ext cx="4105440" cy="21607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07" name="Прямоугольник 11"/>
          <p:cNvSpPr/>
          <p:nvPr/>
        </p:nvSpPr>
        <p:spPr>
          <a:xfrm>
            <a:off x="4572000" y="63817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Карта поездок А.П. Че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16ф"/>
          <p:cNvPicPr/>
          <p:nvPr/>
        </p:nvPicPr>
        <p:blipFill>
          <a:blip r:embed="rId4"/>
          <a:stretch/>
        </p:blipFill>
        <p:spPr>
          <a:xfrm>
            <a:off x="684360" y="4292640"/>
            <a:ext cx="3743280" cy="19987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09" name="Прямоугольник 14"/>
          <p:cNvSpPr/>
          <p:nvPr/>
        </p:nvSpPr>
        <p:spPr>
          <a:xfrm flipV="1" rot="10800000">
            <a:off x="539280" y="636480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</a:rPr>
              <a:t>Заковка в кандалы арестантов на Сахалине, 80-е г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ха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836640"/>
            <a:ext cx="770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уть через Сибирь занял несколько месяцев, за которые Чехов написал девять очерков, объединённых под общим названием «Из Сибир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 Сахалин Чехов прибыл [23 июля|11(23) июля]. За несколько месяцев пребывания на нём Чехов общался с людьми, узнавал истории их жизней, причины ссылки и набирал богатый материал для своих заметок. Он провёл настоящую перепись населения Сахалина, собрав несколько тысяч карточек о жителях острова. Администрация острова строго запретила общаться с политическими заключёнными, но он нарушал этот запр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4572000" y="2997360"/>
            <a:ext cx="3816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Светланка\Рабочий стол\lc2-447-.jpg"/>
          <p:cNvPicPr/>
          <p:nvPr/>
        </p:nvPicPr>
        <p:blipFill>
          <a:blip r:embed="rId1"/>
          <a:stretch/>
        </p:blipFill>
        <p:spPr>
          <a:xfrm>
            <a:off x="900000" y="4637160"/>
            <a:ext cx="3095640" cy="22208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4284720" y="2924280"/>
            <a:ext cx="4032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звращался Чехов осенью и зимой 1890-го, по Индийскому океану через Суэцкий канал, посетив по дороге остров Цейлон. 7(19) декабря родные встречали его в Ту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ледующие 5 лет Чехов писал книгу «Остров Сахалин». Что касается художественного творчества, путешествие на Сахалин, по собственному признанию Чехова, оказало огромное влияние на все его последующи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 2005 году на Сахалине впервые в России опубликованы в одном издании «Быть может, пригодятся и мои цифры…» материалы сахалинской переписи А. П. Чехова. В издании опубликованы все 10 тысяч опросных карт, заполненных респондентами Чехова во время его путешествия на остров Сахалин в 1890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Documents and Settings\Светланка\Рабочий стол\аче.jpeg"/>
          <p:cNvPicPr/>
          <p:nvPr/>
        </p:nvPicPr>
        <p:blipFill>
          <a:blip r:embed="rId2"/>
          <a:stretch/>
        </p:blipFill>
        <p:spPr>
          <a:xfrm>
            <a:off x="1908000" y="2924280"/>
            <a:ext cx="1440000" cy="165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лих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Documents and Settings\Светланка\Рабочий стол\081.jpg"/>
          <p:cNvPicPr/>
          <p:nvPr/>
        </p:nvPicPr>
        <p:blipFill>
          <a:blip r:embed="rId1"/>
          <a:stretch/>
        </p:blipFill>
        <p:spPr>
          <a:xfrm>
            <a:off x="755640" y="692280"/>
            <a:ext cx="352908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4356000" y="90792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92 году Чехов покупает имение в селе Мелихово Серпуховского уезда Московской губер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иховский период – это не только вдохновенный литературный труд Чехова и активная медицинская практика, это колоссальная общественная деятельность писа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Documents and Settings\Светланка\Рабочий стол\пр.jpeg"/>
          <p:cNvPicPr/>
          <p:nvPr/>
        </p:nvPicPr>
        <p:blipFill>
          <a:blip r:embed="rId2"/>
          <a:stretch/>
        </p:blipFill>
        <p:spPr>
          <a:xfrm>
            <a:off x="5411880" y="45813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Светланка\Рабочий стол\36.jpg"/>
          <p:cNvPicPr/>
          <p:nvPr/>
        </p:nvPicPr>
        <p:blipFill>
          <a:blip r:embed="rId3"/>
          <a:stretch/>
        </p:blipFill>
        <p:spPr>
          <a:xfrm>
            <a:off x="3348000" y="3429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Светланка\Рабочий стол\2455-1.jpg"/>
          <p:cNvPicPr/>
          <p:nvPr/>
        </p:nvPicPr>
        <p:blipFill>
          <a:blip r:embed="rId4"/>
          <a:stretch/>
        </p:blipFill>
        <p:spPr>
          <a:xfrm>
            <a:off x="611280" y="4572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лих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6" descr="20ф"/>
          <p:cNvPicPr/>
          <p:nvPr/>
        </p:nvPicPr>
        <p:blipFill>
          <a:blip r:embed="rId1"/>
          <a:stretch/>
        </p:blipFill>
        <p:spPr>
          <a:xfrm>
            <a:off x="1116000" y="981000"/>
            <a:ext cx="6985080" cy="320508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  <p:sp>
        <p:nvSpPr>
          <p:cNvPr id="124" name="Прямоугольник 4"/>
          <p:cNvSpPr/>
          <p:nvPr/>
        </p:nvSpPr>
        <p:spPr>
          <a:xfrm>
            <a:off x="1042920" y="43988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Школа, построенная Чеховым в Мелихове. 18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826920" y="4724280"/>
            <a:ext cx="7561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 время холерной эпидемии Чехов работал земским врачом, обслуживая 25 деревень. Он открыл на свои средства в Мелихове медицинский пункт, принимая множество больных и снабжая их лекарствами. В Мелихове и его окрестностях Чехов построил три школы для крестьянских детей, колокольню и пожарный сарай для крестьян, он участвовал в прокладке шоссейной дороги на Лопасню, ходатайствовал, чтобы на лопасненской железнодорожной станции стали останавливаться скорые поезда и там же добился открытия почты и телеграфа. Кроме того, Чехов организовал посадку тысячи вишневых деревьев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л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48.jpg"/>
          <p:cNvPicPr/>
          <p:nvPr/>
        </p:nvPicPr>
        <p:blipFill>
          <a:blip r:embed="rId1"/>
          <a:stretch/>
        </p:blipFill>
        <p:spPr>
          <a:xfrm>
            <a:off x="755640" y="4183200"/>
            <a:ext cx="3567240" cy="2674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971640" y="98100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97 году у Чехова резко обострился туберкулезный процесс, и он вынужден был лечь в больницу. По настоянию врачей осень и зиму 1897/1898 годов писатель жил в Ницце, потом в Париже. В мае 1898 года он возвращается на родину и едет в Мелихово, где живет до сентября, а затем едет в Ял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Светланка\Рабочий стол\че.jpeg"/>
          <p:cNvPicPr/>
          <p:nvPr/>
        </p:nvPicPr>
        <p:blipFill>
          <a:blip r:embed="rId2"/>
          <a:stretch/>
        </p:blipFill>
        <p:spPr>
          <a:xfrm>
            <a:off x="169236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Documents and Settings\Светланка\Рабочий стол\ч.jpeg"/>
          <p:cNvPicPr/>
          <p:nvPr/>
        </p:nvPicPr>
        <p:blipFill>
          <a:blip r:embed="rId3"/>
          <a:stretch/>
        </p:blipFill>
        <p:spPr>
          <a:xfrm>
            <a:off x="5724360" y="26370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7"/>
          <p:cNvSpPr/>
          <p:nvPr/>
        </p:nvSpPr>
        <p:spPr>
          <a:xfrm flipV="1" rot="10800000">
            <a:off x="4642920" y="4465440"/>
            <a:ext cx="374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Ялте он приобрел участок земли в двух километрах от набережной в деревне Аутка и начал строительство дома. Вскоре он продает имение в Мелихово и с матерью и сестрой окончательно перебирается на жительство в Ял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Светланка\Рабочий стол\го.jpeg"/>
          <p:cNvPicPr/>
          <p:nvPr/>
        </p:nvPicPr>
        <p:blipFill>
          <a:blip r:embed="rId1"/>
          <a:stretch/>
        </p:blipFill>
        <p:spPr>
          <a:xfrm>
            <a:off x="1042920" y="981000"/>
            <a:ext cx="2994120" cy="2087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900000" y="32446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.П.Чехов и А.М.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Documents and Settings\Светланка\Рабочий стол\то.jpeg"/>
          <p:cNvPicPr/>
          <p:nvPr/>
        </p:nvPicPr>
        <p:blipFill>
          <a:blip r:embed="rId2"/>
          <a:stretch/>
        </p:blipFill>
        <p:spPr>
          <a:xfrm>
            <a:off x="4932360" y="907920"/>
            <a:ext cx="280836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6"/>
          <p:cNvSpPr/>
          <p:nvPr/>
        </p:nvSpPr>
        <p:spPr>
          <a:xfrm>
            <a:off x="5076720" y="32446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.П.Чехов и  Л.Н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:\Documents and Settings\Светланка\Рабочий стол\3.jpeg"/>
          <p:cNvPicPr/>
          <p:nvPr/>
        </p:nvPicPr>
        <p:blipFill>
          <a:blip r:embed="rId3"/>
          <a:stretch/>
        </p:blipFill>
        <p:spPr>
          <a:xfrm>
            <a:off x="2916360" y="3645000"/>
            <a:ext cx="3095640" cy="244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8"/>
          <p:cNvSpPr/>
          <p:nvPr/>
        </p:nvSpPr>
        <p:spPr>
          <a:xfrm>
            <a:off x="2463840" y="61992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.П.Чехов и  Л.Н.Толстой А.М.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тон Чехов с женой Ольгой Книп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Светланка\Рабочий стол\ол.jpeg"/>
          <p:cNvPicPr/>
          <p:nvPr/>
        </p:nvPicPr>
        <p:blipFill>
          <a:blip r:embed="rId1"/>
          <a:stretch/>
        </p:blipFill>
        <p:spPr>
          <a:xfrm>
            <a:off x="4643280" y="1125360"/>
            <a:ext cx="3457800" cy="266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Светланка\Рабочий стол\ж.jpeg"/>
          <p:cNvPicPr/>
          <p:nvPr/>
        </p:nvPicPr>
        <p:blipFill>
          <a:blip r:embed="rId2"/>
          <a:stretch/>
        </p:blipFill>
        <p:spPr>
          <a:xfrm>
            <a:off x="971640" y="105264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Documents and Settings\Светланка\Рабочий стол\оль.jpeg"/>
          <p:cNvPicPr/>
          <p:nvPr/>
        </p:nvPicPr>
        <p:blipFill>
          <a:blip r:embed="rId3"/>
          <a:stretch/>
        </p:blipFill>
        <p:spPr>
          <a:xfrm>
            <a:off x="3492360" y="3860640"/>
            <a:ext cx="2448000" cy="201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Светланка\Рабочий стол\кн.jpeg"/>
          <p:cNvPicPr/>
          <p:nvPr/>
        </p:nvPicPr>
        <p:blipFill>
          <a:blip r:embed="rId4"/>
          <a:stretch/>
        </p:blipFill>
        <p:spPr>
          <a:xfrm>
            <a:off x="1116000" y="4076640"/>
            <a:ext cx="185904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Светланка\Рабочий стол\оля.jpeg"/>
          <p:cNvPicPr/>
          <p:nvPr/>
        </p:nvPicPr>
        <p:blipFill>
          <a:blip r:embed="rId5"/>
          <a:stretch/>
        </p:blipFill>
        <p:spPr>
          <a:xfrm>
            <a:off x="6443640" y="4005360"/>
            <a:ext cx="187344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22ф"/>
          <p:cNvPicPr/>
          <p:nvPr/>
        </p:nvPicPr>
        <p:blipFill>
          <a:blip r:embed="rId1"/>
          <a:stretch/>
        </p:blipFill>
        <p:spPr>
          <a:xfrm>
            <a:off x="1042920" y="981000"/>
            <a:ext cx="3413160" cy="446400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  <p:sp>
        <p:nvSpPr>
          <p:cNvPr id="146" name="Прямоугольник 7"/>
          <p:cNvSpPr/>
          <p:nvPr/>
        </p:nvSpPr>
        <p:spPr>
          <a:xfrm>
            <a:off x="971640" y="56912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А.П. Чехов по возвращении из кли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4716360" y="1125360"/>
            <a:ext cx="37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ной 1897 года у А.П. Чехова началось резкое обострение туберкулезного  процесса, давно подтачивавшего его здоровье. В больнице Чехова посетил Л.Н. Толстой: «В клинике был у меня Лев Николаевич, с которым вели мы преинтересный разговор… Говорили о бессмер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7"/>
          <p:cNvSpPr/>
          <p:nvPr/>
        </p:nvSpPr>
        <p:spPr>
          <a:xfrm>
            <a:off x="320364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РНД-Памятник_Чехову.jpg"/>
          <p:cNvPicPr/>
          <p:nvPr/>
        </p:nvPicPr>
        <p:blipFill>
          <a:blip r:embed="rId1"/>
          <a:stretch/>
        </p:blipFill>
        <p:spPr>
          <a:xfrm>
            <a:off x="1042920" y="1052640"/>
            <a:ext cx="3457800" cy="4897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9"/>
          <p:cNvSpPr/>
          <p:nvPr/>
        </p:nvSpPr>
        <p:spPr>
          <a:xfrm>
            <a:off x="4356000" y="981000"/>
            <a:ext cx="40323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й в мире памятник Антону Чехову был установлен в 1908 год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городе Баденвейлер, где писатель ум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менем А. П. Чехова в 1954 году (50 лет со дня смерти) назван город в Московской области — г. Че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честь Чехова назван астероид в главном астероидном поя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честь Чехова назван кратер на Мерку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амять о писателе Московской городской и Московской областной организациями Союза Писателей России и Союзом писателей-переводчиков в 2004 году учреждена Памятная медаль А. П. Чех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hekhov_Birthhouse"/>
          <p:cNvPicPr/>
          <p:nvPr/>
        </p:nvPicPr>
        <p:blipFill>
          <a:blip r:embed="rId1"/>
          <a:stretch/>
        </p:blipFill>
        <p:spPr>
          <a:xfrm>
            <a:off x="1116000" y="2844720"/>
            <a:ext cx="6956280" cy="401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Светланка\Рабочий стол\мать.jpeg"/>
          <p:cNvPicPr/>
          <p:nvPr/>
        </p:nvPicPr>
        <p:blipFill>
          <a:blip r:embed="rId2"/>
          <a:stretch/>
        </p:blipFill>
        <p:spPr>
          <a:xfrm>
            <a:off x="826920" y="0"/>
            <a:ext cx="1773360" cy="225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Светланка\Рабочий стол\от.jpeg"/>
          <p:cNvPicPr/>
          <p:nvPr/>
        </p:nvPicPr>
        <p:blipFill>
          <a:blip r:embed="rId3"/>
          <a:stretch/>
        </p:blipFill>
        <p:spPr>
          <a:xfrm>
            <a:off x="6804000" y="0"/>
            <a:ext cx="1800360" cy="2232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826920" y="2276640"/>
            <a:ext cx="2305080" cy="581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Евгения Яковлевна Чехова, мать писателя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6227640" y="2276640"/>
            <a:ext cx="2521080" cy="580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вел Егорович Чехов, отец писат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:\Documents and Settings\Светланка\Рабочий стол\де.jpeg"/>
          <p:cNvPicPr/>
          <p:nvPr/>
        </p:nvPicPr>
        <p:blipFill>
          <a:blip r:embed="rId4"/>
          <a:stretch/>
        </p:blipFill>
        <p:spPr>
          <a:xfrm>
            <a:off x="3780000" y="692280"/>
            <a:ext cx="2087280" cy="2160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0"/>
          <p:cNvSpPr/>
          <p:nvPr/>
        </p:nvSpPr>
        <p:spPr>
          <a:xfrm>
            <a:off x="3135240" y="189000"/>
            <a:ext cx="29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н Ч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upload.wikimedia.org/wikipedia/commons/thumb/2/23/BW42_Tschechoff_Denkmal.jpg/220px-BW42_Tschechoff_Denkmal.jpg"/>
          <p:cNvPicPr/>
          <p:nvPr/>
        </p:nvPicPr>
        <p:blipFill>
          <a:blip r:embed="rId1"/>
          <a:stretch/>
        </p:blipFill>
        <p:spPr>
          <a:xfrm>
            <a:off x="1042920" y="981000"/>
            <a:ext cx="2786040" cy="31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Светланка\Рабочий стол\foto-73D091653D7744FDB484B1338F86892F.jpg"/>
          <p:cNvPicPr/>
          <p:nvPr/>
        </p:nvPicPr>
        <p:blipFill>
          <a:blip r:embed="rId2"/>
          <a:stretch/>
        </p:blipFill>
        <p:spPr>
          <a:xfrm>
            <a:off x="4140360" y="1125360"/>
            <a:ext cx="4051080" cy="55832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187280" y="4221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амятник Чехову 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Баденвайл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385128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Calibri"/>
              </a:rPr>
              <a:t>Россия, весь прогрессивный мир помнят, читают, любят</a:t>
            </a:r>
            <a:br>
              <a:rPr sz="2000"/>
            </a:br>
            <a:r>
              <a:rPr b="1" lang="ru-RU" sz="2000" spc="-1" strike="noStrike">
                <a:solidFill>
                  <a:srgbClr val="802002"/>
                </a:solidFill>
                <a:latin typeface="Calibri"/>
              </a:rPr>
              <a:t>Антона Павловича  Чехо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35ф"/>
          <p:cNvPicPr/>
          <p:nvPr/>
        </p:nvPicPr>
        <p:blipFill>
          <a:blip r:embed="rId1"/>
          <a:stretch/>
        </p:blipFill>
        <p:spPr>
          <a:xfrm>
            <a:off x="762120" y="2708280"/>
            <a:ext cx="7619760" cy="414972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  <p:pic>
        <p:nvPicPr>
          <p:cNvPr id="157" name="Picture 2" descr="C:\Documents and Settings\Светланка\Рабочий стол\мо.jpeg"/>
          <p:cNvPicPr/>
          <p:nvPr/>
        </p:nvPicPr>
        <p:blipFill>
          <a:blip r:embed="rId2"/>
          <a:stretch/>
        </p:blipFill>
        <p:spPr>
          <a:xfrm>
            <a:off x="1187280" y="981000"/>
            <a:ext cx="1297080" cy="15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Светланка\Рабочий стол\б.jpeg"/>
          <p:cNvPicPr/>
          <p:nvPr/>
        </p:nvPicPr>
        <p:blipFill>
          <a:blip r:embed="rId3"/>
          <a:stretch/>
        </p:blipFill>
        <p:spPr>
          <a:xfrm>
            <a:off x="4788000" y="981000"/>
            <a:ext cx="12967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Documents and Settings\Светланка\Рабочий стол\ю.jpeg"/>
          <p:cNvPicPr/>
          <p:nvPr/>
        </p:nvPicPr>
        <p:blipFill>
          <a:blip r:embed="rId4"/>
          <a:stretch/>
        </p:blipFill>
        <p:spPr>
          <a:xfrm>
            <a:off x="3059280" y="981000"/>
            <a:ext cx="1296720" cy="15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Documents and Settings\Светланка\Рабочий стол\по.jpeg"/>
          <p:cNvPicPr/>
          <p:nvPr/>
        </p:nvPicPr>
        <p:blipFill>
          <a:blip r:embed="rId5"/>
          <a:stretch/>
        </p:blipFill>
        <p:spPr>
          <a:xfrm>
            <a:off x="6659640" y="981000"/>
            <a:ext cx="1297080" cy="1573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итературное наследие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.П.Чех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5280" y="1052280"/>
            <a:ext cx="7931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93 произведения, 200 экр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ервая его публикация состоялась 9 марта 1880 года в петербургском еженедельнике «Стрекоза». Это было «Письмо донского помещика Степана Владимировича N. к ученому соседу д-ру Фридрих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1880 и 1881 годах Чехов опубликовал в «малой прессе» по двенадцать произведений; начиная с 1882 года у него бывало более ста публикаций за г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1888 году Чехов написал повесть «Степь (История одной поездки)» – рубежное произведение, отделившее раннее творчество Антоши Чехонте от прозы Антона Павловича Чехо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середине девяностых годов Чехов достигает вершин художественного мастерства в области драматург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«Чай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«Три сестры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«Дядя Ван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«Вишневый са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7" descr="А.П. Чехов. 1898. Художник И. Браз"/>
          <p:cNvPicPr/>
          <p:nvPr/>
        </p:nvPicPr>
        <p:blipFill>
          <a:blip r:embed="rId1"/>
          <a:stretch/>
        </p:blipFill>
        <p:spPr>
          <a:xfrm>
            <a:off x="1476360" y="4869000"/>
            <a:ext cx="1582920" cy="198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Светланка\Рабочий стол\у.jpeg"/>
          <p:cNvPicPr/>
          <p:nvPr/>
        </p:nvPicPr>
        <p:blipFill>
          <a:blip r:embed="rId2"/>
          <a:stretch/>
        </p:blipFill>
        <p:spPr>
          <a:xfrm>
            <a:off x="5508720" y="4991040"/>
            <a:ext cx="2867040" cy="186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7280" y="3573360"/>
            <a:ext cx="7056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емья жила трудно. Дети помогали отцу в лавочке, пели в церковном хоре. Нрав отца был тяжелым, но он любил искусство, старался дать детям хорошее образование. Лаской и нежностью смягчала жизнь детей мать – Евгения Яковлевна. Позже Антон Павлович скажет: </a:t>
            </a:r>
            <a:r>
              <a:rPr b="1" i="1" lang="ru-RU" sz="2400" spc="-1" strike="noStrike">
                <a:solidFill>
                  <a:srgbClr val="eeece1"/>
                </a:solidFill>
                <a:latin typeface="Calibri"/>
              </a:rPr>
              <a:t>«Талант у нас со стороны отца, а душа со стороны матер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Documents and Settings\Светланка\Рабочий стол\са.jpeg"/>
          <p:cNvPicPr/>
          <p:nvPr/>
        </p:nvPicPr>
        <p:blipFill>
          <a:blip r:embed="rId1"/>
          <a:stretch/>
        </p:blipFill>
        <p:spPr>
          <a:xfrm>
            <a:off x="2916360" y="907920"/>
            <a:ext cx="3240000" cy="2376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3419640" y="1159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chehova_eya.jpg"/>
          <p:cNvPicPr/>
          <p:nvPr/>
        </p:nvPicPr>
        <p:blipFill>
          <a:blip r:embed="rId1"/>
          <a:stretch/>
        </p:blipFill>
        <p:spPr>
          <a:xfrm>
            <a:off x="971640" y="981000"/>
            <a:ext cx="2378160" cy="30178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348000" y="112536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Мать – Евгения Яковлевна,</a:t>
            </a:r>
            <a:r>
              <a:rPr b="0" lang="en-US" sz="1800" spc="-1" strike="noStrike">
                <a:solidFill>
                  <a:srgbClr val="eeece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прекрасная хозяйка, очень заботливая и любящая, жила исключительно жизнью детей и мужа. Но, при этом, страстно любила театр, хотя и посещала его нечасто. В ранней молодости она была отдана в таганрогский частный пансион благородных девиц, где обучалась манерам, танцам и хорошим манер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116000" y="4076640"/>
            <a:ext cx="388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Евгения Яковлевна оказывала огромное влияние на формирование характеров своих детей, воспитывая в них отзывчивость, уважение и сострадание к слабым, угнетённым, любовь к природе и ми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Documents and Settings\Светланка\Рабочий стол\ро.jpeg"/>
          <p:cNvPicPr/>
          <p:nvPr/>
        </p:nvPicPr>
        <p:blipFill>
          <a:blip r:embed="rId2"/>
          <a:stretch/>
        </p:blipFill>
        <p:spPr>
          <a:xfrm>
            <a:off x="4932360" y="3753000"/>
            <a:ext cx="3408480" cy="255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635280" y="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Александр Павлович Чехов. Фотография 188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836640"/>
            <a:ext cx="1374840" cy="1800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556000" y="76500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рший брат Александр Чехо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1855 - 1913 г.г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ератор. Еще будучи студентом, начал сотрудничать в журналах и газетах под псевдонимами "Агафопод Единицын", "Алоэ", а поз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.Седой". Руководил первыми литературными опытами А.П.Че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сканирование0050.jpg"/>
          <p:cNvPicPr/>
          <p:nvPr/>
        </p:nvPicPr>
        <p:blipFill>
          <a:blip r:embed="rId3"/>
          <a:stretch/>
        </p:blipFill>
        <p:spPr>
          <a:xfrm>
            <a:off x="1403280" y="2637000"/>
            <a:ext cx="1800360" cy="1944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3780000" y="249228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колай Павлович Чехов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58 — 1889 г.г.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,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3851280" y="278136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ливый худож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нних студенческих лет выступал в журналах как рисовальщик и карикатурист. Иллюстрировал ряд произведений Чех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4"/>
          <a:stretch/>
        </p:blipFill>
        <p:spPr>
          <a:xfrm>
            <a:off x="1908000" y="4581360"/>
            <a:ext cx="1656000" cy="2060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9"/>
          <p:cNvSpPr/>
          <p:nvPr/>
        </p:nvSpPr>
        <p:spPr>
          <a:xfrm>
            <a:off x="4356000" y="4581360"/>
            <a:ext cx="388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хов Иван Павлович (1861 — 1922 г.г.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3564000" y="508464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. В 1884 г. перевелся в Москву. Здесь он заведовал рядом народных школ, в которых учительствовал. «Он получил много наград, и грудь его подобна иконостасу»,— писал А. П. Чех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Чехов Михаил Павлович"/>
          <p:cNvPicPr/>
          <p:nvPr/>
        </p:nvPicPr>
        <p:blipFill>
          <a:blip r:embed="rId1"/>
          <a:stretch/>
        </p:blipFill>
        <p:spPr>
          <a:xfrm>
            <a:off x="1042920" y="907920"/>
            <a:ext cx="2521080" cy="3024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378000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хов Михаил Павлович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8 - 1936 г.г.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3492360" y="836640"/>
            <a:ext cx="48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ладший брат А.П.Чехова, пис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 человеком разнообразно одаренным, хорошо играл на фортепьяно, рисовал. С начала 1900-х г. полностью посвятил себя литературе. Писал повести, рассказы, стихи, пьесы, театральные рецензии; переводил, занимался редакторской деятельностью. Автор мемуаров, в том числе книги "О Чехове", которая по праву считается чеховской энциклопед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сканирование0051.jpg"/>
          <p:cNvPicPr/>
          <p:nvPr/>
        </p:nvPicPr>
        <p:blipFill>
          <a:blip r:embed="rId2"/>
          <a:stretch/>
        </p:blipFill>
        <p:spPr>
          <a:xfrm>
            <a:off x="5940360" y="3645000"/>
            <a:ext cx="237672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900000" y="4076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ия Павловна Че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3 — 1957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 flipV="1" rot="10800000">
            <a:off x="843120" y="4817880"/>
            <a:ext cx="50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ра А.П.Чехова, педагог, художница. После смерти А.П.Чехова посвятила себя сбору и изданию литературного и эпистолярного наследия брата. С 1922 г. была бессменным директором созданного ею Ялтинского дома-музея А.П.Чех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1159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мназия. Годы уче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5ф"/>
          <p:cNvPicPr/>
          <p:nvPr/>
        </p:nvPicPr>
        <p:blipFill>
          <a:blip r:embed="rId1"/>
          <a:stretch/>
        </p:blipFill>
        <p:spPr>
          <a:xfrm>
            <a:off x="1116000" y="907920"/>
            <a:ext cx="2158920" cy="27813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82" name="Прямоугольник 5"/>
          <p:cNvSpPr/>
          <p:nvPr/>
        </p:nvSpPr>
        <p:spPr>
          <a:xfrm>
            <a:off x="3419640" y="7650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Светланка\Рабочий стол\ги.jpeg"/>
          <p:cNvPicPr/>
          <p:nvPr/>
        </p:nvPicPr>
        <p:blipFill>
          <a:blip r:embed="rId2"/>
          <a:stretch/>
        </p:blipFill>
        <p:spPr>
          <a:xfrm>
            <a:off x="755640" y="5064120"/>
            <a:ext cx="3240000" cy="179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Светланка\Рабочий стол\н.jpeg"/>
          <p:cNvPicPr/>
          <p:nvPr/>
        </p:nvPicPr>
        <p:blipFill>
          <a:blip r:embed="rId3"/>
          <a:stretch/>
        </p:blipFill>
        <p:spPr>
          <a:xfrm>
            <a:off x="6372360" y="5429160"/>
            <a:ext cx="2133360" cy="14288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9"/>
          <p:cNvSpPr/>
          <p:nvPr/>
        </p:nvSpPr>
        <p:spPr>
          <a:xfrm>
            <a:off x="3419640" y="981000"/>
            <a:ext cx="5040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ачала Чехов учился в греческой школе в Таганроге. Содержащий школу грек заставлял зазубривать уроки, бил учеников линейкой, ставил в угол на колени на крупную соль. В 8 лет, после двух лет учёбы, Чехов поступает в таганрогскую гимназию (нын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имназия № 2 им. А. П. Чехова). Мужская классическая гимназия была старейшим учебным заведением на юге России (основана в 1806 г.) и давала солидное по тем временам образование и воспитание. Окончившие восемь классов гимназии молодые люди могли без экзаменов поступить в любой российский университет или поехать учиться за границу. Гимназия сформировала у Чехова отвращение к лицемерию и фальши. Здесь формировалось его видение мира, любовь к книгам, знаниям и театру. Здесь он получил свой первый литературный псевдоним «Чехонте», которым его наградил учитель Закона Божьего Фёдор Покровский. Здесь начинались его первые литературные и сценические опы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71640" y="5445000"/>
            <a:ext cx="72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1878 году семья Чеховых перебралась в Москву. Антон остался в Таганроге один заканчивать гимназию. На жизнь он зарабатывает случайными уроками. Это были годы неотступной бед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3ф"/>
          <p:cNvPicPr/>
          <p:nvPr/>
        </p:nvPicPr>
        <p:blipFill>
          <a:blip r:embed="rId1"/>
          <a:stretch/>
        </p:blipFill>
        <p:spPr>
          <a:xfrm>
            <a:off x="6300720" y="1484280"/>
            <a:ext cx="2206800" cy="25639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88" name="Прямоугольник 7"/>
          <p:cNvSpPr/>
          <p:nvPr/>
        </p:nvSpPr>
        <p:spPr>
          <a:xfrm>
            <a:off x="1116000" y="1341360"/>
            <a:ext cx="511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е литературные опыты Чехова относятся к гимназическим годам. Он писал водевили, сцены, очерки, анекдоты, некоторые из которых посылал в редакции столичных юмористических журналов. После поступления в университет литературный труд стал для Чехова основным источником заработка. Он регулярно публиковал свои юмористические рассказы на страницах массовых иллюстрированных журналов под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севдонимами Антоша Чехонте, Человек без селезенки, Брат моего брата и др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всего известно более 50 псевдонимов Чех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6012000" y="4292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А.П. Чехов в год окончания 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47640" y="981000"/>
            <a:ext cx="5111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Москву приезжает только в 1879 году для того, чтобы сразу поступить на медицинский факультет Московского университета, где слушал лекции знаменитых профессоров - Н. Склифосовского, Г. Захарьина и других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206513491.jpg"/>
          <p:cNvPicPr/>
          <p:nvPr/>
        </p:nvPicPr>
        <p:blipFill>
          <a:blip r:embed="rId1"/>
          <a:stretch/>
        </p:blipFill>
        <p:spPr>
          <a:xfrm>
            <a:off x="1116000" y="981000"/>
            <a:ext cx="208764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8ф"/>
          <p:cNvPicPr/>
          <p:nvPr/>
        </p:nvPicPr>
        <p:blipFill>
          <a:blip r:embed="rId2"/>
          <a:stretch/>
        </p:blipFill>
        <p:spPr>
          <a:xfrm>
            <a:off x="5076720" y="4695840"/>
            <a:ext cx="3456000" cy="21621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94" name="Прямоугольник 6"/>
          <p:cNvSpPr/>
          <p:nvPr/>
        </p:nvSpPr>
        <p:spPr>
          <a:xfrm>
            <a:off x="5076720" y="36450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Университетская клиника, где Чехов проходил студенческую прак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900000" y="4149720"/>
            <a:ext cx="38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 сомневаюсь, - писал Чехов, - занятия медицинскими науками имели серьезное влияние на мою литературную деятельность; они значительно раздвинули область моих наблюдений, обогатили меня знаниям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08:14:31Z</dcterms:created>
  <dc:creator>Zver</dc:creator>
  <dc:description/>
  <dc:language>en-US</dc:language>
  <cp:lastModifiedBy>Пользователь</cp:lastModifiedBy>
  <dcterms:modified xsi:type="dcterms:W3CDTF">2022-12-05T15:27:49Z</dcterms:modified>
  <cp:revision>49</cp:revision>
  <dc:subject/>
  <dc:title>А.П.Чехов "Вишневый сад"</dc:title>
</cp:coreProperties>
</file>