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4B1-829E-4401-96D7-70E9643B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5BD-B61A-40B8-8570-1AD7CC52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F17-098B-4A43-83FA-198F9723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244-83A6-4B6D-B6FA-3DE96566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B54-63EA-4408-82FD-D0B5FBF5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3D0-AB93-4B9C-B533-4D456C07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CC54-FEC4-432A-A864-30C727DC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F4C-BDAD-4CD7-B966-FABCFC9A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26E-E989-496F-8CF4-ADB6C06D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706-3BE6-493A-87C9-C2F43CC3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46C-1CB9-4F76-BF37-C14FFCEB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FB0-3BC6-4BF7-9500-44A1FF12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t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t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4E21-19B1-4500-8911-A8B901CEE0FE}" type="slidenum">
              <a:rPr b="0" lang="tt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үген укымыйм, иртәгә укый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тә. Телевизор карый. Уй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үген укымыйм, иртәгә укый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үңел салмы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ы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ы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йл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га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ач, талга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өтеп а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кк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әмам ары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ераздирающ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жет, не бер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е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ет жда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ходи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оди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ляетс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стью уста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росите у друга: ( 28№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2280" y="1554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гда он встает ут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лает ли он заряд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 сколько часов начинаются уроки в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 сколько часов кончаются уроки в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 сколько часов он ложится сп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найте у друга: ( 29№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сть ли у него дома рабочее мес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у него есть на рабочем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какое время он начинает готовить домашние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предметы он готовит сначала, какие-по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уроки ему нравя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жите другу о том, что: (29№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до всегда делать ур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льзя забывать дневн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машние задания надо записывать в днев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25T11:16:07Z</dcterms:created>
  <dc:creator>Teacher</dc:creator>
  <dc:description/>
  <dc:language>en-US</dc:language>
  <cp:lastModifiedBy>Teacher</cp:lastModifiedBy>
  <dcterms:modified xsi:type="dcterms:W3CDTF">2022-11-10T09:52:46Z</dcterms:modified>
  <cp:revision>5</cp:revision>
  <dc:subject/>
  <dc:title>Презентация PowerPoint</dc:title>
</cp:coreProperties>
</file>