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6D8-9BDD-4B94-969C-3F9A2A09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8A8-5961-4D7B-B21E-F48955E7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E4E-0EA2-447D-9445-A54B2297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A9F-81A0-4BF1-8690-A51F3980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32DB-8969-4FB9-89A7-16C375FC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385-2C4B-4260-B3AB-1FB82261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4AD-38FA-4CD0-B6F0-359C8303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989-866D-40A7-A879-1C74B25C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40D-8045-4DA5-8EED-01BA2A03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253F-2B84-4B23-AE2F-382E6D6E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4E5-B3F5-4B67-99E0-41D05FE2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7C9-7D12-442F-9DB3-2DBDB2E4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t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t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57B0-3C63-4414-9201-E9235A7D0DDB}" type="slidenum">
              <a:rPr b="0" lang="tt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үген укымыйм, иртәгә укый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тә. Телевизор карый. Уй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үген укымыйм, иртәгә укый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үңел салмы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ы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ы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йл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га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ач, талга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өтеп а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кк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әмам ары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ераздирающ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жет, не бер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е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ет жда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ходи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оди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ляетс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стью уста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росите у друга: ( 28№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2280" y="1554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гда он встает ут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лает ли он заряд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 сколько часов начинаются уроки в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 сколько часов кончаются уроки в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 сколько часов он ложится сп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найте у друга: ( 29№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сть ли у него дома рабочее мес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у него есть на рабочем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какое время он начинает готовить домашние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предметы он готовит сначала, какие-по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уроки ему нравя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жите другу о том, что: (29№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до всегда делать ур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льзя забывать дневн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машние задания надо записывать в днев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25T11:16:07Z</dcterms:created>
  <dc:creator>Teacher</dc:creator>
  <dc:description/>
  <dc:language>en-US</dc:language>
  <cp:lastModifiedBy>Teacher</cp:lastModifiedBy>
  <dcterms:modified xsi:type="dcterms:W3CDTF">2022-11-10T09:52:46Z</dcterms:modified>
  <cp:revision>5</cp:revision>
  <dc:subject/>
  <dc:title>Презентация PowerPoint</dc:title>
</cp:coreProperties>
</file>