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AEB-F6AB-4ADA-B692-61B26642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423-DF62-411F-B162-6FFFAE7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246-74DF-4785-A21B-05650507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B9A-807E-430E-AD77-BE9B64AB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933-424E-48F7-B73E-2DE2B0F6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2C6C-08EF-4AE2-ACDE-F9D9436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C5E-6A57-4DF2-8FF6-3821959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E43-8EA8-420C-A36B-F694D6B1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BE22-8582-47A6-99BC-50426C7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8643-8C6A-4D81-9E16-6515002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E0C-88E6-4F96-8365-E0C6CFB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1E0-1626-4E52-8B2E-4C2A278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1562-5361-4AFD-B65B-269A19F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493-E7DA-4670-AC37-F27D3FB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B210-A381-482A-B557-5E53712E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DB77-A559-401E-BA3E-AA924FB4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9665-BB56-45C3-97FA-FD277F91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A43-C29F-4A87-B63A-653FB18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791-C286-4B78-ADC6-5B0E7A41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65A-5851-4D69-8D3C-61326D7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00F-6027-4E34-B29A-0523CD3D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904-BACA-4EEC-8B14-F2F16CF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F90-394A-49A1-85CD-5C98202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503-F44E-4502-B746-2B81C29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BF33-778D-4301-BB56-690C3922D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922-C598-4584-BE73-FEED29619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Хлеб – всему голо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389240"/>
            <a:ext cx="583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05732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800280"/>
            <a:ext cx="5400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62532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0501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63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76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1738440"/>
            <a:ext cx="504036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51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460520"/>
            <a:ext cx="583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035000"/>
            <a:ext cx="6480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619280"/>
            <a:ext cx="54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054080"/>
            <a:ext cx="5688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79640" y="1166760"/>
            <a:ext cx="5329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64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84360" y="1744560"/>
            <a:ext cx="4751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433520"/>
            <a:ext cx="6193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343320" cy="2210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200" y="357300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неработающие (служащие, иждивенцы, дети) 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125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хлеба в су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672000" cy="272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51640" y="404640"/>
            <a:ext cx="2313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20779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3360" y="641520"/>
            <a:ext cx="80960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3360" y="641520"/>
            <a:ext cx="80960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1333440"/>
            <a:ext cx="56883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185840"/>
            <a:ext cx="6048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473120"/>
            <a:ext cx="4608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689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1:43:26Z</dcterms:created>
  <dc:creator>Admin</dc:creator>
  <dc:description/>
  <dc:language>en-US</dc:language>
  <cp:lastModifiedBy>Данила</cp:lastModifiedBy>
  <dcterms:modified xsi:type="dcterms:W3CDTF">2022-12-04T15:37:15Z</dcterms:modified>
  <cp:revision>3</cp:revision>
  <dc:subject/>
  <dc:title>Хлеб – всему голова</dc:title>
</cp:coreProperties>
</file>