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6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451-1917-4299-B8D3-02DD7F04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655-D902-4C66-906C-3C678901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66E-76F1-4967-8C2D-DB1D93A5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841-F58C-4626-B335-FF1D9861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414B-911D-4874-BFAB-2D3EBFFC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3C12-DE12-41CE-9A00-78FA3D6E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275C-F4D4-4494-BFA4-A2590252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5C38-4048-4CCA-AC37-13DED8AB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65DD-2587-4529-988B-F1AB8310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8E6A-AFF4-46C5-A8D9-024A3CF1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E233-01BA-409D-A336-3A802E9F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0AE-3E81-4896-AB9B-F5261E6D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6B26-FAB3-48F9-BCDF-00F88CA4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F885-440A-4B76-8B7A-88BDBAD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0423-8D0C-475B-B24D-8414B7AE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2058-8BB8-4508-BF5C-CA54DB08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1E1D-D9AF-4B08-A15A-C53B8CB7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156-3ECD-4F9E-AC20-3263047D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E0C-9F02-4D4F-AFB9-A4C4FE69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D20-9906-4373-A877-69BC43B4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5A9-BC63-4DB6-80E7-796CC5EE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E70-5ECA-4493-B1BD-6F20DB4E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820-FC0F-4AD3-9EB0-BF79856B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FF2-A723-48A4-A8FB-187FE153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F696-6869-4DAF-85AF-57EEB4461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9615-29AD-4A6D-BD9A-281B010A1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Хлеб – всему голо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79640" y="1389240"/>
            <a:ext cx="583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057320"/>
            <a:ext cx="52578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800280"/>
            <a:ext cx="54007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4896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625320"/>
            <a:ext cx="68421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4087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60501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2563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3376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84360" y="1738440"/>
            <a:ext cx="504036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251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9280" y="1460520"/>
            <a:ext cx="583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1035000"/>
            <a:ext cx="64803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79640" y="1619280"/>
            <a:ext cx="5400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1054080"/>
            <a:ext cx="5688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79640" y="1166760"/>
            <a:ext cx="53290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1643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84360" y="1744560"/>
            <a:ext cx="47516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433520"/>
            <a:ext cx="61930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343320" cy="2210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6200" y="3573000"/>
            <a:ext cx="57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неработающие (служащие, иждивенцы, дети) 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125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хлеба в су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3672000" cy="2721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651640" y="404640"/>
            <a:ext cx="2313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207792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3360" y="641520"/>
            <a:ext cx="80960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3360" y="641520"/>
            <a:ext cx="80960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912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8000" y="1333440"/>
            <a:ext cx="568836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185840"/>
            <a:ext cx="604836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1473120"/>
            <a:ext cx="4608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689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1:43:26Z</dcterms:created>
  <dc:creator>Admin</dc:creator>
  <dc:description/>
  <dc:language>en-US</dc:language>
  <cp:lastModifiedBy>Данила</cp:lastModifiedBy>
  <dcterms:modified xsi:type="dcterms:W3CDTF">2022-12-04T15:37:15Z</dcterms:modified>
  <cp:revision>3</cp:revision>
  <dc:subject/>
  <dc:title>Хлеб – всему голова</dc:title>
</cp:coreProperties>
</file>