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BAD4-6BF1-41DC-BBD1-270996BA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9C1-DB73-43B4-A074-309277E1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C81-1B25-43E8-8BA2-6021371B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0D0-9D9E-47FB-A1A7-E5F7DB52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86B-06A4-4E72-AD62-69EA2EB1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506-3164-42A7-8601-26623A16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AC9A-D26D-43AF-ADD2-5266D6B7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E78-D36A-40A3-9E6A-1EBF06EB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DBF8-A82C-4AF0-8A39-D375FF76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0D3B-EB88-486D-A463-0022B37C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E00-023F-4F0B-AE8B-C23412F6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AE1-FA5F-4A1F-A952-0DDE4F5B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7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ACA5-62F1-46D1-8A7F-15A93D2531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628640"/>
            <a:ext cx="42498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Определение кону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4797000"/>
            <a:ext cx="403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686480" y="0"/>
            <a:ext cx="445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Сечения кону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Если через вершину конуса провести плоскость, пересекающую основание, то в сечении получится равнобедренный треуголь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152960" y="1268280"/>
            <a:ext cx="49910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78920" y="1197000"/>
            <a:ext cx="3971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ечение конуса, проходящее через ось, называется </a:t>
            </a: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осевым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 В основании осевого сечения лежит диаметр – максимальная хорда, поэтому угол при вершине осевого сечения – это максимальный угол между образующими конуса. (</a:t>
            </a: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Угол при вершине конус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23640" y="25992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Сечения кону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4211640" y="0"/>
            <a:ext cx="4946760" cy="50846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6"/>
              <p:cNvSpPr txBox="1"/>
              <p:nvPr/>
            </p:nvSpPr>
            <p:spPr>
              <a:xfrm>
                <a:off x="4356000" y="4869000"/>
                <a:ext cx="424836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K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осевое</m:t>
                    </m:r>
                    <m:r>
                      <m:rPr>
                        <m:lit/>
                        <m:nor/>
                      </m:rPr>
                      <m:t xml:space="preserve">сечени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4643280" y="5300640"/>
                <a:ext cx="34578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L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диамет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Rectangle 1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4299120" y="5735520"/>
                <a:ext cx="3787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KSL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угол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ершине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конус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" name="Line 12"/>
          <p:cNvSpPr/>
          <p:nvPr/>
        </p:nvSpPr>
        <p:spPr>
          <a:xfrm>
            <a:off x="4500720" y="5300640"/>
            <a:ext cx="3817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368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дите площадь осевого сечения, если известны радиус основания конуса и образующ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"/>
          <p:cNvSpPr/>
          <p:nvPr/>
        </p:nvSpPr>
        <p:spPr>
          <a:xfrm>
            <a:off x="1187280" y="549360"/>
            <a:ext cx="1132200" cy="1058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4448160" y="0"/>
            <a:ext cx="45864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8172360" y="765000"/>
            <a:ext cx="75564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юбое сечение конуса плоскостью, параллельной основанию, - это </a:t>
            </a: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24000" y="260280"/>
            <a:ext cx="399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Сечения кону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50529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3610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Через середину высоты конуса провели плоскость, перпендикулярную оси, и получили круг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 5. Чему равна площадь основания кону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>
            <a:off x="1187280" y="549360"/>
            <a:ext cx="1132200" cy="1058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4160880" y="0"/>
            <a:ext cx="49831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9"/>
          <p:cNvSpPr/>
          <p:nvPr/>
        </p:nvSpPr>
        <p:spPr>
          <a:xfrm>
            <a:off x="7667640" y="6093000"/>
            <a:ext cx="122400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i="1" lang="el-G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Times New Roman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256000" y="1699920"/>
            <a:ext cx="38876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 = R = 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B –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еч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 (O, SAB) =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i="1" lang="el-GR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2565360"/>
            <a:ext cx="5076720" cy="38307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>
            <a:hlinkClick r:id="" action="ppaction://hlinkshowjump?jump=nextslide"/>
          </p:cNvPr>
          <p:cNvSpPr/>
          <p:nvPr/>
        </p:nvSpPr>
        <p:spPr>
          <a:xfrm>
            <a:off x="788508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1888" y="3794"/>
                </a:moveTo>
                <a:lnTo>
                  <a:pt x="25901" y="10800"/>
                </a:lnTo>
                <a:lnTo>
                  <a:pt x="11888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)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сечении равнобедренный треугольник. Найдем его выс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5219640" cy="3705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021440" y="1989000"/>
            <a:ext cx="44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5508720" y="2133720"/>
                <a:ext cx="1584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O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7451640" y="2128680"/>
                <a:ext cx="14414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D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6300720" y="2708280"/>
                <a:ext cx="172872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13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2"/>
              <p:cNvSpPr txBox="1"/>
              <p:nvPr/>
            </p:nvSpPr>
            <p:spPr>
              <a:xfrm>
                <a:off x="1908000" y="5084640"/>
                <a:ext cx="547380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H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AutoShape 14">
            <a:hlinkClick r:id="" action="ppaction://hlinkshowjump?jump=nextslide"/>
          </p:cNvPr>
          <p:cNvSpPr/>
          <p:nvPr/>
        </p:nvSpPr>
        <p:spPr>
          <a:xfrm>
            <a:off x="788508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1888" y="3794"/>
                </a:moveTo>
                <a:lnTo>
                  <a:pt x="25901" y="10800"/>
                </a:lnTo>
                <a:lnTo>
                  <a:pt x="11888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пределим боковые стороны и основание треугольника, являющегося сеч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1125360"/>
            <a:ext cx="5508720" cy="40323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788508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1888" y="3794"/>
                </a:moveTo>
                <a:lnTo>
                  <a:pt x="25901" y="10800"/>
                </a:lnTo>
                <a:lnTo>
                  <a:pt x="11888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6156360" y="1484280"/>
                <a:ext cx="19447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OA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5508720" y="2133720"/>
                <a:ext cx="3456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2" name="Rectangle 11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"/>
              <p:cNvSpPr txBox="1"/>
              <p:nvPr/>
            </p:nvSpPr>
            <p:spPr>
              <a:xfrm>
                <a:off x="6227640" y="4221000"/>
                <a:ext cx="216072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AH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Rectangle 1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2"/>
              <p:cNvSpPr txBox="1"/>
              <p:nvPr/>
            </p:nvSpPr>
            <p:spPr>
              <a:xfrm>
                <a:off x="3635280" y="4797360"/>
                <a:ext cx="532944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H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5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числим площадь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>
            <a:hlinkClick r:id="rId1" action="ppaction://hlinksldjump"/>
          </p:cNvPr>
          <p:cNvSpPr/>
          <p:nvPr/>
        </p:nvSpPr>
        <p:spPr>
          <a:xfrm>
            <a:off x="250920" y="6021360"/>
            <a:ext cx="1042920" cy="576360"/>
          </a:xfrm>
          <a:custGeom>
            <a:avLst/>
            <a:gdLst>
              <a:gd name="textAreaLeft" fmla="*/ 37080 w 1042920"/>
              <a:gd name="textAreaRight" fmla="*/ 1005840 w 1042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9074" h="21600">
                <a:moveTo>
                  <a:pt x="0" y="0"/>
                </a:moveTo>
                <a:lnTo>
                  <a:pt x="39074" y="0"/>
                </a:lnTo>
                <a:lnTo>
                  <a:pt x="39074" y="21600"/>
                </a:lnTo>
                <a:lnTo>
                  <a:pt x="0" y="21600"/>
                </a:lnTo>
                <a:close/>
              </a:path>
              <a:path fill="lightenLess" w="39074" h="21600">
                <a:moveTo>
                  <a:pt x="0" y="0"/>
                </a:moveTo>
                <a:lnTo>
                  <a:pt x="39074" y="0"/>
                </a:lnTo>
                <a:lnTo>
                  <a:pt x="37674" y="1400"/>
                </a:lnTo>
                <a:lnTo>
                  <a:pt x="1400" y="1400"/>
                </a:lnTo>
                <a:close/>
              </a:path>
              <a:path fill="darken" w="39074" h="21600">
                <a:moveTo>
                  <a:pt x="39074" y="0"/>
                </a:moveTo>
                <a:lnTo>
                  <a:pt x="39074" y="21600"/>
                </a:lnTo>
                <a:lnTo>
                  <a:pt x="37674" y="20200"/>
                </a:lnTo>
                <a:lnTo>
                  <a:pt x="37674" y="1400"/>
                </a:lnTo>
                <a:close/>
              </a:path>
              <a:path fill="darkenLess" w="39074" h="21600">
                <a:moveTo>
                  <a:pt x="390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74" y="20200"/>
                </a:lnTo>
                <a:close/>
              </a:path>
              <a:path fill="lighten" w="390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74" h="21600">
                <a:moveTo>
                  <a:pt x="12531" y="10800"/>
                </a:moveTo>
                <a:lnTo>
                  <a:pt x="26544" y="3794"/>
                </a:lnTo>
                <a:lnTo>
                  <a:pt x="2654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0" y="1192320"/>
            <a:ext cx="5651640" cy="40114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6"/>
              <p:cNvSpPr txBox="1"/>
              <p:nvPr/>
            </p:nvSpPr>
            <p:spPr>
              <a:xfrm>
                <a:off x="5796000" y="1697040"/>
                <a:ext cx="12970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H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Rectangle 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8"/>
              <p:cNvSpPr txBox="1"/>
              <p:nvPr/>
            </p:nvSpPr>
            <p:spPr>
              <a:xfrm>
                <a:off x="7380360" y="1628640"/>
                <a:ext cx="15843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Rectangle 1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0"/>
              <p:cNvSpPr txBox="1"/>
              <p:nvPr/>
            </p:nvSpPr>
            <p:spPr>
              <a:xfrm>
                <a:off x="6084720" y="2708280"/>
                <a:ext cx="27370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Rectangle 1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2"/>
              <p:cNvSpPr txBox="1"/>
              <p:nvPr/>
            </p:nvSpPr>
            <p:spPr>
              <a:xfrm>
                <a:off x="2484360" y="5229360"/>
                <a:ext cx="63723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S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H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Freeform 14"/>
          <p:cNvSpPr/>
          <p:nvPr/>
        </p:nvSpPr>
        <p:spPr>
          <a:xfrm>
            <a:off x="7524720" y="6308640"/>
            <a:ext cx="1292400" cy="11160"/>
          </a:xfrm>
          <a:prstGeom prst="pie">
            <a:avLst/>
          </a:pr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Боковая поверхность кону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00720" y="1052280"/>
            <a:ext cx="46432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д боковой поверхностью конуса мы будем понимать предел, к которому стремится боковая поверхность вписанной в этот конус правильной пирамиды, когда число боковых граней неограниченно увелич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515120" cy="5805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6926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Круговым конусо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называется тело ограниченное кругом – основанием конуса, и конической поверхностью, образованной отрезками, соединяющими точку, вершину конуса, со всеми точками окружности, ограничивающей основание кон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3719520" cy="429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2771640" y="2565360"/>
            <a:ext cx="3645000" cy="429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2700360" y="2565360"/>
            <a:ext cx="39751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Теорема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Площадь боковой поверхности конуса равна половине произведения длины окружности основания на образующ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716000" y="2205000"/>
            <a:ext cx="44276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–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диус основания конус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 –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разующая кон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бок.кон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0" y="1700280"/>
            <a:ext cx="48132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0" y="1413000"/>
            <a:ext cx="4932360" cy="48625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5"/>
              <p:cNvSpPr txBox="1"/>
              <p:nvPr/>
            </p:nvSpPr>
            <p:spPr>
              <a:xfrm>
                <a:off x="5076720" y="1455840"/>
                <a:ext cx="374328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и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и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5003640" y="2852640"/>
                <a:ext cx="16560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10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4859280" y="3284640"/>
                <a:ext cx="29527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и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π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AutoShape 11"/>
          <p:cNvSpPr/>
          <p:nvPr/>
        </p:nvSpPr>
        <p:spPr>
          <a:xfrm>
            <a:off x="8101080" y="2708280"/>
            <a:ext cx="287280" cy="1225440"/>
          </a:xfrm>
          <a:custGeom>
            <a:avLst/>
            <a:gdLst>
              <a:gd name="textAreaLeft" fmla="*/ 0 w 287280"/>
              <a:gd name="textAreaRight" fmla="*/ 103680 w 28728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2"/>
          <p:cNvSpPr/>
          <p:nvPr/>
        </p:nvSpPr>
        <p:spPr>
          <a:xfrm>
            <a:off x="8532720" y="3213000"/>
            <a:ext cx="432000" cy="1511280"/>
          </a:xfrm>
          <a:custGeom>
            <a:avLst/>
            <a:gdLst>
              <a:gd name="textAreaLeft" fmla="*/ 57600 w 432000"/>
              <a:gd name="textAreaRight" fmla="*/ 374400 w 432000"/>
              <a:gd name="textAreaTop" fmla="*/ 264240 h 1511280"/>
              <a:gd name="textAreaBottom" fmla="*/ 10958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3"/>
              <p:cNvSpPr txBox="1"/>
              <p:nvPr/>
            </p:nvSpPr>
            <p:spPr>
              <a:xfrm>
                <a:off x="4284720" y="5373720"/>
                <a:ext cx="485928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ко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l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Line 15"/>
          <p:cNvSpPr/>
          <p:nvPr/>
        </p:nvSpPr>
        <p:spPr>
          <a:xfrm>
            <a:off x="4356000" y="6308640"/>
            <a:ext cx="1081080" cy="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8062920" y="6308640"/>
            <a:ext cx="1081080" cy="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3827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усть конус будет получен от вращения прямоугольного треугольника с известными катетами. Найдите боковую поверхность этого кон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4"/>
          <p:cNvSpPr/>
          <p:nvPr/>
        </p:nvSpPr>
        <p:spPr>
          <a:xfrm>
            <a:off x="1187280" y="549360"/>
            <a:ext cx="1132200" cy="1058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3995640" y="765000"/>
            <a:ext cx="5148360" cy="51501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5292720" y="1557360"/>
            <a:ext cx="1008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20</a:t>
            </a:r>
            <a:r>
              <a:rPr b="1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Развертка кону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2920" y="836280"/>
            <a:ext cx="4332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ертка конуса – это круговой сектор. Его можно рассматривать как развертку боковой поверхности вписанной правильной пирамиды, у которой число боковых граней бесконечно увелич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4570560" cy="6093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0" y="692280"/>
            <a:ext cx="45608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8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836280"/>
            <a:ext cx="3683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ная угол, образованный высотой и образующей конуса, можно вычислить угол сектора, полученного при развертке конуса, и наоб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057560" y="260280"/>
            <a:ext cx="50864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4140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дем выражение для градусной меры угла развертки кон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4067280" y="0"/>
            <a:ext cx="491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-360" y="1700280"/>
            <a:ext cx="414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 данным рисунка определите, чему равен угол развертки этого конуса. Ответ дайте в граду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"/>
          <p:cNvSpPr/>
          <p:nvPr/>
        </p:nvSpPr>
        <p:spPr>
          <a:xfrm>
            <a:off x="1187280" y="549360"/>
            <a:ext cx="1132200" cy="1058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435600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8317080" y="4221000"/>
            <a:ext cx="82692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72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000"/>
                            </p:stCondLst>
                            <p:childTnLst>
                              <p:par>
                                <p:cTn id="7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№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48 (б; 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30243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Элементы </a:t>
            </a:r>
            <a:br>
              <a:rPr sz="3600"/>
            </a:b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кону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771640" y="0"/>
            <a:ext cx="586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Кону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это тело, которое получается, если коническую поверхность, образованную прямыми, соединяющими фиксированную точку со всеми точками какой–нибудь кривой, ограничить плоск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968640" cy="5157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4859280" y="2403360"/>
            <a:ext cx="42847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55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55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Прямой круговой кону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16000" y="2852640"/>
            <a:ext cx="421164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руговой конус называется </a:t>
            </a: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прямым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, если его высота попадает в центр к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4085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е образующие конуса равны между собой и составляют один угол с основ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1341360"/>
            <a:ext cx="5140440" cy="5256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5148360" y="2060640"/>
                <a:ext cx="35290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OA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O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5651640" y="3068640"/>
                <a:ext cx="2808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B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9"/>
              <p:cNvSpPr txBox="1"/>
              <p:nvPr/>
            </p:nvSpPr>
            <p:spPr>
              <a:xfrm>
                <a:off x="5148360" y="4941720"/>
                <a:ext cx="367164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SAO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SB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AutoShape 11"/>
          <p:cNvSpPr/>
          <p:nvPr/>
        </p:nvSpPr>
        <p:spPr>
          <a:xfrm>
            <a:off x="6732720" y="3789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7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2060640"/>
            <a:ext cx="324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Чему равен угол между образующей и основанием конуса, если известен угол между высотой и образующ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"/>
          <p:cNvSpPr/>
          <p:nvPr/>
        </p:nvSpPr>
        <p:spPr>
          <a:xfrm>
            <a:off x="1187280" y="549360"/>
            <a:ext cx="1132200" cy="1058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3460680" y="0"/>
            <a:ext cx="56833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7740720" y="2133720"/>
            <a:ext cx="86364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75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4572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нус можно получить, вращая прямоугольный треугольник вокруг одного из катетов. При этом осью вращения будет прямая, содержащая высоту конуса. Эта прямая так и называется – </a:t>
            </a: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осью кон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456696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45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3640" y="1844640"/>
            <a:ext cx="360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нус получен при вращении прямоугольного треуголь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 14. Радиус основания конуса равен 4. Определите высоту этого кон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1187280" y="549360"/>
            <a:ext cx="1132200" cy="1058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3995640" y="189000"/>
            <a:ext cx="4710240" cy="6310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4788000" y="1341360"/>
            <a:ext cx="503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900"/>
                            </p:stCondLst>
                            <p:childTnLst>
                              <p:par>
                                <p:cTn id="1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21:40:08Z</dcterms:created>
  <dc:creator>Каратанова</dc:creator>
  <dc:description/>
  <dc:language>en-US</dc:language>
  <cp:lastModifiedBy>1</cp:lastModifiedBy>
  <dcterms:modified xsi:type="dcterms:W3CDTF">2022-12-03T05:17:54Z</dcterms:modified>
  <cp:revision>7</cp:revision>
  <dc:subject/>
  <dc:title>Определение конуса.</dc:title>
</cp:coreProperties>
</file>