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420-40C6-485A-A3BE-659CCCFE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5EE-F3EB-44CF-8177-D912C8F6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1F8-E2CD-44A0-8565-A0A6CDF4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6A0-ADA4-44E9-A2B8-9D457CBD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6572E-9F79-4B70-BC0F-504DF090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43F0B-1956-45F0-8EFD-C7925056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64070-F6F4-4124-8436-EF4B9124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E0C00-9D98-49BA-A77B-59363C0D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96515-0751-4938-879B-1B62E38A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CE313-4C4A-4102-823D-E6BAA050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B3883-D8D3-4D54-946C-AA1409E7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E39-6534-47BC-9CD2-DFE0AC85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4C3D6-5889-4885-BCD9-A8A9714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6E56D-FFE4-4510-AA62-4F67F78C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0000D-97A8-4666-AEEE-427A87CF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9AD4B-21AC-4BEE-8967-3B24AD0B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D2066-7C84-4020-B936-3A0AA219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827-2902-4FCD-A3F1-B83A62C0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524-9058-4B20-A901-A164E90D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084-EE03-4AFE-AB4E-A1CC89B8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996-1E58-4E3A-A1C3-C22BB0FD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043-0FCF-4BAC-A1E7-E81092FD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42B-4E32-495B-8C52-5FA635EE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F09-9799-41C4-BF6F-4798271E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6466-2B3C-4C6C-A72B-2837DF379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4581-65E8-4EC0-A20F-919EAD9752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10199"/>
                </a:solidFill>
                <a:latin typeface="Tahoma"/>
              </a:rPr>
              <a:t>Перелётные птиц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norm_1_1349715320"/>
          <p:cNvPicPr/>
          <p:nvPr/>
        </p:nvPicPr>
        <p:blipFill>
          <a:blip r:embed="rId1"/>
          <a:stretch/>
        </p:blipFill>
        <p:spPr>
          <a:xfrm>
            <a:off x="1600200" y="2666880"/>
            <a:ext cx="56386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https://sun9-70.userapi.com/impg/T0y5CDme5E-A-pbd2hBvEi-2C6p20eUrJ3dDPA/LxH1BGNWw7w.jpg?size=604x452&amp;quality=96&amp;sign=7fcd8f3d5d4d8470df93cb7c93093463&amp;type=album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images.myshared.ru/102/1402010/slide_15.jpg"/>
          <p:cNvPicPr/>
          <p:nvPr/>
        </p:nvPicPr>
        <p:blipFill>
          <a:blip r:embed="rId1"/>
          <a:stretch/>
        </p:blipFill>
        <p:spPr>
          <a:xfrm>
            <a:off x="0" y="0"/>
            <a:ext cx="1026144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007-007-Pereletnye-ptit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372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6781680" y="3808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Грач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5105520"/>
            <a:ext cx="88362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Грач — черный, клюв вытянутый, хвост закруглен, уничтожает вредных насеком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anka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600" y="3986280"/>
            <a:ext cx="303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Tahoma"/>
              </a:rPr>
              <a:t>журавл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263636_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629400" y="304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600"/>
                </a:solidFill>
                <a:latin typeface="Tahoma"/>
              </a:rPr>
              <a:t>ут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abuanasgroup00030"/>
          <p:cNvPicPr/>
          <p:nvPr/>
        </p:nvPicPr>
        <p:blipFill>
          <a:blip r:embed="rId1"/>
          <a:stretch/>
        </p:blipFill>
        <p:spPr>
          <a:xfrm>
            <a:off x="0" y="0"/>
            <a:ext cx="4952880" cy="365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"/>
          <p:cNvPicPr/>
          <p:nvPr/>
        </p:nvPicPr>
        <p:blipFill>
          <a:blip r:embed="rId2"/>
          <a:stretch/>
        </p:blipFill>
        <p:spPr>
          <a:xfrm>
            <a:off x="4952880" y="3657600"/>
            <a:ext cx="4191120" cy="3200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4952880" y="68580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a0c95"/>
                </a:solidFill>
                <a:latin typeface="Tahoma"/>
              </a:rPr>
              <a:t>лебеди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74880" y="582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2280" y="403848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Лебедь — прекрасная, гордая птица. Тело вытянутое, шея длинная, клюв средней длины и красный. Живет на болотах и озерах. Гнезда вьет на суше в камышах. Лебеди бывают белыми и черными по цвету. Кормится зелеными травами, листьями и стеблями раст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Starling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822960" y="307800"/>
            <a:ext cx="377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ahoma"/>
              </a:rPr>
              <a:t>скворец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8" descr="https://sun9-37.userapi.com/impg/tHAdAbQqElItoTE5SM8U15gbes5iUKgbyuVdBg/05DA72qfTUk.jpg?size=604x453&amp;quality=96&amp;sign=270db1bca216e4b09842e710a0f5977e&amp;type=albu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i2.wp.com/babyben.ru/images/babyben/2017/10/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3T12:34:03Z</dcterms:created>
  <dc:creator>АЛЕКСАНДР</dc:creator>
  <dc:description/>
  <dc:language>en-US</dc:language>
  <cp:lastModifiedBy>Windows</cp:lastModifiedBy>
  <dcterms:modified xsi:type="dcterms:W3CDTF">2022-12-05T14:45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