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881-3EDA-4D22-9302-35CAA716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F59-66DC-47FE-B74A-1916A7F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F97-7834-4586-ABC1-AC3A06D5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3C1-8210-4271-8B0A-2D4C3B5C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C68BF-3B2A-47C7-A3E3-4A5ACEE8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7023C-6D09-4596-892D-3C88365A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C5937-9387-41F0-848D-6D43826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19653-FC0B-4AE3-A548-94AB79C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482F-B180-4E4E-935A-E44ED254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8C97-03DD-49BC-8C60-0BE05772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3D9E2-8472-4EB2-8D89-A5C804F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18E-E351-45D9-A53E-157E9E5F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1A6CD-3B8B-467C-89E2-BC64F384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9A4BB-3714-41EE-A1D3-2D07E5C9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E0CB-8B17-4373-A439-3E108E7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ED756-A99E-4FA2-9BDB-F8F16B87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05E9-29E5-42FB-81CF-30ECF06D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519-FDE6-492A-875F-F469CFA5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F30-2128-4A61-8ED6-1E9E334A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820-86BF-403D-9593-AFDE007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F6F-3320-4D3C-95B9-41BDCFEF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ABF-59AE-4D90-B6E1-F3DB1AD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94D-377F-4CCB-8B12-C8F4C9D6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C41-9DB2-4D59-A6F0-D28BBEF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424-75B5-4FD2-AF8B-5F9CC0FB5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2E50-49FC-4EEF-B2EE-84DAE1C7D1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0199"/>
                </a:solidFill>
                <a:latin typeface="Tahoma"/>
              </a:rPr>
              <a:t>Перелётные птиц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norm_1_1349715320"/>
          <p:cNvPicPr/>
          <p:nvPr/>
        </p:nvPicPr>
        <p:blipFill>
          <a:blip r:embed="rId1"/>
          <a:stretch/>
        </p:blipFill>
        <p:spPr>
          <a:xfrm>
            <a:off x="1600200" y="2666880"/>
            <a:ext cx="56386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https://sun9-70.userapi.com/impg/T0y5CDme5E-A-pbd2hBvEi-2C6p20eUrJ3dDPA/LxH1BGNWw7w.jpg?size=604x452&amp;quality=96&amp;sign=7fcd8f3d5d4d8470df93cb7c93093463&amp;type=album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images.myshared.ru/102/1402010/slide_15.jpg"/>
          <p:cNvPicPr/>
          <p:nvPr/>
        </p:nvPicPr>
        <p:blipFill>
          <a:blip r:embed="rId1"/>
          <a:stretch/>
        </p:blipFill>
        <p:spPr>
          <a:xfrm>
            <a:off x="0" y="0"/>
            <a:ext cx="1026144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007-007-Pereletnye-ptit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372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781680" y="380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Грач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5105520"/>
            <a:ext cx="88362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Грач — черный, клюв вытянутый, хвост закруглен, уничтожает вредных насеком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anka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600" y="3986280"/>
            <a:ext cx="303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ahoma"/>
              </a:rPr>
              <a:t>журавл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63636_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629400" y="304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600"/>
                </a:solidFill>
                <a:latin typeface="Tahoma"/>
              </a:rPr>
              <a:t>ут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abuanasgroup00030"/>
          <p:cNvPicPr/>
          <p:nvPr/>
        </p:nvPicPr>
        <p:blipFill>
          <a:blip r:embed="rId1"/>
          <a:stretch/>
        </p:blipFill>
        <p:spPr>
          <a:xfrm>
            <a:off x="0" y="0"/>
            <a:ext cx="4952880" cy="365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"/>
          <p:cNvPicPr/>
          <p:nvPr/>
        </p:nvPicPr>
        <p:blipFill>
          <a:blip r:embed="rId2"/>
          <a:stretch/>
        </p:blipFill>
        <p:spPr>
          <a:xfrm>
            <a:off x="4952880" y="365760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952880" y="68580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a0c95"/>
                </a:solidFill>
                <a:latin typeface="Tahoma"/>
              </a:rPr>
              <a:t>лебеди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74880" y="582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2280" y="40384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Лебедь — прекрасная, гордая птица. Тело вытянутое, шея длинная, клюв средней длины и красный. Живет на болотах и озерах. Гнезда вьет на суше в камышах. Лебеди бывают белыми и черными по цвету. Кормится зелеными травами, листьями и стеблями раст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Starling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822960" y="307800"/>
            <a:ext cx="377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ahoma"/>
              </a:rPr>
              <a:t>скворец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https://sun9-37.userapi.com/impg/tHAdAbQqElItoTE5SM8U15gbes5iUKgbyuVdBg/05DA72qfTUk.jpg?size=604x453&amp;quality=96&amp;sign=270db1bca216e4b09842e710a0f5977e&amp;type=albu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i2.wp.com/babyben.ru/images/babyben/2017/10/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2:34:03Z</dcterms:created>
  <dc:creator>АЛЕКСАНДР</dc:creator>
  <dc:description/>
  <dc:language>en-US</dc:language>
  <cp:lastModifiedBy>Windows</cp:lastModifiedBy>
  <dcterms:modified xsi:type="dcterms:W3CDTF">2022-12-05T14:45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