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D12103-1ACE-4124-BD42-765B21A1FFA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E679CD-3A54-4D7F-BD79-74FB1CBDB6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EEB7E6-A659-4B96-9E49-8629A9154CA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2C3014-4747-4B68-9091-097B4CBEA51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454D0E-4D7F-4F7E-872B-A8F8174AF8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58E51A-2F0B-41DB-9840-4731C446CB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9BAB03-B810-4337-A7C7-1D073CAFB9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BC4385-CF93-4E6E-80D9-5E77F97D22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FDA418-1DD3-4FD7-BDB4-5126BC3E2E8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5372C3-8FD9-4268-BE62-7AA55C229B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80A72E-99CB-41E3-B366-F9C7E46A1AC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EE9842-2518-4924-9A3A-25C9418B0B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0B20-E884-4B89-93D0-ADA5734C7B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F85B-65FE-476D-B552-26B9B6A4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13CD-8AF2-4FFB-95A1-BF84D6CD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9FDC-C57E-43DF-880B-1683C17002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CDB5A-9174-4F1A-9750-FA030FCC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C00F-C779-43B9-805C-4014ABB4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91E6-A957-44A7-BA99-939FD345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A8EF-B4A5-4F02-8C69-72B59C89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A49C-BE43-4829-B000-9AC73C9C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7DB9-9775-4212-A6CD-1874169A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2DD6-6B0F-47E6-A8E7-53B11143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5C29-C72D-4CFE-B2F4-BA93619F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77AE15-2596-460C-8153-2465380E1DB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468360" y="1197000"/>
            <a:ext cx="8207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203480" y="3213000"/>
            <a:ext cx="7562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«МАЙСКАЯ СОШ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езные ископаем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0000" y="541656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рлубаева Индира Сипулла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3635280" y="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508720" y="763560"/>
            <a:ext cx="3068640" cy="2122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27000" y="3591000"/>
            <a:ext cx="2603520" cy="1631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2700360" y="3595680"/>
            <a:ext cx="3305160" cy="326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6005520" y="5175360"/>
            <a:ext cx="306864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-81000" y="811080"/>
            <a:ext cx="3355920" cy="2617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611280" y="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цвет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зрач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рошо гор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50920" y="1743120"/>
            <a:ext cx="4537080" cy="5097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250920" y="98100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узнали? Чему научились</a:t>
            </a:r>
            <a:r>
              <a:rPr b="1" i="1" lang="ru-RU" sz="4000" spc="-1" strike="noStrike">
                <a:solidFill>
                  <a:srgbClr val="17375e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608360" y="2421000"/>
            <a:ext cx="43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 Что такое полезные ископаемы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Для чего люди добывают и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Приведи примеры полезных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Какие способы добычи полезных ископаемых вам извест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39640" y="119700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Narrow"/>
              </a:rPr>
              <a:t>Полезные ископаемые</a:t>
            </a:r>
            <a:r>
              <a:rPr b="1" i="1" lang="ru-RU" sz="5400" spc="-1" strike="noStrike">
                <a:solidFill>
                  <a:srgbClr val="17375e"/>
                </a:solidFill>
                <a:latin typeface="Arial Narrow"/>
              </a:rPr>
              <a:t>-это горные породы и минералы</a:t>
            </a:r>
            <a:r>
              <a:rPr b="1" i="1" lang="ru-RU" sz="5400" spc="-1" strike="noStrike">
                <a:solidFill>
                  <a:srgbClr val="403152"/>
                </a:solidFill>
                <a:latin typeface="Arial Narrow"/>
              </a:rPr>
              <a:t>, которые добывают из недр Земли и </a:t>
            </a:r>
            <a:r>
              <a:rPr b="1" i="1" lang="ru-RU" sz="5400" spc="-1" strike="noStrike">
                <a:solidFill>
                  <a:srgbClr val="10253f"/>
                </a:solidFill>
                <a:latin typeface="Arial Narrow"/>
              </a:rPr>
              <a:t>её поверхности </a:t>
            </a:r>
            <a:r>
              <a:rPr b="1" i="1" lang="ru-RU" sz="5400" spc="-1" strike="noStrike">
                <a:solidFill>
                  <a:srgbClr val="17375e"/>
                </a:solidFill>
                <a:latin typeface="Arial Narrow"/>
              </a:rPr>
              <a:t>и</a:t>
            </a:r>
            <a:r>
              <a:rPr b="1" i="1" lang="ru-RU" sz="54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1" i="1" lang="ru-RU" sz="5400" spc="-1" strike="noStrike">
                <a:solidFill>
                  <a:srgbClr val="ff0000"/>
                </a:solidFill>
                <a:latin typeface="Arial Narrow"/>
              </a:rPr>
              <a:t>используют в хозяйств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067280" y="5572080"/>
            <a:ext cx="46321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7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ни́т (зерно) —состоит из кварца, полевого шпата и слю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480" y="187200"/>
            <a:ext cx="435600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986040" y="4365720"/>
            <a:ext cx="464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Твёрд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Серого или красного ц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Непрозра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Зернис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Очень про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786200" y="18900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быча грани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14200" y="4556160"/>
            <a:ext cx="8715600" cy="2066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857680" y="2276640"/>
            <a:ext cx="48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ВЕСТНЯ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 flipV="1" rot="10800000">
            <a:off x="214200" y="412956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Твёрд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Белого, серого или жёлтого ц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Непрозра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ло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Если капнуть каплю кислоты – шипит (выделяется га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411280" y="227664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1692360" y="620640"/>
            <a:ext cx="61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АЯ РУ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215040" y="1285920"/>
            <a:ext cx="265896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38120" y="1628640"/>
            <a:ext cx="4326120" cy="3310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59560" y="4797360"/>
            <a:ext cx="542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Чёрного или бурого цв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Твёрд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Непрозрач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Плот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Притягивает металлические предм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395280" y="1379520"/>
            <a:ext cx="4518000" cy="416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1116000" y="549360"/>
            <a:ext cx="67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НЫЙ УГО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913280" y="1319040"/>
            <a:ext cx="3997440" cy="4192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0" y="501336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Твёрдый, но хруп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Черного цвета, блест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Хорошо и ярко г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 воде не раствор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1979640" y="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55640" y="923760"/>
            <a:ext cx="3386160" cy="362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22320" y="4441680"/>
            <a:ext cx="4321080" cy="2276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343400" y="4818240"/>
            <a:ext cx="444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ичне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кий, впитывает вла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озра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хлый, непрочный, хорошо г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357280" y="500040"/>
            <a:ext cx="37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364000" y="1214280"/>
            <a:ext cx="3570480" cy="2651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-38160" y="416232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50920" y="1214280"/>
            <a:ext cx="63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Твёрдый, сыпуч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оричневого или желтого ц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Не г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 воде не раствор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 flipV="1" rot="10800000">
            <a:off x="1117080" y="5608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3762360"/>
            <a:ext cx="3059280" cy="254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203640" y="3714840"/>
            <a:ext cx="3564000" cy="2485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2643120" y="1020600"/>
            <a:ext cx="64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ёрдое вещ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яжелее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способность набухать в во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пластич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способность сохранять форм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 водоупор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2:47:25Z</dcterms:created>
  <dc:creator>ОЛЬГА</dc:creator>
  <dc:description/>
  <dc:language>en-US</dc:language>
  <cp:lastModifiedBy>Diesel</cp:lastModifiedBy>
  <dcterms:modified xsi:type="dcterms:W3CDTF">2022-12-05T18:00:28Z</dcterms:modified>
  <cp:revision>73</cp:revision>
  <dc:subject/>
  <dc:title>Слайд 1</dc:title>
</cp:coreProperties>
</file>