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gif" ContentType="image/gif"/>
  <Override PartName="/ppt/media/image9.jpeg" ContentType="image/jpeg"/>
  <Override PartName="/ppt/media/image11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27B056-FC37-4EE7-8A00-679FC81623E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FB9E60-8D07-4998-97A1-566E921F9B8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58909D-1C7A-4C44-85E4-75FE9931854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3D27E9-9974-4CE4-ABBB-C7CA76A583A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28E70C-B2A1-40A4-A047-29198D2B58A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105F0A-AFA7-435F-A73A-426C3D30C65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DE0445-252D-4488-91F8-2E9C40B4EB8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B689C6-805F-4A69-9CE8-83F8A3509E8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ED86A4-0326-407C-BBB8-F0C384234C1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9479D19-0227-48AD-BE58-561B1AC918F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E4EDC3-82EC-4AE1-A240-87C84315090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AC808E-A27B-4235-A2FE-E980ACF6B9D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4E4F7-D8D3-407F-AF0D-E49C59C1AA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83AF5-209A-412B-9284-8CC92F75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57A46-FFE7-40EE-BDFF-0AFE3639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9D8D7-1869-4064-B765-7D16552D6E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B6D75-8FED-4B98-B8EB-7FA49B95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6B938-7C43-47DD-BE91-C1AC93EB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AC547-BF26-4396-BF88-CFC36DA3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88997-71CB-434B-8CCB-6005B324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23D72-CD46-499B-BC11-B36E34A9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8F9D3-7119-4046-A15C-4761AB39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E8E6F-131B-4860-8F49-7CAD3742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D9A4B-A177-4050-B0B2-F54E66C3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B8BF1D-F11C-4EDF-B5BD-003E2EE993BE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468360" y="1197000"/>
            <a:ext cx="8207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1203480" y="3213000"/>
            <a:ext cx="75625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ОУ «МАЙСКАЯ СОШ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езные ископаем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4680000" y="5416560"/>
            <a:ext cx="424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рлубаева Индира Сипулла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3635280" y="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5508720" y="763560"/>
            <a:ext cx="3068640" cy="2122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-27000" y="3591000"/>
            <a:ext cx="2603520" cy="1631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3"/>
          <a:stretch/>
        </p:blipFill>
        <p:spPr>
          <a:xfrm>
            <a:off x="2700360" y="3595680"/>
            <a:ext cx="3305160" cy="3262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4"/>
          <a:stretch/>
        </p:blipFill>
        <p:spPr>
          <a:xfrm>
            <a:off x="6005520" y="5175360"/>
            <a:ext cx="3068640" cy="1682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5"/>
          <a:stretch/>
        </p:blipFill>
        <p:spPr>
          <a:xfrm>
            <a:off x="-81000" y="811080"/>
            <a:ext cx="3355920" cy="26179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>
            <a:off x="611280" y="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сцвет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зрач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рошо гор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250920" y="1743120"/>
            <a:ext cx="4537080" cy="50972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"/>
          <p:cNvSpPr/>
          <p:nvPr/>
        </p:nvSpPr>
        <p:spPr>
          <a:xfrm>
            <a:off x="250920" y="98100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узнали? Чему научились</a:t>
            </a:r>
            <a:r>
              <a:rPr b="1" i="1" lang="ru-RU" sz="4000" spc="-1" strike="noStrike">
                <a:solidFill>
                  <a:srgbClr val="17375e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608360" y="2421000"/>
            <a:ext cx="435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1. Что такое полезные ископаемы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2. Для чего люди добывают и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3. Приведи примеры полезных ископаем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4. Какие способы добычи полезных ископаемых вам известн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539640" y="1197000"/>
            <a:ext cx="820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Arial Narrow"/>
              </a:rPr>
              <a:t>Полезные ископаемые</a:t>
            </a:r>
            <a:r>
              <a:rPr b="1" i="1" lang="ru-RU" sz="5400" spc="-1" strike="noStrike">
                <a:solidFill>
                  <a:srgbClr val="17375e"/>
                </a:solidFill>
                <a:latin typeface="Arial Narrow"/>
              </a:rPr>
              <a:t>-это горные породы и минералы</a:t>
            </a:r>
            <a:r>
              <a:rPr b="1" i="1" lang="ru-RU" sz="5400" spc="-1" strike="noStrike">
                <a:solidFill>
                  <a:srgbClr val="403152"/>
                </a:solidFill>
                <a:latin typeface="Arial Narrow"/>
              </a:rPr>
              <a:t>, которые добывают из недр Земли и </a:t>
            </a:r>
            <a:r>
              <a:rPr b="1" i="1" lang="ru-RU" sz="5400" spc="-1" strike="noStrike">
                <a:solidFill>
                  <a:srgbClr val="10253f"/>
                </a:solidFill>
                <a:latin typeface="Arial Narrow"/>
              </a:rPr>
              <a:t>её поверхности </a:t>
            </a:r>
            <a:r>
              <a:rPr b="1" i="1" lang="ru-RU" sz="5400" spc="-1" strike="noStrike">
                <a:solidFill>
                  <a:srgbClr val="17375e"/>
                </a:solidFill>
                <a:latin typeface="Arial Narrow"/>
              </a:rPr>
              <a:t>и</a:t>
            </a:r>
            <a:r>
              <a:rPr b="1" i="1" lang="ru-RU" sz="5400" spc="-1" strike="noStrike">
                <a:solidFill>
                  <a:srgbClr val="00b050"/>
                </a:solidFill>
                <a:latin typeface="Arial Narrow"/>
              </a:rPr>
              <a:t> </a:t>
            </a:r>
            <a:r>
              <a:rPr b="1" i="1" lang="ru-RU" sz="5400" spc="-1" strike="noStrike">
                <a:solidFill>
                  <a:srgbClr val="ff0000"/>
                </a:solidFill>
                <a:latin typeface="Arial Narrow"/>
              </a:rPr>
              <a:t>используют в хозяйстве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4067280" y="5572080"/>
            <a:ext cx="463212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7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ани́т (зерно) —состоит из кварца, полевого шпата и слюд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6480" y="187200"/>
            <a:ext cx="4356000" cy="3645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986040" y="4365720"/>
            <a:ext cx="4640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Твёрд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Серого или красного цв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Непрозрач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Зернист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Очень проч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786200" y="189000"/>
            <a:ext cx="435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быча грани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214200" y="4556160"/>
            <a:ext cx="8715600" cy="20667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"/>
          <p:cNvSpPr/>
          <p:nvPr/>
        </p:nvSpPr>
        <p:spPr>
          <a:xfrm>
            <a:off x="2857680" y="2276640"/>
            <a:ext cx="480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ЗВЕСТНЯ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 flipV="1" rot="10800000">
            <a:off x="214200" y="4129560"/>
            <a:ext cx="871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Твёрд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Белого, серого или жёлтого цв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Непрозрач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лот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Если капнуть каплю кислоты – шипит (выделяется газ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411280" y="2276640"/>
            <a:ext cx="49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звестня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1692360" y="620640"/>
            <a:ext cx="616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НАЯ РУ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215040" y="1285920"/>
            <a:ext cx="2658960" cy="1123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438120" y="1628640"/>
            <a:ext cx="4326120" cy="33102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259560" y="4797360"/>
            <a:ext cx="5421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Чёрного или бурого цве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Твёрдо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Непрозрач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Плот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Притягивает металлические предме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395280" y="1379520"/>
            <a:ext cx="4518000" cy="4167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"/>
          <p:cNvSpPr/>
          <p:nvPr/>
        </p:nvSpPr>
        <p:spPr>
          <a:xfrm>
            <a:off x="1116000" y="549360"/>
            <a:ext cx="674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ЕННЫЙ УГО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4913280" y="1319040"/>
            <a:ext cx="3997440" cy="41929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0" y="5013360"/>
            <a:ext cx="85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Твёрдый, но хруп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Черного цвета, блест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Хорошо и ярко гор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В воде не растворя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1979640" y="0"/>
            <a:ext cx="51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Ф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755640" y="923760"/>
            <a:ext cx="3386160" cy="3624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22320" y="4441680"/>
            <a:ext cx="4321080" cy="22766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4343400" y="4818240"/>
            <a:ext cx="444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ичнев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гкий, впитывает влаг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розрач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ыхлый, непрочный, хорошо гор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357280" y="500040"/>
            <a:ext cx="378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5364000" y="1214280"/>
            <a:ext cx="3570480" cy="2651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-38160" y="4162320"/>
            <a:ext cx="3594240" cy="26956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250920" y="1214280"/>
            <a:ext cx="635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Твёрдый, сыпуч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Коричневого или желтого цв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Не гор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В воде не растворя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 flipV="1" rot="10800000">
            <a:off x="1117080" y="56088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0" y="3762360"/>
            <a:ext cx="3059280" cy="2546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3203640" y="3714840"/>
            <a:ext cx="3564000" cy="24858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2643120" y="1020600"/>
            <a:ext cx="640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вёрдое веще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яжелее во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способность набухать в вод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 пластично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) способность сохранять форм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) водоупор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12:47:25Z</dcterms:created>
  <dc:creator>ОЛЬГА</dc:creator>
  <dc:description/>
  <dc:language>en-US</dc:language>
  <cp:lastModifiedBy>Diesel</cp:lastModifiedBy>
  <dcterms:modified xsi:type="dcterms:W3CDTF">2022-12-05T18:00:28Z</dcterms:modified>
  <cp:revision>73</cp:revision>
  <dc:subject/>
  <dc:title>Слайд 1</dc:title>
</cp:coreProperties>
</file>