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BC6-54AA-4727-8C63-F3204802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B45-C8E0-45ED-B935-680C0F25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803-BF71-4EF9-848E-8FF1CC5E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F14-4591-4CEF-AA93-A20EE229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CD3-C979-4A22-B8EC-382D0E41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AE3-BD2C-4A8F-AF86-3CBA4045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365-F138-4411-B89E-FA9E0AC8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3B9-2B8E-46EB-A8B6-966C5FB1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E6B-0CA4-4BD3-9D5E-2EAF388D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DFB-4CAA-497F-938E-53564B25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42D-3AF4-489C-965C-1B29A31B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024-61EE-4BCD-A339-29892972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A920-FFBA-4F95-803B-1D6922490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Домашнее задание\Театр наш друг и помошник\1.jpg"/>
          <p:cNvPicPr/>
          <p:nvPr/>
        </p:nvPicPr>
        <p:blipFill>
          <a:blip r:embed="rId1"/>
          <a:stretch/>
        </p:blipFill>
        <p:spPr>
          <a:xfrm>
            <a:off x="0" y="0"/>
            <a:ext cx="47480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G:\Домашнее задание\Театр наш друг и помошник\2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:\Домашнее задание\Театр наш друг и помошник\3.jpg"/>
          <p:cNvPicPr/>
          <p:nvPr/>
        </p:nvPicPr>
        <p:blipFill>
          <a:blip r:embed="rId1"/>
          <a:stretch/>
        </p:blipFill>
        <p:spPr>
          <a:xfrm>
            <a:off x="0" y="0"/>
            <a:ext cx="47480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G:\Домашнее задание\Театр наш друг и помошник\4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5T11:21:03Z</dcterms:created>
  <dc:creator>Ирина</dc:creator>
  <dc:description/>
  <dc:language>en-US</dc:language>
  <cp:lastModifiedBy>Ирина</cp:lastModifiedBy>
  <dcterms:modified xsi:type="dcterms:W3CDTF">2022-12-05T11:40:47Z</dcterms:modified>
  <cp:revision>3</cp:revision>
  <dc:subject/>
  <dc:title>Слайд 1</dc:title>
</cp:coreProperties>
</file>