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6C88C-D0DE-4D26-8165-71DA1F4B7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7A9E5-88C8-4B61-B9AB-85750C496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598AE-D0A7-477A-B788-6C3373EB2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C6E35-ACAF-4C98-B8C7-A59603664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8945B-79A7-4B11-842E-5BF26A6B0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A4333-BECC-45EA-A493-2A5E96337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F0F01-CB49-468D-BE17-03D9263B1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15147-8235-4E84-8B6D-D46DF75D9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36828-A23D-471F-BF0C-4D2E26BF0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C9D11-90A0-4246-B5C1-8D1C55F28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F44CD-72D6-4FBA-A9ED-5C7257094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AF0B2-4EC9-479E-8758-E3CDCEA22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4D8B6-28E8-4D15-813C-5181BF71A60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G:\Домашнее задание\Театр наш друг и помошник\1.jpg"/>
          <p:cNvPicPr/>
          <p:nvPr/>
        </p:nvPicPr>
        <p:blipFill>
          <a:blip r:embed="rId1"/>
          <a:stretch/>
        </p:blipFill>
        <p:spPr>
          <a:xfrm>
            <a:off x="0" y="0"/>
            <a:ext cx="474804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3" descr="G:\Домашнее задание\Театр наш друг и помошник\2.jpg"/>
          <p:cNvPicPr/>
          <p:nvPr/>
        </p:nvPicPr>
        <p:blipFill>
          <a:blip r:embed="rId2"/>
          <a:stretch/>
        </p:blipFill>
        <p:spPr>
          <a:xfrm>
            <a:off x="4643280" y="0"/>
            <a:ext cx="4500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G:\Домашнее задание\Театр наш друг и помошник\3.jpg"/>
          <p:cNvPicPr/>
          <p:nvPr/>
        </p:nvPicPr>
        <p:blipFill>
          <a:blip r:embed="rId1"/>
          <a:stretch/>
        </p:blipFill>
        <p:spPr>
          <a:xfrm>
            <a:off x="0" y="0"/>
            <a:ext cx="474804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" descr="G:\Домашнее задание\Театр наш друг и помошник\4.jpg"/>
          <p:cNvPicPr/>
          <p:nvPr/>
        </p:nvPicPr>
        <p:blipFill>
          <a:blip r:embed="rId2"/>
          <a:stretch/>
        </p:blipFill>
        <p:spPr>
          <a:xfrm>
            <a:off x="4643280" y="0"/>
            <a:ext cx="4500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12-05T11:21:03Z</dcterms:created>
  <dc:creator>Ирина</dc:creator>
  <dc:description/>
  <dc:language>en-US</dc:language>
  <cp:lastModifiedBy>Ирина</cp:lastModifiedBy>
  <dcterms:modified xsi:type="dcterms:W3CDTF">2022-12-05T11:40:47Z</dcterms:modified>
  <cp:revision>3</cp:revision>
  <dc:subject/>
  <dc:title>Слайд 1</dc:title>
</cp:coreProperties>
</file>