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B9D7-5FBE-41C9-ACE4-5FAF7B7E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2472-2171-447C-9F03-7C7B14FA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9B8B-343D-4C94-BB93-09211C66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7A80-4941-4787-B688-06CA8A78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7C2C-EEB6-4678-A1F6-4CDD2946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984F-F0E2-4A3F-97AE-C5297F2B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B905-0650-48B0-9094-5989FB9B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2C44-4262-4616-BB46-0FA41345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14DE-0246-4F66-B304-3A715680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1B04-435C-4040-A5B7-3520B453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05C3-ED3D-4767-9634-59059D68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8F3A-04EF-4815-B42B-3858DBCB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4742-4FDC-441F-9A82-B5089DF9C0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роект «Игры и забавы народов России»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85600" y="5444640"/>
            <a:ext cx="5429160" cy="7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andara"/>
              </a:rPr>
              <a:t>Воспитатель: Гостюхина Н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geografia52.ucoz.ru/_ld/1/23446540.jpg"/>
          <p:cNvPicPr/>
          <p:nvPr/>
        </p:nvPicPr>
        <p:blipFill>
          <a:blip r:embed="rId1"/>
          <a:stretch/>
        </p:blipFill>
        <p:spPr>
          <a:xfrm>
            <a:off x="357120" y="2071800"/>
            <a:ext cx="3571920" cy="242892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44" name="Picture 4" descr="http://content.foto.mail.ru/mail/19647772/_blogs/i-567.jpg"/>
          <p:cNvPicPr/>
          <p:nvPr/>
        </p:nvPicPr>
        <p:blipFill>
          <a:blip r:embed="rId2"/>
          <a:stretch/>
        </p:blipFill>
        <p:spPr>
          <a:xfrm>
            <a:off x="285840" y="4714920"/>
            <a:ext cx="1701720" cy="16984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45" name="Picture 7" descr="http://mordoviatv.ru/wp-content/uploads/2014/01/1345806263_071012_038464655207.jpg"/>
          <p:cNvPicPr/>
          <p:nvPr/>
        </p:nvPicPr>
        <p:blipFill>
          <a:blip r:embed="rId3"/>
          <a:stretch/>
        </p:blipFill>
        <p:spPr>
          <a:xfrm>
            <a:off x="5214960" y="2071800"/>
            <a:ext cx="3500280" cy="242892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  <p:pic>
        <p:nvPicPr>
          <p:cNvPr id="46" name="Picture 4" descr="http://content.foto.mail.ru/mail/19647772/_blogs/i-567.jpg"/>
          <p:cNvPicPr/>
          <p:nvPr/>
        </p:nvPicPr>
        <p:blipFill>
          <a:blip r:embed="rId4"/>
          <a:stretch/>
        </p:blipFill>
        <p:spPr>
          <a:xfrm>
            <a:off x="7215120" y="4714920"/>
            <a:ext cx="1701720" cy="16984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"/>
          <p:cNvPicPr/>
          <p:nvPr/>
        </p:nvPicPr>
        <p:blipFill>
          <a:blip r:embed="rId1"/>
          <a:stretch/>
        </p:blipFill>
        <p:spPr>
          <a:xfrm>
            <a:off x="4267080" y="2901960"/>
            <a:ext cx="4697640" cy="3524400"/>
          </a:xfrm>
          <a:prstGeom prst="rect">
            <a:avLst/>
          </a:prstGeom>
          <a:ln w="0">
            <a:noFill/>
          </a:ln>
        </p:spPr>
      </p:pic>
      <p:pic>
        <p:nvPicPr>
          <p:cNvPr id="64" name="Объект 2" descr=""/>
          <p:cNvPicPr/>
          <p:nvPr/>
        </p:nvPicPr>
        <p:blipFill>
          <a:blip r:embed="rId2"/>
          <a:stretch/>
        </p:blipFill>
        <p:spPr>
          <a:xfrm>
            <a:off x="179280" y="1452600"/>
            <a:ext cx="461988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Хоровод «Порушка-порань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1" descr=""/>
          <p:cNvPicPr/>
          <p:nvPr/>
        </p:nvPicPr>
        <p:blipFill>
          <a:blip r:embed="rId1"/>
          <a:stretch/>
        </p:blipFill>
        <p:spPr>
          <a:xfrm>
            <a:off x="179280" y="1593720"/>
            <a:ext cx="5040360" cy="3384720"/>
          </a:xfrm>
          <a:prstGeom prst="rect">
            <a:avLst/>
          </a:prstGeom>
          <a:ln w="0">
            <a:noFill/>
          </a:ln>
        </p:spPr>
      </p:pic>
      <p:pic>
        <p:nvPicPr>
          <p:cNvPr id="67" name="Объект 4" descr=""/>
          <p:cNvPicPr/>
          <p:nvPr/>
        </p:nvPicPr>
        <p:blipFill>
          <a:blip r:embed="rId2"/>
          <a:stretch/>
        </p:blipFill>
        <p:spPr>
          <a:xfrm>
            <a:off x="4284720" y="3537000"/>
            <a:ext cx="45943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«Каравай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Объект 4" descr="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Объект 5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3849480" cy="5218200"/>
          </a:xfrm>
          <a:prstGeom prst="rect">
            <a:avLst/>
          </a:prstGeom>
          <a:ln w="0">
            <a:noFill/>
          </a:ln>
        </p:spPr>
      </p:pic>
      <p:pic>
        <p:nvPicPr>
          <p:cNvPr id="72" name="Объект 6" descr=""/>
          <p:cNvPicPr/>
          <p:nvPr/>
        </p:nvPicPr>
        <p:blipFill>
          <a:blip r:embed="rId2"/>
          <a:stretch/>
        </p:blipFill>
        <p:spPr>
          <a:xfrm>
            <a:off x="4970520" y="907920"/>
            <a:ext cx="370512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7993080" cy="120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Дагестанская игра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«Подними платок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4" descr=""/>
          <p:cNvPicPr/>
          <p:nvPr/>
        </p:nvPicPr>
        <p:blipFill>
          <a:blip r:embed="rId1"/>
          <a:stretch/>
        </p:blipFill>
        <p:spPr>
          <a:xfrm>
            <a:off x="108000" y="2984400"/>
            <a:ext cx="5178240" cy="32990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" descr=""/>
          <p:cNvPicPr/>
          <p:nvPr/>
        </p:nvPicPr>
        <p:blipFill>
          <a:blip r:embed="rId2"/>
          <a:stretch/>
        </p:blipFill>
        <p:spPr>
          <a:xfrm>
            <a:off x="4716360" y="1641600"/>
            <a:ext cx="42944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7993080" cy="120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Дагестанские игры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«Беляш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Объект 2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"/>
          <p:cNvPicPr/>
          <p:nvPr/>
        </p:nvPicPr>
        <p:blipFill>
          <a:blip r:embed="rId2"/>
          <a:stretch/>
        </p:blipFill>
        <p:spPr>
          <a:xfrm>
            <a:off x="4968720" y="1628640"/>
            <a:ext cx="34909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7993080" cy="120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Игры народов севера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«Мышь и угол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Объект 4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3633840" cy="48117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"/>
          <p:cNvPicPr/>
          <p:nvPr/>
        </p:nvPicPr>
        <p:blipFill>
          <a:blip r:embed="rId2"/>
          <a:stretch/>
        </p:blipFill>
        <p:spPr>
          <a:xfrm>
            <a:off x="4840200" y="161460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785880"/>
            <a:ext cx="878544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Татарские игры «Продаём крынк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Объект 1" descr=""/>
          <p:cNvPicPr/>
          <p:nvPr/>
        </p:nvPicPr>
        <p:blipFill>
          <a:blip r:embed="rId1"/>
          <a:stretch/>
        </p:blipFill>
        <p:spPr>
          <a:xfrm>
            <a:off x="395280" y="1604880"/>
            <a:ext cx="4495680" cy="39499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3" descr=""/>
          <p:cNvPicPr/>
          <p:nvPr/>
        </p:nvPicPr>
        <p:blipFill>
          <a:blip r:embed="rId2"/>
          <a:stretch/>
        </p:blipFill>
        <p:spPr>
          <a:xfrm>
            <a:off x="3976560" y="2637000"/>
            <a:ext cx="47530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Объект 3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Объект 3" descr=""/>
          <p:cNvPicPr/>
          <p:nvPr/>
        </p:nvPicPr>
        <p:blipFill>
          <a:blip r:embed="rId2"/>
          <a:stretch/>
        </p:blipFill>
        <p:spPr>
          <a:xfrm>
            <a:off x="4413240" y="1974960"/>
            <a:ext cx="431640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2960" y="765000"/>
            <a:ext cx="878508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Башкирская игра «Хвосты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5" descr=""/>
          <p:cNvPicPr/>
          <p:nvPr/>
        </p:nvPicPr>
        <p:blipFill>
          <a:blip r:embed="rId1"/>
          <a:stretch/>
        </p:blipFill>
        <p:spPr>
          <a:xfrm>
            <a:off x="4932360" y="1600200"/>
            <a:ext cx="3543480" cy="4549680"/>
          </a:xfrm>
          <a:prstGeom prst="rect">
            <a:avLst/>
          </a:prstGeom>
          <a:ln w="0">
            <a:noFill/>
          </a:ln>
        </p:spPr>
      </p:pic>
      <p:pic>
        <p:nvPicPr>
          <p:cNvPr id="89" name="Объект 7" descr="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47160" cy="57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Актуальность проект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8920" y="907560"/>
            <a:ext cx="8713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В современных условиях очевидна необходимость разработки и реализации новых подходов гражданского и патриотического воспитания. Важно донести до сознания воспитанников: образы, воспитывающие мужество, смелость, самоотверженность, героизм, а также уважение к государственной символике, любовь к родному городу, краю, Родине, многонациональным народам России. Мировоззрение педагогов и родителей, их личный пример, взгляды суждения, активная жизненная позиция – самые сильнодействующие факторы воспитания. Национальные народные игры способствуют передаче младшему поколения от старшего накопленного предками бесценного положительного опыта, касающегося рационального ведения хозяйства, жизни в гармонии с природой. Окунаясь в историческое прошлое народов России, можно выделить ряд игр и забав, в которые играли наши прабабушки и дедушки и в которые могут играть сейчас наши дети. Радость движения сочетается с духовным обогащением детей, формируя у них устойчивое отношение к культуре родной страны,   создавая  эмоционально-положительную основу для  развития патриотических чувств. Ребёнок, ставший участником проекта, реализует свои возможности в разных видах деятельности, приобретает первоначальное значение об окружающей жизни, у него начинает формироваться определенное отношение к людям и труду разных национальностей, вырабатываются навыки и привычки правильного поведения, складывается характер. Нет сомнения в том, что в результате проекта у детей будут сформированы элементы гражданственности и патриотизм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Бурятский хоровод «Ёхор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Объект 7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570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Мордовская игра «Рыбал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Объект 1" descr=""/>
          <p:cNvPicPr/>
          <p:nvPr/>
        </p:nvPicPr>
        <p:blipFill>
          <a:blip r:embed="rId1"/>
          <a:stretch/>
        </p:blipFill>
        <p:spPr>
          <a:xfrm>
            <a:off x="222120" y="1700280"/>
            <a:ext cx="4392720" cy="3462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" descr=""/>
          <p:cNvPicPr/>
          <p:nvPr/>
        </p:nvPicPr>
        <p:blipFill>
          <a:blip r:embed="rId2"/>
          <a:stretch/>
        </p:blipFill>
        <p:spPr>
          <a:xfrm>
            <a:off x="3780000" y="2349360"/>
            <a:ext cx="4949640" cy="37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еверо-осетинская игра «Кто я?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5" descr=""/>
          <p:cNvPicPr/>
          <p:nvPr/>
        </p:nvPicPr>
        <p:blipFill>
          <a:blip r:embed="rId1"/>
          <a:stretch/>
        </p:blipFill>
        <p:spPr>
          <a:xfrm>
            <a:off x="3538440" y="2492280"/>
            <a:ext cx="5148360" cy="3861000"/>
          </a:xfrm>
          <a:prstGeom prst="rect">
            <a:avLst/>
          </a:prstGeom>
          <a:ln w="0">
            <a:noFill/>
          </a:ln>
        </p:spPr>
      </p:pic>
      <p:pic>
        <p:nvPicPr>
          <p:cNvPr id="97" name="Объект 4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52728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Калмыцкая игра «Не ошибись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Объект 2" descr=""/>
          <p:cNvPicPr/>
          <p:nvPr/>
        </p:nvPicPr>
        <p:blipFill>
          <a:blip r:embed="rId1"/>
          <a:stretch/>
        </p:blipFill>
        <p:spPr>
          <a:xfrm>
            <a:off x="500040" y="1600200"/>
            <a:ext cx="3394080" cy="47656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"/>
          <p:cNvPicPr/>
          <p:nvPr/>
        </p:nvPicPr>
        <p:blipFill>
          <a:blip r:embed="rId2"/>
          <a:stretch/>
        </p:blipFill>
        <p:spPr>
          <a:xfrm>
            <a:off x="4788000" y="1568520"/>
            <a:ext cx="35971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Результаты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Дети стали более отзывчивыми, внимательными к друг к другу, сформировались элементарные знания о традициях, играх и забавах народов России, уважительное отношение к культуре разных народов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овместная деятельность родителей и детей еще более сплотила 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4360" y="981000"/>
            <a:ext cx="79200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Тип проек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ознавательно – исследовательский, коллективн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Вид проек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Группов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Продолжительность проек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Краткосрочный (2 недел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Участники проек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оспитатели, родители, де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content.foto.mail.ru/mail/19647772/_blogs/i-567.jpg"/>
          <p:cNvPicPr/>
          <p:nvPr/>
        </p:nvPicPr>
        <p:blipFill>
          <a:blip r:embed="rId1"/>
          <a:stretch/>
        </p:blipFill>
        <p:spPr>
          <a:xfrm>
            <a:off x="285840" y="4714920"/>
            <a:ext cx="1701720" cy="16984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51" name="Picture 4" descr="http://content.foto.mail.ru/mail/19647772/_blogs/i-567.jpg"/>
          <p:cNvPicPr/>
          <p:nvPr/>
        </p:nvPicPr>
        <p:blipFill>
          <a:blip r:embed="rId2"/>
          <a:stretch/>
        </p:blipFill>
        <p:spPr>
          <a:xfrm>
            <a:off x="7215120" y="4714920"/>
            <a:ext cx="1701720" cy="16984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0920" y="692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ndara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ndara"/>
              </a:rPr>
              <a:t>Формирование у детей чувства толерантности, интереса и уважения к другим национальным культурам. Обобщение и расширение знаний  детей о красоте и разнообразии игр различных народ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andara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- Формировать у детей целостное отношение к национальной культуре, традициям и играм народов Росс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- Формировать представления о разнообразии народных игр, желание использовать в самостоятельной деятельности народные игры, действовать согласно правилам; расширять кругозор де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- Способствовать укреплению семейных связей, через заинтересованность содержанием темы проекта, не только детей, но и их р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- Воспитывать уважение к людям разных национальностей и их обычаям, любовь к своей стране, гражданскую ответственность, чувство патриотизма и гордости за Родину, приобщать к истокам народной культу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85480" y="764640"/>
            <a:ext cx="8631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Методы и прием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  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- Беседы с детьми о культуре и традициях народов России.        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- Подвижные игры и забавы на тему проекта.                                                                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- Ознакомление с художественной литературой (стихи, загадки, потешки, рассказы,сказки).                                                                                                            - Рассматривание иллюстраций, просмотр мультфильмов,для старших дошкольников.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- Совместная продуктивная деятельность детей с воспитателем и родителями (изготовление атрибутов и элементов костюмов для подвижных игр и забав народов Росси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85480" y="981000"/>
            <a:ext cx="8631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огда-то мудрецы решили спрятать все тайны своих народов, чтобы не растерять их и сохранить уникальность. И договорились, что никогда не будут говорить о них вслух, а будут передавать их своим детям, чтобы те смогли передать свои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 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Так и случилось!» И до сих пор все тайны, силу и мудрость своего народа дети узнают через специальные обряды, - мы их называем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«ИГРЫ»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1187280" y="843120"/>
            <a:ext cx="6985080" cy="1008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omic Sans MS"/>
              </a:rPr>
              <a:t>Русские игры</a:t>
            </a: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579600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Русская игра «Гори-гори ясно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4" descr=""/>
          <p:cNvPicPr/>
          <p:nvPr/>
        </p:nvPicPr>
        <p:blipFill>
          <a:blip r:embed="rId1"/>
          <a:stretch/>
        </p:blipFill>
        <p:spPr>
          <a:xfrm>
            <a:off x="4788000" y="1413000"/>
            <a:ext cx="3600360" cy="4941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"/>
          <p:cNvPicPr/>
          <p:nvPr/>
        </p:nvPicPr>
        <p:blipFill>
          <a:blip r:embed="rId2"/>
          <a:stretch/>
        </p:blipFill>
        <p:spPr>
          <a:xfrm>
            <a:off x="324000" y="1428840"/>
            <a:ext cx="3738240" cy="49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Русская игра «Я по горенке иду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2" descr=""/>
          <p:cNvPicPr/>
          <p:nvPr/>
        </p:nvPicPr>
        <p:blipFill>
          <a:blip r:embed="rId1"/>
          <a:stretch/>
        </p:blipFill>
        <p:spPr>
          <a:xfrm>
            <a:off x="684360" y="1428840"/>
            <a:ext cx="3681360" cy="47815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33814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7:49:41Z</dcterms:created>
  <dc:creator>User</dc:creator>
  <dc:description/>
  <dc:language>en-US</dc:language>
  <cp:lastModifiedBy>EV-PC</cp:lastModifiedBy>
  <dcterms:modified xsi:type="dcterms:W3CDTF">2022-12-04T03:24:00Z</dcterms:modified>
  <cp:revision>78</cp:revision>
  <dc:subject/>
  <dc:title>Слайд 1</dc:title>
</cp:coreProperties>
</file>