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628-6B0D-4FDF-BB16-A14A3664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A19-69B2-466B-AA77-F1C97E44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4FC-09E9-42EA-B333-BF55899F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BF7-386D-4029-A1A9-56047E0B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E0F-75BB-49B9-8F91-62CD25A3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368-BB09-49ED-83B3-E552BAAD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4D6-9F17-4F1E-8821-08478E68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F08-A238-44EF-B41B-A1600050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210-45DB-4E05-A30A-B854BCA8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9C8-0C78-43EC-8AC9-1B21469D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398-21D7-4DEC-AA6C-F7D1E0A8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3E5-4F0E-44F9-918E-BE07DB0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007E-BA44-4C18-A6BE-F5E948F40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оект «Игры и забавы народов России»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85600" y="5444640"/>
            <a:ext cx="5429160" cy="7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ndara"/>
              </a:rPr>
              <a:t>Воспитатель: Гостюхина Н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geografia52.ucoz.ru/_ld/1/23446540.jpg"/>
          <p:cNvPicPr/>
          <p:nvPr/>
        </p:nvPicPr>
        <p:blipFill>
          <a:blip r:embed="rId1"/>
          <a:stretch/>
        </p:blipFill>
        <p:spPr>
          <a:xfrm>
            <a:off x="357120" y="2071800"/>
            <a:ext cx="3571920" cy="24289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44" name="Picture 4" descr="http://content.foto.mail.ru/mail/19647772/_blogs/i-567.jpg"/>
          <p:cNvPicPr/>
          <p:nvPr/>
        </p:nvPicPr>
        <p:blipFill>
          <a:blip r:embed="rId2"/>
          <a:stretch/>
        </p:blipFill>
        <p:spPr>
          <a:xfrm>
            <a:off x="285840" y="4714920"/>
            <a:ext cx="1701720" cy="16984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45" name="Picture 7" descr="http://mordoviatv.ru/wp-content/uploads/2014/01/1345806263_071012_038464655207.jpg"/>
          <p:cNvPicPr/>
          <p:nvPr/>
        </p:nvPicPr>
        <p:blipFill>
          <a:blip r:embed="rId3"/>
          <a:stretch/>
        </p:blipFill>
        <p:spPr>
          <a:xfrm>
            <a:off x="5214960" y="2071800"/>
            <a:ext cx="3500280" cy="242892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46" name="Picture 4" descr="http://content.foto.mail.ru/mail/19647772/_blogs/i-567.jpg"/>
          <p:cNvPicPr/>
          <p:nvPr/>
        </p:nvPicPr>
        <p:blipFill>
          <a:blip r:embed="rId4"/>
          <a:stretch/>
        </p:blipFill>
        <p:spPr>
          <a:xfrm>
            <a:off x="7215120" y="4714920"/>
            <a:ext cx="1701720" cy="16984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4267080" y="2901960"/>
            <a:ext cx="4697640" cy="352440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2" descr=""/>
          <p:cNvPicPr/>
          <p:nvPr/>
        </p:nvPicPr>
        <p:blipFill>
          <a:blip r:embed="rId2"/>
          <a:stretch/>
        </p:blipFill>
        <p:spPr>
          <a:xfrm>
            <a:off x="179280" y="1452600"/>
            <a:ext cx="46198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Хоровод «Порушка-порань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1" descr=""/>
          <p:cNvPicPr/>
          <p:nvPr/>
        </p:nvPicPr>
        <p:blipFill>
          <a:blip r:embed="rId1"/>
          <a:stretch/>
        </p:blipFill>
        <p:spPr>
          <a:xfrm>
            <a:off x="179280" y="1593720"/>
            <a:ext cx="5040360" cy="338472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4" descr=""/>
          <p:cNvPicPr/>
          <p:nvPr/>
        </p:nvPicPr>
        <p:blipFill>
          <a:blip r:embed="rId2"/>
          <a:stretch/>
        </p:blipFill>
        <p:spPr>
          <a:xfrm>
            <a:off x="4284720" y="3537000"/>
            <a:ext cx="45943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Карава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4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Объект 5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849480" cy="5218200"/>
          </a:xfrm>
          <a:prstGeom prst="rect">
            <a:avLst/>
          </a:prstGeom>
          <a:ln w="0">
            <a:noFill/>
          </a:ln>
        </p:spPr>
      </p:pic>
      <p:pic>
        <p:nvPicPr>
          <p:cNvPr id="72" name="Объект 6" descr=""/>
          <p:cNvPicPr/>
          <p:nvPr/>
        </p:nvPicPr>
        <p:blipFill>
          <a:blip r:embed="rId2"/>
          <a:stretch/>
        </p:blipFill>
        <p:spPr>
          <a:xfrm>
            <a:off x="4970520" y="907920"/>
            <a:ext cx="37051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993080" cy="120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агестанская иг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Подними плат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4" descr=""/>
          <p:cNvPicPr/>
          <p:nvPr/>
        </p:nvPicPr>
        <p:blipFill>
          <a:blip r:embed="rId1"/>
          <a:stretch/>
        </p:blipFill>
        <p:spPr>
          <a:xfrm>
            <a:off x="108000" y="2984400"/>
            <a:ext cx="5178240" cy="3299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4716360" y="1641600"/>
            <a:ext cx="4294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993080" cy="120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агестанские игры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Беляш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2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"/>
          <p:cNvPicPr/>
          <p:nvPr/>
        </p:nvPicPr>
        <p:blipFill>
          <a:blip r:embed="rId2"/>
          <a:stretch/>
        </p:blipFill>
        <p:spPr>
          <a:xfrm>
            <a:off x="4968720" y="1628640"/>
            <a:ext cx="34909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993080" cy="120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Игры народов севе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Мышь и уго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4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3633840" cy="48117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2"/>
          <a:stretch/>
        </p:blipFill>
        <p:spPr>
          <a:xfrm>
            <a:off x="4840200" y="161460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785880"/>
            <a:ext cx="87854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Татарские игры «Продаём крын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Объект 1" descr=""/>
          <p:cNvPicPr/>
          <p:nvPr/>
        </p:nvPicPr>
        <p:blipFill>
          <a:blip r:embed="rId1"/>
          <a:stretch/>
        </p:blipFill>
        <p:spPr>
          <a:xfrm>
            <a:off x="395280" y="1604880"/>
            <a:ext cx="4495680" cy="3949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"/>
          <p:cNvPicPr/>
          <p:nvPr/>
        </p:nvPicPr>
        <p:blipFill>
          <a:blip r:embed="rId2"/>
          <a:stretch/>
        </p:blipFill>
        <p:spPr>
          <a:xfrm>
            <a:off x="3976560" y="2637000"/>
            <a:ext cx="47530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Объект 3" descr=""/>
          <p:cNvPicPr/>
          <p:nvPr/>
        </p:nvPicPr>
        <p:blipFill>
          <a:blip r:embed="rId2"/>
          <a:stretch/>
        </p:blipFill>
        <p:spPr>
          <a:xfrm>
            <a:off x="4413240" y="1974960"/>
            <a:ext cx="431640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2960" y="765000"/>
            <a:ext cx="87850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Башкирская игра «Хвост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1"/>
          <a:stretch/>
        </p:blipFill>
        <p:spPr>
          <a:xfrm>
            <a:off x="4932360" y="1600200"/>
            <a:ext cx="3543480" cy="4549680"/>
          </a:xfrm>
          <a:prstGeom prst="rect">
            <a:avLst/>
          </a:prstGeom>
          <a:ln w="0">
            <a:noFill/>
          </a:ln>
        </p:spPr>
      </p:pic>
      <p:pic>
        <p:nvPicPr>
          <p:cNvPr id="89" name="Объект 7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4716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 проек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8920" y="90756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современных условиях очевидна необходимость разработки и реализации новых подходов гражданского и патриотического воспитания. Важно донести до сознания воспитанников: образы, воспитывающие мужество, смелость, самоотверженность, героизм, а также уважение к государственной символике, любовь к родному городу, краю, Родине, многонациональным народам России. Мировоззрение педагогов и родителей, их личный пример, взгляды суждения, активная жизненная позиция – самые сильнодействующие факторы воспитания. Национальные народные игры способствуют передаче младшему поколения от старшего накопленного предками бесценного положительного опыта, касающегося рационального ведения хозяйства, жизни в гармонии с природой. Окунаясь в историческое прошлое народов России, можно выделить ряд игр и забав, в которые играли наши прабабушки и дедушки и в которые могут играть сейчас наши дети. Радость движения сочетается с духовным обогащением детей, формируя у них устойчивое отношение к культуре родной страны,   создавая  эмоционально-положительную основу для  развития патриотических чувств. Ребёнок, ставший участником проекта, реализует свои возможности в разных видах деятельности, приобретает первоначальное значение об окружающей жизни, у него начинает формироваться определенное отношение к людям и труду разных национальностей, вырабатываются навыки и привычки правильного поведения, складывается характер. Нет сомнения в том, что в результате проекта у детей будут сформированы элементы гражданственности и патриотиз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Бурятский хоровод «Ёхор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7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570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Мордовская игра «Рыбал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Объект 1" descr=""/>
          <p:cNvPicPr/>
          <p:nvPr/>
        </p:nvPicPr>
        <p:blipFill>
          <a:blip r:embed="rId1"/>
          <a:stretch/>
        </p:blipFill>
        <p:spPr>
          <a:xfrm>
            <a:off x="222120" y="1700280"/>
            <a:ext cx="4392720" cy="3462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494964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еверо-осетинская игра «Кто я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"/>
          <p:cNvPicPr/>
          <p:nvPr/>
        </p:nvPicPr>
        <p:blipFill>
          <a:blip r:embed="rId1"/>
          <a:stretch/>
        </p:blipFill>
        <p:spPr>
          <a:xfrm>
            <a:off x="3538440" y="2492280"/>
            <a:ext cx="5148360" cy="3861000"/>
          </a:xfrm>
          <a:prstGeom prst="rect">
            <a:avLst/>
          </a:prstGeom>
          <a:ln w="0">
            <a:noFill/>
          </a:ln>
        </p:spPr>
      </p:pic>
      <p:pic>
        <p:nvPicPr>
          <p:cNvPr id="97" name="Объект 4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5272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лмыцкая игра «Не ошибись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2" descr=""/>
          <p:cNvPicPr/>
          <p:nvPr/>
        </p:nvPicPr>
        <p:blipFill>
          <a:blip r:embed="rId1"/>
          <a:stretch/>
        </p:blipFill>
        <p:spPr>
          <a:xfrm>
            <a:off x="500040" y="1600200"/>
            <a:ext cx="3394080" cy="47656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2"/>
          <a:stretch/>
        </p:blipFill>
        <p:spPr>
          <a:xfrm>
            <a:off x="4788000" y="1568520"/>
            <a:ext cx="3597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Результат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ети стали более отзывчивыми, внимательными к друг к другу, сформировались элементарные знания о традициях, играх и забавах народов России, уважительное отношение к культуре разных народов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овместная деятельность родителей и детей еще более сплотила 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360" y="981000"/>
            <a:ext cx="7920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Тип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знавательно – исследовательский, коллектив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Вид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Групп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Продолжительность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раткосрочный (2 недел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спитатели, родители, де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content.foto.mail.ru/mail/19647772/_blogs/i-567.jpg"/>
          <p:cNvPicPr/>
          <p:nvPr/>
        </p:nvPicPr>
        <p:blipFill>
          <a:blip r:embed="rId1"/>
          <a:stretch/>
        </p:blipFill>
        <p:spPr>
          <a:xfrm>
            <a:off x="285840" y="4714920"/>
            <a:ext cx="1701720" cy="16984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1" name="Picture 4" descr="http://content.foto.mail.ru/mail/19647772/_blogs/i-567.jpg"/>
          <p:cNvPicPr/>
          <p:nvPr/>
        </p:nvPicPr>
        <p:blipFill>
          <a:blip r:embed="rId2"/>
          <a:stretch/>
        </p:blipFill>
        <p:spPr>
          <a:xfrm>
            <a:off x="7215120" y="4714920"/>
            <a:ext cx="1701720" cy="16984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692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ndara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ndara"/>
              </a:rPr>
              <a:t>Формирование у детей чувства толерантности, интереса и уважения к другим национальным культурам. Обобщение и расширение знаний  детей о красоте и разнообразии игр различных народ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ndar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Формировать у детей целостное отношение к национальной культуре, традициям и играм народов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Формировать представления о разнообразии народных игр, желание использовать в самостоятельной деятельности народные игры, действовать согласно правилам; расширять кругозор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Способствовать укреплению семейных связей, через заинтересованность содержанием темы проекта, не только детей, но и их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Воспитывать уважение к людям разных национальностей и их обычаям, любовь к своей стране, гражданскую ответственность, чувство патриотизма и гордости за Родину, приобщать к истокам народной куль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5480" y="764640"/>
            <a:ext cx="8631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Методы и при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Беседы с детьми о культуре и традициях народов России. 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Подвижные игры и забавы на тему проекта.                                                             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Ознакомление с художественной литературой (стихи, загадки, потешки, рассказы,сказки).                                                                                                            - Рассматривание иллюстраций, просмотр мультфильмов,для старших дошкольников.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Совместная продуктивная деятельность детей с воспитателем и родителями (изготовление атрибутов и элементов костюмов для подвижных игр и забав народов Росс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981000"/>
            <a:ext cx="8631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огда-то мудрецы решили спрятать все тайны своих народов, чтобы не растерять их и сохранить уникальность. И договорились, что никогда не будут говорить о них вслух, а будут передавать их своим детям, чтобы те смогли передать сво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 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ак и случилось!» И до сих пор все тайны, силу и мудрость своего народа дети узнают через специальные обряды, - мы их называем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«ИГРЫ»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1187280" y="843120"/>
            <a:ext cx="6985080" cy="1008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omic Sans MS"/>
              </a:rPr>
              <a:t>Русские игры</a:t>
            </a: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7960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Русская игра «Гори-гори ясн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4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600360" cy="4941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24000" y="1428840"/>
            <a:ext cx="37382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Русская игра «Я по горенке ид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2" descr=""/>
          <p:cNvPicPr/>
          <p:nvPr/>
        </p:nvPicPr>
        <p:blipFill>
          <a:blip r:embed="rId1"/>
          <a:stretch/>
        </p:blipFill>
        <p:spPr>
          <a:xfrm>
            <a:off x="684360" y="1428840"/>
            <a:ext cx="3681360" cy="47815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3814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User</dc:creator>
  <dc:description/>
  <dc:language>en-US</dc:language>
  <cp:lastModifiedBy>EV-PC</cp:lastModifiedBy>
  <dcterms:modified xsi:type="dcterms:W3CDTF">2022-12-04T03:24:00Z</dcterms:modified>
  <cp:revision>78</cp:revision>
  <dc:subject/>
  <dc:title>Слайд 1</dc:title>
</cp:coreProperties>
</file>