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FB2DD-34F2-41F8-95D5-1DAA48C4B7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913AC-5721-43BF-9840-092469925D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F6EF3-80A4-4057-ACE6-E008CF8BB8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BF362-0FB0-49BC-AA50-56E96BAB4A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9EF3A-50CF-4C8C-9C2E-97B2DC7DC7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978DF-7703-4894-9412-F1A3BE4487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67ACB-9CFB-4D5B-B8CD-F6EAEEAB9B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67E-B7E1-45CB-A70C-5482B5DD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00A-A030-44C4-94A4-AF8855A0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252-C2BE-4A70-AF6B-66EA74B3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166-43CE-4BD9-A91E-BEFDD908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DDD6-8905-4BD8-B5E8-7D794B1F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1D4E-25C5-458A-AB93-AF4E28EC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7CD1-583A-4E7E-B11D-091770BC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AC19-98E5-4DED-9C49-FF1F5B8D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F676-E6D1-4D50-85A1-510CD0B3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3C4F-5D20-4EFA-8512-81A5E888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8417-E8F3-4FD1-AD0F-0976B180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09B-DD88-4D6F-B62A-B358FBDE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358A-6E88-4550-92A3-A6F9B13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34C8-BCCE-4C1A-8C17-EBC3744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462-60A4-4E01-8DAA-32CF7489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80A2-C035-4F74-8155-E605B4A6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54F6-74E1-4F7A-8726-13D51FCF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4CE29-BF22-4B1F-B288-5047D3F5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9A390-795C-4F4C-8638-6B84EB4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743FF-3982-4DBC-87DE-2006A43E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A49CE-1BF6-43B0-A257-4A60B97B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50ED2-5C91-4DC9-9B1C-8E5F3A34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139-EA84-46BB-8C04-AA47FD30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042A5-3092-40F7-8A63-B0123071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68904-F19E-4911-B496-46ABD5D0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4F46A-5FE3-40D3-9AE7-3D04B0D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C37AB-5BFC-46AF-A459-CD3C7909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18AED-B731-4A4E-82AE-151B1910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91C59-D629-480E-B924-2B493B3A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6D03D-645F-464B-B06F-644D5B85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4F5C8-6869-4B17-ADE1-337D5665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68ED-FB24-4B58-9CA4-7BE603C4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3EE1-78F0-409A-9CDA-4073E9A4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925-0B2C-4906-871E-634E5228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18E12-22A1-44DC-A2E5-1AEFF0EF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3007-CC57-4E4E-9DBE-3C6A0E0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3586-0792-457D-A089-82D6794A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5CC9-4B4B-4F0F-8444-C20310F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5EC31-4F90-4208-AC0F-AD68B43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DE66-BDAA-412D-940A-9469FFC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348D-3D3E-4EF8-A377-F1225DA3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91821-F604-4288-B1D0-A6887096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086BE-9158-486B-8564-1D7BEAFC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130BD-74CB-4490-A751-ABB72BB0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A54-ED0A-4FE4-993F-D6D7C77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EB221-4D26-4BF1-8FBF-D1560F33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71B78-AF30-4123-892E-B44B4BF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E4B8F-0A01-4B57-A4D0-00A909C9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C823A-4E90-49B6-846E-3FB1996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C8309-B49E-4900-8817-CF11FC5F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4FB7D-31C1-40A0-8350-8F3F855F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62E3D-CA9A-4C92-9C3C-5335EE41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A072B-06D8-44E0-84C0-5B1C13B7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017A4-D213-4669-A680-4C552EFB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7527E-1959-4EBE-9985-03D37A57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211-5F3A-41C5-88D8-92D59752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E29F2-ED6D-40B2-9CE4-29C1722B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43056-5390-4D4C-9958-20BE42A2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AE8DE-E46C-4DFD-8810-675B226B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19E37-9C21-43E0-B9E1-9E01A66B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EA411-45CD-47BC-AA0D-1D8BB95A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2CE8F-FE51-4017-87E7-1038FC59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5B784-68C5-414C-90C7-3CF368D5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8A74E-9709-4B02-A089-CB6B999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51C72-E87C-4F5F-B777-C6E15F8E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FB347-E033-4EAA-851A-A62AAC7A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07C-E5FA-4364-959E-820402DC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01292-BB5C-48A7-A4F0-68B68ADC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D2E3F-AB25-4C1B-9E48-AEAFA40D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1D448-3867-4050-AD5D-94BF74AF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9BAB8-C2D5-4365-BD58-BBFEDD6E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5FDB5-8C9E-49C7-8BA7-811FDC76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B0B7E-8451-4755-AFFC-CAEFDE5A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AD7ED-E5CD-445F-8C5F-925E1B9E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3237A-3421-43CD-9ACB-2BBD5A71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A491E-DA3A-4738-A13A-D9E76611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46B41-6F45-44AB-96A7-76BDEF3A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F8E-D2AB-4901-831D-9D63F83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7FFFE-5B10-4663-8A4A-3EE2030C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AF2FB-8C3A-4B9E-B9D2-5F45971D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0E0F8-6D23-4073-8E95-67B1FEDD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BDE3E-2EAB-4D65-B4BA-72E2DE9C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F2C08-693B-4748-8715-563AE4A6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80A-4166-41B0-9619-B339303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8CB02-B131-43A6-A8BC-393795B743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922CA-3740-4744-8E22-1B2F4103C2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15C05-12AB-497B-B696-EA89A33875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D3F31-F61A-46ED-8680-DE6914A9AF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C1B14-004C-4F82-8523-2B9BD1E72A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03711-A2A4-4180-8095-B716992D06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EE57C-DA91-4AB3-92B1-FC77D3BEC7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395280" y="133596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Развивающая  предметно-пространственная  сре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в средней групп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7"/>
          <p:cNvSpPr/>
          <p:nvPr/>
        </p:nvSpPr>
        <p:spPr>
          <a:xfrm>
            <a:off x="4067280" y="465300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Подгото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воспитатель  МКДОУ «Детский сад «Солнышко»  г. Щигры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Филатова Еле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"/>
          <p:cNvSpPr/>
          <p:nvPr/>
        </p:nvSpPr>
        <p:spPr>
          <a:xfrm flipV="1" rot="10800000">
            <a:off x="468000" y="2635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5"/>
          <p:cNvSpPr/>
          <p:nvPr/>
        </p:nvSpPr>
        <p:spPr>
          <a:xfrm>
            <a:off x="1433160" y="765000"/>
            <a:ext cx="68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опытно-эксперимент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395280" y="112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В нём находится материал для осуществления опытной деятельности: лупы, колбы, мерные стаканчики, песочные часы, воронки, весы, термометры, природный материал, крупы, картотека игр-экспери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9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253836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7"/>
          <p:cNvSpPr/>
          <p:nvPr/>
        </p:nvSpPr>
        <p:spPr>
          <a:xfrm>
            <a:off x="5076720" y="508464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ород на окошке»- элемент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D:\Фотографии Презентации Видео\Фотографии\фото 2021г\Огород на окне\IMG_6088.JPG"/>
          <p:cNvPicPr/>
          <p:nvPr/>
        </p:nvPicPr>
        <p:blipFill>
          <a:blip r:embed="rId2"/>
          <a:stretch/>
        </p:blipFill>
        <p:spPr>
          <a:xfrm>
            <a:off x="900000" y="4797360"/>
            <a:ext cx="403236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 flipV="1" rot="10800000">
            <a:off x="468000" y="2635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3348360" y="7650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Уголок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Users\Ирина\Desktop\ПРС в группе\IMG20210405155647.jpg"/>
          <p:cNvPicPr/>
          <p:nvPr/>
        </p:nvPicPr>
        <p:blipFill>
          <a:blip r:embed="rId1"/>
          <a:stretch/>
        </p:blipFill>
        <p:spPr>
          <a:xfrm>
            <a:off x="395280" y="1413000"/>
            <a:ext cx="4110120" cy="45813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6"/>
          <p:cNvSpPr/>
          <p:nvPr/>
        </p:nvSpPr>
        <p:spPr>
          <a:xfrm>
            <a:off x="4643280" y="1341360"/>
            <a:ext cx="410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Уголок природы расположен рядом с уголком экспериментирования. В уголке природы размещены  цветы и инструменты по уходу за растениями: палочки для рыхления, пульверизатор, л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У детей 4-5 лет необходимо формировать  умение сравнивать предметы по форме, величине, текстуре поверхности, устанавливать сходство и различие, обобщать по тем или иным признакам. Поэтому в средней группе уголок  природы пополняется растениями, имеющими разную форму и величину листьев (узорчатые опушенные листья, с зазубринами по краям); различную степень пол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357120" y="13644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знавательное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3"/>
          <p:cNvSpPr/>
          <p:nvPr/>
        </p:nvSpPr>
        <p:spPr>
          <a:xfrm>
            <a:off x="447840" y="7142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настольно-печатны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324000" y="1484280"/>
            <a:ext cx="36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Разновидность основной деятельности дошкольников, направленной на аналитический  подход в решении игровой ситуации, представленной в форме наглядного пособия,  называется настольно-печатной или дидактической иг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К таким играм относятся: мозаика; дидактические игры в картинках (например, набор  предметов для игры «Третий лишний»); пазлы; лото; домино; шашк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D:\АТТЕСТАЦИЯ\аттестация воспитателей\Канищева\аттестация 2022 г\Центры активности\20201030_124726.jpg"/>
          <p:cNvPicPr/>
          <p:nvPr/>
        </p:nvPicPr>
        <p:blipFill>
          <a:blip r:embed="rId1"/>
          <a:stretch/>
        </p:blipFill>
        <p:spPr>
          <a:xfrm>
            <a:off x="4427640" y="4724280"/>
            <a:ext cx="3738600" cy="1036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Ирина\Desktop\ПРС в группе\IMG_2592.JPG"/>
          <p:cNvPicPr/>
          <p:nvPr/>
        </p:nvPicPr>
        <p:blipFill>
          <a:blip r:embed="rId2"/>
          <a:stretch/>
        </p:blipFill>
        <p:spPr>
          <a:xfrm>
            <a:off x="4356000" y="1628640"/>
            <a:ext cx="37450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"/>
          <p:cNvSpPr/>
          <p:nvPr/>
        </p:nvSpPr>
        <p:spPr>
          <a:xfrm flipV="1" rot="10800000">
            <a:off x="468000" y="2635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3290760" y="7650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мо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C:\Users\Ирина\Desktop\ПРС в группе\IMG_2668.JPG"/>
          <p:cNvPicPr/>
          <p:nvPr/>
        </p:nvPicPr>
        <p:blipFill>
          <a:blip r:embed="rId1"/>
          <a:stretch/>
        </p:blipFill>
        <p:spPr>
          <a:xfrm>
            <a:off x="4932360" y="4437000"/>
            <a:ext cx="3714840" cy="2168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Ирина\Desktop\ПРС в группе\IMG_2595.JPG"/>
          <p:cNvPicPr/>
          <p:nvPr/>
        </p:nvPicPr>
        <p:blipFill>
          <a:blip r:embed="rId2"/>
          <a:stretch/>
        </p:blipFill>
        <p:spPr>
          <a:xfrm>
            <a:off x="324000" y="4435560"/>
            <a:ext cx="4319280" cy="2209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Users\Ирина\Downloads\IMG20221202164024.jpg"/>
          <p:cNvPicPr/>
          <p:nvPr/>
        </p:nvPicPr>
        <p:blipFill>
          <a:blip r:embed="rId3"/>
          <a:stretch/>
        </p:blipFill>
        <p:spPr>
          <a:xfrm>
            <a:off x="324000" y="1413000"/>
            <a:ext cx="5572080" cy="280800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11"/>
          <p:cNvSpPr/>
          <p:nvPr/>
        </p:nvSpPr>
        <p:spPr>
          <a:xfrm>
            <a:off x="6012000" y="1413000"/>
            <a:ext cx="27367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оснащён домино, мозаикой, шнуровкой, дидактическими играми изготовленными  своими руками   для развития сенсорики и мелкой моторики. В группе имеется бизиборд «Ми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 flipV="1" rot="10800000">
            <a:off x="611280" y="321120"/>
            <a:ext cx="78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900000" y="83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ahoma"/>
              </a:rPr>
              <a:t>Математический уго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6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184320" y="20916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62110"/>
                </a:solidFill>
                <a:latin typeface="Times New Roman"/>
                <a:ea typeface="Tahoma"/>
              </a:rPr>
              <a:t>Речевое 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Рисунок 6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3024360" cy="25592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7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4537080" cy="255276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8"/>
          <p:cNvSpPr/>
          <p:nvPr/>
        </p:nvSpPr>
        <p:spPr>
          <a:xfrm>
            <a:off x="3107160" y="83664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Уголок «Речевич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C:\Users\Ирина\Desktop\ПРС в группе\IMG20210330163232.jpg"/>
          <p:cNvPicPr/>
          <p:nvPr/>
        </p:nvPicPr>
        <p:blipFill>
          <a:blip r:embed="rId3"/>
          <a:stretch/>
        </p:blipFill>
        <p:spPr>
          <a:xfrm>
            <a:off x="4500720" y="1341360"/>
            <a:ext cx="374328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357120" y="174240"/>
            <a:ext cx="81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Речевое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"/>
          <p:cNvSpPr/>
          <p:nvPr/>
        </p:nvSpPr>
        <p:spPr>
          <a:xfrm>
            <a:off x="1000080" y="714240"/>
            <a:ext cx="73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Литературный центр (книжный угол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4"/>
          <p:cNvSpPr/>
          <p:nvPr/>
        </p:nvSpPr>
        <p:spPr>
          <a:xfrm>
            <a:off x="3924360" y="1413000"/>
            <a:ext cx="45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16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Содержание литературного  центра  (книжного уголка)  соответствует возрас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собенностям детей данного возраста, реализуемой в дошкольном  учреждении образовательной программе. В нем находятся  книги с  художественными произведениями  детских писателей, сказки, детские  периодические издания, энциклопедии и др. Главный  принцип подбора книгоиздательской  продукции – минимум текста –максимум иллюстраций. В центре  книги помещается фотография  писателя, с творчеством которого  дети знакомятся в данный момент,  его литературные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рганизуются выст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097080" cy="4915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>
            <a:off x="357120" y="241200"/>
            <a:ext cx="81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Художественно-эстетическое 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3"/>
          <p:cNvSpPr/>
          <p:nvPr/>
        </p:nvSpPr>
        <p:spPr>
          <a:xfrm>
            <a:off x="2187720" y="857160"/>
            <a:ext cx="53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изобразительного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C:\Users\Ирина\Desktop\ПРС в группе\IMG20201105083713.jpg"/>
          <p:cNvPicPr/>
          <p:nvPr/>
        </p:nvPicPr>
        <p:blipFill>
          <a:blip r:embed="rId1"/>
          <a:stretch/>
        </p:blipFill>
        <p:spPr>
          <a:xfrm>
            <a:off x="324000" y="1484280"/>
            <a:ext cx="5832360" cy="516888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7"/>
          <p:cNvSpPr/>
          <p:nvPr/>
        </p:nvSpPr>
        <p:spPr>
          <a:xfrm>
            <a:off x="3203640" y="1484280"/>
            <a:ext cx="5472000" cy="332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ль создания  центра: формирование интереса к изобразительной деятельности, развитие воображения, фантазии, мелкой моторики рук, воспитание аккуратности, самостоятельности, усидчивости.  Уголок выполняет образовательную функцию, приобщает детей к изобразительному искусству, к декоративно - прикладному искусст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борудование и материалы: карандаши,  пластилин, бумага, доски для лепки, раскраски, линейки, фломастеры,трафареты</a:t>
            </a:r>
            <a:r>
              <a:rPr b="0" lang="ru-RU" sz="1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"/>
          <p:cNvSpPr/>
          <p:nvPr/>
        </p:nvSpPr>
        <p:spPr>
          <a:xfrm>
            <a:off x="368280" y="291960"/>
            <a:ext cx="815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Художественно-эстетическое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"/>
          <p:cNvSpPr/>
          <p:nvPr/>
        </p:nvSpPr>
        <p:spPr>
          <a:xfrm>
            <a:off x="642960" y="98100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театрализованных (драматических иг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4140360" y="1566360"/>
            <a:ext cx="4535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В центр театрализованных (драматических игр)</a:t>
            </a:r>
            <a:r>
              <a:rPr b="0" lang="ru-RU" sz="14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имеются  различные виды театра (перчаточный пальчиковый, деревянный, настольный, на магнитах и т.д.), маленькая ширма для настольного театра, атрибуты для ряженья – элементы костюмов (шляпы, шарфы,  юбки, сумки, зонты, бусы и прочее).  Имеются костюмы, маски и атрибуты для разыгрывания сказок «Теремок», «Волк и семеро козлят». Имеется картотека театрализованных иг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C:\Users\Ирина\Desktop\ПРС в группе\20190522_122900.jpg"/>
          <p:cNvPicPr/>
          <p:nvPr/>
        </p:nvPicPr>
        <p:blipFill>
          <a:blip r:embed="rId1"/>
          <a:stretch/>
        </p:blipFill>
        <p:spPr>
          <a:xfrm>
            <a:off x="324000" y="1700280"/>
            <a:ext cx="3798720" cy="4897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D:\Фотографии Презентации Видео\Фотографии\фото 2022г\мастер класс театр на дисках 14.01.2022\6.JPG"/>
          <p:cNvPicPr/>
          <p:nvPr/>
        </p:nvPicPr>
        <p:blipFill>
          <a:blip r:embed="rId2"/>
          <a:stretch/>
        </p:blipFill>
        <p:spPr>
          <a:xfrm>
            <a:off x="4859280" y="5157720"/>
            <a:ext cx="2952720" cy="1384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Users\Ирина\Desktop\ПРС в группе\IMG_2895.JPG"/>
          <p:cNvPicPr/>
          <p:nvPr/>
        </p:nvPicPr>
        <p:blipFill>
          <a:blip r:embed="rId3"/>
          <a:stretch/>
        </p:blipFill>
        <p:spPr>
          <a:xfrm>
            <a:off x="4859280" y="3645000"/>
            <a:ext cx="288144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368280" y="291960"/>
            <a:ext cx="815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Художественно-эстетическое 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642960" y="87624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7"/>
          <p:cNvSpPr/>
          <p:nvPr/>
        </p:nvSpPr>
        <p:spPr>
          <a:xfrm>
            <a:off x="5148360" y="1628640"/>
            <a:ext cx="338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музыки - это место, где дети познают музыку и ее красоту.  Благодаря этому процессу ребенку прививается желание любить и познавать прекрасное.  Центр поможет  развить воображение , активизировать эмоциональную сферу, мышление, речь. Здесь имеются разнообразные детские музыкальные инструменты, иллюстрации с портретами композиторов, иллюстрации с музыкальными инструментами, дидактические игры на развитие музыкального сл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8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32288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6" name="Picture 11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4390920" cy="26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3"/>
          <p:cNvSpPr/>
          <p:nvPr/>
        </p:nvSpPr>
        <p:spPr>
          <a:xfrm>
            <a:off x="250920" y="404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92403"/>
                </a:solidFill>
                <a:latin typeface="Times New Roman"/>
                <a:ea typeface="Tahoma"/>
              </a:rPr>
              <a:t>Согласно ФГОС ДО для обеспечения качественного образовательного процесса в ДОО и группах должны быть созданы определенные условия развития детей – предметно-пространственная среда, разные аспекты образовательной деятельности организации, содержание и методы образования, взаимодействие разных субъектов внутри образовательного процесса, психолого-педагогические  усло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D:\Оформление\Картинки\картинки\chitat-malen-komu-rebenku.png"/>
          <p:cNvPicPr/>
          <p:nvPr/>
        </p:nvPicPr>
        <p:blipFill>
          <a:blip r:embed="rId1"/>
          <a:stretch/>
        </p:blipFill>
        <p:spPr>
          <a:xfrm>
            <a:off x="2500200" y="274788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>
            <a:off x="357120" y="134640"/>
            <a:ext cx="81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Times New Roman"/>
                <a:ea typeface="Calibri"/>
              </a:rPr>
              <a:t>Физическое   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3"/>
          <p:cNvSpPr/>
          <p:nvPr/>
        </p:nvSpPr>
        <p:spPr>
          <a:xfrm>
            <a:off x="611280" y="692280"/>
            <a:ext cx="80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двигательной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7"/>
          <p:cNvSpPr/>
          <p:nvPr/>
        </p:nvSpPr>
        <p:spPr>
          <a:xfrm>
            <a:off x="324000" y="1413000"/>
            <a:ext cx="410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сновное назначение центра двигательной активности – формирование ценностного отношения у детей к своему здоровью и совершенствование двигательных навыков и ум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Оборудование и материалы:  мячи, обручи, кегли, мешочки с песком, «кольцеброс», атрибуты для проведения подвижны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C:\Users\Ирина\Desktop\ПРС в группе\IMG20221129074056.jpg"/>
          <p:cNvPicPr/>
          <p:nvPr/>
        </p:nvPicPr>
        <p:blipFill>
          <a:blip r:embed="rId1"/>
          <a:stretch/>
        </p:blipFill>
        <p:spPr>
          <a:xfrm>
            <a:off x="4788000" y="1341360"/>
            <a:ext cx="3649680" cy="53276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D:\Фотографии Презентации Видео\Фотографии\фото 2021г\Уголки ФИЗО 2021\IMG_20210216_140548.jpg"/>
          <p:cNvPicPr/>
          <p:nvPr/>
        </p:nvPicPr>
        <p:blipFill>
          <a:blip r:embed="rId2"/>
          <a:stretch/>
        </p:blipFill>
        <p:spPr>
          <a:xfrm>
            <a:off x="250920" y="4508640"/>
            <a:ext cx="441792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"/>
          <p:cNvSpPr/>
          <p:nvPr/>
        </p:nvSpPr>
        <p:spPr>
          <a:xfrm>
            <a:off x="900000" y="704160"/>
            <a:ext cx="712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Таким образом, развивающая  предметно-пространственная среда, созданная в  средней группе,  обеспечивает</a:t>
            </a: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: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 </a:t>
            </a: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-максимальную реализацию образовательного потенц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92403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наиболее эффективное развитие индивидуальности каждого ребёнка с учётом его склонностей, интересов, уровня активности;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92403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возможность общения и совместной деятельности детей и взросл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-возможность двигательной активност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2403"/>
                </a:solidFill>
                <a:latin typeface="Times New Roman"/>
                <a:ea typeface="Tahoma"/>
              </a:rPr>
              <a:t>- возможность для уед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https://mypresentation.ru/documents_6/06ed66114414b0c67d5b4aa6964a4ffc/img7.jpg"/>
          <p:cNvPicPr/>
          <p:nvPr/>
        </p:nvPicPr>
        <p:blipFill>
          <a:blip r:embed="rId1"/>
          <a:srcRect l="4724" t="44882" r="5499" b="4724"/>
          <a:stretch/>
        </p:blipFill>
        <p:spPr>
          <a:xfrm>
            <a:off x="1547640" y="4221000"/>
            <a:ext cx="547236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900000" y="18324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92403"/>
                </a:solidFill>
                <a:latin typeface="Times New Roman"/>
                <a:ea typeface="Tahoma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92403"/>
                </a:solidFill>
                <a:latin typeface="Times New Roman"/>
                <a:ea typeface="Tahoma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4"/>
          <p:cNvSpPr/>
          <p:nvPr/>
        </p:nvSpPr>
        <p:spPr>
          <a:xfrm>
            <a:off x="324000" y="98100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При построении развивающей предметно-пространственной среды мы учитывали следующие принципы: насыщенности, трансформируемости; вариативности; полифункциональности; безопасности;  принцип открытости и  доступ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635280" y="3068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В группе созданы условия реализации образовательных облас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6" descr="56fe363bc29c7eec1f431b4c5c6e668a.jpg"/>
          <p:cNvPicPr/>
          <p:nvPr/>
        </p:nvPicPr>
        <p:blipFill>
          <a:blip r:embed="rId1"/>
          <a:stretch/>
        </p:blipFill>
        <p:spPr>
          <a:xfrm>
            <a:off x="684360" y="2997360"/>
            <a:ext cx="2581200" cy="3527280"/>
          </a:xfrm>
          <a:prstGeom prst="rect">
            <a:avLst/>
          </a:prstGeom>
          <a:ln w="9360">
            <a:solidFill>
              <a:srgbClr val="592403"/>
            </a:solidFill>
            <a:miter/>
          </a:ln>
        </p:spPr>
      </p:pic>
      <p:sp>
        <p:nvSpPr>
          <p:cNvPr id="368" name="Прямоугольник 8"/>
          <p:cNvSpPr/>
          <p:nvPr/>
        </p:nvSpPr>
        <p:spPr>
          <a:xfrm>
            <a:off x="3708360" y="3789360"/>
            <a:ext cx="4608720" cy="40968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социально-коммуникатив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9"/>
          <p:cNvSpPr/>
          <p:nvPr/>
        </p:nvSpPr>
        <p:spPr>
          <a:xfrm>
            <a:off x="3708360" y="4365720"/>
            <a:ext cx="4608720" cy="40932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познаватель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1"/>
          <p:cNvSpPr/>
          <p:nvPr/>
        </p:nvSpPr>
        <p:spPr>
          <a:xfrm>
            <a:off x="3708360" y="5516640"/>
            <a:ext cx="4608720" cy="41112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художественно-эстетическое 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2"/>
          <p:cNvSpPr/>
          <p:nvPr/>
        </p:nvSpPr>
        <p:spPr>
          <a:xfrm>
            <a:off x="3708360" y="4941720"/>
            <a:ext cx="4608720" cy="40968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речевое 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3"/>
          <p:cNvSpPr/>
          <p:nvPr/>
        </p:nvSpPr>
        <p:spPr>
          <a:xfrm>
            <a:off x="3708360" y="6021360"/>
            <a:ext cx="4608720" cy="409680"/>
          </a:xfrm>
          <a:prstGeom prst="rect">
            <a:avLst/>
          </a:prstGeom>
          <a:solidFill>
            <a:srgbClr val="f87d1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физическое  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https://dou90.chel.prosadiki.ru/media/2019/05/26/1262242884/25434707.png"/>
          <p:cNvPicPr/>
          <p:nvPr/>
        </p:nvPicPr>
        <p:blipFill>
          <a:blip r:embed="rId2"/>
          <a:stretch/>
        </p:blipFill>
        <p:spPr>
          <a:xfrm>
            <a:off x="6012000" y="1125360"/>
            <a:ext cx="2815920" cy="112428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14"/>
          <p:cNvSpPr/>
          <p:nvPr/>
        </p:nvSpPr>
        <p:spPr>
          <a:xfrm>
            <a:off x="32400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92403"/>
                </a:solidFill>
                <a:latin typeface="Times New Roman"/>
                <a:ea typeface="Times New Roman"/>
              </a:rPr>
              <a:t>Предметно-развивающая среда спроектирована в соответствии с ФГОС ДО и с учетом  образовательной программы, реализуемой в ДО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 flipV="1" rot="10800000">
            <a:off x="611280" y="18108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92403"/>
                </a:solidFill>
                <a:latin typeface="Times New Roman"/>
                <a:ea typeface="Tahom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692360" y="765000"/>
            <a:ext cx="60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592403"/>
                </a:solidFill>
                <a:latin typeface="Times New Roman"/>
                <a:ea typeface="Tahoma"/>
              </a:rPr>
              <a:t>Центр сюжетно-ролевы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250920" y="1341360"/>
            <a:ext cx="504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Создание такой  игровой зоны помогает воспитывать умение общаться со сверстниками, играть в коллективе,  формирует умение договариваться, распределять роли, обогащает словарный запас детей, развивает коммуникативные и нравственные способности, учит играть группами, развивает  речь.</a:t>
            </a:r>
            <a:r>
              <a:rPr b="0" lang="ru-RU" sz="1800" spc="-1" strike="noStrike">
                <a:solidFill>
                  <a:srgbClr val="86211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Все атрибуты для сюжетно – ролевых игр находятся в свободном для детей дост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" descr="C:\Users\Ирина\Desktop\ПРС в группе\20200120_070841.jpg"/>
          <p:cNvPicPr/>
          <p:nvPr/>
        </p:nvPicPr>
        <p:blipFill>
          <a:blip r:embed="rId1"/>
          <a:stretch/>
        </p:blipFill>
        <p:spPr>
          <a:xfrm>
            <a:off x="250920" y="4149720"/>
            <a:ext cx="2665440" cy="17859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0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3186000" cy="42498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11"/>
          <p:cNvSpPr/>
          <p:nvPr/>
        </p:nvSpPr>
        <p:spPr>
          <a:xfrm>
            <a:off x="3708360" y="6021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D:\Фотографии Презентации Видео\Фотографии\Фото 2020г\Лучший уголок дежурных март\IMG_5043.JPG"/>
          <p:cNvPicPr/>
          <p:nvPr/>
        </p:nvPicPr>
        <p:blipFill>
          <a:blip r:embed="rId3"/>
          <a:stretch/>
        </p:blipFill>
        <p:spPr>
          <a:xfrm>
            <a:off x="3059280" y="4149720"/>
            <a:ext cx="229212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 flipV="1" rot="10800000">
            <a:off x="611280" y="18108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92403"/>
                </a:solidFill>
                <a:latin typeface="Times New Roman"/>
                <a:ea typeface="Tahom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1692360" y="620640"/>
            <a:ext cx="60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592403"/>
                </a:solidFill>
                <a:latin typeface="Times New Roman"/>
                <a:ea typeface="Tahoma"/>
              </a:rPr>
              <a:t>Центр сюжетно-ролевы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7"/>
          <p:cNvSpPr/>
          <p:nvPr/>
        </p:nvSpPr>
        <p:spPr>
          <a:xfrm>
            <a:off x="1268280" y="60213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рикмахерск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8"/>
          <p:cNvSpPr/>
          <p:nvPr/>
        </p:nvSpPr>
        <p:spPr>
          <a:xfrm>
            <a:off x="5806080" y="602136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ль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5374080" y="32846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ази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3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456000" cy="207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Users\Ирина\Desktop\ПРС в группе\IMG_8018.JPG"/>
          <p:cNvPicPr/>
          <p:nvPr/>
        </p:nvPicPr>
        <p:blipFill>
          <a:blip r:embed="rId2"/>
          <a:stretch/>
        </p:blipFill>
        <p:spPr>
          <a:xfrm>
            <a:off x="4788000" y="3716280"/>
            <a:ext cx="3456000" cy="2276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C:\Users\Ирина\Desktop\ПРС в группе\IMG_8023.JPG"/>
          <p:cNvPicPr/>
          <p:nvPr/>
        </p:nvPicPr>
        <p:blipFill>
          <a:blip r:embed="rId3"/>
          <a:stretch/>
        </p:blipFill>
        <p:spPr>
          <a:xfrm>
            <a:off x="611280" y="1268280"/>
            <a:ext cx="3411360" cy="4770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 flipV="1" rot="10800000">
            <a:off x="611280" y="18108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92403"/>
                </a:solidFill>
                <a:latin typeface="Times New Roman"/>
                <a:ea typeface="Tahom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3"/>
          <p:cNvSpPr/>
          <p:nvPr/>
        </p:nvSpPr>
        <p:spPr>
          <a:xfrm>
            <a:off x="1692360" y="620640"/>
            <a:ext cx="60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592403"/>
                </a:solidFill>
                <a:latin typeface="Times New Roman"/>
                <a:ea typeface="Tahoma"/>
              </a:rPr>
              <a:t>Центр трудового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едназначен для воспитания у детей положительного отношения к труду, формирования и дальнейшего совершенствования элементарных трудовых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D:\Фотографии Презентации Видео\Фотографии\Фото 2020г\Лучший уголок дежурных март\IMG_5036.JPG"/>
          <p:cNvPicPr/>
          <p:nvPr/>
        </p:nvPicPr>
        <p:blipFill>
          <a:blip r:embed="rId1"/>
          <a:stretch/>
        </p:blipFill>
        <p:spPr>
          <a:xfrm>
            <a:off x="250920" y="2349360"/>
            <a:ext cx="4897440" cy="355140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6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382920" cy="263232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7"/>
          <p:cNvSpPr/>
          <p:nvPr/>
        </p:nvSpPr>
        <p:spPr>
          <a:xfrm>
            <a:off x="5508720" y="5157720"/>
            <a:ext cx="27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Д\И «Сервировка ст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2"/>
          <p:cNvSpPr/>
          <p:nvPr/>
        </p:nvSpPr>
        <p:spPr>
          <a:xfrm>
            <a:off x="826920" y="115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1619280" y="639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ahoma"/>
              </a:rPr>
              <a:t>Уголок «Юный гражданин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001000" cy="406080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5"/>
          <p:cNvSpPr/>
          <p:nvPr/>
        </p:nvSpPr>
        <p:spPr>
          <a:xfrm>
            <a:off x="250920" y="5732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ahoma"/>
              </a:rPr>
              <a:t>Уголок «Юный гражданин России» содержит Российскую государственную символику, иллюстрационный материал, художественную литера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3"/>
          <p:cNvSpPr/>
          <p:nvPr/>
        </p:nvSpPr>
        <p:spPr>
          <a:xfrm>
            <a:off x="1619280" y="260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862110"/>
                </a:solidFill>
                <a:latin typeface="Times New Roman"/>
                <a:ea typeface="Tahoma"/>
              </a:rPr>
              <a:t>Место для отдыха и у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6588000" y="907920"/>
            <a:ext cx="20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В группе есть тихий уголок, снабжённый мягкой мебелью. Здесь дети могут отдохнуть и уедин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C:\Users\Ирина\Desktop\ПРС в группе\IMG_8021.JPG"/>
          <p:cNvPicPr/>
          <p:nvPr/>
        </p:nvPicPr>
        <p:blipFill>
          <a:blip r:embed="rId1"/>
          <a:stretch/>
        </p:blipFill>
        <p:spPr>
          <a:xfrm>
            <a:off x="395280" y="846000"/>
            <a:ext cx="5905440" cy="5640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468360" y="2491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2110"/>
                </a:solidFill>
                <a:latin typeface="Times New Roman"/>
                <a:ea typeface="Tahoma"/>
              </a:rPr>
              <a:t>Познавательное 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2736720" cy="3236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" descr="C:\Users\Ирина\Desktop\ПРС в группе\IMG_8027.JPG"/>
          <p:cNvPicPr/>
          <p:nvPr/>
        </p:nvPicPr>
        <p:blipFill>
          <a:blip r:embed="rId2"/>
          <a:stretch/>
        </p:blipFill>
        <p:spPr>
          <a:xfrm>
            <a:off x="6516720" y="2997360"/>
            <a:ext cx="1942920" cy="316836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6"/>
          <p:cNvSpPr/>
          <p:nvPr/>
        </p:nvSpPr>
        <p:spPr>
          <a:xfrm>
            <a:off x="250920" y="17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Содержит конструктор различного вида, крупный и мелкий конструктор; мобилен: можно перемещать в любое место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дополнен мелкими игрушками для обыгры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7"/>
          <p:cNvSpPr/>
          <p:nvPr/>
        </p:nvSpPr>
        <p:spPr>
          <a:xfrm>
            <a:off x="179280" y="69228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Центр строительства и конструирования из деталей (среднего и малого разме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D:\АТТЕСТАЦИЯ\аттестация воспитателей\воспитатели\ГОЛОВИНА\Аттестация 2020\фото среда\Центр строительства.jpg"/>
          <p:cNvPicPr/>
          <p:nvPr/>
        </p:nvPicPr>
        <p:blipFill>
          <a:blip r:embed="rId3"/>
          <a:stretch/>
        </p:blipFill>
        <p:spPr>
          <a:xfrm>
            <a:off x="3059280" y="2997360"/>
            <a:ext cx="331308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3T16:05:32Z</dcterms:created>
  <dc:creator>Admin</dc:creator>
  <dc:description/>
  <dc:language>en-US</dc:language>
  <cp:lastModifiedBy>Ирина</cp:lastModifiedBy>
  <dcterms:modified xsi:type="dcterms:W3CDTF">2022-12-05T17:05:05Z</dcterms:modified>
  <cp:revision>112</cp:revision>
  <dc:subject/>
  <dc:title>Слайд 1</dc:title>
</cp:coreProperties>
</file>