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88A05-A15F-4DA1-B069-7237206326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DF92E-99B1-4CB8-BBCC-0E38D9E0E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CB96F-3840-4DD9-8477-63B1D91ED6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9E0BF-741B-4779-A0C4-016F0B71D7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5ECDD-4186-4C53-808A-BADDE753ED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27C4A-541F-48B4-A8C3-99BBA2CDB1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E0630-8488-41D0-B897-C3D00EEF2E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E49-B0FE-4D8D-ACD3-4D05F7CF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DDE-5832-464F-9E84-FAEB0E26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AF2-363F-47EA-996A-1C373092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345-08EC-49F2-B9C4-72349E7A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4EA7-1C70-41BA-8A1D-A7FA74BE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830C-277F-4EEC-AE2F-4212BE74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3DCE-456D-4F43-880B-91113BEA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DF7C-38BE-4F85-A5A8-4E437B33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A25B-B5DE-4238-934F-6FD144EF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8FC4-1C82-486B-ADCD-60FCB3F2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F719-FFB4-4562-B51F-D3273BA6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4AE-DC5F-498D-B094-D10D6D2C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3BD5-A278-4072-BAC8-1148728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E336-DCC0-479C-85BB-EAEFEF93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1854-19AA-4697-849F-EB53419A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E595-3CA4-433D-8C2E-2C306C57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E5A9-4D4C-4550-9BE0-B8A990CD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40E40-8197-4B4A-B615-A8BC711D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BEE49-84BD-4F7D-91A1-B0AD0EB9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1DDA1-445D-4C96-B9BC-63AB2219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71EFE-3952-4A8B-B00F-C361A4DC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090ED-FA2F-4548-8111-2D6071E8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D37-F794-462C-9552-DABEF59E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AED66-548F-4774-BD04-6676DA5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50646-7F12-4E42-8F43-1B8B4921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F7F01-DD87-4298-8D45-726AE5D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D6C71-07F5-4835-A2E8-1EF3EE3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E6939-0E2A-4FDF-B168-9AF4B623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C6D3B-19C1-478E-B2FD-293450C6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DEEE6-BC35-44C1-A2F2-2FE0230B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29D8-2D46-47D6-8C9D-96E76AD6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AB7D-753B-4F2C-BF3E-8D125BAD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0E6E-314D-4F23-85CA-8C049FCD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E75-C732-4482-BA78-F3B6DE9C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F7C7-0A7C-437F-8B8E-D3460A52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75265-B756-420E-A6C4-CA347283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25DB-0B51-4364-9426-6D98B9CC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AD91A-B115-46B1-99BA-2A7C938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8DFB-CC62-466C-A8F0-B9FD4B9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1C0B5-8D89-4A7D-9396-B3A258DB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D5139-7B35-46D0-ADB4-5929C947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A26F-0AD5-4E2F-B3A5-3D520DD4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7223-D5BE-4895-8A40-A77E4CD5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D03EF-85AB-4FB6-959D-23DE4D3B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814-36EE-44B4-9A67-3A99CFE6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E908D-4367-4530-A51A-33AD7545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E42E8-54D2-496E-83DA-C8E804C6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4CD0A-E6C9-40A7-AD43-6957575B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418EA-3D87-441F-BA60-03256A49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73D29-575D-4596-8A23-B29BF324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EFD43-5BB6-4ABF-B6D8-ECA33634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80D50-50CF-4E74-A13E-24C3AC5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A8A6C-C573-44A9-A026-936C306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25430-3E8A-479B-BA3D-41AA5980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FFA2D-53A0-49D4-9925-48274971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461-1FE2-49C9-807C-FD306471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B4300-409A-4A39-BAC9-C365BCA6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A44CF-B546-4688-B2DA-638B9062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11C40-CA70-4C44-9C35-BE2F71C0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84632-0E12-4F43-8022-D09C218D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39F24-8F9C-4480-B146-1F262E28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B68ED-5BC3-40D1-9515-49ACDDDC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657F7-95B6-465B-A502-C8E2596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D4D14-F674-4526-9044-70DA026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F6A21-53F1-4115-93F9-9CAAA0D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1DD34-F8EE-469E-8C65-C5B4207C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7DE-DD86-455F-A666-CDA6B4F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E0E38-ABF2-42A6-9984-B02EFFA1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28204-E534-43D1-A190-FE6C647A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93A51-7137-4DC3-BC08-2A1F201B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9C830-BE91-4979-9E96-A61011A3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2FF470-0D20-4E4B-B169-467523BE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D8FC1-1D75-4176-B810-86FC038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A121A-361D-4300-AD84-F03A222E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2F22A-B00C-4417-9B42-8DDA3D22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5F8E9-6BC4-44D2-A847-5823654A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8DA08-BDAA-4829-868C-207F603A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476-ADF7-4728-9AEF-E75988C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C0D11-1AFD-491D-B4CC-EBB9F6C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7D37C-C9FF-4CE6-84F8-2C416FC8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76EB0-3A43-4E51-97CF-1C66718B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D9D04-EE63-4527-9C46-022079F1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596A8-6315-44A2-AC41-B48D7601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EED-E4FC-4A73-A87E-D8C53ECA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AF6A9-B9F7-4896-8F81-E3BD797FF6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76E80-838E-40D6-8077-625C5DC8C8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E4841-68B3-4CD9-8B54-64E3E4ED65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C04A3-52FC-4503-B651-5770AE2BF75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33BE0-6BCC-4E57-AEE9-306BFC00FA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92037-AF1A-4221-AA29-FAEF5928C4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C539C-047F-4E4C-9395-4B88D833177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395280" y="133596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Развивающая  предметно-пространственная  сре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в средней групп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7"/>
          <p:cNvSpPr/>
          <p:nvPr/>
        </p:nvSpPr>
        <p:spPr>
          <a:xfrm>
            <a:off x="4067280" y="465300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Подгото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воспитатель  МКДОУ «Детский сад «Солнышко»  г. Щигры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Филатова Еле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"/>
          <p:cNvSpPr/>
          <p:nvPr/>
        </p:nvSpPr>
        <p:spPr>
          <a:xfrm flipV="1" rot="10800000">
            <a:off x="468000" y="2635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1433160" y="765000"/>
            <a:ext cx="68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опытно-эксперимент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395280" y="112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В нём находится материал для осуществления опытной деятельности: лупы, колбы, мерные стаканчики, песочные часы, воронки, весы, термометры, природный материал, крупы, картотека игр-экспери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9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253836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7"/>
          <p:cNvSpPr/>
          <p:nvPr/>
        </p:nvSpPr>
        <p:spPr>
          <a:xfrm>
            <a:off x="5076720" y="508464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ород на окошке»- элемент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D:\Фотографии Презентации Видео\Фотографии\фото 2021г\Огород на окне\IMG_6088.JPG"/>
          <p:cNvPicPr/>
          <p:nvPr/>
        </p:nvPicPr>
        <p:blipFill>
          <a:blip r:embed="rId2"/>
          <a:stretch/>
        </p:blipFill>
        <p:spPr>
          <a:xfrm>
            <a:off x="900000" y="4797360"/>
            <a:ext cx="403236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 flipV="1" rot="10800000">
            <a:off x="468000" y="2635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3348360" y="7650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Уголок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Users\Ирина\Desktop\ПРС в группе\IMG20210405155647.jpg"/>
          <p:cNvPicPr/>
          <p:nvPr/>
        </p:nvPicPr>
        <p:blipFill>
          <a:blip r:embed="rId1"/>
          <a:stretch/>
        </p:blipFill>
        <p:spPr>
          <a:xfrm>
            <a:off x="395280" y="1413000"/>
            <a:ext cx="4110120" cy="45813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6"/>
          <p:cNvSpPr/>
          <p:nvPr/>
        </p:nvSpPr>
        <p:spPr>
          <a:xfrm>
            <a:off x="4643280" y="1341360"/>
            <a:ext cx="410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Уголок природы расположен рядом с уголком экспериментирования. В уголке природы размещены  цветы и инструменты по уходу за растениями: палочки для рыхления, пульверизатор, л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У детей 4-5 лет необходимо формировать  умение сравнивать предметы по форме, величине, текстуре поверхности, устанавливать сходство и различие, обобщать по тем или иным признакам. Поэтому в средней группе уголок  природы пополняется растениями, имеющими разную форму и величину листьев (узорчатые опушенные листья, с зазубринами по краям); различную степень пол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357120" y="13644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знавательное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3"/>
          <p:cNvSpPr/>
          <p:nvPr/>
        </p:nvSpPr>
        <p:spPr>
          <a:xfrm>
            <a:off x="447840" y="7142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настольно-печатны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324000" y="1484280"/>
            <a:ext cx="36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Разновидность основной деятельности дошкольников, направленной на аналитический  подход в решении игровой ситуации, представленной в форме наглядного пособия,  называется настольно-печатной или дидактической иг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К таким играм относятся: мозаика; дидактические игры в картинках (например, набор  предметов для игры «Третий лишний»); пазлы; лото; домино; шашк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D:\АТТЕСТАЦИЯ\аттестация воспитателей\Канищева\аттестация 2022 г\Центры активности\20201030_124726.jpg"/>
          <p:cNvPicPr/>
          <p:nvPr/>
        </p:nvPicPr>
        <p:blipFill>
          <a:blip r:embed="rId1"/>
          <a:stretch/>
        </p:blipFill>
        <p:spPr>
          <a:xfrm>
            <a:off x="4427640" y="4724280"/>
            <a:ext cx="3738600" cy="1036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Ирина\Desktop\ПРС в группе\IMG_2592.JPG"/>
          <p:cNvPicPr/>
          <p:nvPr/>
        </p:nvPicPr>
        <p:blipFill>
          <a:blip r:embed="rId2"/>
          <a:stretch/>
        </p:blipFill>
        <p:spPr>
          <a:xfrm>
            <a:off x="4356000" y="1628640"/>
            <a:ext cx="37450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"/>
          <p:cNvSpPr/>
          <p:nvPr/>
        </p:nvSpPr>
        <p:spPr>
          <a:xfrm flipV="1" rot="10800000">
            <a:off x="468000" y="2635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3290760" y="7650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мо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C:\Users\Ирина\Desktop\ПРС в группе\IMG_2668.JPG"/>
          <p:cNvPicPr/>
          <p:nvPr/>
        </p:nvPicPr>
        <p:blipFill>
          <a:blip r:embed="rId1"/>
          <a:stretch/>
        </p:blipFill>
        <p:spPr>
          <a:xfrm>
            <a:off x="4932360" y="4437000"/>
            <a:ext cx="3714840" cy="2168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Ирина\Desktop\ПРС в группе\IMG_2595.JPG"/>
          <p:cNvPicPr/>
          <p:nvPr/>
        </p:nvPicPr>
        <p:blipFill>
          <a:blip r:embed="rId2"/>
          <a:stretch/>
        </p:blipFill>
        <p:spPr>
          <a:xfrm>
            <a:off x="324000" y="4435560"/>
            <a:ext cx="4319280" cy="2209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Users\Ирина\Downloads\IMG20221202164024.jpg"/>
          <p:cNvPicPr/>
          <p:nvPr/>
        </p:nvPicPr>
        <p:blipFill>
          <a:blip r:embed="rId3"/>
          <a:stretch/>
        </p:blipFill>
        <p:spPr>
          <a:xfrm>
            <a:off x="324000" y="1413000"/>
            <a:ext cx="5572080" cy="280800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11"/>
          <p:cNvSpPr/>
          <p:nvPr/>
        </p:nvSpPr>
        <p:spPr>
          <a:xfrm>
            <a:off x="6012000" y="1413000"/>
            <a:ext cx="27367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оснащён домино, мозаикой, шнуровкой, дидактическими играми изготовленными  своими руками   для развития сенсорики и мелкой моторики. В группе имеется бизиборд «Ми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 flipV="1" rot="10800000">
            <a:off x="611280" y="321120"/>
            <a:ext cx="78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900000" y="83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ahoma"/>
              </a:rPr>
              <a:t>Математический уго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6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184320" y="20916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2110"/>
                </a:solidFill>
                <a:latin typeface="Times New Roman"/>
                <a:ea typeface="Tahoma"/>
              </a:rPr>
              <a:t>Речевое 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Рисунок 6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3024360" cy="25592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7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4537080" cy="255276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8"/>
          <p:cNvSpPr/>
          <p:nvPr/>
        </p:nvSpPr>
        <p:spPr>
          <a:xfrm>
            <a:off x="3107160" y="83664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Уголок «Речевич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C:\Users\Ирина\Desktop\ПРС в группе\IMG20210330163232.jpg"/>
          <p:cNvPicPr/>
          <p:nvPr/>
        </p:nvPicPr>
        <p:blipFill>
          <a:blip r:embed="rId3"/>
          <a:stretch/>
        </p:blipFill>
        <p:spPr>
          <a:xfrm>
            <a:off x="4500720" y="1341360"/>
            <a:ext cx="374328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357120" y="174240"/>
            <a:ext cx="81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Речевое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"/>
          <p:cNvSpPr/>
          <p:nvPr/>
        </p:nvSpPr>
        <p:spPr>
          <a:xfrm>
            <a:off x="1000080" y="714240"/>
            <a:ext cx="73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Литературный центр (книжный угол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4"/>
          <p:cNvSpPr/>
          <p:nvPr/>
        </p:nvSpPr>
        <p:spPr>
          <a:xfrm>
            <a:off x="3924360" y="1413000"/>
            <a:ext cx="45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16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Содержание литературного  центра  (книжного уголка)  соответствует возрас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собенностям детей данного возраста, реализуемой в дошкольном  учреждении образовательной программе. В нем находятся  книги с  художественными произведениями  детских писателей, сказки, детские  периодические издания, энциклопедии и др. Главный  принцип подбора книгоиздательской  продукции – минимум текста –максимум иллюстраций. В центре  книги помещается фотография  писателя, с творчеством которого  дети знакомятся в данный момент,  его литературные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рганизуются выст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097080" cy="4915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>
            <a:off x="357120" y="241200"/>
            <a:ext cx="81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Художественно-эстетическое 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3"/>
          <p:cNvSpPr/>
          <p:nvPr/>
        </p:nvSpPr>
        <p:spPr>
          <a:xfrm>
            <a:off x="2187720" y="857160"/>
            <a:ext cx="53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изобразительного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C:\Users\Ирина\Desktop\ПРС в группе\IMG20201105083713.jpg"/>
          <p:cNvPicPr/>
          <p:nvPr/>
        </p:nvPicPr>
        <p:blipFill>
          <a:blip r:embed="rId1"/>
          <a:stretch/>
        </p:blipFill>
        <p:spPr>
          <a:xfrm>
            <a:off x="324000" y="1484280"/>
            <a:ext cx="5832360" cy="516888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7"/>
          <p:cNvSpPr/>
          <p:nvPr/>
        </p:nvSpPr>
        <p:spPr>
          <a:xfrm>
            <a:off x="3203640" y="1484280"/>
            <a:ext cx="5472000" cy="332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ль создания  центра: формирование интереса к изобразительной деятельности, развитие воображения, фантазии, мелкой моторики рук, воспитание аккуратности, самостоятельности, усидчивости.  Уголок выполняет образовательную функцию, приобщает детей к изобразительному искусству, к декоративно - прикладному искусст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борудование и материалы: карандаши,  пластилин, бумага, доски для лепки, раскраски, линейки, фломастеры,трафареты</a:t>
            </a:r>
            <a:r>
              <a:rPr b="0" lang="ru-RU" sz="1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"/>
          <p:cNvSpPr/>
          <p:nvPr/>
        </p:nvSpPr>
        <p:spPr>
          <a:xfrm>
            <a:off x="368280" y="291960"/>
            <a:ext cx="815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Художественно-эстетическое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"/>
          <p:cNvSpPr/>
          <p:nvPr/>
        </p:nvSpPr>
        <p:spPr>
          <a:xfrm>
            <a:off x="642960" y="98100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театрализованных (драматических иг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4140360" y="1566360"/>
            <a:ext cx="4535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В центр театрализованных (драматических игр)</a:t>
            </a:r>
            <a:r>
              <a:rPr b="0" lang="ru-RU" sz="14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имеются  различные виды театра (перчаточный пальчиковый, деревянный, настольный, на магнитах и т.д.), маленькая ширма для настольного театра, атрибуты для ряженья – элементы костюмов (шляпы, шарфы,  юбки, сумки, зонты, бусы и прочее).  Имеются костюмы, маски и атрибуты для разыгрывания сказок «Теремок», «Волк и семеро козлят». Имеется картотека театрализованных иг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C:\Users\Ирина\Desktop\ПРС в группе\20190522_122900.jpg"/>
          <p:cNvPicPr/>
          <p:nvPr/>
        </p:nvPicPr>
        <p:blipFill>
          <a:blip r:embed="rId1"/>
          <a:stretch/>
        </p:blipFill>
        <p:spPr>
          <a:xfrm>
            <a:off x="324000" y="1700280"/>
            <a:ext cx="3798720" cy="4897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D:\Фотографии Презентации Видео\Фотографии\фото 2022г\мастер класс театр на дисках 14.01.2022\6.JPG"/>
          <p:cNvPicPr/>
          <p:nvPr/>
        </p:nvPicPr>
        <p:blipFill>
          <a:blip r:embed="rId2"/>
          <a:stretch/>
        </p:blipFill>
        <p:spPr>
          <a:xfrm>
            <a:off x="4859280" y="5157720"/>
            <a:ext cx="2952720" cy="1384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Users\Ирина\Desktop\ПРС в группе\IMG_2895.JPG"/>
          <p:cNvPicPr/>
          <p:nvPr/>
        </p:nvPicPr>
        <p:blipFill>
          <a:blip r:embed="rId3"/>
          <a:stretch/>
        </p:blipFill>
        <p:spPr>
          <a:xfrm>
            <a:off x="4859280" y="3645000"/>
            <a:ext cx="288144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368280" y="291960"/>
            <a:ext cx="815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Художественно-эстетическое 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642960" y="87624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7"/>
          <p:cNvSpPr/>
          <p:nvPr/>
        </p:nvSpPr>
        <p:spPr>
          <a:xfrm>
            <a:off x="5148360" y="1628640"/>
            <a:ext cx="338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музыки - это место, где дети познают музыку и ее красоту.  Благодаря этому процессу ребенку прививается желание любить и познавать прекрасное.  Центр поможет  развить воображение , активизировать эмоциональную сферу, мышление, речь. Здесь имеются разнообразные детские музыкальные инструменты, иллюстрации с портретами композиторов, иллюстрации с музыкальными инструментами, дидактические игры на развитие музыкального сл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8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32288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6" name="Picture 11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4390920" cy="26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3"/>
          <p:cNvSpPr/>
          <p:nvPr/>
        </p:nvSpPr>
        <p:spPr>
          <a:xfrm>
            <a:off x="250920" y="404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92403"/>
                </a:solidFill>
                <a:latin typeface="Times New Roman"/>
                <a:ea typeface="Tahoma"/>
              </a:rPr>
              <a:t>Согласно ФГОС ДО для обеспечения качественного образовательного процесса в ДОО и группах должны быть созданы определенные условия развития детей – предметно-пространственная среда, разные аспекты образовательной деятельности организации, содержание и методы образования, взаимодействие разных субъектов внутри образовательного процесса, психолого-педагогические  усло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D:\Оформление\Картинки\картинки\chitat-malen-komu-rebenku.png"/>
          <p:cNvPicPr/>
          <p:nvPr/>
        </p:nvPicPr>
        <p:blipFill>
          <a:blip r:embed="rId1"/>
          <a:stretch/>
        </p:blipFill>
        <p:spPr>
          <a:xfrm>
            <a:off x="2500200" y="274788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>
            <a:off x="357120" y="134640"/>
            <a:ext cx="81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Физическое  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3"/>
          <p:cNvSpPr/>
          <p:nvPr/>
        </p:nvSpPr>
        <p:spPr>
          <a:xfrm>
            <a:off x="611280" y="692280"/>
            <a:ext cx="80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двигательной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7"/>
          <p:cNvSpPr/>
          <p:nvPr/>
        </p:nvSpPr>
        <p:spPr>
          <a:xfrm>
            <a:off x="324000" y="1413000"/>
            <a:ext cx="410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сновное назначение центра двигательной активности – формирование ценностного отношения у детей к своему здоровью и совершенствование двигательных навыков и ум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борудование и материалы:  мячи, обручи, кегли, мешочки с песком, «кольцеброс», атрибуты для проведения подвижны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C:\Users\Ирина\Desktop\ПРС в группе\IMG20221129074056.jpg"/>
          <p:cNvPicPr/>
          <p:nvPr/>
        </p:nvPicPr>
        <p:blipFill>
          <a:blip r:embed="rId1"/>
          <a:stretch/>
        </p:blipFill>
        <p:spPr>
          <a:xfrm>
            <a:off x="4788000" y="1341360"/>
            <a:ext cx="3649680" cy="53276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D:\Фотографии Презентации Видео\Фотографии\фото 2021г\Уголки ФИЗО 2021\IMG_20210216_140548.jpg"/>
          <p:cNvPicPr/>
          <p:nvPr/>
        </p:nvPicPr>
        <p:blipFill>
          <a:blip r:embed="rId2"/>
          <a:stretch/>
        </p:blipFill>
        <p:spPr>
          <a:xfrm>
            <a:off x="250920" y="4508640"/>
            <a:ext cx="441792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"/>
          <p:cNvSpPr/>
          <p:nvPr/>
        </p:nvSpPr>
        <p:spPr>
          <a:xfrm>
            <a:off x="900000" y="704160"/>
            <a:ext cx="712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Таким образом, развивающая  предметно-пространственная среда, созданная в  средней группе,  обеспечивает</a:t>
            </a: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: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 </a:t>
            </a: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-максимальную реализацию образовательного потенц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92403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наиболее эффективное развитие индивидуальности каждого ребёнка с учётом его склонностей, интересов, уровня активности;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92403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возможность общения и совместной деятельности детей и взросл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-возможность двигательной активност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- возможность для уед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https://mypresentation.ru/documents_6/06ed66114414b0c67d5b4aa6964a4ffc/img7.jpg"/>
          <p:cNvPicPr/>
          <p:nvPr/>
        </p:nvPicPr>
        <p:blipFill>
          <a:blip r:embed="rId1"/>
          <a:srcRect l="4724" t="44882" r="5499" b="4724"/>
          <a:stretch/>
        </p:blipFill>
        <p:spPr>
          <a:xfrm>
            <a:off x="1547640" y="4221000"/>
            <a:ext cx="547236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900000" y="18324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92403"/>
                </a:solidFill>
                <a:latin typeface="Times New Roman"/>
                <a:ea typeface="Tahoma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92403"/>
                </a:solidFill>
                <a:latin typeface="Times New Roman"/>
                <a:ea typeface="Tahoma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4"/>
          <p:cNvSpPr/>
          <p:nvPr/>
        </p:nvSpPr>
        <p:spPr>
          <a:xfrm>
            <a:off x="324000" y="98100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При построении развивающей предметно-пространственной среды мы учитывали следующие принципы: насыщенности, трансформируемости; вариативности; полифункциональности; безопасности;  принцип открытости и  доступ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635280" y="3068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В группе созданы условия реализации образовательных облас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6" descr="56fe363bc29c7eec1f431b4c5c6e668a.jpg"/>
          <p:cNvPicPr/>
          <p:nvPr/>
        </p:nvPicPr>
        <p:blipFill>
          <a:blip r:embed="rId1"/>
          <a:stretch/>
        </p:blipFill>
        <p:spPr>
          <a:xfrm>
            <a:off x="684360" y="2997360"/>
            <a:ext cx="2581200" cy="3527280"/>
          </a:xfrm>
          <a:prstGeom prst="rect">
            <a:avLst/>
          </a:prstGeom>
          <a:ln w="9360">
            <a:solidFill>
              <a:srgbClr val="592403"/>
            </a:solidFill>
            <a:miter/>
          </a:ln>
        </p:spPr>
      </p:pic>
      <p:sp>
        <p:nvSpPr>
          <p:cNvPr id="368" name="Прямоугольник 8"/>
          <p:cNvSpPr/>
          <p:nvPr/>
        </p:nvSpPr>
        <p:spPr>
          <a:xfrm>
            <a:off x="3708360" y="3789360"/>
            <a:ext cx="4608720" cy="40968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социально-коммуникатив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9"/>
          <p:cNvSpPr/>
          <p:nvPr/>
        </p:nvSpPr>
        <p:spPr>
          <a:xfrm>
            <a:off x="3708360" y="4365720"/>
            <a:ext cx="4608720" cy="40932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познаватель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1"/>
          <p:cNvSpPr/>
          <p:nvPr/>
        </p:nvSpPr>
        <p:spPr>
          <a:xfrm>
            <a:off x="3708360" y="5516640"/>
            <a:ext cx="4608720" cy="41112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художественно-эстетическое 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2"/>
          <p:cNvSpPr/>
          <p:nvPr/>
        </p:nvSpPr>
        <p:spPr>
          <a:xfrm>
            <a:off x="3708360" y="4941720"/>
            <a:ext cx="4608720" cy="40968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речевое 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3"/>
          <p:cNvSpPr/>
          <p:nvPr/>
        </p:nvSpPr>
        <p:spPr>
          <a:xfrm>
            <a:off x="3708360" y="6021360"/>
            <a:ext cx="4608720" cy="40968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физическое  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https://dou90.chel.prosadiki.ru/media/2019/05/26/1262242884/25434707.png"/>
          <p:cNvPicPr/>
          <p:nvPr/>
        </p:nvPicPr>
        <p:blipFill>
          <a:blip r:embed="rId2"/>
          <a:stretch/>
        </p:blipFill>
        <p:spPr>
          <a:xfrm>
            <a:off x="6012000" y="1125360"/>
            <a:ext cx="2815920" cy="112428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14"/>
          <p:cNvSpPr/>
          <p:nvPr/>
        </p:nvSpPr>
        <p:spPr>
          <a:xfrm>
            <a:off x="32400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Предметно-развивающая среда спроектирована в соответствии с ФГОС ДО и с учетом  образовательной программы, реализуемой в ДО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 flipV="1" rot="10800000">
            <a:off x="611280" y="18108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92403"/>
                </a:solidFill>
                <a:latin typeface="Times New Roman"/>
                <a:ea typeface="Tahom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692360" y="765000"/>
            <a:ext cx="60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592403"/>
                </a:solidFill>
                <a:latin typeface="Times New Roman"/>
                <a:ea typeface="Tahoma"/>
              </a:rPr>
              <a:t>Центр сюжетно-ролевы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250920" y="1341360"/>
            <a:ext cx="504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Создание такой  игровой зоны помогает воспитывать умение общаться со сверстниками, играть в коллективе,  формирует умение договариваться, распределять роли, обогащает словарный запас детей, развивает коммуникативные и нравственные способности, учит играть группами, развивает  речь.</a:t>
            </a:r>
            <a:r>
              <a:rPr b="0" lang="ru-RU" sz="1800" spc="-1" strike="noStrike">
                <a:solidFill>
                  <a:srgbClr val="86211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Все атрибуты для сюжетно – ролевых игр находятся в свободном для детей дост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" descr="C:\Users\Ирина\Desktop\ПРС в группе\20200120_070841.jpg"/>
          <p:cNvPicPr/>
          <p:nvPr/>
        </p:nvPicPr>
        <p:blipFill>
          <a:blip r:embed="rId1"/>
          <a:stretch/>
        </p:blipFill>
        <p:spPr>
          <a:xfrm>
            <a:off x="250920" y="4149720"/>
            <a:ext cx="2665440" cy="17859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0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3186000" cy="42498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11"/>
          <p:cNvSpPr/>
          <p:nvPr/>
        </p:nvSpPr>
        <p:spPr>
          <a:xfrm>
            <a:off x="3708360" y="6021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D:\Фотографии Презентации Видео\Фотографии\Фото 2020г\Лучший уголок дежурных март\IMG_5043.JPG"/>
          <p:cNvPicPr/>
          <p:nvPr/>
        </p:nvPicPr>
        <p:blipFill>
          <a:blip r:embed="rId3"/>
          <a:stretch/>
        </p:blipFill>
        <p:spPr>
          <a:xfrm>
            <a:off x="3059280" y="4149720"/>
            <a:ext cx="229212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 flipV="1" rot="10800000">
            <a:off x="611280" y="18108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92403"/>
                </a:solidFill>
                <a:latin typeface="Times New Roman"/>
                <a:ea typeface="Tahom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1692360" y="620640"/>
            <a:ext cx="60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592403"/>
                </a:solidFill>
                <a:latin typeface="Times New Roman"/>
                <a:ea typeface="Tahoma"/>
              </a:rPr>
              <a:t>Центр сюжетно-ролевы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7"/>
          <p:cNvSpPr/>
          <p:nvPr/>
        </p:nvSpPr>
        <p:spPr>
          <a:xfrm>
            <a:off x="1268280" y="60213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рикмахерск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8"/>
          <p:cNvSpPr/>
          <p:nvPr/>
        </p:nvSpPr>
        <p:spPr>
          <a:xfrm>
            <a:off x="5806080" y="602136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ль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5374080" y="32846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ази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3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456000" cy="207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Users\Ирина\Desktop\ПРС в группе\IMG_8018.JPG"/>
          <p:cNvPicPr/>
          <p:nvPr/>
        </p:nvPicPr>
        <p:blipFill>
          <a:blip r:embed="rId2"/>
          <a:stretch/>
        </p:blipFill>
        <p:spPr>
          <a:xfrm>
            <a:off x="4788000" y="3716280"/>
            <a:ext cx="3456000" cy="2276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C:\Users\Ирина\Desktop\ПРС в группе\IMG_8023.JPG"/>
          <p:cNvPicPr/>
          <p:nvPr/>
        </p:nvPicPr>
        <p:blipFill>
          <a:blip r:embed="rId3"/>
          <a:stretch/>
        </p:blipFill>
        <p:spPr>
          <a:xfrm>
            <a:off x="611280" y="1268280"/>
            <a:ext cx="3411360" cy="4770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 flipV="1" rot="10800000">
            <a:off x="611280" y="18108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92403"/>
                </a:solidFill>
                <a:latin typeface="Times New Roman"/>
                <a:ea typeface="Tahom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3"/>
          <p:cNvSpPr/>
          <p:nvPr/>
        </p:nvSpPr>
        <p:spPr>
          <a:xfrm>
            <a:off x="1692360" y="620640"/>
            <a:ext cx="60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592403"/>
                </a:solidFill>
                <a:latin typeface="Times New Roman"/>
                <a:ea typeface="Tahoma"/>
              </a:rPr>
              <a:t>Центр трудового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едназначен для воспитания у детей положительного отношения к труду, формирования и дальнейшего совершенствования элементарных трудовых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D:\Фотографии Презентации Видео\Фотографии\Фото 2020г\Лучший уголок дежурных март\IMG_5036.JPG"/>
          <p:cNvPicPr/>
          <p:nvPr/>
        </p:nvPicPr>
        <p:blipFill>
          <a:blip r:embed="rId1"/>
          <a:stretch/>
        </p:blipFill>
        <p:spPr>
          <a:xfrm>
            <a:off x="250920" y="2349360"/>
            <a:ext cx="4897440" cy="355140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6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382920" cy="263232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7"/>
          <p:cNvSpPr/>
          <p:nvPr/>
        </p:nvSpPr>
        <p:spPr>
          <a:xfrm>
            <a:off x="5508720" y="5157720"/>
            <a:ext cx="27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Д\И «Сервировка ст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2"/>
          <p:cNvSpPr/>
          <p:nvPr/>
        </p:nvSpPr>
        <p:spPr>
          <a:xfrm>
            <a:off x="826920" y="115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1619280" y="639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ahoma"/>
              </a:rPr>
              <a:t>Уголок «Юный гражданин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001000" cy="406080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5"/>
          <p:cNvSpPr/>
          <p:nvPr/>
        </p:nvSpPr>
        <p:spPr>
          <a:xfrm>
            <a:off x="250920" y="5732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ahoma"/>
              </a:rPr>
              <a:t>Уголок «Юный гражданин России» содержит Российскую государственную символику, иллюстрационный материал, художественную литера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3"/>
          <p:cNvSpPr/>
          <p:nvPr/>
        </p:nvSpPr>
        <p:spPr>
          <a:xfrm>
            <a:off x="1619280" y="260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ahoma"/>
              </a:rPr>
              <a:t>Место для отдыха и у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6588000" y="907920"/>
            <a:ext cx="20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В группе есть тихий уголок, снабжённый мягкой мебелью. Здесь дети могут отдохнуть и уедин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C:\Users\Ирина\Desktop\ПРС в группе\IMG_8021.JPG"/>
          <p:cNvPicPr/>
          <p:nvPr/>
        </p:nvPicPr>
        <p:blipFill>
          <a:blip r:embed="rId1"/>
          <a:stretch/>
        </p:blipFill>
        <p:spPr>
          <a:xfrm>
            <a:off x="395280" y="846000"/>
            <a:ext cx="5905440" cy="564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468360" y="2491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2736720" cy="3236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" descr="C:\Users\Ирина\Desktop\ПРС в группе\IMG_8027.JPG"/>
          <p:cNvPicPr/>
          <p:nvPr/>
        </p:nvPicPr>
        <p:blipFill>
          <a:blip r:embed="rId2"/>
          <a:stretch/>
        </p:blipFill>
        <p:spPr>
          <a:xfrm>
            <a:off x="6516720" y="2997360"/>
            <a:ext cx="1942920" cy="316836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6"/>
          <p:cNvSpPr/>
          <p:nvPr/>
        </p:nvSpPr>
        <p:spPr>
          <a:xfrm>
            <a:off x="250920" y="17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Содержит конструктор различного вида, крупный и мелкий конструктор; мобилен: можно перемещать в любое место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дополнен мелкими игрушками для обыгры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7"/>
          <p:cNvSpPr/>
          <p:nvPr/>
        </p:nvSpPr>
        <p:spPr>
          <a:xfrm>
            <a:off x="179280" y="69228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строительства и конструирования из деталей (среднего и малого разме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D:\АТТЕСТАЦИЯ\аттестация воспитателей\воспитатели\ГОЛОВИНА\Аттестация 2020\фото среда\Центр строительства.jpg"/>
          <p:cNvPicPr/>
          <p:nvPr/>
        </p:nvPicPr>
        <p:blipFill>
          <a:blip r:embed="rId3"/>
          <a:stretch/>
        </p:blipFill>
        <p:spPr>
          <a:xfrm>
            <a:off x="3059280" y="2997360"/>
            <a:ext cx="331308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3T16:05:32Z</dcterms:created>
  <dc:creator>Admin</dc:creator>
  <dc:description/>
  <dc:language>en-US</dc:language>
  <cp:lastModifiedBy>Ирина</cp:lastModifiedBy>
  <dcterms:modified xsi:type="dcterms:W3CDTF">2022-12-05T17:05:05Z</dcterms:modified>
  <cp:revision>112</cp:revision>
  <dc:subject/>
  <dc:title>Слайд 1</dc:title>
</cp:coreProperties>
</file>