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2.png" ContentType="image/png"/>
  <Override PartName="/ppt/media/image16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4.wmf" ContentType="image/x-wmf"/>
  <Override PartName="/ppt/media/image10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92360" y="3429000"/>
            <a:ext cx="4781520" cy="26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Выполнила: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Симонова Татьяна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2 курс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группа 79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3221280" y="3556080"/>
            <a:ext cx="48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зучение буквы 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n00290_"/>
          <p:cNvPicPr/>
          <p:nvPr/>
        </p:nvPicPr>
        <p:blipFill>
          <a:blip r:embed="rId1"/>
          <a:stretch/>
        </p:blipFill>
        <p:spPr>
          <a:xfrm>
            <a:off x="468360" y="3789360"/>
            <a:ext cx="1969920" cy="19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j0356165"/>
          <p:cNvPicPr/>
          <p:nvPr/>
        </p:nvPicPr>
        <p:blipFill>
          <a:blip r:embed="rId2"/>
          <a:stretch/>
        </p:blipFill>
        <p:spPr>
          <a:xfrm>
            <a:off x="6559560" y="2349360"/>
            <a:ext cx="2584440" cy="1481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j0326486"/>
          <p:cNvPicPr/>
          <p:nvPr/>
        </p:nvPicPr>
        <p:blipFill>
          <a:blip r:embed="rId3"/>
          <a:stretch/>
        </p:blipFill>
        <p:spPr>
          <a:xfrm>
            <a:off x="6877080" y="4365720"/>
            <a:ext cx="1468440" cy="17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j0109261"/>
          <p:cNvPicPr/>
          <p:nvPr/>
        </p:nvPicPr>
        <p:blipFill>
          <a:blip r:embed="rId4"/>
          <a:stretch/>
        </p:blipFill>
        <p:spPr>
          <a:xfrm>
            <a:off x="2268360" y="5373720"/>
            <a:ext cx="1182960" cy="1255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j0410825"/>
          <p:cNvPicPr/>
          <p:nvPr/>
        </p:nvPicPr>
        <p:blipFill>
          <a:blip r:embed="rId5"/>
          <a:stretch/>
        </p:blipFill>
        <p:spPr>
          <a:xfrm>
            <a:off x="0" y="2201760"/>
            <a:ext cx="1938240" cy="1227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655164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800" spc="-1" strike="noStrike">
                <a:solidFill>
                  <a:srgbClr val="cc3300"/>
                </a:solidFill>
                <a:latin typeface="Calibri"/>
              </a:rPr>
              <a:t>Отгадайте слов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8"/>
          <p:cNvSpPr/>
          <p:nvPr/>
        </p:nvSpPr>
        <p:spPr>
          <a:xfrm flipH="1">
            <a:off x="2411280" y="2565360"/>
            <a:ext cx="144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11280" y="2637000"/>
            <a:ext cx="360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Tahoma"/>
              </a:rPr>
              <a:t>а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2484360" y="3068280"/>
            <a:ext cx="47516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835280" y="3068640"/>
            <a:ext cx="511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971640" y="3500280"/>
            <a:ext cx="5032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Tahoma"/>
              </a:rPr>
              <a:t>в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268360" y="5157720"/>
            <a:ext cx="432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Tahoma"/>
              </a:rPr>
              <a:t>г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089960" y="5013360"/>
            <a:ext cx="13867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Tahoma"/>
              </a:rPr>
              <a:t>у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732720" y="4724280"/>
            <a:ext cx="5745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Tahoma"/>
              </a:rPr>
              <a:t>с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7956720" y="2637000"/>
            <a:ext cx="576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Tahoma"/>
              </a:rPr>
              <a:t>т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j0084064"/>
          <p:cNvPicPr/>
          <p:nvPr/>
        </p:nvPicPr>
        <p:blipFill>
          <a:blip r:embed="rId6"/>
          <a:stretch/>
        </p:blipFill>
        <p:spPr>
          <a:xfrm>
            <a:off x="4788000" y="5300640"/>
            <a:ext cx="1511280" cy="1352520"/>
          </a:xfrm>
          <a:prstGeom prst="rect">
            <a:avLst/>
          </a:prstGeom>
          <a:ln w="0">
            <a:noFill/>
          </a:ln>
        </p:spPr>
      </p:pic>
      <p:pic>
        <p:nvPicPr>
          <p:cNvPr id="156" name="Стрелка вправо 45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ANTN069"/>
          <p:cNvPicPr/>
          <p:nvPr/>
        </p:nvPicPr>
        <p:blipFill>
          <a:blip r:embed="rId8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3.00486E-006 L 0.15608 -0.01573 E">
                                      <p:cBhvr>
                                        <p:cTn id="2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54291E-006 L 0.20885 -0.14157 E">
                                      <p:cBhvr>
                                        <p:cTn id="237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01966E-007 L 0.16528 -0.38307 E">
                                      <p:cBhvr>
                                        <p:cTn id="247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05344E-007 L 0.02413 -0.36202 E">
                                      <p:cBhvr>
                                        <p:cTn id="257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-0.07865 L -0.13386 -0.31992 E">
                                      <p:cBhvr>
                                        <p:cTn id="267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3 -0.0576 L -0.17326 -0.0155 E">
                                      <p:cBhvr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783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Calibri"/>
              </a:rPr>
              <a:t>Разгадайте кроссвор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31760" y="2133720"/>
          <a:ext cx="5639040" cy="2361960"/>
        </p:xfrm>
        <a:graphic>
          <a:graphicData uri="http://schemas.openxmlformats.org/drawingml/2006/table">
            <a:tbl>
              <a:tblPr/>
              <a:tblGrid>
                <a:gridCol w="2065320"/>
                <a:gridCol w="754200"/>
                <a:gridCol w="674640"/>
                <a:gridCol w="714240"/>
                <a:gridCol w="716040"/>
                <a:gridCol w="714600"/>
              </a:tblGrid>
              <a:tr h="79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39"/>
          <p:cNvSpPr/>
          <p:nvPr/>
        </p:nvSpPr>
        <p:spPr>
          <a:xfrm>
            <a:off x="495360" y="4724280"/>
            <a:ext cx="8396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рупная птица которая приносит детей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Исполнитель ролей  в театре, кино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. Приятный запах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0"/>
          <p:cNvSpPr/>
          <p:nvPr/>
        </p:nvSpPr>
        <p:spPr>
          <a:xfrm>
            <a:off x="6804000" y="2554200"/>
            <a:ext cx="360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1"/>
          <p:cNvSpPr/>
          <p:nvPr/>
        </p:nvSpPr>
        <p:spPr>
          <a:xfrm>
            <a:off x="3132000" y="2349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3924360" y="234936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3"/>
          <p:cNvSpPr/>
          <p:nvPr/>
        </p:nvSpPr>
        <p:spPr>
          <a:xfrm>
            <a:off x="4500720" y="234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4"/>
          <p:cNvSpPr/>
          <p:nvPr/>
        </p:nvSpPr>
        <p:spPr>
          <a:xfrm>
            <a:off x="313200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5"/>
          <p:cNvSpPr/>
          <p:nvPr/>
        </p:nvSpPr>
        <p:spPr>
          <a:xfrm>
            <a:off x="3851280" y="29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6"/>
          <p:cNvSpPr/>
          <p:nvPr/>
        </p:nvSpPr>
        <p:spPr>
          <a:xfrm>
            <a:off x="4500720" y="29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7"/>
          <p:cNvSpPr/>
          <p:nvPr/>
        </p:nvSpPr>
        <p:spPr>
          <a:xfrm>
            <a:off x="5219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8"/>
          <p:cNvSpPr/>
          <p:nvPr/>
        </p:nvSpPr>
        <p:spPr>
          <a:xfrm>
            <a:off x="313200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9"/>
          <p:cNvSpPr/>
          <p:nvPr/>
        </p:nvSpPr>
        <p:spPr>
          <a:xfrm>
            <a:off x="385128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0"/>
          <p:cNvSpPr/>
          <p:nvPr/>
        </p:nvSpPr>
        <p:spPr>
          <a:xfrm>
            <a:off x="4500720" y="378936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1"/>
          <p:cNvSpPr/>
          <p:nvPr/>
        </p:nvSpPr>
        <p:spPr>
          <a:xfrm>
            <a:off x="52196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2"/>
          <p:cNvSpPr/>
          <p:nvPr/>
        </p:nvSpPr>
        <p:spPr>
          <a:xfrm>
            <a:off x="594036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Tahoma"/>
              </a:rPr>
              <a:t>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53"/>
          <p:cNvSpPr txBox="1"/>
          <p:nvPr/>
        </p:nvSpPr>
        <p:spPr>
          <a:xfrm>
            <a:off x="1476360" y="2690640"/>
            <a:ext cx="1079640" cy="14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0000">
                    <a:alpha val="74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cc0000">
                  <a:alpha val="74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Стрелка вправо 4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7" descr="ANTN069"/>
          <p:cNvPicPr/>
          <p:nvPr/>
        </p:nvPicPr>
        <p:blipFill>
          <a:blip r:embed="rId2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Calibri"/>
              </a:rPr>
              <a:t>Загад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0" y="2781360"/>
            <a:ext cx="41148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арбуз"/>
          <p:cNvPicPr/>
          <p:nvPr/>
        </p:nvPicPr>
        <p:blipFill>
          <a:blip r:embed="rId1"/>
          <a:stretch/>
        </p:blipFill>
        <p:spPr>
          <a:xfrm>
            <a:off x="324000" y="4076640"/>
            <a:ext cx="2158920" cy="2575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акула"/>
          <p:cNvPicPr/>
          <p:nvPr/>
        </p:nvPicPr>
        <p:blipFill>
          <a:blip r:embed="rId2"/>
          <a:stretch/>
        </p:blipFill>
        <p:spPr>
          <a:xfrm>
            <a:off x="395280" y="404640"/>
            <a:ext cx="2627280" cy="25354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2389320" y="2407320"/>
            <a:ext cx="43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ая книж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детише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 – мучит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научит – радует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9B87KCA6Y1FHXCAK51M0OCA1MPDGUCAD1E8Y3CALGXWRMCA94B20NCA6YJUY3CA75EKX9CALLDS1RCA0SSZ51CAA78JZUCAX1B2NCCAWPR4BPCA6IJ3G4CAKD3YQ2CA4QB12GCA48ZQR7CAUDGQL8CA30ZDZR"/>
          <p:cNvPicPr/>
          <p:nvPr/>
        </p:nvPicPr>
        <p:blipFill>
          <a:blip r:embed="rId3"/>
          <a:stretch/>
        </p:blipFill>
        <p:spPr>
          <a:xfrm>
            <a:off x="6732720" y="3500280"/>
            <a:ext cx="2111400" cy="3200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84" name="Rectangle 14"/>
          <p:cNvSpPr/>
          <p:nvPr/>
        </p:nvSpPr>
        <p:spPr>
          <a:xfrm>
            <a:off x="1780200" y="2529000"/>
            <a:ext cx="5586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уйном море-океа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ба страшная живе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нее большой живот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ть с ужасными клык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2840040" y="2742840"/>
            <a:ext cx="346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рега зелены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а красная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бки черны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трелка вправо 4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ANTN069"/>
          <p:cNvPicPr/>
          <p:nvPr/>
        </p:nvPicPr>
        <p:blipFill>
          <a:blip r:embed="rId5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425520"/>
            <a:ext cx="784836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Место буквы </a:t>
            </a:r>
            <a:r>
              <a:rPr b="1" lang="ru-RU" sz="6000" spc="-1" strike="noStrike">
                <a:solidFill>
                  <a:srgbClr val="cc33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 на ленте букв</a:t>
            </a: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Буква А это гласный звук</a:t>
            </a:r>
            <a:r>
              <a:rPr b="1" lang="ru-RU" sz="4800" spc="-1" strike="noStrike">
                <a:solidFill>
                  <a:srgbClr val="cc33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38040" y="2924280"/>
          <a:ext cx="8569440" cy="1957320"/>
        </p:xfrm>
        <a:graphic>
          <a:graphicData uri="http://schemas.openxmlformats.org/drawingml/2006/table">
            <a:tbl>
              <a:tblPr/>
              <a:tblGrid>
                <a:gridCol w="408240"/>
                <a:gridCol w="409320"/>
                <a:gridCol w="408240"/>
                <a:gridCol w="406080"/>
                <a:gridCol w="406440"/>
                <a:gridCol w="409680"/>
                <a:gridCol w="407880"/>
                <a:gridCol w="408240"/>
                <a:gridCol w="436320"/>
                <a:gridCol w="379440"/>
                <a:gridCol w="409680"/>
                <a:gridCol w="406440"/>
                <a:gridCol w="409680"/>
                <a:gridCol w="407880"/>
                <a:gridCol w="407880"/>
                <a:gridCol w="409680"/>
                <a:gridCol w="406440"/>
                <a:gridCol w="406440"/>
                <a:gridCol w="407880"/>
                <a:gridCol w="409680"/>
                <a:gridCol w="407880"/>
              </a:tblGrid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71"/>
          <p:cNvSpPr/>
          <p:nvPr/>
        </p:nvSpPr>
        <p:spPr>
          <a:xfrm>
            <a:off x="324000" y="292428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Стрелка вправо 4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5" descr="ANTN069"/>
          <p:cNvPicPr/>
          <p:nvPr/>
        </p:nvPicPr>
        <p:blipFill>
          <a:blip r:embed="rId2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330120" y="515772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первая буква в алфавит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Calibri"/>
              </a:rPr>
              <a:t>Фонетическая заряд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Что просит    сказать врач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когда   осматрива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горло</a:t>
            </a: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86000" y="206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9"/>
          <p:cNvGrpSpPr/>
          <p:nvPr/>
        </p:nvGrpSpPr>
        <p:grpSpPr>
          <a:xfrm>
            <a:off x="1332000" y="1484280"/>
            <a:ext cx="2895480" cy="1828800"/>
            <a:chOff x="1332000" y="1484280"/>
            <a:chExt cx="2895480" cy="1828800"/>
          </a:xfrm>
        </p:grpSpPr>
        <p:sp>
          <p:nvSpPr>
            <p:cNvPr id="83" name="AutoShape 20"/>
            <p:cNvSpPr/>
            <p:nvPr/>
          </p:nvSpPr>
          <p:spPr>
            <a:xfrm>
              <a:off x="1332000" y="1484280"/>
              <a:ext cx="2895480" cy="1828800"/>
            </a:xfrm>
            <a:prstGeom prst="cloudCallout">
              <a:avLst>
                <a:gd name="adj1" fmla="val -44078"/>
                <a:gd name="adj2" fmla="val 75000"/>
              </a:avLst>
            </a:prstGeom>
            <a:solidFill>
              <a:srgbClr val="fcf3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1"/>
            <p:cNvSpPr/>
            <p:nvPr/>
          </p:nvSpPr>
          <p:spPr>
            <a:xfrm>
              <a:off x="1407960" y="1941480"/>
              <a:ext cx="243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3300"/>
                  </a:solidFill>
                  <a:latin typeface="Tahoma"/>
                </a:rPr>
                <a:t>А-а-а-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2" descr="000803_1055_3994_vnvv"/>
          <p:cNvPicPr/>
          <p:nvPr/>
        </p:nvPicPr>
        <p:blipFill>
          <a:blip r:embed="rId1"/>
          <a:stretch/>
        </p:blipFill>
        <p:spPr>
          <a:xfrm>
            <a:off x="826920" y="3443400"/>
            <a:ext cx="3457800" cy="3414600"/>
          </a:xfrm>
          <a:prstGeom prst="rect">
            <a:avLst/>
          </a:prstGeom>
          <a:ln w="0">
            <a:noFill/>
          </a:ln>
        </p:spPr>
      </p:pic>
      <p:pic>
        <p:nvPicPr>
          <p:cNvPr id="86" name="Стрелка вправо 45" descr=""/>
          <p:cNvPicPr/>
          <p:nvPr/>
        </p:nvPicPr>
        <p:blipFill>
          <a:blip r:embed="rId2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ANTN06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Calibri"/>
              </a:rPr>
              <a:t>На что похожа буква 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от два столба наискос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А между ними - пояс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Ты эту букву знаешь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А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еред тобою буква </a:t>
            </a:r>
            <a:r>
              <a:rPr b="0" lang="ru-RU" sz="3200" spc="-1" strike="noStrike">
                <a:solidFill>
                  <a:srgbClr val="b2281a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971640" y="2355840"/>
            <a:ext cx="2746440" cy="37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Стрелка вправо 45" descr=""/>
          <p:cNvPicPr/>
          <p:nvPr/>
        </p:nvPicPr>
        <p:blipFill>
          <a:blip r:embed="rId1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ANTN06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Назовите сказ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Лечит маленьких детей,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Лечит птичек и зверей,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квозь очки свои глядит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брый доктор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Айболи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doctor1"/>
          <p:cNvPicPr/>
          <p:nvPr/>
        </p:nvPicPr>
        <p:blipFill>
          <a:blip r:embed="rId1"/>
          <a:stretch/>
        </p:blipFill>
        <p:spPr>
          <a:xfrm>
            <a:off x="0" y="3357720"/>
            <a:ext cx="2206800" cy="350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ANTN06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4449600" y="2833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412360" y="1268280"/>
            <a:ext cx="51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икос душистый цветет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олотистые фрукты дает, 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ы осенью в детском саду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овались у всех на вид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0_5bdd_cb26e4d6_XL"/>
          <p:cNvPicPr/>
          <p:nvPr/>
        </p:nvPicPr>
        <p:blipFill>
          <a:blip r:embed="rId1"/>
          <a:stretch/>
        </p:blipFill>
        <p:spPr>
          <a:xfrm>
            <a:off x="179280" y="3068640"/>
            <a:ext cx="4321440" cy="328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a63464f0b1d05a542bde4f9cc50c40e6"/>
          <p:cNvPicPr/>
          <p:nvPr/>
        </p:nvPicPr>
        <p:blipFill>
          <a:blip r:embed="rId2"/>
          <a:stretch/>
        </p:blipFill>
        <p:spPr>
          <a:xfrm>
            <a:off x="4716360" y="3068640"/>
            <a:ext cx="4272120" cy="3301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0"/>
          <p:cNvSpPr/>
          <p:nvPr/>
        </p:nvSpPr>
        <p:spPr>
          <a:xfrm>
            <a:off x="1042920" y="2602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ВЕСЕЛЫЕ СТИХ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2" descr="ANTN06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alibri"/>
              </a:rPr>
              <a:t>ВЕСЕЛЫЕ СТИХ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17320"/>
            <a:ext cx="8891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етитный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к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ц вёз  для н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косы для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ошк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ьсины для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ш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же,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а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конечно же, для н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трелка вправо 4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NTN06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1332000" y="404640"/>
            <a:ext cx="60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тельны ли вы 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581040" y="1628640"/>
            <a:ext cx="7981920" cy="2062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думайте слова с А  в начале слов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609480" y="2986200"/>
            <a:ext cx="7981920" cy="2062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думайте имена которые начинаются на букву А?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755640" y="4343400"/>
            <a:ext cx="7981920" cy="1292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думайте слова с А в конце слов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3" name="Стрелка вправо 4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NTN06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Calibri"/>
              </a:rPr>
              <a:t>Слово рассыпалос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2492280"/>
            <a:ext cx="259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зуб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91280" y="2492280"/>
            <a:ext cx="2952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-м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-бу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-н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-н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5"/>
          <p:cNvSpPr/>
          <p:nvPr/>
        </p:nvSpPr>
        <p:spPr>
          <a:xfrm flipH="1">
            <a:off x="6516360" y="400536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H="1">
            <a:off x="5940000" y="3357720"/>
            <a:ext cx="7164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 flipH="1">
            <a:off x="7019640" y="4869000"/>
            <a:ext cx="14436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ANTN06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22" name="Стрелка вправо 45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975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7756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Calibri"/>
              </a:rPr>
              <a:t>Буква </a:t>
            </a: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cc3300"/>
                </a:solidFill>
                <a:latin typeface="Calibri"/>
              </a:rPr>
              <a:t>потерялас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тр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ул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б    р    б    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63640" y="2492280"/>
            <a:ext cx="30956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-и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т-р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-ку-л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б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-р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-б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39640" y="2565360"/>
            <a:ext cx="457200" cy="4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39640" y="3429000"/>
            <a:ext cx="457200" cy="43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39640" y="4221000"/>
            <a:ext cx="457200" cy="4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971640" y="5084640"/>
            <a:ext cx="4316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763640" y="5084640"/>
            <a:ext cx="433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835280" y="3500280"/>
            <a:ext cx="457200" cy="4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908000" y="4221000"/>
            <a:ext cx="457200" cy="4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627280" y="5084640"/>
            <a:ext cx="433440" cy="452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5579640" y="3357720"/>
            <a:ext cx="14436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7451640" y="5013360"/>
            <a:ext cx="14472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H="1">
            <a:off x="6372000" y="4221000"/>
            <a:ext cx="14436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5579640" y="2565360"/>
            <a:ext cx="14436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трелка вправо 4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44000" y="6453360"/>
            <a:ext cx="647640" cy="404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ANTN069"/>
          <p:cNvPicPr/>
          <p:nvPr/>
        </p:nvPicPr>
        <p:blipFill>
          <a:blip r:embed="rId2"/>
          <a:stretch/>
        </p:blipFill>
        <p:spPr>
          <a:xfrm>
            <a:off x="0" y="6292800"/>
            <a:ext cx="609480" cy="5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3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3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3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3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1:06:00Z</dcterms:created>
  <dc:creator>RITA</dc:creator>
  <dc:description/>
  <dc:language>en-US</dc:language>
  <cp:lastModifiedBy>татьяна симонова</cp:lastModifiedBy>
  <dcterms:modified xsi:type="dcterms:W3CDTF">2020-11-14T09:47:02Z</dcterms:modified>
  <cp:revision>22</cp:revision>
  <dc:subject/>
  <dc:title>Слайд 1</dc:title>
</cp:coreProperties>
</file>