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B725-22D9-4C48-AC8D-3ADF0931B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E10A-C40E-4E65-82EA-A862E920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F3C7-FE41-416D-A381-8A0588DF1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06DC-B809-4094-8557-8779360AA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5BF0-1D3B-4F47-9533-0ED38152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B4BB-2FAD-4412-90BE-7F0BEA79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B420-844F-4563-98F4-E5EA15BC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3F5B-2F6E-4C12-A985-9633334A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1996-56C8-4BBF-A3A8-9C7CF49B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3890-F1AD-4401-A7EC-4EECD2A2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1DEA-F544-40CB-968F-86E2F077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49A2-F466-48B3-87CA-FB2E2C33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D6A6-58DD-4128-8A96-9CA8194781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1610217800_26-p-fon-dlya-prezentatsii-po-logopedii-50.jpg"/>
          <p:cNvPicPr/>
          <p:nvPr/>
        </p:nvPicPr>
        <p:blipFill>
          <a:blip r:embed="rId1"/>
          <a:srcRect l="0" t="0" r="0" b="4640"/>
          <a:stretch/>
        </p:blipFill>
        <p:spPr>
          <a:xfrm>
            <a:off x="23760" y="3816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D:\Downloads\IMG_6154.png"/>
          <p:cNvPicPr/>
          <p:nvPr/>
        </p:nvPicPr>
        <p:blipFill>
          <a:blip r:embed="rId2"/>
          <a:srcRect l="14495" t="0" r="0" b="0"/>
          <a:stretch/>
        </p:blipFill>
        <p:spPr>
          <a:xfrm>
            <a:off x="25560" y="34920"/>
            <a:ext cx="1915920" cy="20606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0" y="1958400"/>
            <a:ext cx="914400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4626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anco"/>
                <a:ea typeface="Calibri"/>
              </a:rPr>
              <a:t>Консульт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4626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anco"/>
                <a:ea typeface="Arial Unicode MS"/>
              </a:rPr>
              <a:t>«Рекомендации родителям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4626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anco"/>
                <a:ea typeface="Arial Unicode MS"/>
              </a:rPr>
              <a:t>с расстройством аутичного спект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4626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anco"/>
                <a:ea typeface="Arial Unicode MS"/>
              </a:rPr>
              <a:t>Подготовила: учитель-логопе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4626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anco"/>
                <a:ea typeface="Arial Unicode MS"/>
              </a:rPr>
              <a:t>высшей квалификационной 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4626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anco"/>
                <a:ea typeface="Arial Unicode MS"/>
              </a:rPr>
              <a:t>Колесникова Алла Анатол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4626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4626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D:\Downloads\IMG_6155.jpg"/>
          <p:cNvPicPr/>
          <p:nvPr/>
        </p:nvPicPr>
        <p:blipFill>
          <a:blip r:embed="rId3"/>
          <a:stretch/>
        </p:blipFill>
        <p:spPr>
          <a:xfrm>
            <a:off x="6948360" y="4653000"/>
            <a:ext cx="20019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Рисунок 3" descr="1610217800_26-p-fon-dlya-prezentatsii-po-logopedii-50.jpg"/>
          <p:cNvPicPr/>
          <p:nvPr/>
        </p:nvPicPr>
        <p:blipFill>
          <a:blip r:embed="rId1"/>
          <a:srcRect l="0" t="0" r="0" b="4640"/>
          <a:stretch/>
        </p:blipFill>
        <p:spPr>
          <a:xfrm>
            <a:off x="-4680" y="692280"/>
            <a:ext cx="9148680" cy="65800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146160" y="68400"/>
            <a:ext cx="856908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"/>
          <p:cNvSpPr/>
          <p:nvPr/>
        </p:nvSpPr>
        <p:spPr>
          <a:xfrm>
            <a:off x="324000" y="836640"/>
            <a:ext cx="8532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"/>
          <p:cNvSpPr/>
          <p:nvPr/>
        </p:nvSpPr>
        <p:spPr>
          <a:xfrm>
            <a:off x="496800" y="2122560"/>
            <a:ext cx="84567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аутизм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изм или расстройства аутистического спектра (РАС),— это нарушение развития, неврологическое по своей природе, которое влияет на мышление, восприятие, внимание, социальные навыки и поведение человека. Дети-аутисты погружены в свой внутренний мир и плохо идут на контакт с окружающими. Аутизм – серьезное расстройство, оказывающее заметное влияние на жизнь человека и окружающих его люд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з «аутизм» – огромный удар для родителей. Но нужно знать, что есть большая вероятность, что такой малыш полностью адаптируется к социуму (если у ребенка сохранен интеллект). Большинство детей, которые прошли реабилитацию, живут полноценной жизнью. Но чтобы достичь таких успехов, с каждым малышом должны заниматься коррекционные педагоги, а родители должны приложить максимум усилий дома. Главное — не замыкаться вокруг своего ребенка, не избегать друзей, путешествий с ребенком — не становиться аутичной семьей. Ребенка нужно активно вводить в социум. Кроме того, нужно ставить реальные задачи. Безусловно, каждому родителю хочется, чтобы его ребенок-аутист пошел в обычную школу, но нужно ставить перед собой цели на ближайшее будуще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ам сейчас нужно, чтобы ребенок сам ел или ходил на горшок — занимайтесь именно эти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паситесь терпение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ужно понять, что такому ребенку очень сложно жить в нашем мире и ему нужно намного больше внимания, чем обычному ребенк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5" name="Рисунок 3" descr="1610217800_26-p-fon-dlya-prezentatsii-po-logopedii-50.jpg"/>
          <p:cNvPicPr/>
          <p:nvPr/>
        </p:nvPicPr>
        <p:blipFill>
          <a:blip r:embed="rId1"/>
          <a:srcRect l="0" t="0" r="0" b="4640"/>
          <a:stretch/>
        </p:blipFill>
        <p:spPr>
          <a:xfrm>
            <a:off x="0" y="4046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3"/>
          <p:cNvSpPr/>
          <p:nvPr/>
        </p:nvSpPr>
        <p:spPr>
          <a:xfrm>
            <a:off x="179280" y="1166760"/>
            <a:ext cx="8785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"/>
          <p:cNvSpPr/>
          <p:nvPr/>
        </p:nvSpPr>
        <p:spPr>
          <a:xfrm>
            <a:off x="250920" y="-2019240"/>
            <a:ext cx="8713800" cy="81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йте разниц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пример, в той же песочнице, покажите, что сухой песок не лепится, а из мокрого – прекрасно получаютс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ич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. Будьте последовательны Если педагог устанавливает для ребенка определенные правила, четко придерживайтесь их и дома. Например, чтобы остановить ребенка, хлопните в ладоши или возьмите за руку. Этого должны придерживаться все домочадцы. Учите подражать К сожалению, у аутистов нарушен элемент подражания, поэтому им сложно играть в куклы, варить кашку, делать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ич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 и смириться, что, кроме них, в песочнице есть другие дети. Но гулять с аутистом отдельно – ошибка. Нужно медленно, но уверенно учить его подражать. Например, дела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ич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, уделите каждому этапу день-два. Сегодня – набираем песок в форму (а не высыпаем на голову другому ребенку!), завтра – переворачиваем ее и т. д. Занимайтесь спортом Лечебная физкультура способствует развитию мозга и координации движений. Дома вы можете практиковать с малышом различные прыжки: на одной ножке, спрыгивание с бровки, скакалку. Также можно лазать по лесенкам, приседать, кружиться. Это не только укрепляет здоровье, но и дает понимание понятий право -лево, верх-низ.  Научитесь отказывать Приучайте ребенка к словам «нет», «нельзя». Иначе малыш не поймет, что некоторые его поступки причинят боль – он будет толкать детей на площадке или бить маму и т. 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0" name="Рисунок 3" descr="1610217800_26-p-fon-dlya-prezentatsii-po-logopedii-50.jpg"/>
          <p:cNvPicPr/>
          <p:nvPr/>
        </p:nvPicPr>
        <p:blipFill>
          <a:blip r:embed="rId1"/>
          <a:srcRect l="0" t="0" r="0" b="4640"/>
          <a:stretch/>
        </p:blipFill>
        <p:spPr>
          <a:xfrm>
            <a:off x="0" y="617400"/>
            <a:ext cx="9144000" cy="651852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"/>
          <p:cNvSpPr/>
          <p:nvPr/>
        </p:nvSpPr>
        <p:spPr>
          <a:xfrm>
            <a:off x="0" y="750960"/>
            <a:ext cx="871236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"/>
          <p:cNvSpPr/>
          <p:nvPr/>
        </p:nvSpPr>
        <p:spPr>
          <a:xfrm>
            <a:off x="108000" y="750960"/>
            <a:ext cx="8785080" cy="55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айте ритуал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пример, приучая ребенка к горшку, нужно высаживать его всегда в одно и то же время, вместе с ним выливать содержимое в унитаз, мыть руки, вытирать исключительно его полотенцем. Также проигрывайте каждую игру много раз, сопровождая каждое действие комментариями, чтобы ребенок понял правила, и чтобы игра превратилась в ритуал. Играйте в контактные игры «Ладушки», «ку-ку», «зайчик» – такие примитивные развлечения помогают развивать тактильные навыки. Не балуйте малыша! Дети-аутисты великолепные манипуляторы, а вседозволенность мешает им развиваться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ыходе из дома родителям ребенка –аутиста желательно иметь при себе </a:t>
            </a: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енсорн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ю сумк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й будут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шумные наушни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ажно выбрать наушники, которые удобно носить, которые не сдавливают голову и которые лишь приглушают шум, но не мешают слышать чужую речь. Такие наушники позволяют помочь людям с повышенной чувствительностью к шуму — проблемой многих людей с аутизмом; 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иконовые беруш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к и наушники, предназначены для людей с повышенной чувствительностью к шуму. Некоторым людям не подходят наушники, другие не выносят ощущения от берушей. Включение обоих вариантов позволит помочь большему количеству людей;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лнцезащитные очки со средним затемнением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ут людям, которые слишком чувствительны к яркому свету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ятные на ощупь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тильные игрушки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«лохматая» игрушка из силикона, антистрессовые игрушки для сжима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др.)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Это уменьшает стресс и перегрузк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левые часы, светящиеся игрушк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 визуальной стимуляц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" name="Рисунок 3" descr="1610217800_26-p-fon-dlya-prezentatsii-po-logopedii-50.jpg"/>
          <p:cNvPicPr/>
          <p:nvPr/>
        </p:nvPicPr>
        <p:blipFill>
          <a:blip r:embed="rId1"/>
          <a:srcRect l="0" t="0" r="0" b="4640"/>
          <a:stretch/>
        </p:blipFill>
        <p:spPr>
          <a:xfrm>
            <a:off x="122400" y="-173160"/>
            <a:ext cx="8712000" cy="6885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"/>
          <p:cNvSpPr/>
          <p:nvPr/>
        </p:nvSpPr>
        <p:spPr>
          <a:xfrm>
            <a:off x="1116000" y="-911160"/>
            <a:ext cx="7272360" cy="68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ила для мамы аутичного ребе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Не говорить, а напевать всё, т.к. аутисты лучше реагируют на музыку, чем на обычную реч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Разговаривать спокойным, ровным голос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Проговаривать все действия, которые производит ребенок(он вас тянет куда то за руку, вы проговаривает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Развивать зрительное внимание (сделайте шоры руками, взгляд сфокусируетс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Займитесь иппотерапией (адаптивная конная верховая езд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еоднократное чтение ярких книжек на колен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Совместное рисование (описывать все, что рисует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Закрепить ежедневно повторяющиеся ритуалы ( в одно и тоже время чаепитие, массаж, прогулка или придумайте свой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Многократное проговаривание жизненных ситуаций (это развивает коммуникативные навык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Визуализация пространства (важно, чтобы все жизненные дела ребенка отражались в картинках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108000" y="404640"/>
            <a:ext cx="8785080" cy="16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0" name="Рисунок 3" descr="1610217800_26-p-fon-dlya-prezentatsii-po-logopedii-50.jpg"/>
          <p:cNvPicPr/>
          <p:nvPr/>
        </p:nvPicPr>
        <p:blipFill>
          <a:blip r:embed="rId1"/>
          <a:srcRect l="0" t="0" r="0" b="4640"/>
          <a:stretch/>
        </p:blipFill>
        <p:spPr>
          <a:xfrm>
            <a:off x="0" y="-42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0" y="33822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1619280" y="4509720"/>
            <a:ext cx="502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6c0a"/>
                </a:solidFill>
                <a:latin typeface="Banco"/>
                <a:ea typeface="Calibri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"/>
          <p:cNvSpPr/>
          <p:nvPr/>
        </p:nvSpPr>
        <p:spPr>
          <a:xfrm>
            <a:off x="468360" y="-2763720"/>
            <a:ext cx="849636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"/>
          <p:cNvSpPr/>
          <p:nvPr/>
        </p:nvSpPr>
        <p:spPr>
          <a:xfrm>
            <a:off x="144360" y="-1603440"/>
            <a:ext cx="8891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210960" y="1900080"/>
            <a:ext cx="88250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е главное любите своего ребёнка и помните, что он уникален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17T16:43:20Z</dcterms:created>
  <dc:creator>computer</dc:creator>
  <dc:description/>
  <dc:language>en-US</dc:language>
  <cp:lastModifiedBy>Ирина</cp:lastModifiedBy>
  <dcterms:modified xsi:type="dcterms:W3CDTF">2022-10-19T10:04:44Z</dcterms:modified>
  <cp:revision>36</cp:revision>
  <dc:subject/>
  <dc:title>Слайд 1</dc:title>
</cp:coreProperties>
</file>