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F57-4D92-4D3F-BF5E-3361D6FD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706-4874-4A20-98E1-99ABC5FD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6AD-C4F7-4244-A829-B501C717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050-6D73-4469-944A-9A10C795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186-5C00-42EC-853F-1852E96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970-0DC7-42D4-82FB-5DEFC23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D48-9DDB-4AFE-BD05-F6123AC2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81D-0EA7-428C-B74B-E952192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7DF-A1BE-491D-8506-12BA6C4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EA4-7B59-42BC-BAD9-188D52B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948-1C7E-482A-9FBA-5C5EE03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A42-3E2A-4E99-B874-5830EA1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D1DF-2C09-4DEE-9C79-8B45922CB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997360"/>
            <a:ext cx="79182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ПИСЬМ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(РЕЧЕВОЙ ЭТИКЕТ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исьмо А.П. Чехова И.А. Бунин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равствуйте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лый Иван Алексеевич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Новым годом, с новым счастьем! Письмо Ваше получил, спасибо. У нас в Москве всё благополучно, нового ничего нет и не предвидится, пьеса моя ещё не шла, и когда пойдёт – неизвестно…  Очень возможно, что в феврале я приеду в Ниццу… Поклонитесь от меня милому тёплому солнцу, тихому морю. Живите в своё полное удовольствие, утешайтесь, не думайте о болезнях и пишите почаще Вашим друзьям…  Будьте здоровы, веселы, счастлив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ую Вас и обнимаю. Ваш А. Чех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8 января 190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исьмо с фро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ile0060"/>
          <p:cNvPicPr/>
          <p:nvPr/>
        </p:nvPicPr>
        <p:blipFill>
          <a:blip r:embed="rId1"/>
          <a:stretch/>
        </p:blipFill>
        <p:spPr>
          <a:xfrm>
            <a:off x="2124000" y="189000"/>
            <a:ext cx="4897440" cy="646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File0061_1"/>
          <p:cNvPicPr/>
          <p:nvPr/>
        </p:nvPicPr>
        <p:blipFill>
          <a:blip r:embed="rId1"/>
          <a:stretch/>
        </p:blipFill>
        <p:spPr>
          <a:xfrm>
            <a:off x="2079720" y="115920"/>
            <a:ext cx="498924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сыпаемся огороде часов на ещё я люблю и папа часто приходится в начале лета  и идем на в пять я приехала рыбалку помогать привет Лена бабушке в жару к бабушке дела огурцы в деревню сюда как а потом приехал  как мы поливать проводишь твои врем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95280" y="907920"/>
            <a:ext cx="842472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исьмо - это особый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пистолярный жанр реч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H="1">
            <a:off x="3419640" y="2276640"/>
            <a:ext cx="287280" cy="433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19280" y="501336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пистола - послан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2700360" y="4724280"/>
            <a:ext cx="287280" cy="36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826920" y="1844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чевой этикет - эт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речевого повед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-541440" y="1700280"/>
            <a:ext cx="102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ант – 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ат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пр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тель – п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ель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рр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ндент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456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исьмо А.П. Чехо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.А. Бунин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равствуйте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илый Иван Алексеевич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 Новым годом, с новым счастьем! Письмо Ваше получил, спасибо. У нас в Москве всё благополучно, нового ничего нет и не предвидится, пьеса моя ещё не шла, и когда пойдёт – неизвестно…  Очень возможно, что в феврале я приеду в Ниццу… Поклонитесь от меня милому тёплому солнцу, тихому морю. Живите в своё полное удовольствие, утешайтесь, не думайте о болезнях и пишите почаще Вашим друзьям…  Будьте здоровы, веселы, счастлив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Целую Вас и обнима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ш А. Чех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 января 1904 г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635280" y="404640"/>
            <a:ext cx="446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МИНИСТРАЦИЯ ГОРОДА РЕУТОВА МОСКОВСКОЙ ОБЛА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ДЕЛ ОПЕКИ И ПОПЕЧИТЕЛЬ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л. Победы, д. 15 а, Реутов, Московская область, 14396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л.(495) 528-62-58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кс(495) 528-27-9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635280" y="1700280"/>
            <a:ext cx="5113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ректору СШ № 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ришк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.М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важаемая Людмила Михайловна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шу Вас до 15.03.2007 передать в отдел опеки и попечитель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Отчеты о результатах обследования условий жизни и воспитания детей- сирот и детей, оставшихся без попечения родителей. В отчетах указать телефоны домашние, рабочие, мобильные опекунов (попечителей) и мобильные телефоны подопечных детей (если имеютс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Справки об успеваемости подопечных детей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шу принести отчеты, справки и отчитаться в отделе опеки и попечительства Администрации города Реутова по адресу: г. Реутов, ул. Победы, д. 15а, 2 этаж до 15.03.2007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иложение: 1. Список подопечных детей микрорайона Вашей школ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ик отдела                                                       Е. В. Кони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1440000" cy="960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324000" y="40608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Здравствуйте, уважаемая редакция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95280" y="4292640"/>
            <a:ext cx="302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оя     сестра      выписывает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аш журнал. Мне он тоже нравится. В нём печатается много смешных рассказов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 меня нет друзей.  Мне бы очень хотелось, чтобы Вы мне ответил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уду ждать Вашего пись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уважением, Валер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835280" y="54936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ПИСЬМ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9280" y="4149720"/>
            <a:ext cx="2521080" cy="1509840"/>
          </a:xfrm>
          <a:prstGeom prst="rect">
            <a:avLst/>
          </a:prstGeom>
          <a:solidFill>
            <a:srgbClr val="b2b2b2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лово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843280" y="4149720"/>
            <a:ext cx="2736720" cy="1511280"/>
          </a:xfrm>
          <a:prstGeom prst="rect">
            <a:avLst/>
          </a:prstGeom>
          <a:solidFill>
            <a:srgbClr val="b2b2b2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астно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фициально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724360" y="4149720"/>
            <a:ext cx="3203640" cy="1511280"/>
          </a:xfrm>
          <a:prstGeom prst="rect">
            <a:avLst/>
          </a:prstGeom>
          <a:solidFill>
            <a:srgbClr val="b2b2b2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астно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официально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1331640" y="1773360"/>
            <a:ext cx="1439640" cy="21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356000" y="177336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6372360" y="1773360"/>
            <a:ext cx="122400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33"/>
          <p:cNvSpPr/>
          <p:nvPr/>
        </p:nvSpPr>
        <p:spPr>
          <a:xfrm>
            <a:off x="1301760" y="-8860680"/>
            <a:ext cx="1498680" cy="89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9160" rIns="749160" tIns="6998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ИЯ ГОРОДА РЕУТОВА МОСКОВСКОЙ ОБЛАСТИ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4"/>
          <p:cNvSpPr/>
          <p:nvPr/>
        </p:nvSpPr>
        <p:spPr>
          <a:xfrm>
            <a:off x="-5224320" y="-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32" descr=""/>
          <p:cNvPicPr/>
          <p:nvPr/>
        </p:nvPicPr>
        <p:blipFill>
          <a:blip r:embed="rId1"/>
          <a:stretch/>
        </p:blipFill>
        <p:spPr>
          <a:xfrm>
            <a:off x="-5224320" y="-3981600"/>
            <a:ext cx="240984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5224320" y="-1695600"/>
          <a:ext cx="207720" cy="53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045"/>
          <p:cNvSpPr/>
          <p:nvPr/>
        </p:nvSpPr>
        <p:spPr>
          <a:xfrm>
            <a:off x="468360" y="-865800"/>
            <a:ext cx="8351640" cy="83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9160" rIns="749160" tIns="6998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у СШ № 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шк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ая Людмила Михайловна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 Вас до 15.03.2007 передать в отдел опеки и попечительства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четы о результатах обследования условий жизни и воспитания детей- сирот и детей, оставшихся без попечения родителей. В отчетах указать телефоны домашние, рабочие, мобильные опекунов (попечителей) и мобильные телефоны подопечных детей (если имеются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авки об успеваемости подопечных дет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 принести отчеты, справки и отчитаться в отделе опеки и попечительства Администрации города Реутова по адресу: г. Реутов, ул. Победы, д. 15а, 2 этаж до 15.03.2007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: 1. Список подопечных детей микрорайона Вашей школ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ьник от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 В. Кон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46"/>
          <p:cNvSpPr/>
          <p:nvPr/>
        </p:nvSpPr>
        <p:spPr>
          <a:xfrm>
            <a:off x="-5224320" y="-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31" descr=""/>
          <p:cNvPicPr/>
          <p:nvPr/>
        </p:nvPicPr>
        <p:blipFill>
          <a:blip r:embed="rId2"/>
          <a:stretch/>
        </p:blipFill>
        <p:spPr>
          <a:xfrm>
            <a:off x="-5224320" y="-3981600"/>
            <a:ext cx="21142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-5224320" y="4135320"/>
          <a:ext cx="207720" cy="1428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057"/>
          <p:cNvSpPr/>
          <p:nvPr/>
        </p:nvSpPr>
        <p:spPr>
          <a:xfrm>
            <a:off x="-5222880" y="5562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5224320" y="6751800"/>
          <a:ext cx="1117440" cy="304560"/>
        </p:xfrm>
        <a:graphic>
          <a:graphicData uri="http://schemas.openxmlformats.org/drawingml/2006/table">
            <a:tbl>
              <a:tblPr/>
              <a:tblGrid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Кони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068"/>
          <p:cNvSpPr/>
          <p:nvPr/>
        </p:nvSpPr>
        <p:spPr>
          <a:xfrm>
            <a:off x="-5222880" y="725184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5224320" y="8045280"/>
          <a:ext cx="1555560" cy="304920"/>
        </p:xfrm>
        <a:graphic>
          <a:graphicData uri="http://schemas.openxmlformats.org/drawingml/2006/table">
            <a:tbl>
              <a:tblPr/>
              <a:tblGrid>
                <a:gridCol w="1555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отдел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1079"/>
          <p:cNvSpPr/>
          <p:nvPr/>
        </p:nvSpPr>
        <p:spPr>
          <a:xfrm>
            <a:off x="-5222880" y="854568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5224320" y="9339120"/>
          <a:ext cx="6912000" cy="3574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влакова Т.Г.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8-62-5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089"/>
          <p:cNvSpPr/>
          <p:nvPr/>
        </p:nvSpPr>
        <p:spPr>
          <a:xfrm>
            <a:off x="-5222880" y="9901440"/>
            <a:ext cx="21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90"/>
          <p:cNvSpPr/>
          <p:nvPr/>
        </p:nvSpPr>
        <p:spPr>
          <a:xfrm>
            <a:off x="-612720" y="-1080"/>
            <a:ext cx="97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МИНИСТРАЦИЯ ГОРОДА РЕУТОВА МОСКОВСКОЙ ОБЛА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ДЕЛ ОПЕКИ И ПОПЕЧИТЕЛЬ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л. Победы, д. 15 а, Реутов, Московская область, 1439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л.(495) 528-62-58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акс(495) 528-27-9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91" descr=""/>
          <p:cNvPicPr/>
          <p:nvPr/>
        </p:nvPicPr>
        <p:blipFill>
          <a:blip r:embed="rId3"/>
          <a:stretch/>
        </p:blipFill>
        <p:spPr>
          <a:xfrm>
            <a:off x="4140360" y="5910120"/>
            <a:ext cx="1223640" cy="9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дравствуйте, уважаемая редакци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я сестра выписывает Ваш журнал. Мне он тоже нравится. В нём печатается много смешных рассказ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меня нет друзей.  Мне бы очень хотелось, чтобы Вы мне ответи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уду ждать Вашего письм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 уважением, Вале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</cp:lastModifiedBy>
  <dcterms:modified xsi:type="dcterms:W3CDTF">2022-12-06T19:37:44Z</dcterms:modified>
  <cp:revision>17</cp:revision>
  <dc:subject/>
  <dc:title>PowerPoint Presentation</dc:title>
</cp:coreProperties>
</file>