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724-96FA-4162-BEE5-C881A2A4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171-C271-45A5-BFBC-950C6C24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CE4-5DE8-4C22-B937-FDC9716F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286-5AD8-4844-AEAD-F993C0C9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15C-D72D-4FE2-A537-A64D114D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0F2-F62D-4815-9BA9-9A75FB77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6C3-7DE2-4252-BBA5-A479CEEA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133-3060-4FDA-AD6F-5E25EF71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705-D9E7-4EA0-9B3A-FF8BE648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419-8412-4361-AAB8-229D73C9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65C-604E-4DB1-B723-F11B75A7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890-A8D6-4B38-A7F1-FC4EB11C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EBCA-22CA-43BE-A0BD-EA1D4C7992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997360"/>
            <a:ext cx="79182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ПИСЬМО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i="1" lang="ru-RU" sz="5400" spc="-1" strike="noStrike">
                <a:solidFill>
                  <a:srgbClr val="000000"/>
                </a:solidFill>
                <a:latin typeface="Georgia"/>
              </a:rPr>
              <a:t>(РЕЧЕВОЙ ЭТИКЕТ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исьмо А.П. Чехова И.А. Бунин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дравствуйте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илый Иван Алексеевич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 Новым годом, с новым счастьем! Письмо Ваше получил, спасибо. У нас в Москве всё благополучно, нового ничего нет и не предвидится, пьеса моя ещё не шла, и когда пойдёт – неизвестно…  Очень возможно, что в феврале я приеду в Ниццу… Поклонитесь от меня милому тёплому солнцу, тихому морю. Живите в своё полное удовольствие, утешайтесь, не думайте о болезнях и пишите почаще Вашим друзьям…  Будьте здоровы, веселы, счастлив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ую Вас и обнимаю. Ваш А. Чех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8 января 1904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исьмо с фро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File0060"/>
          <p:cNvPicPr/>
          <p:nvPr/>
        </p:nvPicPr>
        <p:blipFill>
          <a:blip r:embed="rId1"/>
          <a:stretch/>
        </p:blipFill>
        <p:spPr>
          <a:xfrm>
            <a:off x="2124000" y="189000"/>
            <a:ext cx="4897440" cy="646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File0061_1"/>
          <p:cNvPicPr/>
          <p:nvPr/>
        </p:nvPicPr>
        <p:blipFill>
          <a:blip r:embed="rId1"/>
          <a:stretch/>
        </p:blipFill>
        <p:spPr>
          <a:xfrm>
            <a:off x="2079720" y="115920"/>
            <a:ext cx="4989240" cy="6553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сыпаемся огороде часов на ещё я люблю и папа часто приходится в начале лета  и идем на в пять я приехала рыбалку помогать привет Лена бабушке в жару к бабушке дела огурцы в деревню сюда как а потом приехал  как мы поливать проводишь твои врем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395280" y="907920"/>
            <a:ext cx="842472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исьмо - это особый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пистолярный жанр реч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 flipH="1">
            <a:off x="3419640" y="2276640"/>
            <a:ext cx="287280" cy="43308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619280" y="5013360"/>
            <a:ext cx="65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пистола - послани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2700360" y="4724280"/>
            <a:ext cx="287280" cy="360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826920" y="1844640"/>
            <a:ext cx="741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ечевой этикет - эт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авила речевого повед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-541440" y="1700280"/>
            <a:ext cx="1022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е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ант – </a:t>
            </a: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е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ат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тпр</a:t>
            </a: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витель – п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у</a:t>
            </a: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ча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тель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орре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п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нденты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3456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исьмо А.П. Чехов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.А. Бунин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дравствуйте,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илый Иван Алексеевич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 Новым годом, с новым счастьем! Письмо Ваше получил, спасибо. У нас в Москве всё благополучно, нового ничего нет и не предвидится, пьеса моя ещё не шла, и когда пойдёт – неизвестно…  Очень возможно, что в феврале я приеду в Ниццу… Поклонитесь от меня милому тёплому солнцу, тихому морю. Живите в своё полное удовольствие, утешайтесь, не думайте о болезнях и пишите почаще Вашим друзьям…  Будьте здоровы, веселы, счастливы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Целую Вас и обнимаю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ш А. Чех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 января 1904 год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635280" y="404640"/>
            <a:ext cx="4465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ДМИНИСТРАЦИЯ ГОРОДА РЕУТОВА МОСКОВСКОЙ ОБЛАСТ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ТДЕЛ ОПЕКИ И ПОПЕЧИТЕЛЬСТВ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ул. Победы, д. 15 а, Реутов, Московская область, 14396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л.(495) 528-62-58,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кс(495) 528-27-9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635280" y="1700280"/>
            <a:ext cx="51134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иректору СШ № 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Гришк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Л.М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важаемая Людмила Михайловна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ошу Вас до 15.03.2007 передать в отдел опеки и попечительства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Отчеты о результатах обследования условий жизни и воспитания детей- сирот и детей, оставшихся без попечения родителей. В отчетах указать телефоны домашние, рабочие, мобильные опекунов (попечителей) и мобильные телефоны подопечных детей (если имеются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Справки об успеваемости подопечных детей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ошу принести отчеты, справки и отчитаться в отделе опеки и попечительства Администрации города Реутова по адресу: г. Реутов, ул. Победы, д. 15а, 2 этаж до 15.03.2007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иложение: 1. Список подопечных детей микрорайона Вашей школ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ик отдела                                                       Е. В. Кони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580000" y="5229360"/>
            <a:ext cx="1440000" cy="960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"/>
          <p:cNvSpPr/>
          <p:nvPr/>
        </p:nvSpPr>
        <p:spPr>
          <a:xfrm>
            <a:off x="324000" y="40608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Здравствуйте, уважаемая редакция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95280" y="4292640"/>
            <a:ext cx="3024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оя     сестра      выписывает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аш журнал. Мне он тоже нравится. В нём печатается много смешных рассказов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 меня нет друзей.  Мне бы очень хотелось, чтобы Вы мне ответил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Буду ждать Вашего пись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 уважением, Валера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835280" y="54936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ПИСЬМ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79280" y="4149720"/>
            <a:ext cx="2521080" cy="1509840"/>
          </a:xfrm>
          <a:prstGeom prst="rect">
            <a:avLst/>
          </a:prstGeom>
          <a:solidFill>
            <a:srgbClr val="b2b2b2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елово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843280" y="4149720"/>
            <a:ext cx="2736720" cy="1511280"/>
          </a:xfrm>
          <a:prstGeom prst="rect">
            <a:avLst/>
          </a:prstGeom>
          <a:solidFill>
            <a:srgbClr val="b2b2b2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астное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фициально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5724360" y="4149720"/>
            <a:ext cx="3203640" cy="1511280"/>
          </a:xfrm>
          <a:prstGeom prst="rect">
            <a:avLst/>
          </a:prstGeom>
          <a:solidFill>
            <a:srgbClr val="b2b2b2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астное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официально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1331640" y="1773360"/>
            <a:ext cx="1439640" cy="21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4356000" y="177336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6372360" y="1773360"/>
            <a:ext cx="122400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033"/>
          <p:cNvSpPr/>
          <p:nvPr/>
        </p:nvSpPr>
        <p:spPr>
          <a:xfrm>
            <a:off x="1301760" y="-8860680"/>
            <a:ext cx="1498680" cy="89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9160" rIns="749160" tIns="6998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ИЯ ГОРОДА РЕУТОВА МОСКОВСКОЙ ОБЛАСТИ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34"/>
          <p:cNvSpPr/>
          <p:nvPr/>
        </p:nvSpPr>
        <p:spPr>
          <a:xfrm>
            <a:off x="-5224320" y="-398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32" descr=""/>
          <p:cNvPicPr/>
          <p:nvPr/>
        </p:nvPicPr>
        <p:blipFill>
          <a:blip r:embed="rId1"/>
          <a:stretch/>
        </p:blipFill>
        <p:spPr>
          <a:xfrm>
            <a:off x="-5224320" y="-3981600"/>
            <a:ext cx="240984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-5224320" y="-1695600"/>
          <a:ext cx="207720" cy="536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045"/>
          <p:cNvSpPr/>
          <p:nvPr/>
        </p:nvSpPr>
        <p:spPr>
          <a:xfrm>
            <a:off x="468360" y="-865800"/>
            <a:ext cx="8351640" cy="83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9160" rIns="749160" tIns="6998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у СШ № 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шк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ая Людмила Михайловна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у Вас до 15.03.2007 передать в отдел опеки и попечительства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четы о результатах обследования условий жизни и воспитания детей- сирот и детей, оставшихся без попечения родителей. В отчетах указать телефоны домашние, рабочие, мобильные опекунов (попечителей) и мобильные телефоны подопечных детей (если имеются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равки об успеваемости подопечных дете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у принести отчеты, справки и отчитаться в отделе опеки и попечительства Администрации города Реутова по адресу: г. Реутов, ул. Победы, д. 15а, 2 этаж до 15.03.2007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: 1. Список подопечных детей микрорайона Вашей школ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льник отде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. В. Конин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46"/>
          <p:cNvSpPr/>
          <p:nvPr/>
        </p:nvSpPr>
        <p:spPr>
          <a:xfrm>
            <a:off x="-5224320" y="-398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31" descr=""/>
          <p:cNvPicPr/>
          <p:nvPr/>
        </p:nvPicPr>
        <p:blipFill>
          <a:blip r:embed="rId2"/>
          <a:stretch/>
        </p:blipFill>
        <p:spPr>
          <a:xfrm>
            <a:off x="-5224320" y="-3981600"/>
            <a:ext cx="21142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-5224320" y="4135320"/>
          <a:ext cx="207720" cy="1428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1057"/>
          <p:cNvSpPr/>
          <p:nvPr/>
        </p:nvSpPr>
        <p:spPr>
          <a:xfrm>
            <a:off x="-5222880" y="55623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5224320" y="6751800"/>
          <a:ext cx="1117440" cy="304560"/>
        </p:xfrm>
        <a:graphic>
          <a:graphicData uri="http://schemas.openxmlformats.org/drawingml/2006/table">
            <a:tbl>
              <a:tblPr/>
              <a:tblGrid>
                <a:gridCol w="1117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В. Кони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Rectangle 1068"/>
          <p:cNvSpPr/>
          <p:nvPr/>
        </p:nvSpPr>
        <p:spPr>
          <a:xfrm>
            <a:off x="-5222880" y="725184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-5224320" y="8045280"/>
          <a:ext cx="1555560" cy="304920"/>
        </p:xfrm>
        <a:graphic>
          <a:graphicData uri="http://schemas.openxmlformats.org/drawingml/2006/table">
            <a:tbl>
              <a:tblPr/>
              <a:tblGrid>
                <a:gridCol w="1555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отдел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Rectangle 1079"/>
          <p:cNvSpPr/>
          <p:nvPr/>
        </p:nvSpPr>
        <p:spPr>
          <a:xfrm>
            <a:off x="-5222880" y="854568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-5224320" y="9339120"/>
          <a:ext cx="6912000" cy="35748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влакова Т.Г.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8-62-5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1089"/>
          <p:cNvSpPr/>
          <p:nvPr/>
        </p:nvSpPr>
        <p:spPr>
          <a:xfrm>
            <a:off x="-5222880" y="9901440"/>
            <a:ext cx="212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90"/>
          <p:cNvSpPr/>
          <p:nvPr/>
        </p:nvSpPr>
        <p:spPr>
          <a:xfrm>
            <a:off x="-612720" y="-1080"/>
            <a:ext cx="975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ДМИНИСТРАЦИЯ ГОРОДА РЕУТОВА МОСКОВСКОЙ ОБЛАС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ДЕЛ ОПЕКИ И ПОПЕЧИТЕЛЬСТВ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л. Победы, д. 15 а, Реутов, Московская область, 14396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ел.(495) 528-62-58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акс(495) 528-27-9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091" descr=""/>
          <p:cNvPicPr/>
          <p:nvPr/>
        </p:nvPicPr>
        <p:blipFill>
          <a:blip r:embed="rId3"/>
          <a:stretch/>
        </p:blipFill>
        <p:spPr>
          <a:xfrm>
            <a:off x="4140360" y="5910120"/>
            <a:ext cx="1223640" cy="9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дравствуйте, уважаемая редакци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я сестра выписывает Ваш журнал. Мне он тоже нравится. В нём печатается много смешных рассказо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меня нет друзей.  Мне бы очень хотелось, чтобы Вы мне ответи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уду ждать Вашего письм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 уважением, Валера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оут</cp:lastModifiedBy>
  <dcterms:modified xsi:type="dcterms:W3CDTF">2022-12-06T19:37:44Z</dcterms:modified>
  <cp:revision>17</cp:revision>
  <dc:subject/>
  <dc:title>PowerPoint Presentation</dc:title>
</cp:coreProperties>
</file>