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2E9-B337-49D9-B000-7001AF6E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14E-F4E4-4391-95E1-E8F3A3C7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059-C327-4A22-88CC-ABFC5CF7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2A43-322B-44DD-9FEE-A935BA1E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0F67-E1DB-4D82-BC78-9F88F10A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E7E2-C96C-4433-93B2-264FC58A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AEDE-B790-487B-9C0F-4F67C325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E0DA-D2BB-4E06-8B4F-6608B69F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F08F-1FA8-4A59-9A4F-04EFF4CF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5C5E-D7F1-4BAD-8C82-01B2CEB4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73C3-AD6C-4DFC-8CDB-D8688DA7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702-CC22-4C0C-901B-1E3BE909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4BEE-1FBC-403A-BE71-42C067D9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243F-E193-450B-9EC2-B75AFAE4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99C9-35D9-4742-8193-C4CF2226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99EA-D377-499E-BBC7-CCB8C415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48DD-E43B-41F9-A3D4-701FBEED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2FC76-541B-4B1E-95E6-36AB954D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69E8F-EBB5-4BFF-8E54-B570E994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5C311-5866-482A-AE10-F805FE54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1FA2-E11B-4BD4-8D03-4E458B21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FAE27-0F98-4D89-9DEE-3DBF9DEB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AA8-4DEA-41A5-ABB0-54599BF9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00A7D-F8EE-451B-B0F0-7C927FEB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629C5-1354-4A4F-B830-A79678A4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0C617-9CEB-4ECE-AFAC-BCD1A8FA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5F9B4-7FC1-45A2-8783-8F4B6066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45AE2-52F7-4EEC-AE89-8E92A4B2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EA73C-8EF8-41B8-B255-A22F0E3D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2A72A-7EC0-4081-B00D-A35EAC22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D503E-3A28-4A31-B575-54D12322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E5A24-EBF2-447F-93F5-AAA3F302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FECB7-AE09-4470-A06C-3F05500C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679-F740-423C-9CF0-97FACEDE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A8E68-672E-4B9E-923E-2B118B97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6BD38-9CFA-48B8-8D01-CD122236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91CEC-3C7B-46B3-B61F-E94969A5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7E2D7-71B0-4DCF-B01F-DE9B43D6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2ABED-9CCF-4798-9FA3-3B196278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F09C4-4B4F-4764-8146-5F4AA134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C0C5C-8BCA-4761-A689-3C12E947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CFA8C-BF75-404D-AF83-23C97CAD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73E7C-86A1-4809-B9D5-A1685DA7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C4B-C358-4BCE-8603-E3DBB968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C19-2CD5-4BEB-886C-D537A11F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0D7-A2BA-4241-8C54-8EFDA74E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839-ED3A-468E-AB68-759436C4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56E-E7A2-4FE3-856A-1A8E9088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EED55-A4CB-4FBB-BCCB-FB79F6B6FEF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4F13F-8E37-418C-8768-65F6C083E5F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88113-9F19-429C-ADB7-89BA17D1C88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ACAB3-A3F0-4336-ABEC-FDD69C7FBF7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555480"/>
            <a:ext cx="914400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г Кургузов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 нараспашку</a:t>
            </a: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956960" y="2352600"/>
            <a:ext cx="78994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  <a:ea typeface="Arial Unicode MS"/>
              </a:rPr>
              <a:t>Цель: </a:t>
            </a: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Arial Unicode MS"/>
              </a:rPr>
              <a:t>формирование представление об основных нравственно-этических ценностях, значимых для русского сознания и отражениях в родной культур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  <a:ea typeface="Arial Unicode MS"/>
              </a:rPr>
              <a:t>Задачи: </a:t>
            </a: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Arial Unicode MS"/>
              </a:rPr>
              <a:t>с помощью системы вопросов побудить детей неоднократно перечитывать и просматривать текст для подтверждения своего ответа; определять главную мысль произведе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  <a:ea typeface="Arial Unicode MS"/>
              </a:rPr>
              <a:t>Планируемые результаты:</a:t>
            </a: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Arial Unicode MS"/>
              </a:rPr>
              <a:t>обучающиеся научатся доброжелательности и отзывчивости, пониманию  и сопереживанию чувствам других людей; умению высказывать собственную точку зре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760400" y="541440"/>
            <a:ext cx="862020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022480" y="638280"/>
            <a:ext cx="85374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3119400" y="985680"/>
            <a:ext cx="595332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743200" y="3240"/>
            <a:ext cx="721188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47800" y="0"/>
            <a:ext cx="84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 u="sng">
                <a:solidFill>
                  <a:srgbClr val="181818"/>
                </a:solidFill>
                <a:uFillTx/>
                <a:latin typeface="Times New Roman"/>
                <a:ea typeface="Arial Unicode MS"/>
              </a:rPr>
              <a:t>Работа над содержанием  текста.</a:t>
            </a: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68440" y="1361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- О чём сын разгоаривает с папой под деревьями?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- Правда ли, что деревья могут принести ему всякие чувства, мысли? Подтвердите предложениями из рассказ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- Для чего папа это делает? (Может, заряжается силой природы, отдыхает, получает дополнитнльне силы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- Как вы думаете, почему папа вернулся домой «светящийся от радости»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- Переддалось это настроение  сыну и маме? Зачитайте  строки, доказывающие ваше мнение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- Как относятся друг к другу в этой семье? (Понимают и любят друг друга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На мониторе пословиц</a:t>
            </a:r>
            <a:r>
              <a:rPr b="1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а « В дружной семье и в холод тепло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Подходит ли  пословица к нашему рассказу? Почему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Рефлекс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Как вы понимаете слова папы « распахиваю душу всему миру»? В прямом или переносном значении они употреблены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Пользуюсь фразеологическим словарем, определи значение словосочетания «душа нараспашку» и «светится от радости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ог</a:t>
            </a: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Встречали вы в жизни людей, у которых «душа нараспашку»?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81818"/>
                </a:solidFill>
                <a:latin typeface="Times New Roman"/>
                <a:ea typeface="Arial Unicode MS"/>
              </a:rPr>
              <a:t>Подготовить пересказ данного текст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312920" y="282600"/>
            <a:ext cx="91314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241280" y="0"/>
            <a:ext cx="951228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2"/>
          <p:cNvSpPr/>
          <p:nvPr/>
        </p:nvSpPr>
        <p:spPr>
          <a:xfrm>
            <a:off x="3052800" y="1162080"/>
            <a:ext cx="61038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ослушайте отрывок из стихотворения ЗоиКрюково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уша нараспашку - в ней  русская сил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уша нараспашку - в ней наша бед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 душой нараспашку нельзя жить счастливо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неё может плюнуть  любой и всегд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уша нараспашку дана нам от Бог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пример всем народам, каким надо бы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о дьявол коварный хитро, понеммног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рог хочет бараний её закрути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А как вы объясните значение  «душа нарспашку», прослушав стихотворение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Когда говорят  о добром, заботливом человеке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Как вы понимаете смысл стихотворения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603440" y="90360"/>
            <a:ext cx="910584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662120" y="103320"/>
            <a:ext cx="880920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763640" y="181080"/>
            <a:ext cx="890424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58760" y="708120"/>
            <a:ext cx="603396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ша нараспашку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994040" y="1690560"/>
            <a:ext cx="820404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52960" y="0"/>
            <a:ext cx="45259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г Кургузов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 нараспашку</a:t>
            </a:r>
            <a:br>
              <a:rPr sz="14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5240" y="1106280"/>
            <a:ext cx="116809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гнул деревья в дугу. Они наклонялись в ту сторону, где под деревьями сидел мой папа. Он был задумчивый и грустный, как пингвин в ожидании Северного сияния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взглянула в окно на папу и сказала: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его это он там делает?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тривается, - сказал я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по-моему, он простужается, - сказала она. - Сходи за ним и приведи его домой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я подошел, папа расстегивал рубашку и подставлял свою голую грудь упругому ветру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ы чего делаешь? - спросил я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пахиваю душу всему миру, - ответил папа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удивления я даже икнул, но папа тут же все объяснил: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ишь: деревья, как огромные веники, гнутся в мою сторону - это они сметают из воздуха всякие чувства, мысли и вести в мою распахнутую душу. И я становлюсь мудрее!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если они наметут тебе всякой чепухи: глупых и злых мыслей?! - испугался я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т! - смело ответил папа. - Дурные мысли меня не коснутся. Вот!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н показал пальцы, сложенные крест-накрест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га! - догадался я. Я-то знал, что так надо держать пальцы при встречах с ведьмами и колдуньями, чтобы они не навеяли тебе черных мыслей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у ладно, - сказал папа. - Я еще посижу тут, на ветру, а ты иди - помоги маме по дому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 мамой пропылесосили ковры в комнатах и вымыли пол на кухне. А тут и папа возвратился, светящийся от радости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у, что скажешь? - спросила мама, выжимая половую тряпку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Жизнь прекрасна!!! - завопил папа и крепко-крепко обнял нас с мамой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него шла такая сильная сила, что нам показалось, будто мы стали легкими-легкими и вот-вот взлетим прямо к небу. Прямо туда, откуда с огромной высоты, задумчивый и грустный, как пингвин в ожидании Северного сияния, на нас с надеждой глядит наш Боженька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06T17:49:51Z</dcterms:created>
  <dc:creator>Hello</dc:creator>
  <dc:description/>
  <dc:language>en-US</dc:language>
  <cp:lastModifiedBy>Hello</cp:lastModifiedBy>
  <dcterms:modified xsi:type="dcterms:W3CDTF">2022-12-06T18:11:38Z</dcterms:modified>
  <cp:revision>2</cp:revision>
  <dc:subject/>
  <dc:title>Олег Кургузов Душа нараспашку</dc:title>
</cp:coreProperties>
</file>