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F23-E96A-48A7-AC19-3D0962E8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5DD-2981-4AA4-A389-F59EEDF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255-241D-4343-AFAA-48343A9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43C-7B5F-4575-8DB7-06D10DD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610-4F3E-4245-868D-B8D2CDAF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7300-4303-4CF9-8AB0-C40EB87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0B3-8209-453A-8E21-070D80D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E608-F2E8-403B-B2A3-8389872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385-385D-4EEE-8492-CFA09C0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F37-0D0C-4DBC-8549-C75DD5FC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C97-6B5A-443A-8D3E-BE103B0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0D6-5595-4E78-B359-A81EEFC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441-7237-47BF-A80C-130879A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8C2-1041-41D1-905C-5E0D1A7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E73-9F01-493B-902E-7599296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A30-2360-4A60-8BE3-2117EC4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6149-FACA-4EFD-B060-FB440F9F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7800-716F-41DE-8286-4CC99D15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EF9C-5ACA-4B53-A885-8FB63CF7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49B5-398A-4086-976F-5DA05EA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0934-5EDE-4985-8151-5F4A105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6F93-EFC8-459F-9452-1AAD332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790-7647-4F9F-A8FF-CDA5BDD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022B-E0B6-4E3B-B106-65B773D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4F6E-3708-4908-B960-9F11647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CAF3-DAE7-4C0E-95D4-FEB33BF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C420-B1B2-4ED2-888E-78C9537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230F-6841-4F20-9DCD-3B6C77F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4701-ED9B-46D1-AD7A-F587AA2E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49F9-D542-4D08-9CE7-DE7E8E9A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E051-C36C-4366-8FAA-841E4D57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DBBD-52D6-4E76-B177-856E415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2358-9ADA-461A-AD67-13E11EC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D0B-D9CC-4920-9D42-3BFF3649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AAA0-6B51-4A42-B13C-D76C3A47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8D3A-1726-4D8D-A4D1-938E18BA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F39C-24A1-425B-A6DD-D55C692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E5E3-A945-4BC7-9793-FB7CBF2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EF1D-952C-4DBE-BF12-20E44ED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5E7C-D55B-4592-8F0F-14C7376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2ADC-E939-4042-898D-1103E101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4188-E3C0-4FA5-8CD9-FAF6148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971D-00CC-4EAA-A382-E2A6D5F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8DE-7D4F-4DD6-AC20-244F24D6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6E6-F75C-4B9A-BA4D-2C9C011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DFF-257B-4E17-8432-A27B151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56A-33DC-4C38-84E9-1EB9263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0DC-634A-4208-B4A5-67EF19E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2343A-468E-4268-9B93-555108821F0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6D1AD-B9AA-42D6-A9B9-1A2FB424A0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22104-C796-477C-8532-CE502A3700F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8BBE1-B480-4C10-B97A-53F61C0C824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555480"/>
            <a:ext cx="91440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Кургузов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нараспашку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956960" y="2352600"/>
            <a:ext cx="78994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Цель: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формирование представление об основных нравственно-этических ценностях, значимых для русского сознания и отражениях в родной культу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Задачи: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с помощью системы вопросов побудить детей неоднократно перечитывать и просматривать текст для подтверждения своего ответа; определять главную мысль произвед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Планируемые результаты: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обучающиеся научатся доброжелательности и отзывчивости, пониманию  и сопереживанию чувствам других людей; умению высказывать собственную точку зр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60400" y="541440"/>
            <a:ext cx="8620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22480" y="638280"/>
            <a:ext cx="8537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3119400" y="985680"/>
            <a:ext cx="595332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743200" y="3240"/>
            <a:ext cx="721188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47800" y="0"/>
            <a:ext cx="84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181818"/>
                </a:solidFill>
                <a:uFillTx/>
                <a:latin typeface="Times New Roman"/>
                <a:ea typeface="Arial Unicode MS"/>
              </a:rPr>
              <a:t>Работа над содержанием  текста.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8440" y="1361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О чём сын разгоаривает с папой под деревьями?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Правда ли, что деревья могут принести ему всякие чувства, мысли? Подтвердите предложениями из рассказ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Для чего папа это делает? (Может, заряжается силой природы, отдыхает, получает дополнитнльне силы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Как вы думаете, почему папа вернулся домой «светящийся от радости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Переддалось это настроение  сыну и маме? Зачитайте  строки, доказывающие ваше мнение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Как относятся друг к другу в этой семье? (Понимают и любят друг друг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На мониторе пословиц</a:t>
            </a: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а « В дружной семье и в холод тепло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дходит ли  пословица к нашему рассказу? Почем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Рефлекс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Как вы понимаете слова папы « распахиваю душу всему миру»? В прямом или переносном значении они употреблены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льзуюсь фразеологическим словарем, определи значение словосочетания «душа нараспашку» и «светится от радости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</a:t>
            </a: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Встречали вы в жизни людей, у которых «душа нараспашку»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дготовить пересказ данного текст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312920" y="282600"/>
            <a:ext cx="91314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41280" y="0"/>
            <a:ext cx="9512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3052800" y="1162080"/>
            <a:ext cx="61038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ослушайте отрывок из стихотворения ЗоиКрюков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- в ней  русская сил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- в ней наша бе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 душой нараспашку нельзя жить счастлив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неё может плюнуть  любой и всег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дана нам от Бо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ример всем народам, каким надо бы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о дьявол коварный хитро, понеммног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рог хочет бараний её закрути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А как вы объясните значение  «душа нарспашку», прослушав стихотворение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Когда говорят  о добром, заботливом человеке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Как вы понимаете смысл стихотворени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603440" y="90360"/>
            <a:ext cx="91058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62120" y="103320"/>
            <a:ext cx="88092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763640" y="181080"/>
            <a:ext cx="890424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8760" y="708120"/>
            <a:ext cx="60339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а нараспаш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994040" y="1690560"/>
            <a:ext cx="82040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52960" y="0"/>
            <a:ext cx="45259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Кургузов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нараспашку</a:t>
            </a:r>
            <a:br>
              <a:rPr sz="14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5240" y="1106280"/>
            <a:ext cx="116809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гнул деревья в дугу. Они наклонялись в ту сторону, где под деревьями сидел мой папа. Он был задумчивый и грустный, как пингвин в ожидании Северного сияни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взглянула в окно на папу и сказала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го это он там делает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тривается, - сказал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по-моему, он простужается, - сказала она. - Сходи за ним и приведи его домо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я подошел, папа расстегивал рубашку и подставлял свою голую грудь упругому ветр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ы чего делаешь? - спросил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ахиваю душу всему миру, - ответил папа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дивления я даже икнул, но папа тут же все объяснил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ишь: деревья, как огромные веники, гнутся в мою сторону - это они сметают из воздуха всякие чувства, мысли и вести в мою распахнутую душу. И я становлюсь мудрее!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сли они наметут тебе всякой чепухи: глупых и злых мыслей?! - испугался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! - смело ответил папа. - Дурные мысли меня не коснутся. Вот!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 показал пальцы, сложенные крест-накрест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га! - догадался я. Я-то знал, что так надо держать пальцы при встречах с ведьмами и колдуньями, чтобы они не навеяли тебе черных мысле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 ладно, - сказал папа. - Я еще посижу тут, на ветру, а ты иди - помоги маме по дом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мамой пропылесосили ковры в комнатах и вымыли пол на кухне. А тут и папа возвратился, светящийся от радости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, что скажешь? - спросила мама, выжимая половую тряпк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изнь прекрасна!!! - завопил папа и крепко-крепко обнял нас с мамо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его шла такая сильная сила, что нам показалось, будто мы стали легкими-легкими и вот-вот взлетим прямо к небу. Прямо туда, откуда с огромной высоты, задумчивый и грустный, как пингвин в ожидании Северного сияния, на нас с надеждой глядит наш Боженька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6T17:49:51Z</dcterms:created>
  <dc:creator>Hello</dc:creator>
  <dc:description/>
  <dc:language>en-US</dc:language>
  <cp:lastModifiedBy>Hello</cp:lastModifiedBy>
  <dcterms:modified xsi:type="dcterms:W3CDTF">2022-12-06T18:11:38Z</dcterms:modified>
  <cp:revision>2</cp:revision>
  <dc:subject/>
  <dc:title>Олег Кургузов Душа нараспашку</dc:title>
</cp:coreProperties>
</file>