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0FF-F2B1-4AA5-A8CE-B3D28BBE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4FD-D5C4-4FC1-91A9-50036AED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1D7-B1DF-4B27-936C-B5497CE3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167-9482-4559-9A2C-DAB1BEE6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D876-ACF5-474E-9BE4-0530B938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7A18-EB5D-4AD6-9180-0DD70389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2B1F-0AE0-4DF7-AB4B-9A2F159B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EB84-811D-498C-A4FE-74CCDEC0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CAF9-D8E9-493D-90E5-3C09D39C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2796-5A28-498B-8255-628F197D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1BFC-21A0-4F46-801F-4932B402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DBD-0DF7-4BDB-B045-F73370B6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2DF3-6C76-4855-8983-FA5B605A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9DF1-E339-44D4-82D6-D8940B45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BCBA-06C6-4630-A119-68E3EEB4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0E74-2901-44D4-868E-1BABC1D1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ADAC-1896-4AD6-91A6-2FAF7FFA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E413-48CB-4317-ABB9-C339D028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7554-B18A-4F69-BDBC-8299234C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D974-E4A2-4F02-BD19-EE5B97DA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B65F4-6065-4075-88C4-3884EC7A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BC8C-A89C-4684-83A2-EFD6CC6C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944-37FD-4D30-83CA-E030550F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5A23-23ED-4801-9328-A0750DA9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15BC4-A5DC-4F3A-95C8-B5156DE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BE6C0-8214-40C1-AC20-C10105EF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FB8A-7A62-4436-8A0C-14170E32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1E0B-1FE4-4071-B421-151050A4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393DD-A9B4-4FD2-B518-9DD4DEC0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127F1-CCCD-4EDD-815C-CE8CB522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C24C4-C24D-47ED-A79A-3F5A9531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1C6DA-6E06-4BD5-826D-D1A2846A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E464-6B92-41A4-9E0F-D7A78BB6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701-8EB8-489C-8DCB-CA5A64AC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97E66-C266-4D3E-9CA4-A60FB697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D9D4B-5695-4028-B846-EAB40E3F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2C8C4-AC7A-499F-8684-D43C6DB0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AF682-6383-40AA-9D39-6F6E176A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6A272-689F-4A4A-848E-F0C585D2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6B53D-F972-4EF3-8719-784C0D3B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959C2-408E-472B-9A51-0725C4BC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91DE1-B07D-4BCB-BC8D-D2074A68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D448E-434F-4085-915F-14BD5A70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F1610-D3D5-4C01-92F8-8330FF9A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0B9-C27B-4B3F-AB5A-AD207F25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59733-73D5-4C4C-BB31-9CCAF602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82CD6-0683-49EB-8224-A9FA9289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B1E78-A3FD-470D-8FFE-1B2EB17D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9FF13-B565-462D-BF86-E0B0BBC7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E756E-52DA-4D04-8DC5-4589A5AC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7B4E9-26AF-4EFF-AA2F-2701FF24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F85AD-8066-4093-B43A-4BD960AB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68E02-D525-4ADF-85D2-066B332A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FD5F9-803D-46D6-8FC3-AC4940EF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91D0A-B3A9-46FC-9129-AA849046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936-7D2A-476D-9E52-524D9F43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ED0B5-E118-4BF5-907D-E2052D6E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DFB50-B28B-4E00-98CA-E18F3DED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2F010-F338-43B5-A54B-0CD2857F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EAF00-6B3D-4687-BB27-C16158DA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63FA5-B82A-47EC-86C2-39561FF4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7F110-C32A-4CAF-9051-2C37C4C3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70E6A-E3A5-4FDF-B23B-81015666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AE3E9-C9C4-4287-92DD-B2D76F46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A0128-A078-46DD-9817-1471C556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3594A-717F-451C-9C3A-426DE344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E9B-E08D-456C-A532-2B89A113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DB1A4-2329-48C0-A248-B815F8FB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78D8E-D036-4BA9-B1DE-4125B018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7DABB-67F9-4D1B-8433-97856597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640EF-20DB-42EB-B983-488EE63D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14F5D-5C9E-4053-95A8-1EBA819D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BC024-6D35-44F9-9389-E10CBDA5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105DF-885D-4854-A3E5-40259653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72581-9B34-4936-9CAD-5F98CD15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DDE10-C7C7-43DD-AABC-BA57F501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918A8-512C-485A-93BD-6311795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C64-E73F-4A38-815E-AF1FF39C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06839-6D04-4EEB-920D-A19123B9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3F892-3E52-4C74-A3D5-D39F35BB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AF808-A9F6-489A-803C-DF78844A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A8005-2D00-4C5B-9C4E-C2468FE2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82C7F-4129-4B72-AD7B-71EEC982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A88-4CB1-4974-892F-4FFF363D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1fcff">
              <a:alpha val="33000"/>
            </a:srgbClr>
          </a:solidFill>
          <a:ln cap="rnd" w="3240">
            <a:solidFill>
              <a:srgbClr val="91ca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ff9ff"/>
            </a:solidFill>
            <a:miter/>
          </a:ln>
          <a:effectLst>
            <a:outerShdw dist="12600" dir="5400000" blurRad="0" rotWithShape="0">
              <a:srgbClr val="87ac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50C0-6005-4492-8AAF-6D641DBA99AD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70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1fcff">
              <a:alpha val="33000"/>
            </a:srgbClr>
          </a:solidFill>
          <a:ln cap="rnd" w="3240">
            <a:solidFill>
              <a:srgbClr val="91ca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ff9ff"/>
            </a:solidFill>
            <a:miter/>
          </a:ln>
          <a:effectLst>
            <a:outerShdw dist="12600" dir="5400000" blurRad="0" rotWithShape="0">
              <a:srgbClr val="87ac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70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aa0d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F024-7219-46B5-97E8-F337130338E0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70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aa0d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4CC5-5E84-405A-8857-D30F9EED544E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D189-C581-41A7-B3C5-C38522DE596F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70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495B-3918-45F7-A977-AEFA1C9B98E5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979E-7732-45DA-AD07-8220B2C726EC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a3e2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e7fc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b9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1b6f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584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5bd07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a5d0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dae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daec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6A9C-A043-475C-8A07-130A7CB0BB76}" type="slidenum">
              <a:rPr b="0" lang="ru-RU" sz="1200" spc="-1" strike="noStrike">
                <a:solidFill>
                  <a:srgbClr val="7dae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9a"/>
                </a:solidFill>
                <a:latin typeface="Corbel"/>
              </a:rPr>
              <a:t>Особенности психологического сопровождения детей-инвалидов </a:t>
            </a:r>
            <a:r>
              <a:rPr b="0" lang="ru-RU" sz="3900" spc="-1" strike="noStrike">
                <a:solidFill>
                  <a:srgbClr val="003b9a"/>
                </a:solidFill>
                <a:latin typeface="Corbel"/>
              </a:rPr>
              <a:t>Работа педагога-психолога с детьми с ДЦП в общеобразовательной школе</a:t>
            </a:r>
            <a:endParaRPr b="0" lang="en-US" sz="39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076720" y="5013000"/>
            <a:ext cx="361008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Михайлова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льга Валерьевна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едагог-психолог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187280" y="3284640"/>
            <a:ext cx="3657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b9a"/>
                </a:solidFill>
                <a:latin typeface="Corbel"/>
              </a:rPr>
              <a:t>Разнообразные двигательные, перцептивные, когнитивные, аффективные и речевые расстройства, как правило, сложные, иногда изолированные, требуют комплексной медико-психолого-педагогической коррекции. </a:t>
            </a:r>
            <a:endParaRPr b="0" lang="en-US" sz="28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3429000"/>
            <a:ext cx="76438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7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дним из важнейших аспектов такой работы является создание условий для полноценного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личностного развития детей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 ограниченными возможностями движений в ходе реализации мер по психолого-педагогической реабилитации и социальной адаптаци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3b9a"/>
                </a:solidFill>
                <a:uFillTx/>
                <a:latin typeface="Corbel"/>
              </a:rPr>
              <a:t>Первое направление</a:t>
            </a:r>
            <a:r>
              <a:rPr b="0" lang="ru-RU" sz="3600" spc="-1" strike="noStrike" u="sng">
                <a:solidFill>
                  <a:srgbClr val="003b9a"/>
                </a:solidFill>
                <a:uFillTx/>
                <a:latin typeface="Corbel"/>
              </a:rPr>
              <a:t>:</a:t>
            </a:r>
            <a:r>
              <a:rPr b="0" lang="ru-RU" sz="3600" spc="-1" strike="noStrike">
                <a:solidFill>
                  <a:srgbClr val="003b9a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3b9a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003b9a"/>
                </a:solidFill>
                <a:latin typeface="Corbel"/>
              </a:rPr>
              <a:t>Работа со специалистами</a:t>
            </a:r>
            <a:r>
              <a:rPr b="0" lang="ru-RU" sz="3600" spc="-1" strike="noStrike">
                <a:solidFill>
                  <a:srgbClr val="003b9a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187280" y="2060280"/>
            <a:ext cx="7570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Организация специальной образовательной и коррекционно-развивающей среды;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Просветительская деятельность, взаимодействие с родителями;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Профессиональное самосовершенствование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b9a"/>
                </a:solidFill>
                <a:uFillTx/>
                <a:latin typeface="Corbel"/>
              </a:rPr>
              <a:t>Второе направление:</a:t>
            </a:r>
            <a:r>
              <a:rPr b="1" lang="ru-RU" sz="3200" spc="-1" strike="noStrike">
                <a:solidFill>
                  <a:srgbClr val="003b9a"/>
                </a:solidFill>
                <a:latin typeface="Corbel"/>
              </a:rPr>
              <a:t>  Работа непосредственно с семьей  ребенка с ДЦП</a:t>
            </a:r>
            <a:endParaRPr b="0" lang="en-US" sz="32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1773000"/>
            <a:ext cx="78915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сихолого-социальная диагностика  проблем семьи и психолого-социальная помощь родителям (по результатам диагностики)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вышение уровня  психолого-педагогической подготовки родителей к работе с ребенко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ное обучение родител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b9a"/>
                </a:solidFill>
                <a:uFillTx/>
                <a:latin typeface="Corbel"/>
              </a:rPr>
              <a:t>Третье направление:</a:t>
            </a:r>
            <a:r>
              <a:rPr b="0" lang="ru-RU" sz="3600" spc="-1" strike="noStrike">
                <a:solidFill>
                  <a:srgbClr val="003b9a"/>
                </a:solidFill>
                <a:latin typeface="Corbel"/>
              </a:rPr>
              <a:t>  </a:t>
            </a:r>
            <a:r>
              <a:rPr b="1" lang="ru-RU" sz="3600" spc="-1" strike="noStrike">
                <a:solidFill>
                  <a:srgbClr val="003b9a"/>
                </a:solidFill>
                <a:latin typeface="Corbel"/>
              </a:rPr>
              <a:t>Работа с ребенком</a:t>
            </a:r>
            <a:endParaRPr b="0" lang="en-US" sz="36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1628280"/>
            <a:ext cx="78915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сихолого-педагогическая диагностика ребенк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работка индивидуальных программ образовательной деятельности ребенк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ррекционно-развивающая работа  по направлениям деятельност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b9a"/>
                </a:solidFill>
                <a:latin typeface="Corbel"/>
              </a:rPr>
              <a:t>Коррекционно-развивающая работа педагога-психолога с детьми-инвалидами ориентирована на познавательную, эмоционально-личностную и социальную сферу жизни и самосознание детей. </a:t>
            </a:r>
            <a:endParaRPr b="0" lang="en-US" sz="27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491920"/>
            <a:ext cx="76438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дачами взаимодействия психолога с детьми-инвалидами (ДЦП) становятс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нятие нервно-психического напряжения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коррекция самооценки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развитие психических функций: памяти, мышления, воображения, внимания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реодоление пассивности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формирование самостоятельности, ответственности и активной жизненной позиции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реодоление отчужденности и формирование коммуникативных навыков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971280" y="549000"/>
            <a:ext cx="796284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цесс психокоррекции должен проходить в ходе того вида деятельности, который доступен ребенк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сихолог в процессе коррекции должен ориентироваться не только на уровень актуального развития ребенка, но и на его потенциальные возмож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оме того, необходимо учитывать и степень тяжести эмоционального неблагополучия ребен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b9a"/>
                </a:solidFill>
                <a:latin typeface="Corbel"/>
              </a:rPr>
              <a:t>При работе с детьми с ДЦП</a:t>
            </a:r>
            <a:endParaRPr b="0" lang="en-US" sz="40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99640" y="1413000"/>
            <a:ext cx="8001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1. Педагог-психолог должен хорошо отдавать себе отчет в своей деятельност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2. Не испытывать жалости  к детям и не фальшивить и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3. Время занятия не более 20 (30) минут для одного ребенка или группы дете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4. Вариативность требова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ний к ребенку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5. Гуманность и естествен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ность в отношении с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деть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6. Самостоятельность детей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о время заняти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5148360" y="3573360"/>
            <a:ext cx="37526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b9a"/>
                </a:solidFill>
                <a:latin typeface="Corbel"/>
              </a:rPr>
              <a:t>Направления и задачи психологической коррекции нарушений познавательной деятельности </a:t>
            </a:r>
            <a:br>
              <a:rPr sz="2500"/>
            </a:br>
            <a:r>
              <a:rPr b="0" lang="ru-RU" sz="2500" spc="-1" strike="noStrike">
                <a:solidFill>
                  <a:srgbClr val="003b9a"/>
                </a:solidFill>
                <a:latin typeface="Corbel"/>
              </a:rPr>
              <a:t>( по И.И. Мамайчук)</a:t>
            </a:r>
            <a:endParaRPr b="0" lang="en-US" sz="2500" spc="-1" strike="noStrike">
              <a:solidFill>
                <a:srgbClr val="003b9a"/>
              </a:solidFill>
              <a:latin typeface="Corbe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719280" y="1314360"/>
          <a:ext cx="8424720" cy="5524560"/>
        </p:xfrm>
        <a:graphic>
          <a:graphicData uri="http://schemas.openxmlformats.org/drawingml/2006/table">
            <a:tbl>
              <a:tblPr/>
              <a:tblGrid>
                <a:gridCol w="2016000"/>
                <a:gridCol w="6408720"/>
              </a:tblGrid>
              <a:tr h="4320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держание б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сихокоррекционные задачи и при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7748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тив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умение ребенка: выделить, осознать и принять цели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ирование познавательных мотив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мулирование активности ребенка на занят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ализ типа семейного воспитания (при доминантном типе снижается познавательная активность у ребенк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е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здание игровых учебных ситуац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дактические и развивающи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2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онно-регулято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умение планировать свою деятельность по времени и содерж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ение ребенка планированию деятельности во времени. Предварительная организация ориентировки ребенка в задании. Предварительный анализ с ребенком используемых средств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е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ение ребенка продуктивным видам деятельности: (конструирование, рисование, лепка, моделир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48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лок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умение ребенка контролировать свои действия и вносить необходимые корректи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ение контролю по результатам деятельности. Обучение контролю по способу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ение контролю по ходу выполнения деятельност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е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дактические игры и упражнения на внимание, память, наблюдательнос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ение конструированию и рисованию по модел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b9a"/>
                </a:solidFill>
                <a:latin typeface="Corbel"/>
              </a:rPr>
              <a:t>Спектр эмоциональных нарушений у детей и подростков с различными формами ДЦП чрезвычайно велик. </a:t>
            </a:r>
            <a:endParaRPr b="0" lang="en-US" sz="28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00000" y="1447920"/>
            <a:ext cx="803448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Это могут быть тяжелые неврозоподобные нарушения и психопатоподобные нарушения на фоне органического поражения ЦНС, эмоциональные расстройства в связи с наличием физического дефекта, воспитанием по типу гиперопеки или ранней социальной депривацие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ажным этапом работы с этими детьми является коррекция самооценки, уровня самосознания, формирование эмоциональной устойчивости и саморегуляци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979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9a"/>
                </a:solidFill>
                <a:latin typeface="Corbel"/>
              </a:rPr>
              <a:t>Необходимо учитывать имеющуюся у большинства  детей эмоциональную лабильность, неуравновешенность и склонность к истероидным или депрессивным реакциям. </a:t>
            </a:r>
            <a:endParaRPr b="0" lang="en-US" sz="24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00000" y="2060640"/>
            <a:ext cx="7786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увство собственной ущербности и дефектности способствует быстрому формированию «комплекса неполноценности», что  в свою очередь, приводит к неосознанной защитной реакции ухода личности на более низкий, инфантильный уровень с резким заострением эгоцентрических чер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 детей экстравертированных, с возбудимым типом психической деятельности это проявляется в усилении раздражительности, озлобленности, истероидности, требовании повышенного внимания к себе со сто­роны окружающих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 интравертов же с чертами тормозимого  круга происходит усиление психоастенических и депрессивных проявлений с идеями самоуничижения, ущербности и нежелания жи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71280" y="333000"/>
            <a:ext cx="796284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Инвалидность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у детей означает существенное ограничение жизнедеятельности, способствующее социальной дезадаптации, которая обусловлена нарушениями в развитии, затруднениями в самообслуживании, общении, обучении, профессиональной ориентации в будущем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Дети, имеющие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татус инвалид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нуждаются в особой заботе, общество обязано предоставить им условия не только для лечения, но и для успешной социальной адаптации, полноценного  развития, обучения, получения образования. Данные права провозглашены Конвенцией о правах ребёнка, закреплены Конституцией РФ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18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b9a"/>
                </a:solidFill>
                <a:latin typeface="Corbel"/>
              </a:rPr>
              <a:t>Методы психологической коррекции эмоциональных наруше­ний у детей целесообразно разделить на две группы: основные и специальные. </a:t>
            </a:r>
            <a:endParaRPr b="0" lang="en-US" sz="28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6560" y="2349000"/>
            <a:ext cx="78598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К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основным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относятся методы, которые являются базисными: это игротерапия, арттерапия, психоанализ, метод  десенсибилизации, аутогенная тренировка, поведенческий тренинг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пециальные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методы включают в себя тактические и технические приемы психокоррекции, направленные на устранение имеющегося дефекта с учетом индивидуально-психологических факторов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497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b9a"/>
                </a:solidFill>
                <a:latin typeface="Corbel"/>
              </a:rPr>
              <a:t>При подборе методов психокоррекции эмоциональных нарушений необходимо исходить из специфической направленности конфликта, определяющего эмоциональное неблагополучие ребенка</a:t>
            </a:r>
            <a:endParaRPr b="0" lang="en-US" sz="27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00000" y="2781360"/>
            <a:ext cx="80344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и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внутриличностном конфликте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целесообразно использовать игровые и психоаналитические методы психокоррекции, методы семейной психокоррекци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и преобладании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межличностных конфликтов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спользуются групповая психокоррекция, направленная на оптимизацию межличностных отношений, психорегулирующие тренировки с целью развития навыков самоконтроля поведения и смягчения эмоционального напряжения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9a"/>
                </a:solidFill>
                <a:latin typeface="Corbel"/>
              </a:rPr>
              <a:t>Направлениями психолого-педагогической коррекции также являются:</a:t>
            </a:r>
            <a:endParaRPr b="0" lang="en-US" sz="32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560" y="1447560"/>
            <a:ext cx="8107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оздействие на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систему отношений личности ребенка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 целью формирования адекватного отношения к окружающим, к себе, к учебе, к труду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оздействие на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мотивационную сферу личности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 целью по­вышения ее подвижности и пластичности, переориентации лич­ностных установок на достижение реальных, доступных целей формирования четкой ближайшей и отдаленной жизненной перс­пективы, и также развития и укрепления общепринятых мораль­но-этических норм поведения в социальной среде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4883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кольку потребности и установки личности во многом зависят от ее шкалы ценностей, важной задачей является вывести на первое место в этой шкале те ценности, которые бы способствовали ориентации личности ребенка на достижение реальных, доступных для него целей (например, учебы, приобретение профессии, занятия любимым и полезным делом, решение какой-либо творческой задачи и т.п.) и формированию адекватного уровня притязания.</a:t>
            </a:r>
            <a:endParaRPr b="0" lang="en-US" sz="2800" spc="-1" strike="noStrike">
              <a:solidFill>
                <a:srgbClr val="003b9a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9a"/>
                </a:solidFill>
                <a:latin typeface="Corbel"/>
              </a:rPr>
              <a:t>Таким образом, сложность и неординарность нарушений двигательной сферы и центральной нервной системы, наличие сочетанных форм с отклонениями в высшей психической деятельности, интеллекте, речи, сенсорном развитии, — обуславливают необходимость создания разных моделей психолого-педагогиче­ской и медико-социальной реабилитации детей с ДЦП</a:t>
            </a:r>
            <a:endParaRPr b="0" lang="en-US" sz="2400" spc="-1" strike="noStrike">
              <a:solidFill>
                <a:srgbClr val="003b9a"/>
              </a:solidFill>
              <a:latin typeface="Corbel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2276640" y="3716280"/>
            <a:ext cx="52815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b9a"/>
                </a:solidFill>
                <a:latin typeface="Corbel"/>
              </a:rPr>
              <a:t>Спасибо за внимание!</a:t>
            </a:r>
            <a:endParaRPr b="0" lang="en-US" sz="48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1989000"/>
            <a:ext cx="789156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Шипицына Л.М.,  Мамайчук И.И. Детский церебральный паралич  - СПб., Изд-во "Дидактика Плюс", — 2001 - 272 с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сихологическая помощь родителям в воспитании детей с нарушениями развития – М., 2008. -223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астюкова Е.М., Московкина А.Г. Семейное воспитание детей с отклонениями в развитии. М., 2003. – 408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эдьюсон Х., Шефер Ч. Практикум по игровой психотерапии. – Спб. – 2000.416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Ткачева В.В. Технологии психологической помощи семьям детей с отклонениями в развитии – М., 2007. - 318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3b9a"/>
                </a:solidFill>
                <a:latin typeface="Corbel"/>
              </a:rPr>
              <a:t>Детский церебральный паралич </a:t>
            </a:r>
            <a:endParaRPr b="0" lang="en-US" sz="39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71280" y="1197000"/>
            <a:ext cx="796284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непрогрессирующее заболевание, однако оно может давать осложнения в виде контрактур и различных деформаций. По сути детский церебральный паралич - даже не болезнь, а состояние, при котором нормальное развитие ребенка чрезвычайно затруднен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собенностью психического развития при детских церебральных параличах является не только его замедленный темп, но и неравномерный характер, диспропорциональность в формировании отдельных, главным образом высших корковых функций, ускоренное развитие одних, несформированность, отставание других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042920" y="764640"/>
            <a:ext cx="7850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 особенностями патогенеза связана и особая структура интеллектуальной недостаточности — диссоциация между относительно удовлетворительным уровнем развития абстрактного мышления и недоразвитием функций пространственного анализа и синтеза, праксиса, счетных способностей и других высших корковых функций, имеющих значение для формирования интеллектуальной деятельности и развития школьных навык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(Е. И. Кириченко, 1965; Е. М. Мастюкова, 1974; С. С. Калижнюк и др., 1975)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4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9a"/>
                </a:solidFill>
                <a:latin typeface="Corbel"/>
              </a:rPr>
              <a:t>Неврологи выделяют три основные формы детского церебрального паралича: </a:t>
            </a:r>
            <a:endParaRPr b="0" lang="en-US" sz="32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42560" y="1447560"/>
            <a:ext cx="789156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пастическую,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ля которой характерен постоянный повышенный тонус отдельных групп мышц - чаще всего сгибателей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гиперкинетическую,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тетоидную,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гда тонус в сгибателях и разгибателях непрерывно меняется, из-за чего появляются резкие непроизвольные движения туловища и конечностей, мешающие ребенку ходить и сохранять равновесие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стеническо-астатическую.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этой форме заболевания тонус вс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групп мышц бывает понижен, что также мешает удерживать равновесие и нормально двигаться. Бывают случаи, когда астеническо-астатическая форма переходит в атетоидну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9a"/>
                </a:solidFill>
                <a:latin typeface="Corbel"/>
              </a:rPr>
              <a:t>У детей с церебральными параличами резко затормаживается общее развитие двигательных функций</a:t>
            </a:r>
            <a:endParaRPr b="0" lang="en-US" sz="32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16000" y="1916280"/>
            <a:ext cx="7818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арушены движения конечностей и всех частей тела в результате спазмов мускулатуры (параличей), наблюдаются гиперкинезы (непроизвольные беспорядочные движения конечностей и оральной мускулатуры)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Тяжесть двигательных нарушений у детей с ДЦП различна. Большинство из них передвигается затрудненной, плохо координированной походкой, многие используют при этом костыли и трости, некоторые беспомощны без коляск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9a"/>
                </a:solidFill>
                <a:latin typeface="Corbel"/>
              </a:rPr>
              <a:t>Выраженные двигательные расстройства и нарушения речи при детском церебральном параличе </a:t>
            </a:r>
            <a:endParaRPr b="0" lang="en-US" sz="32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2349000"/>
            <a:ext cx="749952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трудняют общение этих детей с окружающими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рицательно влияют на все их развити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особствуют формированию негативных черт характера, появлению поведенческих нарушений, формированию острого чувства неполноценности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b9a"/>
                </a:solidFill>
                <a:latin typeface="Corbel"/>
              </a:rPr>
              <a:t>У детей с церебральным параличом наблюдаются недостаточные активность, подвижность, яркость эмоциональности. </a:t>
            </a:r>
            <a:endParaRPr b="0" lang="en-US" sz="28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42560" y="1915920"/>
            <a:ext cx="78915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войственные детям с церебральным параличом пугливость, повышенная тормозимость в незнакомых условиях надолго фиксируются у них, что существенно отражается и на процессе обучения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сстройства внимания и памяти проявляются в повышенной отвлекаемости, неспособности длительно концентрировать внимание, узости его объема, преобладании вербальной памяти над зрительной и тактильно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9a"/>
                </a:solidFill>
                <a:latin typeface="Corbel"/>
              </a:rPr>
              <a:t>Часто церебральные параличи сочетаются с другими отклонениями в развитии</a:t>
            </a:r>
            <a:endParaRPr b="0" lang="en-US" sz="3200" spc="-1" strike="noStrike">
              <a:solidFill>
                <a:srgbClr val="003b9a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нижение слуха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ечевые расстройства, представляющие собой различной выраженности нарушения произношения вследствие ограниченной подвижности артикуляционного аппарата (дизартрии)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задержка формирования отдельных психических функций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ыраженность двигательного нарушения у ребенка не соотносится с выраженностью отклонений в его умственном развитии.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1T23:22:02Z</dcterms:created>
  <dc:creator>Olga</dc:creator>
  <dc:description/>
  <dc:language>en-US</dc:language>
  <cp:lastModifiedBy>user</cp:lastModifiedBy>
  <dcterms:modified xsi:type="dcterms:W3CDTF">2017-05-17T07:45:32Z</dcterms:modified>
  <cp:revision>26</cp:revision>
  <dc:subject/>
  <dc:title>Слайд 1</dc:title>
</cp:coreProperties>
</file>