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BDB-B746-455B-B663-F6265C95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F73-5422-4869-86D7-0FE459C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8D6-6724-4169-927B-A93C88B2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E1A-D840-4691-9EBA-04154BD1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AC48-D7E1-4EFF-8DF1-BC368E7B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FF34-FE28-42F4-8D20-280088F8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C774-F693-45C5-9268-064155A8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1B8F-C40B-41D8-B79B-819B2FA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9119-05AA-492A-BE7B-B2B8804C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E195-F359-44C5-89CE-DD5CC3BD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D8C4-9A4C-4D0B-85D2-2CD187F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14D-1EDF-4800-B251-141198AD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D0F7-ECC3-463A-8EDD-E5EDF2D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CDB8-654D-4912-A7DF-2D1A5D1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1573-BE8E-4AD1-B508-0F60BE72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1AA9-4427-4A43-8B92-EA544F5C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7620-BC7F-476F-AACF-90E07DD4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D622-E255-4F96-AD57-A73AC740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A7EB-ED9D-4D67-85B4-4FAFACC0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AFDF-2DF2-4DC3-891D-3822478C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FB09-22C8-4185-87AE-A766D43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E66C-2FB9-4C14-8C14-86A6EFEF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EFF-96A5-4086-8145-F9F4956D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3588-2B9B-4C51-833D-3AA76A9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37F6-F2EF-458D-96E5-691444A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AAA9-3523-481E-BDA5-47782462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9A90-78AC-46AE-84B9-29F246C3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041C-C412-4782-AFF5-411FF818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326A-4D43-464B-AEA5-F66E1413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92B4-EFC3-4DC6-B5C2-04AF817B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B35B-6D52-46B2-82C4-31B12ADA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CD7B-7818-48B1-B619-5C3E7AC9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9A22-C632-4D7F-89F9-F458B33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E71-4D08-41E7-8559-A6C8A068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5521-8705-4680-AAAB-60B6CE0E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E7A54-E14F-4E1C-9FFF-8670F6B3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3D88-6E49-4132-9072-1D56F81A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9192-8094-4B38-886D-7970039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3702-3E62-4E4F-BD8B-05119B9F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C82F-DBA2-4AE8-AA6C-05FBF626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F2DF-6DEB-400E-9C4F-B09659D5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8D68-C9F5-44B3-8CD5-99BED7C4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850E-8B68-49ED-B3B8-041A38D4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D098-51CF-4783-AE19-35588649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F9D-DA53-4266-86FC-4E75839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6ED7A-6B3C-4415-AABD-C05E1AD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7CCC-8817-40D9-85E7-CE52FC09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08047-36D0-460E-8491-220F1D6E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F9F7-79BB-4CBF-BBFF-2EA1F0CD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0B64-C4E1-400A-B8A1-D4EDFD34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C7E3B-190B-4901-B7F0-F241148F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925D-05B7-4DAA-93C5-9C7DAE8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CED29-1121-4E2B-A1CB-1C613BAD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7CA2-6A7F-4897-BC0C-9C38CE3A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CBCD-EEC0-4713-9F63-F9E0B95A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7DE-86BF-43E7-A652-8493996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424F-EA87-4A44-A9B7-E73FD1DE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C8E3-B5AD-4B66-80A6-D0813C65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7FCE4-FC8D-44F9-A1DC-1A996B2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0BE50-C193-4088-A90E-2C69E8DC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E7A0-E008-4629-ADA4-68400BFB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898B0-D478-4075-9B1C-6EF3F8C2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1A4F-426E-4A8F-90BA-E8DC45A3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84289-636D-471A-AED9-9FB7BA33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4772E-18B0-4771-B17F-80D9066E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0D83-B762-4D25-9449-2A833BC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8A0-30BF-453A-945F-88534EF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DC8D-E377-4B52-B1FF-72E07F2F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6A33-12D9-49BC-A7B2-37DE849D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12D27-36B5-4C55-9871-EFF41924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44FF6-98CB-4AF1-A211-187C5E45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64056-17EF-4647-96AB-C18D571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A23CC-C4D1-4BDA-AB88-6F4A26F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E7F90-7512-4568-B724-2747E596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9F85-E7CE-4121-8122-AAB8717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A0AF1-DF1F-4538-8A45-14AA3725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4B9F-A607-4AA1-9A91-9243DB1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7A8-F751-4F01-8A92-DF9A34E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E2087-FC1D-4036-A5B6-81791C3E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CF08-0380-4D64-91CC-1FBEFA0F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87A29-214D-419E-85C5-E9C0A830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D8828-2E01-4CAB-B4CE-7642ECDF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27395-4210-47C1-AF3F-1B616DED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1E7-851F-4633-AAFF-460349DA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1fcff">
              <a:alpha val="33000"/>
            </a:srgbClr>
          </a:solidFill>
          <a:ln cap="rnd" w="3240">
            <a:solidFill>
              <a:srgbClr val="91ca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9ff"/>
            </a:solidFill>
            <a:miter/>
          </a:ln>
          <a:effectLst>
            <a:outerShdw dist="12600" dir="5400000" blurRad="0" rotWithShape="0">
              <a:srgbClr val="87ac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A9CF-95DE-42D3-A9E1-1A213374E1DF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1fcff">
              <a:alpha val="33000"/>
            </a:srgbClr>
          </a:solidFill>
          <a:ln cap="rnd" w="3240">
            <a:solidFill>
              <a:srgbClr val="91ca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9ff"/>
            </a:solidFill>
            <a:miter/>
          </a:ln>
          <a:effectLst>
            <a:outerShdw dist="12600" dir="5400000" blurRad="0" rotWithShape="0">
              <a:srgbClr val="87ac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aa0d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AC9F-04F7-4D03-BE14-66FABEBE5AF8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aa0d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3F82-8C83-4B17-8828-7EC1E549898F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8A0E-7B3B-45C0-BEDC-527F86259202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4A56-61F7-4CBA-BC5B-C1745D4FFC9F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F6E2-8D9B-43AF-A4BB-71C4855F1EE1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a3e2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e7f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B6A2-E4A7-4120-8E69-841526632888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Особенности психологического сопровождения детей-инвалидов </a:t>
            </a:r>
            <a:r>
              <a:rPr b="0" lang="ru-RU" sz="3900" spc="-1" strike="noStrike">
                <a:solidFill>
                  <a:srgbClr val="003b9a"/>
                </a:solidFill>
                <a:latin typeface="Corbel"/>
              </a:rPr>
              <a:t>Работа педагога-психолога с детьми с ДЦП в общеобразовательной школе</a:t>
            </a:r>
            <a:endParaRPr b="0" lang="en-US" sz="39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76720" y="5013000"/>
            <a:ext cx="3610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Михайлова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льга Валерьевна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едагог-психолог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187280" y="3284640"/>
            <a:ext cx="3657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9a"/>
                </a:solidFill>
                <a:latin typeface="Corbel"/>
              </a:rPr>
              <a:t>Разнообразные двигательные, перцептивные, когнитивные, аффективные и речевые расстройства, как правило, сложные, иногда изолированные, требуют комплексной медико-психолого-педагогической коррекции. 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3429000"/>
            <a:ext cx="76438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дним из важнейших аспектов такой работы является создание условий для полноценного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личностного развития детей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 ограниченными возможностями движений в ходе реализации мер по психолого-педагогической реабилитации и социальной адаптац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3b9a"/>
                </a:solidFill>
                <a:uFillTx/>
                <a:latin typeface="Corbel"/>
              </a:rPr>
              <a:t>Первое направление</a:t>
            </a:r>
            <a:r>
              <a:rPr b="0" lang="ru-RU" sz="3600" spc="-1" strike="noStrike" u="sng">
                <a:solidFill>
                  <a:srgbClr val="003b9a"/>
                </a:solidFill>
                <a:uFillTx/>
                <a:latin typeface="Corbel"/>
              </a:rPr>
              <a:t>:</a:t>
            </a:r>
            <a:r>
              <a:rPr b="0" lang="ru-RU" sz="3600" spc="-1" strike="noStrike">
                <a:solidFill>
                  <a:srgbClr val="003b9a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3b9a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003b9a"/>
                </a:solidFill>
                <a:latin typeface="Corbel"/>
              </a:rPr>
              <a:t>Работа со специалистами</a:t>
            </a:r>
            <a:r>
              <a:rPr b="0" lang="ru-RU" sz="3600" spc="-1" strike="noStrike">
                <a:solidFill>
                  <a:srgbClr val="003b9a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87280" y="2060280"/>
            <a:ext cx="757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Организация специальной образовательной и коррекционно-развивающей среды;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росветительская деятельность, взаимодействие с родителями;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рофессиональное самосовершенствование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b9a"/>
                </a:solidFill>
                <a:uFillTx/>
                <a:latin typeface="Corbel"/>
              </a:rPr>
              <a:t>Второе направление:</a:t>
            </a:r>
            <a:r>
              <a:rPr b="1" lang="ru-RU" sz="3200" spc="-1" strike="noStrike">
                <a:solidFill>
                  <a:srgbClr val="003b9a"/>
                </a:solidFill>
                <a:latin typeface="Corbel"/>
              </a:rPr>
              <a:t>  Работа непосредственно с семьей  ребенка с ДЦП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1773000"/>
            <a:ext cx="7891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сихолого-социальная диагностика  проблем семьи и психолого-социальная помощь родителям (по результатам диагностики)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ышение уровня  психолого-педагогической подготовки родителей к работе с ребенко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ое обучение родител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b9a"/>
                </a:solidFill>
                <a:uFillTx/>
                <a:latin typeface="Corbel"/>
              </a:rPr>
              <a:t>Третье направление:</a:t>
            </a:r>
            <a:r>
              <a:rPr b="0" lang="ru-RU" sz="3600" spc="-1" strike="noStrike">
                <a:solidFill>
                  <a:srgbClr val="003b9a"/>
                </a:solidFill>
                <a:latin typeface="Corbel"/>
              </a:rPr>
              <a:t>  </a:t>
            </a:r>
            <a:r>
              <a:rPr b="1" lang="ru-RU" sz="3600" spc="-1" strike="noStrike">
                <a:solidFill>
                  <a:srgbClr val="003b9a"/>
                </a:solidFill>
                <a:latin typeface="Corbel"/>
              </a:rPr>
              <a:t>Работа с ребенком</a:t>
            </a:r>
            <a:endParaRPr b="0" lang="en-US" sz="36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1628280"/>
            <a:ext cx="78915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сихолого-педагогическая диагностика ребен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ка индивидуальных программ образовательной деятельности ребен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ционно-развивающая работа  по направлениям деятельност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b9a"/>
                </a:solidFill>
                <a:latin typeface="Corbel"/>
              </a:rPr>
              <a:t>Коррекционно-развивающая работа педагога-психолога с детьми-инвалидами ориентирована на познавательную, эмоционально-личностную и социальную сферу жизни и самосознание детей. </a:t>
            </a:r>
            <a:endParaRPr b="0" lang="en-US" sz="27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491920"/>
            <a:ext cx="76438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дачами взаимодействия психолога с детьми-инвалидами (ДЦП) становятс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нятие нервно-психического напряжения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оррекция самооценки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развитие психических функций: памяти, мышления, воображения, внимания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одоление пассивности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формирование самостоятельности, ответственности и активной жизненной позиции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одоление отчужденности и формирование коммуникативных навыков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71280" y="549000"/>
            <a:ext cx="796284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цесс психокоррекции должен проходить в ходе того вида деятельности, который доступен ребенк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сихолог в процессе коррекции должен ориентироваться не только на уровень актуального развития ребенка, но и на его потенциальные возмож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оме того, необходимо учитывать и степень тяжести эмоционального неблагополучия ребен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9a"/>
                </a:solidFill>
                <a:latin typeface="Corbel"/>
              </a:rPr>
              <a:t>При работе с детьми с ДЦП</a:t>
            </a:r>
            <a:endParaRPr b="0" lang="en-US" sz="40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99640" y="1413000"/>
            <a:ext cx="8001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. Педагог-психолог должен хорошо отдавать себе отчет в своей деятельност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2. Не испытывать жалости  к детям и не фальшивить и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3. Время занятия не более 20 (30) минут для одного ребенка или группы дет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4. Вариативность требова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ний к ребенку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5. Гуманность и естествен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ность в отношении с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деть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6. Самостоятельность дете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о время заняти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5148360" y="3573360"/>
            <a:ext cx="3752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b9a"/>
                </a:solidFill>
                <a:latin typeface="Corbel"/>
              </a:rPr>
              <a:t>Направления и задачи психологической коррекции нарушений познавательной деятельности </a:t>
            </a:r>
            <a:br>
              <a:rPr sz="2500"/>
            </a:br>
            <a:r>
              <a:rPr b="0" lang="ru-RU" sz="2500" spc="-1" strike="noStrike">
                <a:solidFill>
                  <a:srgbClr val="003b9a"/>
                </a:solidFill>
                <a:latin typeface="Corbel"/>
              </a:rPr>
              <a:t>( по И.И. Мамайчук)</a:t>
            </a:r>
            <a:endParaRPr b="0" lang="en-US" sz="2500" spc="-1" strike="noStrike">
              <a:solidFill>
                <a:srgbClr val="003b9a"/>
              </a:solidFill>
              <a:latin typeface="Corbe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719280" y="1314360"/>
          <a:ext cx="8424720" cy="5524560"/>
        </p:xfrm>
        <a:graphic>
          <a:graphicData uri="http://schemas.openxmlformats.org/drawingml/2006/table">
            <a:tbl>
              <a:tblPr/>
              <a:tblGrid>
                <a:gridCol w="2016000"/>
                <a:gridCol w="6408720"/>
              </a:tblGrid>
              <a:tr h="4320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сихокоррекционные задачи и при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774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тив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мение ребенка: выделить, осознать и принять цели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ирование познавательных мотив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мулирование активности ребенка на занят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з типа семейного воспитания (при доминантном типе снижается познавательная активность у ребенк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здание игровых учебных ситу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дактические и развивающи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о-регулят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мение планировать свою деятельность по времени и содерж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ребенка планированию деятельности во времени. Предварительная организация ориентировки ребенка в задании. Предварительный анализ с ребенком используемых средств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ребенка продуктивным видам деятельности: (конструирование, рисование, лепка, моделир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лок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мение ребенка контролировать свои действия и вносить необходимые корре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контролю по результатам деятельности. Обучение контролю по способу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контролю по ходу выполнения деятель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дактические игры и упражнения на внимание, память, наблюдательнос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конструированию и рисованию по модел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9a"/>
                </a:solidFill>
                <a:latin typeface="Corbel"/>
              </a:rPr>
              <a:t>Спектр эмоциональных нарушений у детей и подростков с различными формами ДЦП чрезвычайно велик. 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00000" y="1447920"/>
            <a:ext cx="80344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Это могут быть тяжелые неврозоподобные нарушения и психопатоподобные нарушения на фоне органического поражения ЦНС, эмоциональные расстройства в связи с наличием физического дефекта, воспитанием по типу гиперопеки или ранней социальной депривацие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ажным этапом работы с этими детьми является коррекция самооценки, уровня самосознания, формирование эмоциональной устойчивости и саморегуляц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979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9a"/>
                </a:solidFill>
                <a:latin typeface="Corbel"/>
              </a:rPr>
              <a:t>Необходимо учитывать имеющуюся у большинства  детей эмоциональную лабильность, неуравновешенность и склонность к истероидным или депрессивным реакциям. </a:t>
            </a:r>
            <a:endParaRPr b="0" lang="en-US" sz="24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00000" y="2060640"/>
            <a:ext cx="7786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увство собственной ущербности и дефектности способствует быстрому формированию «комплекса неполноценности», что  в свою очередь, приводит к неосознанной защитной реакции ухода личности на более низкий, инфантильный уровень с резким заострением эгоцентрических чер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детей экстравертированных, с возбудимым типом психической деятельности это проявляется в усилении раздражительности, озлобленности, истероидности, требовании повышенного внимания к себе со сто­роны окружающих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интравертов же с чертами тормозимого  круга происходит усиление психоастенических и депрессивных проявлений с идеями самоуничижения, ущербности и нежелания ж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71280" y="333000"/>
            <a:ext cx="796284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Инвалидност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у детей означает существенное ограничение жизнедеятельности, способствующее социальной дезадаптации, которая обусловлена нарушениями в развитии, затруднениями в самообслуживании, общении, обучении, профессиональной ориентации в будуще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Дети, имеющие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татус инвалид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нуждаются в особой заботе, общество обязано предоставить им условия не только для лечения, но и для успешной социальной адаптации, полноценного  развития, обучения, получения образования. Данные права провозглашены Конвенцией о правах ребёнка, закреплены Конституцией РФ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9a"/>
                </a:solidFill>
                <a:latin typeface="Corbel"/>
              </a:rPr>
              <a:t>Методы психологической коррекции эмоциональных наруше­ний у детей целесообразно разделить на две группы: основные и специальные. 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6560" y="2349000"/>
            <a:ext cx="7859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К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основным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относятся методы, которые являются базисными: это игротерапия, арттерапия, психоанализ, метод  десенсибилизации, аутогенная тренировка, поведенческий тренинг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пециальные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методы включают в себя тактические и технические приемы психокоррекции, направленные на устранение имеющегося дефекта с учетом индивидуально-психологических факторов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497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b9a"/>
                </a:solidFill>
                <a:latin typeface="Corbel"/>
              </a:rPr>
              <a:t>При подборе методов психокоррекции эмоциональных нарушений необходимо исходить из специфической направленности конфликта, определяющего эмоциональное неблагополучие ребенка</a:t>
            </a:r>
            <a:endParaRPr b="0" lang="en-US" sz="27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00000" y="2781360"/>
            <a:ext cx="80344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и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внутриличностном конфликте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целесообразно использовать игровые и психоаналитические методы психокоррекции, методы семейной психокоррекци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и преобладании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межличностных конфликтов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спользуются групповая психокоррекция, направленная на оптимизацию межличностных отношений, психорегулирующие тренировки с целью развития навыков самоконтроля поведения и смягчения эмоционального напряжения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Направлениями психолого-педагогической коррекции также являются: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560" y="1447560"/>
            <a:ext cx="8107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оздействие на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истему отношений личности ребенка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 целью формирования адекватного отношения к окружающим, к себе, к учебе, к труду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оздействие на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мотивационную сферу личности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 целью по­вышения ее подвижности и пластичности, переориентации лич­ностных установок на достижение реальных, доступных целей формирования четкой ближайшей и отдаленной жизненной перс­пективы, и также развития и укрепления общепринятых мораль­но-этических норм поведения в социальной сред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4883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кольку потребности и установки личности во многом зависят от ее шкалы ценностей, важной задачей является вывести на первое место в этой шкале те ценности, которые бы способствовали ориентации личности ребенка на достижение реальных, доступных для него целей (например, учебы, приобретение профессии, занятия любимым и полезным делом, решение какой-либо творческой задачи и т.п.) и формированию адекватного уровня притязания.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9a"/>
                </a:solidFill>
                <a:latin typeface="Corbel"/>
              </a:rPr>
              <a:t>Таким образом, сложность и неординарность нарушений двигательной сферы и центральной нервной системы, наличие сочетанных форм с отклонениями в высшей психической деятельности, интеллекте, речи, сенсорном развитии, — обуславливают необходимость создания разных моделей психолого-педагогиче­ской и медико-социальной реабилитации детей с ДЦП</a:t>
            </a:r>
            <a:endParaRPr b="0" lang="en-US" sz="2400" spc="-1" strike="noStrike">
              <a:solidFill>
                <a:srgbClr val="003b9a"/>
              </a:solidFill>
              <a:latin typeface="Corbe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2276640" y="3716280"/>
            <a:ext cx="52815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b9a"/>
                </a:solidFill>
                <a:latin typeface="Corbel"/>
              </a:rPr>
              <a:t>Спасибо за внимание!</a:t>
            </a:r>
            <a:endParaRPr b="0" lang="en-US" sz="4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1989000"/>
            <a:ext cx="789156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Шипицына Л.М.,  Мамайчук И.И. Детский церебральный паралич  - СПб., Изд-во "Дидактика Плюс", — 2001 - 272 с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сихологическая помощь родителям в воспитании детей с нарушениями развития – М., 2008. -223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астюкова Е.М., Московкина А.Г. Семейное воспитание детей с отклонениями в развитии. М., 2003. – 408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эдьюсон Х., Шефер Ч. Практикум по игровой психотерапии. – Спб. – 2000.416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качева В.В. Технологии психологической помощи семьям детей с отклонениями в развитии – М., 2007. - 318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3b9a"/>
                </a:solidFill>
                <a:latin typeface="Corbel"/>
              </a:rPr>
              <a:t>Детский церебральный паралич </a:t>
            </a:r>
            <a:endParaRPr b="0" lang="en-US" sz="39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71280" y="1197000"/>
            <a:ext cx="79628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непрогрессирующее заболевание, однако оно может давать осложнения в виде контрактур и различных деформаций. По сути детский церебральный паралич - даже не болезнь, а состояние, при котором нормальное развитие ребенка чрезвычайно затруднен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обенностью психического развития при детских церебральных параличах является не только его замедленный темп, но и неравномерный характер, диспропорциональность в формировании отдельных, главным образом высших корковых функций, ускоренное развитие одних, несформированность, отставание других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042920" y="764640"/>
            <a:ext cx="7850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 особенностями патогенеза связана и особая структура интеллектуальной недостаточности — диссоциация между относительно удовлетворительным уровнем развития абстрактного мышления и недоразвитием функций пространственного анализа и синтеза, праксиса, счетных способностей и других высших корковых функций, имеющих значение для формирования интеллектуальной деятельности и развития школьных навык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(Е. И. Кириченко, 1965; Е. М. Мастюкова, 1974; С. С. Калижнюк и др., 1975)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Неврологи выделяют три основные формы детского церебрального паралича: 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42560" y="1447560"/>
            <a:ext cx="78915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пастическую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которой характерен постоянный повышенный тонус отдельных групп мышц - чаще всего сгибателей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гиперкинетическую,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тетоидную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гда тонус в сгибателях и разгибателях непрерывно меняется, из-за чего появляются резкие непроизвольные движения туловища и конечностей, мешающие ребенку ходить и сохранять равновесие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стеническо-астатическую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этой форме заболевания тонус в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упп мышц бывает понижен, что также мешает удерживать равновесие и нормально двигаться. Бывают случаи, когда астеническо-астатическая форма переходит в атетоидну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У детей с церебральными параличами резко затормаживается общее развитие двигательных функций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16000" y="1916280"/>
            <a:ext cx="7818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рушены движения конечностей и всех частей тела в результате спазмов мускулатуры (параличей), наблюдаются гиперкинезы (непроизвольные беспорядочные движения конечностей и оральной мускулатуры)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Тяжесть двигательных нарушений у детей с ДЦП различна. Большинство из них передвигается затрудненной, плохо координированной походкой, многие используют при этом костыли и трости, некоторые беспомощны без коляс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Выраженные двигательные расстройства и нарушения речи при детском церебральном параличе 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2349000"/>
            <a:ext cx="749952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трудняют общение этих детей с окружающими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рицательно влияют на все их развити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ют формированию негативных черт характера, появлению поведенческих нарушений, формированию острого чувства неполноценност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9a"/>
                </a:solidFill>
                <a:latin typeface="Corbel"/>
              </a:rPr>
              <a:t>У детей с церебральным параличом наблюдаются недостаточные активность, подвижность, яркость эмоциональности. 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560" y="1915920"/>
            <a:ext cx="78915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войственные детям с церебральным параличом пугливость, повышенная тормозимость в незнакомых условиях надолго фиксируются у них, что существенно отражается и на процессе обучения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сстройства внимания и памяти проявляются в повышенной отвлекаемости, неспособности длительно концентрировать внимание, узости его объема, преобладании вербальной памяти над зрительной и тактильно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Часто церебральные параличи сочетаются с другими отклонениями в развитии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нижение слуха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ечевые расстройства, представляющие собой различной выраженности нарушения произношения вследствие ограниченной подвижности артикуляционного аппарата (дизартрии)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задержка формирования отдельных психических функций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раженность двигательного нарушения у ребенка не соотносится с выраженностью отклонений в его умственном развитии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23:22:02Z</dcterms:created>
  <dc:creator>Olga</dc:creator>
  <dc:description/>
  <dc:language>en-US</dc:language>
  <cp:lastModifiedBy>user</cp:lastModifiedBy>
  <dcterms:modified xsi:type="dcterms:W3CDTF">2017-05-17T07:45:32Z</dcterms:modified>
  <cp:revision>26</cp:revision>
  <dc:subject/>
  <dc:title>Слайд 1</dc:title>
</cp:coreProperties>
</file>