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6FA6-8A32-459A-BDBA-47A3A40ABF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CFB2-A68B-4D58-BCC6-2F8DD314FA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7FB-C057-44F1-AFBC-E2BE074D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C0E-888F-4968-ACAD-FE758CCA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03A-AE49-4DEB-98D3-9D142660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331-5654-4B4F-B760-D57A767C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10A-CA80-4BDC-8B9C-A802A0FE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396-A7E3-46DA-8F8C-EFE43F74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8FB-5D8C-4364-95D5-513ABB58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0BC-77D9-4B7E-A553-C9D36AE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440-6874-4C45-96AA-6FC418B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922-EBA9-4DDE-9322-0C3FF928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A63-6810-4670-A9D6-95D40611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80D-63FA-408A-A99B-D6FB953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393F-9317-4152-A958-AE6D50044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79501\Desktop\театры оренбурга\96f744ec41ac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атры города Оренбур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дведенко О.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79501\Desktop\театры оренбурга\драмтеатр\dramteat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енбургский государственный татарский драматический театр имени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хайдара Фай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79501\Desktop\театры оренбурга\театр им файзи\faizy2.jpg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79501\Desktop\театры оренбурга\театр им файзи\510994_original.jpg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атр кукол «Пьер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79501\Desktop\театры оренбурга\театр кукол Пьеро\пьеро.jpg"/>
          <p:cNvPicPr/>
          <p:nvPr/>
        </p:nvPicPr>
        <p:blipFill>
          <a:blip r:embed="rId1"/>
          <a:stretch/>
        </p:blipFill>
        <p:spPr>
          <a:xfrm>
            <a:off x="0" y="1285920"/>
            <a:ext cx="9147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79501\Desktop\театры оренбурга\театр кукол Пьеро\photo_2021-04-23_16-03-58-4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ренбургски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осударственный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ластно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ат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ко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79501\Desktop\театры оренбурга\областной театр кукол\6ae44976ae36005ae4a9f536cfef75af.jpe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79501\Desktop\театры оренбурга\областной театр кукол\театр3.jpg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79501\Desktop\театры оренбурга\областной театр кукол\театр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атр музыкальной коме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79501\Desktop\театры оренбурга\музкомедия\122241-70411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79501\Desktop\театры оренбурга\музкомедия\143290eb-bb86-5a62-a3ff-d892c0ffff86.jf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ренбургский областной драматический театр имени М. Горьк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79501\Desktop\театры оренбурга\драмтеатр\dramaticheskiy-teatr-imeni-M.-Gorkogo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7T17:34:28Z</dcterms:created>
  <dc:creator>79501</dc:creator>
  <dc:description/>
  <dc:language>en-US</dc:language>
  <cp:lastModifiedBy>79501845101</cp:lastModifiedBy>
  <dcterms:modified xsi:type="dcterms:W3CDTF">2022-12-06T17:44:24Z</dcterms:modified>
  <cp:revision>8</cp:revision>
  <dc:subject/>
  <dc:title>Театры города Оренбурга</dc:title>
</cp:coreProperties>
</file>