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2112-FAAE-4D58-8C0D-574211046A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6E06-49FF-4CB6-9845-64C2D66AEC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1A7-B0E3-421E-8CCF-6E26EE8C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75E-9B94-4BC7-9097-370D7524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827-09BF-4FC8-A7F7-78AB0377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03B-9F59-4071-AF31-01AA8736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EC7-2CE1-4D35-96DC-34E4C7B2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D84-540D-4E64-BF4F-45FD4603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924-F0BF-405D-B4CF-B8F41475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F91-5951-4210-B7DB-3A66DB66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3D6-AFAD-446A-803A-04C52BC8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038-86F7-489A-AC5B-F2EED16E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84F-F471-49BD-A4AE-CA8AB5F4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D27-D977-4E96-907E-049F89C9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2059-4AA7-40E2-B414-3264F5103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79501\Desktop\театры оренбурга\96f744ec41ac0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атры города Оренбур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едведенко О.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79501\Desktop\театры оренбурга\драмтеатр\dramteat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енбургский государственный татарский драматический театр имени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рхайдара Фай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79501\Desktop\театры оренбурга\театр им файзи\faizy2.jpg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79501\Desktop\театры оренбурга\театр им файзи\510994_original.jpg"/>
          <p:cNvPicPr/>
          <p:nvPr/>
        </p:nvPicPr>
        <p:blipFill>
          <a:blip r:embed="rId1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атр кукол «Пьер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79501\Desktop\театры оренбурга\театр кукол Пьеро\пьеро.jpg"/>
          <p:cNvPicPr/>
          <p:nvPr/>
        </p:nvPicPr>
        <p:blipFill>
          <a:blip r:embed="rId1"/>
          <a:stretch/>
        </p:blipFill>
        <p:spPr>
          <a:xfrm>
            <a:off x="0" y="1285920"/>
            <a:ext cx="91472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79501\Desktop\театры оренбурга\театр кукол Пьеро\photo_2021-04-23_16-03-58-4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ренбургски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осударственный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ластно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ат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уко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79501\Desktop\театры оренбурга\областной театр кукол\6ae44976ae36005ae4a9f536cfef75af.jpe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79501\Desktop\театры оренбурга\областной театр кукол\театр3.jpg"/>
          <p:cNvPicPr/>
          <p:nvPr/>
        </p:nvPicPr>
        <p:blipFill>
          <a:blip r:embed="rId1"/>
          <a:stretch/>
        </p:blipFill>
        <p:spPr>
          <a:xfrm>
            <a:off x="0" y="0"/>
            <a:ext cx="921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79501\Desktop\театры оренбурга\областной театр кукол\театр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атр музыкальной комед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79501\Desktop\театры оренбурга\музкомедия\122241-70411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79501\Desktop\театры оренбурга\музкомедия\143290eb-bb86-5a62-a3ff-d892c0ffff86.jf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ренбургский областной драматический театр имени М. Горьк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79501\Desktop\театры оренбурга\драмтеатр\dramaticheskiy-teatr-imeni-M.-Gorkogo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7T17:34:28Z</dcterms:created>
  <dc:creator>79501</dc:creator>
  <dc:description/>
  <dc:language>en-US</dc:language>
  <cp:lastModifiedBy>79501845101</cp:lastModifiedBy>
  <dcterms:modified xsi:type="dcterms:W3CDTF">2022-12-06T17:44:24Z</dcterms:modified>
  <cp:revision>8</cp:revision>
  <dc:subject/>
  <dc:title>Театры города Оренбурга</dc:title>
</cp:coreProperties>
</file>