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002-E49F-432B-94D6-9A4E8EC6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3D9-BA2C-4622-97EC-67E942DF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1F8-0BB1-4494-A766-4F0C4743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2E4-4951-4AEB-981C-4E5D2E7C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1458-5FFC-4F87-AB5D-013ECDE4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E156-2B90-42CF-A3FE-ED19839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722D-E15A-4754-AF9B-D62F9A2B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3739-1197-4CFF-B180-AC7EC6F3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3FAE-ACD6-41DE-AE1E-DBE042B4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80A6-685E-4AA6-85EC-F3FA4A66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97EE-B800-43C9-969C-2B9B6A8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415-F4F0-4748-92D2-A3F517DF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28D4-2C90-41B0-B9FB-346CAEA1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0FA6-9A5D-414C-96B2-3672DED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22CE-CBC2-491B-B983-6FC4A0AB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1F76-45DA-44AE-B8EF-0A47B29C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5C89-77D7-4FF3-8570-1E65B9B4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808B-0AAF-42E3-A16B-86D5F931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7486-E865-4531-B03A-59ABE2D2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0E25-9A00-4EAE-8620-E3EB73CF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0EF4C-31C9-4617-89BB-4694D72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E821-8D2D-456E-9951-596224C1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971-298C-4063-83FE-71FE2ED8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9CE9-52E8-474B-A789-E81388D0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A7D5-859C-4187-839C-D6F90AD3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DA87-DE07-4745-AF84-3A81DF44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5449-0890-4557-9D51-0FFD7497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5FEA-8190-48BF-B8B4-C65A80C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C722-C363-46DE-AC94-CCB95068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0EA4F-B14A-4CDA-B7FC-3B048D3C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5954-4EE5-4913-ABA6-3BD17AF4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E939-26B3-4F93-92D6-8C4A4324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2ACC-4CA4-4663-92EB-43487436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5B0-FB84-458C-9816-82AA3BC9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E6BD-A476-4AFB-A67E-3D880058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F960-D6D7-4C5F-830F-ABA33362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F185-C0B5-40B7-854A-477769FB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18E53-4978-4F25-99B7-C8F524C4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459E1-B456-4617-9D50-5E3E888C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3FC4-4AB6-46BE-92CB-CF4F0F2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497A-8AA6-45D0-8ECB-D7F2C9D4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308A7-D1F8-4971-8591-AD2596B8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0384-5B54-4A39-95B0-B9EB4155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76D-9F07-457B-9AD1-8984584F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AB3-54A5-485F-9131-2E729D14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954-CE27-4507-B14B-773BA9C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45E-C785-4CE6-8A97-4698C0B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C18-892C-4F06-9354-C7F347A8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0222-5271-4A3E-BD28-CFAAACB229E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0BD9-3435-42E9-9670-23B66116E66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8C20-62E3-4B69-B6BD-299D89A9BB5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B8BC-E76C-454B-A1B4-50DE6C65AA6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884160"/>
            <a:ext cx="7864560" cy="2316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789000"/>
            <a:ext cx="78548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ила:Федосеева Елла Иосифо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тель начальных класс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БОУСОШ №4,г.Советск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9 учебный год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Облако 3"/>
          <p:cNvSpPr/>
          <p:nvPr/>
        </p:nvSpPr>
        <p:spPr>
          <a:xfrm rot="528000">
            <a:off x="3551400" y="1991880"/>
            <a:ext cx="2952720" cy="1216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5f4e0"/>
          </a:solidFill>
          <a:ln w="28440">
            <a:solidFill>
              <a:srgbClr val="20c9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блако 18"/>
          <p:cNvSpPr/>
          <p:nvPr/>
        </p:nvSpPr>
        <p:spPr>
          <a:xfrm>
            <a:off x="257040" y="3365640"/>
            <a:ext cx="3726000" cy="15062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5f4e0"/>
          </a:solidFill>
          <a:ln w="28440">
            <a:solidFill>
              <a:srgbClr val="20c9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блако 19"/>
          <p:cNvSpPr/>
          <p:nvPr/>
        </p:nvSpPr>
        <p:spPr>
          <a:xfrm rot="373800">
            <a:off x="5854320" y="3700080"/>
            <a:ext cx="3220920" cy="1440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5f4e0"/>
          </a:solidFill>
          <a:ln w="28440">
            <a:solidFill>
              <a:srgbClr val="20c9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3166920" y="496800"/>
            <a:ext cx="397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Типы тек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"/>
          <p:cNvSpPr/>
          <p:nvPr/>
        </p:nvSpPr>
        <p:spPr>
          <a:xfrm>
            <a:off x="267480" y="379584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e9632"/>
                </a:solidFill>
                <a:latin typeface="Arial"/>
              </a:rPr>
              <a:t>Повеств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"/>
          <p:cNvSpPr/>
          <p:nvPr/>
        </p:nvSpPr>
        <p:spPr>
          <a:xfrm>
            <a:off x="3977280" y="226836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e9632"/>
                </a:solidFill>
                <a:latin typeface="Arial"/>
              </a:rPr>
              <a:t>О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7"/>
          <p:cNvSpPr/>
          <p:nvPr/>
        </p:nvSpPr>
        <p:spPr>
          <a:xfrm>
            <a:off x="5940360" y="409716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e9632"/>
                </a:solidFill>
                <a:latin typeface="Arial"/>
              </a:rPr>
              <a:t>Расс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0"/>
          <p:cNvSpPr/>
          <p:nvPr/>
        </p:nvSpPr>
        <p:spPr>
          <a:xfrm>
            <a:off x="387360" y="515772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Что произош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3"/>
          <p:cNvSpPr/>
          <p:nvPr/>
        </p:nvSpPr>
        <p:spPr>
          <a:xfrm>
            <a:off x="4315680" y="347184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4"/>
          <p:cNvSpPr/>
          <p:nvPr/>
        </p:nvSpPr>
        <p:spPr>
          <a:xfrm>
            <a:off x="6597720" y="531036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13" descr=""/>
          <p:cNvPicPr/>
          <p:nvPr/>
        </p:nvPicPr>
        <p:blipFill>
          <a:blip r:embed="rId1"/>
          <a:stretch/>
        </p:blipFill>
        <p:spPr>
          <a:xfrm flipH="1" rot="1356600">
            <a:off x="327960" y="313920"/>
            <a:ext cx="1859040" cy="30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Поднимает руки класс – это раз, Повернулась голова – это два, Руки вниз, вперёд смотри – это три, Руки в стороны, пошире развернули на четыре, С силой их к плечам прижать – это пять, Всем ребятам тихо сесть – это шесть."/>
          <p:cNvPicPr/>
          <p:nvPr/>
        </p:nvPicPr>
        <p:blipFill>
          <a:blip r:embed="rId1"/>
          <a:srcRect l="4801" t="5953" r="5319" b="3160"/>
          <a:stretch/>
        </p:blipFill>
        <p:spPr>
          <a:xfrm>
            <a:off x="1042920" y="620640"/>
            <a:ext cx="7489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390600" y="274680"/>
            <a:ext cx="8296200" cy="2644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Пришла поздняя осень в лесу стало скучно и холодно птицы улетают в тёплые края кружат над болотом журавли они прощаются на всю зиму с милой родин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1504800" y="-828720"/>
            <a:ext cx="5797800" cy="2249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ишла поздняя осень. В лесу стало скучно и холодно. Птицы улетают в тёплые края. Кружат над болотом журавли. Они прощаются на всю зиму с милой родино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бота с учебником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684360" y="200376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очитайте сведения  о языке на с.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Что такое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Что выражает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очитайте правило ещё раз. Закройте учебник и расскажите правило соседу по па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10" descr=""/>
          <p:cNvPicPr/>
          <p:nvPr/>
        </p:nvPicPr>
        <p:blipFill>
          <a:blip r:embed="rId1"/>
          <a:stretch/>
        </p:blipFill>
        <p:spPr>
          <a:xfrm flipH="1" rot="1356000">
            <a:off x="-54000" y="391680"/>
            <a:ext cx="2109960" cy="25909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1"/>
          <p:cNvSpPr/>
          <p:nvPr/>
        </p:nvSpPr>
        <p:spPr>
          <a:xfrm>
            <a:off x="2189520" y="679320"/>
            <a:ext cx="612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ризнаки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2264040" y="2060640"/>
            <a:ext cx="59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ражает закончен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2124000" y="3213000"/>
            <a:ext cx="663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оит из одного или несколь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в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язанных по смыс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1646280" y="4618080"/>
            <a:ext cx="50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онце пред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ви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4242240" y="48229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. ?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1" descr="http://shultan.my1.ru/0011-011-Fizkultminutka.jpg"/>
          <p:cNvPicPr/>
          <p:nvPr/>
        </p:nvPicPr>
        <p:blipFill>
          <a:blip r:embed="rId1"/>
          <a:srcRect l="0" t="0" r="17260" b="20766"/>
          <a:stretch/>
        </p:blipFill>
        <p:spPr>
          <a:xfrm>
            <a:off x="1332000" y="69228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3" descr=""/>
          <p:cNvPicPr/>
          <p:nvPr/>
        </p:nvPicPr>
        <p:blipFill>
          <a:blip r:embed="rId1"/>
          <a:stretch/>
        </p:blipFill>
        <p:spPr>
          <a:xfrm>
            <a:off x="731880" y="274680"/>
            <a:ext cx="8051760" cy="1206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642600" y="1357200"/>
            <a:ext cx="4543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У____ высокий рост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У ___ пушистый хвос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У____ крепкие рож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У ____ тонкие нож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У____ толсты губ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А у ___ остры зуб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Сам придумай про еж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Про ужа и про чиж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Слова для справок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цыплёнок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слон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волк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мартышк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козлёнок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ли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822240" y="785880"/>
            <a:ext cx="78645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804960" y="274680"/>
            <a:ext cx="7881840" cy="1633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785880" y="1844640"/>
            <a:ext cx="4038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кого был чижи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де он жил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он молчал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поступила Люб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сделал чиж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857480" y="1916280"/>
            <a:ext cx="40719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порные сло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сел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жалела и выпусти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воч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ете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лет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971640" y="808560"/>
            <a:ext cx="77770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Формирование представления о языке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едстве общения в процесс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выков устной и письменной реч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. Повторение знаний об устн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исьмен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2. Обобщить и систематизировать знания о предложении и 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3. Закрепление навыков калли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ть познавательную инициативу в учебном сотруднич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. Обобщение знаний 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Содержимое 2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584028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3"/>
          <p:cNvSpPr/>
          <p:nvPr/>
        </p:nvSpPr>
        <p:spPr>
          <a:xfrm>
            <a:off x="500040" y="92880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состоит из предложений, которые связаны между собой  по смыслу. Каждое следующее предложение «вытекает» из предыду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Прямоугольник 4" descr=""/>
          <p:cNvPicPr/>
          <p:nvPr/>
        </p:nvPicPr>
        <p:blipFill>
          <a:blip r:embed="rId2"/>
          <a:stretch/>
        </p:blipFill>
        <p:spPr>
          <a:xfrm>
            <a:off x="1139760" y="3286080"/>
            <a:ext cx="6845400" cy="59688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5"/>
          <p:cNvSpPr/>
          <p:nvPr/>
        </p:nvSpPr>
        <p:spPr>
          <a:xfrm>
            <a:off x="1000080" y="4143240"/>
            <a:ext cx="692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ы бывают трёх видов: повествование (или сообщение), опис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у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Calibri"/>
              </a:rPr>
              <a:t>Рефлексия 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863640" y="220500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Нарисуйте на листочках своё настроение после пройденного урока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444600" y="1859040"/>
            <a:ext cx="824220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рганизационный момент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Объект 1" descr=""/>
          <p:cNvPicPr/>
          <p:nvPr/>
        </p:nvPicPr>
        <p:blipFill>
          <a:blip r:embed="rId1"/>
          <a:stretch/>
        </p:blipFill>
        <p:spPr>
          <a:xfrm>
            <a:off x="1695600" y="2106720"/>
            <a:ext cx="5752800" cy="40478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1001880" y="817200"/>
            <a:ext cx="813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Добрый день, ребята. Наш урок мне хотелось бы начать стихотвор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лыбнись! Да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 сердце тем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мешают в дор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шибки,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глянул тепл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ь к нам в ок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е это не сто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лыбки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одержимое 5" descr="Чистописание ( ф ) "/>
          <p:cNvPicPr/>
          <p:nvPr/>
        </p:nvPicPr>
        <p:blipFill>
          <a:blip r:embed="rId1"/>
          <a:srcRect l="1792" t="4545" r="0" b="18182"/>
          <a:stretch/>
        </p:blipFill>
        <p:spPr>
          <a:xfrm>
            <a:off x="684360" y="1125360"/>
            <a:ext cx="820872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кабасо навоор вароко альпто беовойр дьдвеме Словарная работа. Анаграммы. "/>
          <p:cNvPicPr/>
          <p:nvPr/>
        </p:nvPicPr>
        <p:blipFill>
          <a:blip r:embed="rId1"/>
          <a:srcRect l="0" t="0" r="0" b="6733"/>
          <a:stretch/>
        </p:blipFill>
        <p:spPr>
          <a:xfrm>
            <a:off x="468360" y="26028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3" descr="Собака, ворона, корова, пальто, медведь, воробей. Взаимопроверка. "/>
          <p:cNvPicPr/>
          <p:nvPr/>
        </p:nvPicPr>
        <p:blipFill>
          <a:blip r:embed="rId1"/>
          <a:srcRect l="2588" t="0" r="0" b="16349"/>
          <a:stretch/>
        </p:blipFill>
        <p:spPr>
          <a:xfrm>
            <a:off x="468360" y="260280"/>
            <a:ext cx="828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Скругленный прямоугольник 2"/>
          <p:cNvSpPr/>
          <p:nvPr/>
        </p:nvSpPr>
        <p:spPr>
          <a:xfrm>
            <a:off x="1131840" y="4941720"/>
            <a:ext cx="7632720" cy="115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3"/>
          <p:cNvSpPr/>
          <p:nvPr/>
        </p:nvSpPr>
        <p:spPr>
          <a:xfrm>
            <a:off x="1114560" y="3645000"/>
            <a:ext cx="763272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4"/>
          <p:cNvSpPr/>
          <p:nvPr/>
        </p:nvSpPr>
        <p:spPr>
          <a:xfrm>
            <a:off x="1125360" y="2276640"/>
            <a:ext cx="763272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5"/>
          <p:cNvSpPr/>
          <p:nvPr/>
        </p:nvSpPr>
        <p:spPr>
          <a:xfrm>
            <a:off x="1114560" y="1149480"/>
            <a:ext cx="7632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9" descr=""/>
          <p:cNvPicPr/>
          <p:nvPr/>
        </p:nvPicPr>
        <p:blipFill>
          <a:blip r:embed="rId1"/>
          <a:stretch/>
        </p:blipFill>
        <p:spPr>
          <a:xfrm flipH="1" rot="1356000">
            <a:off x="-289080" y="-23760"/>
            <a:ext cx="2579760" cy="34225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1"/>
          <p:cNvSpPr/>
          <p:nvPr/>
        </p:nvSpPr>
        <p:spPr>
          <a:xfrm>
            <a:off x="4643280" y="836640"/>
            <a:ext cx="39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устная и письме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1793880" y="1284120"/>
            <a:ext cx="70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вает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3"/>
          <p:cNvSpPr/>
          <p:nvPr/>
        </p:nvSpPr>
        <p:spPr>
          <a:xfrm>
            <a:off x="1629360" y="259092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тн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4"/>
          <p:cNvSpPr/>
          <p:nvPr/>
        </p:nvSpPr>
        <p:spPr>
          <a:xfrm>
            <a:off x="3745800" y="2376360"/>
            <a:ext cx="436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та, которую 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произносим и слы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5"/>
          <p:cNvSpPr/>
          <p:nvPr/>
        </p:nvSpPr>
        <p:spPr>
          <a:xfrm>
            <a:off x="1343520" y="3708360"/>
            <a:ext cx="68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чь, которую мы пишем и чита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3524040" y="416736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пись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7"/>
          <p:cNvSpPr/>
          <p:nvPr/>
        </p:nvSpPr>
        <p:spPr>
          <a:xfrm>
            <a:off x="1300320" y="5040360"/>
            <a:ext cx="596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гда мы обдумываем что-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 пользуе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4192920" y="547056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внутренней реч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3"/>
          <p:cNvSpPr/>
          <p:nvPr/>
        </p:nvSpPr>
        <p:spPr>
          <a:xfrm>
            <a:off x="1125360" y="4224240"/>
            <a:ext cx="763272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4"/>
          <p:cNvSpPr/>
          <p:nvPr/>
        </p:nvSpPr>
        <p:spPr>
          <a:xfrm>
            <a:off x="1125360" y="2538360"/>
            <a:ext cx="76327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5"/>
          <p:cNvSpPr/>
          <p:nvPr/>
        </p:nvSpPr>
        <p:spPr>
          <a:xfrm>
            <a:off x="1114560" y="1149480"/>
            <a:ext cx="7632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9" descr=""/>
          <p:cNvPicPr/>
          <p:nvPr/>
        </p:nvPicPr>
        <p:blipFill>
          <a:blip r:embed="rId1"/>
          <a:stretch/>
        </p:blipFill>
        <p:spPr>
          <a:xfrm flipH="1" rot="1356600">
            <a:off x="327960" y="313920"/>
            <a:ext cx="1859040" cy="301824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1"/>
          <p:cNvSpPr/>
          <p:nvPr/>
        </p:nvSpPr>
        <p:spPr>
          <a:xfrm>
            <a:off x="3826800" y="1152360"/>
            <a:ext cx="481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письменное или устно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высказы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2"/>
          <p:cNvSpPr/>
          <p:nvPr/>
        </p:nvSpPr>
        <p:spPr>
          <a:xfrm>
            <a:off x="1964880" y="1284120"/>
            <a:ext cx="36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кст  -это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3"/>
          <p:cNvSpPr/>
          <p:nvPr/>
        </p:nvSpPr>
        <p:spPr>
          <a:xfrm>
            <a:off x="1383120" y="283356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кст состоит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4"/>
          <p:cNvSpPr/>
          <p:nvPr/>
        </p:nvSpPr>
        <p:spPr>
          <a:xfrm>
            <a:off x="4802760" y="284004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5"/>
          <p:cNvSpPr/>
          <p:nvPr/>
        </p:nvSpPr>
        <p:spPr>
          <a:xfrm>
            <a:off x="1311120" y="4503600"/>
            <a:ext cx="44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ложения в 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6"/>
          <p:cNvSpPr/>
          <p:nvPr/>
        </p:nvSpPr>
        <p:spPr>
          <a:xfrm>
            <a:off x="5487120" y="45133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связаны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смыс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ижний колонтитул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9" descr=""/>
          <p:cNvPicPr/>
          <p:nvPr/>
        </p:nvPicPr>
        <p:blipFill>
          <a:blip r:embed="rId1"/>
          <a:stretch/>
        </p:blipFill>
        <p:spPr>
          <a:xfrm flipH="1" rot="1356000">
            <a:off x="-54000" y="391680"/>
            <a:ext cx="2109960" cy="25909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1"/>
          <p:cNvSpPr/>
          <p:nvPr/>
        </p:nvSpPr>
        <p:spPr>
          <a:xfrm>
            <a:off x="4776840" y="2133720"/>
            <a:ext cx="395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Мы узнаём, о чё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ойдёт речь да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2"/>
          <p:cNvSpPr/>
          <p:nvPr/>
        </p:nvSpPr>
        <p:spPr>
          <a:xfrm>
            <a:off x="1559880" y="2246400"/>
            <a:ext cx="33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e9632"/>
                </a:solidFill>
                <a:latin typeface="Arial"/>
              </a:rPr>
              <a:t>Начало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3"/>
          <p:cNvSpPr/>
          <p:nvPr/>
        </p:nvSpPr>
        <p:spPr>
          <a:xfrm>
            <a:off x="773640" y="3917880"/>
            <a:ext cx="35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e9632"/>
                </a:solidFill>
                <a:latin typeface="Arial"/>
              </a:rPr>
              <a:t>Осно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4"/>
          <p:cNvSpPr/>
          <p:nvPr/>
        </p:nvSpPr>
        <p:spPr>
          <a:xfrm>
            <a:off x="4206600" y="3732120"/>
            <a:ext cx="38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Говорится о сам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глав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5"/>
          <p:cNvSpPr/>
          <p:nvPr/>
        </p:nvSpPr>
        <p:spPr>
          <a:xfrm>
            <a:off x="440640" y="5504040"/>
            <a:ext cx="21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e9632"/>
                </a:solidFill>
                <a:latin typeface="Arial"/>
              </a:rPr>
              <a:t>Конц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6"/>
          <p:cNvSpPr/>
          <p:nvPr/>
        </p:nvSpPr>
        <p:spPr>
          <a:xfrm>
            <a:off x="2771640" y="5319720"/>
            <a:ext cx="60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Мы понимаем, что сказ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всё, о чём хотел сказать ав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2724120" y="493560"/>
            <a:ext cx="53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асть текста, которая пишется с красной строки –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АБЗА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8"/>
          <p:cNvSpPr/>
          <p:nvPr/>
        </p:nvSpPr>
        <p:spPr>
          <a:xfrm>
            <a:off x="1763640" y="3327480"/>
            <a:ext cx="655344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9"/>
          <p:cNvSpPr/>
          <p:nvPr/>
        </p:nvSpPr>
        <p:spPr>
          <a:xfrm>
            <a:off x="1727280" y="4838760"/>
            <a:ext cx="655308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ая прямоугольная выноска 10"/>
          <p:cNvSpPr/>
          <p:nvPr/>
        </p:nvSpPr>
        <p:spPr>
          <a:xfrm>
            <a:off x="2471760" y="285840"/>
            <a:ext cx="5754600" cy="1245960"/>
          </a:xfrm>
          <a:prstGeom prst="wedgeRoundRectCallout">
            <a:avLst>
              <a:gd name="adj1" fmla="val -64680"/>
              <a:gd name="adj2" fmla="val 66578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5:13:48Z</dcterms:created>
  <dc:creator>Ольга</dc:creator>
  <dc:description/>
  <dc:language>en-US</dc:language>
  <cp:lastModifiedBy>Пользователь Windows</cp:lastModifiedBy>
  <dcterms:modified xsi:type="dcterms:W3CDTF">2022-11-29T15:23:22Z</dcterms:modified>
  <cp:revision>33</cp:revision>
  <dc:subject/>
  <dc:title>«Предложение и текст»</dc:title>
</cp:coreProperties>
</file>