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1A3-55F1-455B-AA43-C385A1E1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3C4-1463-4E4C-8093-469F864D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21D-3900-4B31-875F-8BAD9122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771-83FD-47EB-BE89-CB744180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3D05-F387-4743-BC42-A69AE474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CEE3-89CF-4BA2-8353-27109FD9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B734-D27C-43D7-9C28-80A86B2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3553-0319-49B6-9F3E-E1669AF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6BFD-5789-4321-9A00-68DB8730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CAE-B57B-4EDA-89B0-73CC93D9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F2E4-4FC9-4C6F-AD95-E7AAF4B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C21-F74B-4DE1-B8D4-2F5D35C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9742-9364-493E-B469-2EEB68B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620-7EE4-4D0E-B5EE-8F95BCD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46E-1A92-4B71-A413-94371BF8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7F5-A5B9-4424-A779-337C5668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FA2F-92AC-4011-BAE9-0244CE21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DAB8-4DEB-473A-8048-89D80000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102C-DB56-40DC-A5CF-B73BA726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32CF-7540-4DA0-A293-5086FEB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76CD-300F-4789-BA63-B6A8F18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2858-C2A6-4CBE-9169-D8F3CDA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D4A-C0F0-41F5-8355-4C83F5A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C9C2-3647-40A3-A070-1812B7A0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BE9D-3854-49FF-968F-E168428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519F-5EA5-4020-AA5C-76F9B6D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842A-5DD5-4EA9-9016-2C6D754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4C3A-B5BE-460D-A904-1F34BE77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DDBC-E8D6-48E1-ADF2-112A7DD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2BCE-F682-447F-8359-1CD08754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1AF1-B68E-4827-B72F-9D6D1D7D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8923-0642-4FFE-8EEB-8CD43318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4879-A0CE-426D-BEC9-2BAF2AA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B91-6ADF-4055-B4C0-A32DA27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1685-04AD-4A56-B211-35669C5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0238-FAFB-474A-B5F9-2F842B2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4BE2-F985-4996-91C7-C8F7092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06AB-BC66-4ABD-873B-931C44EB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998C-EF43-46AE-8C3F-6396704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436B-CC4B-4F5C-BF55-2F40796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C7B7-C9E7-4D06-96B1-84866020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44C5-E0B4-4AA2-9622-17683596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3ADE-13D0-4434-9AA7-0C684440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0D4-FE37-47C2-B951-B93CD83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7A7-A6D2-41C8-BC4A-C4639FFD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65E-ACB5-40D6-86FE-97C8996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CA8-1891-4F19-98CF-E5F71E02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DA7-1C50-45FD-BB79-834D5EE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7EA4-1B3D-4C46-8322-EAFCF5EB350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B146-3A78-403F-93D5-C65EA8B7F9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B38B-6C2C-45A3-883B-6A69F74D6EA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29D9-626D-406C-9CED-BC6683A1DD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884160"/>
            <a:ext cx="786456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89000"/>
            <a:ext cx="7854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ила:Федосеева Елла Иосифо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СОШ №4,г.Советск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9 учебный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Облако 3"/>
          <p:cNvSpPr/>
          <p:nvPr/>
        </p:nvSpPr>
        <p:spPr>
          <a:xfrm rot="528000">
            <a:off x="3551400" y="1991880"/>
            <a:ext cx="2952720" cy="1216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блако 18"/>
          <p:cNvSpPr/>
          <p:nvPr/>
        </p:nvSpPr>
        <p:spPr>
          <a:xfrm>
            <a:off x="257040" y="3365640"/>
            <a:ext cx="3726000" cy="1506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блако 19"/>
          <p:cNvSpPr/>
          <p:nvPr/>
        </p:nvSpPr>
        <p:spPr>
          <a:xfrm rot="373800">
            <a:off x="5854320" y="3700080"/>
            <a:ext cx="3220920" cy="1440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5f4e0"/>
          </a:solidFill>
          <a:ln w="28440">
            <a:solidFill>
              <a:srgbClr val="20c9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3166920" y="496800"/>
            <a:ext cx="397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267480" y="379584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Пове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3977280" y="226836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7"/>
          <p:cNvSpPr/>
          <p:nvPr/>
        </p:nvSpPr>
        <p:spPr>
          <a:xfrm>
            <a:off x="5940360" y="409716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e9632"/>
                </a:solidFill>
                <a:latin typeface="Arial"/>
              </a:rPr>
              <a:t>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387360" y="515772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Что произош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4315680" y="34718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597720" y="531036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13" descr=""/>
          <p:cNvPicPr/>
          <p:nvPr/>
        </p:nvPicPr>
        <p:blipFill>
          <a:blip r:embed="rId1"/>
          <a:stretch/>
        </p:blipFill>
        <p:spPr>
          <a:xfrm flipH="1" rot="1356600">
            <a:off x="327960" y="313920"/>
            <a:ext cx="1859040" cy="30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Поднимает руки класс – это раз, Повернулась голова – это два, Руки вниз, вперёд смотри – это три, Руки в стороны, пошире развернули на четыре, С силой их к плечам прижать – это пять, Всем ребятам тихо сесть – это шесть."/>
          <p:cNvPicPr/>
          <p:nvPr/>
        </p:nvPicPr>
        <p:blipFill>
          <a:blip r:embed="rId1"/>
          <a:srcRect l="4801" t="5953" r="5319" b="3160"/>
          <a:stretch/>
        </p:blipFill>
        <p:spPr>
          <a:xfrm>
            <a:off x="1042920" y="620640"/>
            <a:ext cx="7489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390600" y="274680"/>
            <a:ext cx="8296200" cy="2644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Пришла поздняя осень в лесу стало скучно и холодно птицы улетают в тёплые края кружат над болотом журавли они прощаются на всю зиму с милой роди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1504800" y="-828720"/>
            <a:ext cx="5797800" cy="224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ишла поздняя осень. В лесу стало скучно и холодно. Птицы улетают в тёплые края. Кружат над болотом журавли. Они прощаются на всю зиму с милой родино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учебником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684360" y="200376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читайте сведения  о языке на с.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то выражает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читайте правило ещё раз. Закройте учебник и расскажите правило соседу по п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10" descr=""/>
          <p:cNvPicPr/>
          <p:nvPr/>
        </p:nvPicPr>
        <p:blipFill>
          <a:blip r:embed="rId1"/>
          <a:stretch/>
        </p:blipFill>
        <p:spPr>
          <a:xfrm flipH="1" rot="1356000">
            <a:off x="-54000" y="391680"/>
            <a:ext cx="2109960" cy="25909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1"/>
          <p:cNvSpPr/>
          <p:nvPr/>
        </p:nvSpPr>
        <p:spPr>
          <a:xfrm>
            <a:off x="2189520" y="679320"/>
            <a:ext cx="61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изнаки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2264040" y="2060640"/>
            <a:ext cx="59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жает закончен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2124000" y="3213000"/>
            <a:ext cx="66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оит из одного или несколь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занных по с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1646280" y="4618080"/>
            <a:ext cx="50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пред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в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4242240" y="48229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. ?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http://shultan.my1.ru/0011-011-Fizkultminutka.jpg"/>
          <p:cNvPicPr/>
          <p:nvPr/>
        </p:nvPicPr>
        <p:blipFill>
          <a:blip r:embed="rId1"/>
          <a:srcRect l="0" t="0" r="17260" b="20766"/>
          <a:stretch/>
        </p:blipFill>
        <p:spPr>
          <a:xfrm>
            <a:off x="1332000" y="692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3" descr=""/>
          <p:cNvPicPr/>
          <p:nvPr/>
        </p:nvPicPr>
        <p:blipFill>
          <a:blip r:embed="rId1"/>
          <a:stretch/>
        </p:blipFill>
        <p:spPr>
          <a:xfrm>
            <a:off x="731880" y="274680"/>
            <a:ext cx="8051760" cy="1206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642600" y="1357200"/>
            <a:ext cx="4543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высокий рос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 ___ пушистый хво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крепкие рож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 ____ тонкие нож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У____ толсты губ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А у ___ остры зуб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Сам придумай про еж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onstantia"/>
              </a:rPr>
              <a:t>Про ужа и про чиж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лова для справок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ыплён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ло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вол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мартышк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озлён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ли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822240" y="785880"/>
            <a:ext cx="78645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804960" y="274680"/>
            <a:ext cx="7881840" cy="1633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785880" y="1844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ого был чижи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де он жи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он молча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поступила Люб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сделал чиж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857480" y="1916280"/>
            <a:ext cx="40719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орные сло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л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жалела и выпусти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воч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ете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лет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971640" y="808560"/>
            <a:ext cx="7777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Формирование представления о языке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едстве общения в процесс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выков устной и письменной реч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Повторение знаний об устн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исьмен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. Обобщить и систематизировать знания о предложении и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3. Закрепление навыков калли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ть познавательную инициативу в учебном сотрудни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. Обобщение знаний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одержимое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58402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"/>
          <p:cNvSpPr/>
          <p:nvPr/>
        </p:nvSpPr>
        <p:spPr>
          <a:xfrm>
            <a:off x="500040" y="9288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остоит из предложений, которые связаны между собой  по смыслу. Каждое следующее предложение «вытекает» из преды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4" descr=""/>
          <p:cNvPicPr/>
          <p:nvPr/>
        </p:nvPicPr>
        <p:blipFill>
          <a:blip r:embed="rId2"/>
          <a:stretch/>
        </p:blipFill>
        <p:spPr>
          <a:xfrm>
            <a:off x="1139760" y="3286080"/>
            <a:ext cx="6845400" cy="5968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1000080" y="414324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бывают трёх видов: повествование (или сообщение), опис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Рефлексия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863640" y="220500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арисуйте на листочках своё настроение после пройденного урока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44600" y="1859040"/>
            <a:ext cx="82422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ационный момент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Объект 1" descr=""/>
          <p:cNvPicPr/>
          <p:nvPr/>
        </p:nvPicPr>
        <p:blipFill>
          <a:blip r:embed="rId1"/>
          <a:stretch/>
        </p:blipFill>
        <p:spPr>
          <a:xfrm>
            <a:off x="1695600" y="2106720"/>
            <a:ext cx="5752800" cy="4047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1001880" y="817200"/>
            <a:ext cx="81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Добрый день, ребята. Наш урок мне хотелось бы начать стихотвор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ыбнись! Да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сердце тем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мешают в дор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шибки,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лянул тепл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к нам в ок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е это не 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ыбки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5" descr="Чистописание ( ф ) "/>
          <p:cNvPicPr/>
          <p:nvPr/>
        </p:nvPicPr>
        <p:blipFill>
          <a:blip r:embed="rId1"/>
          <a:srcRect l="1792" t="4545" r="0" b="18182"/>
          <a:stretch/>
        </p:blipFill>
        <p:spPr>
          <a:xfrm>
            <a:off x="684360" y="1125360"/>
            <a:ext cx="82087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кабасо навоор вароко альпто беовойр дьдвеме Словарная работа. Анаграммы. "/>
          <p:cNvPicPr/>
          <p:nvPr/>
        </p:nvPicPr>
        <p:blipFill>
          <a:blip r:embed="rId1"/>
          <a:srcRect l="0" t="0" r="0" b="6733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3" descr="Собака, ворона, корова, пальто, медведь, воробей. Взаимопроверка. "/>
          <p:cNvPicPr/>
          <p:nvPr/>
        </p:nvPicPr>
        <p:blipFill>
          <a:blip r:embed="rId1"/>
          <a:srcRect l="2588" t="0" r="0" b="16349"/>
          <a:stretch/>
        </p:blipFill>
        <p:spPr>
          <a:xfrm>
            <a:off x="468360" y="260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2"/>
          <p:cNvSpPr/>
          <p:nvPr/>
        </p:nvSpPr>
        <p:spPr>
          <a:xfrm>
            <a:off x="1131840" y="4941720"/>
            <a:ext cx="7632720" cy="115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3"/>
          <p:cNvSpPr/>
          <p:nvPr/>
        </p:nvSpPr>
        <p:spPr>
          <a:xfrm>
            <a:off x="1114560" y="3645000"/>
            <a:ext cx="763272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4"/>
          <p:cNvSpPr/>
          <p:nvPr/>
        </p:nvSpPr>
        <p:spPr>
          <a:xfrm>
            <a:off x="1125360" y="2276640"/>
            <a:ext cx="763272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1114560" y="1149480"/>
            <a:ext cx="7632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9" descr=""/>
          <p:cNvPicPr/>
          <p:nvPr/>
        </p:nvPicPr>
        <p:blipFill>
          <a:blip r:embed="rId1"/>
          <a:stretch/>
        </p:blipFill>
        <p:spPr>
          <a:xfrm flipH="1" rot="1356000">
            <a:off x="-289080" y="-23760"/>
            <a:ext cx="2579760" cy="34225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1"/>
          <p:cNvSpPr/>
          <p:nvPr/>
        </p:nvSpPr>
        <p:spPr>
          <a:xfrm>
            <a:off x="4643280" y="836640"/>
            <a:ext cx="39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устная и письме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1793880" y="1284120"/>
            <a:ext cx="70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вает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1629360" y="25909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т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3745800" y="2376360"/>
            <a:ext cx="436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та, которую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роизносим и слы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5"/>
          <p:cNvSpPr/>
          <p:nvPr/>
        </p:nvSpPr>
        <p:spPr>
          <a:xfrm>
            <a:off x="1343520" y="3708360"/>
            <a:ext cx="68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чь, которую мы пишем и чита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3524040" y="41673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ись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1300320" y="5040360"/>
            <a:ext cx="59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да мы обдумываем что-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 пользуе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4192920" y="547056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внутренней ре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3"/>
          <p:cNvSpPr/>
          <p:nvPr/>
        </p:nvSpPr>
        <p:spPr>
          <a:xfrm>
            <a:off x="1125360" y="4224240"/>
            <a:ext cx="763272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1125360" y="2538360"/>
            <a:ext cx="7632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5"/>
          <p:cNvSpPr/>
          <p:nvPr/>
        </p:nvSpPr>
        <p:spPr>
          <a:xfrm>
            <a:off x="1114560" y="1149480"/>
            <a:ext cx="7632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9" descr=""/>
          <p:cNvPicPr/>
          <p:nvPr/>
        </p:nvPicPr>
        <p:blipFill>
          <a:blip r:embed="rId1"/>
          <a:stretch/>
        </p:blipFill>
        <p:spPr>
          <a:xfrm flipH="1" rot="1356600">
            <a:off x="327960" y="313920"/>
            <a:ext cx="1859040" cy="30182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1"/>
          <p:cNvSpPr/>
          <p:nvPr/>
        </p:nvSpPr>
        <p:spPr>
          <a:xfrm>
            <a:off x="3826800" y="1152360"/>
            <a:ext cx="48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исьменное или устно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высказы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1964880" y="128412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  -это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1383120" y="283356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4802760" y="284004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1311120" y="450360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ложения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6"/>
          <p:cNvSpPr/>
          <p:nvPr/>
        </p:nvSpPr>
        <p:spPr>
          <a:xfrm>
            <a:off x="5487120" y="45133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связан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e9632"/>
                </a:solidFill>
                <a:latin typeface="Arial"/>
              </a:rPr>
              <a:t>с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ижний колонтитул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9" descr=""/>
          <p:cNvPicPr/>
          <p:nvPr/>
        </p:nvPicPr>
        <p:blipFill>
          <a:blip r:embed="rId1"/>
          <a:stretch/>
        </p:blipFill>
        <p:spPr>
          <a:xfrm flipH="1" rot="1356000">
            <a:off x="-54000" y="391680"/>
            <a:ext cx="210996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1"/>
          <p:cNvSpPr/>
          <p:nvPr/>
        </p:nvSpPr>
        <p:spPr>
          <a:xfrm>
            <a:off x="4776840" y="213372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Мы узнаём, о ч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йдёт речь да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2"/>
          <p:cNvSpPr/>
          <p:nvPr/>
        </p:nvSpPr>
        <p:spPr>
          <a:xfrm>
            <a:off x="1559880" y="224640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Начало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773640" y="391788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4206600" y="3732120"/>
            <a:ext cx="38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оворится о сам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лав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5"/>
          <p:cNvSpPr/>
          <p:nvPr/>
        </p:nvSpPr>
        <p:spPr>
          <a:xfrm>
            <a:off x="440640" y="550404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e9632"/>
                </a:solidFill>
                <a:latin typeface="Arial"/>
              </a:rPr>
              <a:t>Конц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6"/>
          <p:cNvSpPr/>
          <p:nvPr/>
        </p:nvSpPr>
        <p:spPr>
          <a:xfrm>
            <a:off x="2771640" y="531972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Мы понимаем, что сказ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всё, о чём хотел сказать 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2724120" y="493560"/>
            <a:ext cx="53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сть текста, которая пишется с красной строки –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АБЗ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8"/>
          <p:cNvSpPr/>
          <p:nvPr/>
        </p:nvSpPr>
        <p:spPr>
          <a:xfrm>
            <a:off x="1763640" y="3327480"/>
            <a:ext cx="655344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9"/>
          <p:cNvSpPr/>
          <p:nvPr/>
        </p:nvSpPr>
        <p:spPr>
          <a:xfrm>
            <a:off x="1727280" y="4838760"/>
            <a:ext cx="655308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ая прямоугольная выноска 10"/>
          <p:cNvSpPr/>
          <p:nvPr/>
        </p:nvSpPr>
        <p:spPr>
          <a:xfrm>
            <a:off x="2471760" y="285840"/>
            <a:ext cx="5754600" cy="1245960"/>
          </a:xfrm>
          <a:prstGeom prst="wedgeRoundRectCallout">
            <a:avLst>
              <a:gd name="adj1" fmla="val -64680"/>
              <a:gd name="adj2" fmla="val 66578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13:48Z</dcterms:created>
  <dc:creator>Ольга</dc:creator>
  <dc:description/>
  <dc:language>en-US</dc:language>
  <cp:lastModifiedBy>Пользователь Windows</cp:lastModifiedBy>
  <dcterms:modified xsi:type="dcterms:W3CDTF">2022-11-29T15:23:22Z</dcterms:modified>
  <cp:revision>33</cp:revision>
  <dc:subject/>
  <dc:title>«Предложение и текст»</dc:title>
</cp:coreProperties>
</file>