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media/image58.jpeg" ContentType="image/jpeg"/>
  <Override PartName="/ppt/media/image56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15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14.png" ContentType="image/png"/>
  <Override PartName="/ppt/media/image30.png" ContentType="image/png"/>
  <Override PartName="/ppt/media/image65.png" ContentType="image/png"/>
  <Override PartName="/ppt/media/image63.png" ContentType="image/png"/>
  <Override PartName="/ppt/media/image60.jpeg" ContentType="image/jpeg"/>
  <Override PartName="/ppt/media/image64.png" ContentType="image/png"/>
  <Override PartName="/ppt/media/image27.jpeg" ContentType="image/jpeg"/>
  <Override PartName="/ppt/media/image17.gif" ContentType="image/gif"/>
  <Override PartName="/ppt/media/image50.jpeg" ContentType="image/jpeg"/>
  <Override PartName="/ppt/media/image16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51.jpeg" ContentType="image/jpe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54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13.png" ContentType="image/png"/>
  <Override PartName="/ppt/media/image52.jpeg" ContentType="image/jpe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CDB-0D3D-496F-81F8-42FB57D9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5EE-09B8-4038-8330-9AAFEB3E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318-DF8F-4997-A528-5FB910F1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D62-75E2-4F50-BE1C-CC592913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BA0-289A-4480-A6B0-1CAA68C7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DAE-F3D1-47F8-A1D1-7AE22B84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A1E-5140-419C-AF59-5F61C94A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F6F-237A-4092-8D63-B9A8525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B45-4671-48DA-84B7-0BAB16B3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F9D-4EC4-4FB8-952D-CD3B3F21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ADE-E129-4AB7-9121-AE809BF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B28-CEC8-4657-88A1-11BCD4E3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5660-6088-421F-B94D-D533F615F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bt.ck.ua/pictures/95595_2.jpg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www.odeon1.ru/images/Image/igla_1P_b.jpg" TargetMode="Externa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gif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rtnfun.ucoz.ru/tropinin_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0.pn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mi.lanta-net.ru/uploads/posts/2010-03/1268830071_pskovskie-zhemchuzhiny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3200400" y="3809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2"/>
          <p:cNvSpPr txBox="1"/>
          <p:nvPr/>
        </p:nvSpPr>
        <p:spPr>
          <a:xfrm>
            <a:off x="1066680" y="77328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800000"/>
                    </a:gs>
                    <a:gs pos="100000">
                      <a:srgbClr val="ffff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4d0000"/>
                  </a:outerShdw>
                </a:effectLst>
                <a:latin typeface="Times New Roman"/>
              </a:rPr>
              <a:t>Технологи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800000"/>
                  </a:gs>
                  <a:gs pos="100000">
                    <a:srgbClr val="ffffcc"/>
                  </a:gs>
                </a:gsLst>
                <a:lin ang="18900000"/>
              </a:gradFill>
              <a:effectLst>
                <a:outerShdw dist="17819" dir="2700000" blurRad="0" rotWithShape="0">
                  <a:srgbClr val="4d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373200" y="39625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адчикова Ирина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0"/>
          <p:cNvSpPr/>
          <p:nvPr/>
        </p:nvSpPr>
        <p:spPr>
          <a:xfrm>
            <a:off x="3505320" y="4800600"/>
            <a:ext cx="3886200" cy="1905120"/>
          </a:xfrm>
          <a:prstGeom prst="rect">
            <a:avLst/>
          </a:prstGeom>
          <a:solidFill>
            <a:srgbClr val="ffffa3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1 - травмирование ру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2 – ожог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3 – поражение электрическим то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4 – пож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konig908"/>
          <p:cNvPicPr/>
          <p:nvPr/>
        </p:nvPicPr>
        <p:blipFill>
          <a:blip r:embed="rId1"/>
          <a:stretch/>
        </p:blipFill>
        <p:spPr>
          <a:xfrm rot="20764800">
            <a:off x="4335480" y="1245960"/>
            <a:ext cx="1390680" cy="527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anome_1108_b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83808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Картинка 1 из 147434">
            <a:hlinkClick r:id="rId3"/>
          </p:cNvPr>
          <p:cNvPicPr/>
          <p:nvPr/>
        </p:nvPicPr>
        <p:blipFill>
          <a:blip r:embed="rId4"/>
          <a:stretch/>
        </p:blipFill>
        <p:spPr>
          <a:xfrm rot="20778600">
            <a:off x="3047760" y="914040"/>
            <a:ext cx="1218960" cy="113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Картинка 2 из 171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971800"/>
            <a:ext cx="160020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2860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Оборудование, инструменты и присп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Картинка 1 из 91"/>
          <p:cNvPicPr/>
          <p:nvPr/>
        </p:nvPicPr>
        <p:blipFill>
          <a:blip r:embed="rId7"/>
          <a:srcRect l="0" t="31361" r="0" b="37323"/>
          <a:stretch/>
        </p:blipFill>
        <p:spPr>
          <a:xfrm rot="19083600">
            <a:off x="1600200" y="3200040"/>
            <a:ext cx="2133720" cy="50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2129549_full"/>
          <p:cNvPicPr/>
          <p:nvPr/>
        </p:nvPicPr>
        <p:blipFill>
          <a:blip r:embed="rId8"/>
          <a:stretch/>
        </p:blipFill>
        <p:spPr>
          <a:xfrm>
            <a:off x="4114800" y="2819520"/>
            <a:ext cx="1123920" cy="101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611277-m"/>
          <p:cNvPicPr/>
          <p:nvPr/>
        </p:nvPicPr>
        <p:blipFill>
          <a:blip r:embed="rId9"/>
          <a:srcRect l="18254" t="-4320" r="27022" b="-8666"/>
          <a:stretch/>
        </p:blipFill>
        <p:spPr>
          <a:xfrm rot="2621400">
            <a:off x="1371240" y="2514600"/>
            <a:ext cx="6858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f_clip_image019"/>
          <p:cNvPicPr/>
          <p:nvPr/>
        </p:nvPicPr>
        <p:blipFill>
          <a:blip r:embed="rId10"/>
          <a:stretch/>
        </p:blipFill>
        <p:spPr>
          <a:xfrm rot="20263200">
            <a:off x="6324480" y="837720"/>
            <a:ext cx="1714680" cy="1652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6"/>
          <p:cNvSpPr/>
          <p:nvPr/>
        </p:nvSpPr>
        <p:spPr>
          <a:xfrm>
            <a:off x="45720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205740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429000" y="2147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457200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867280" y="2147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7010280" y="2147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81532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45720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12952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6" descr=""/>
          <p:cNvPicPr/>
          <p:nvPr/>
        </p:nvPicPr>
        <p:blipFill>
          <a:blip r:embed="rId11"/>
          <a:stretch/>
        </p:blipFill>
        <p:spPr>
          <a:xfrm>
            <a:off x="1905120" y="914400"/>
            <a:ext cx="1081080" cy="129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7" descr="200959"/>
          <p:cNvPicPr/>
          <p:nvPr/>
        </p:nvPicPr>
        <p:blipFill>
          <a:blip r:embed="rId12"/>
          <a:stretch/>
        </p:blipFill>
        <p:spPr>
          <a:xfrm>
            <a:off x="769608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1" descr="289120"/>
          <p:cNvPicPr/>
          <p:nvPr/>
        </p:nvPicPr>
        <p:blipFill>
          <a:blip r:embed="rId13"/>
          <a:srcRect l="3575" t="21433" r="0" b="21433"/>
          <a:stretch/>
        </p:blipFill>
        <p:spPr>
          <a:xfrm rot="17998200">
            <a:off x="-52200" y="4623840"/>
            <a:ext cx="175284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210148"/>
          <p:cNvPicPr/>
          <p:nvPr/>
        </p:nvPicPr>
        <p:blipFill>
          <a:blip r:embed="rId14"/>
          <a:stretch/>
        </p:blipFill>
        <p:spPr>
          <a:xfrm rot="828000">
            <a:off x="114264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3" descr="g2411128572t"/>
          <p:cNvPicPr/>
          <p:nvPr/>
        </p:nvPicPr>
        <p:blipFill>
          <a:blip r:embed="rId15"/>
          <a:stretch/>
        </p:blipFill>
        <p:spPr>
          <a:xfrm>
            <a:off x="6858000" y="3124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4"/>
          <p:cNvSpPr/>
          <p:nvPr/>
        </p:nvSpPr>
        <p:spPr>
          <a:xfrm>
            <a:off x="213372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276720" y="4129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434340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563868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69343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9"/>
          <p:cNvSpPr/>
          <p:nvPr/>
        </p:nvSpPr>
        <p:spPr>
          <a:xfrm>
            <a:off x="7848720" y="6262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1" descr="dr_slick_bobbin_threader_lg[1]"/>
          <p:cNvPicPr/>
          <p:nvPr/>
        </p:nvPicPr>
        <p:blipFill>
          <a:blip r:embed="rId16"/>
          <a:stretch/>
        </p:blipFill>
        <p:spPr>
          <a:xfrm>
            <a:off x="3276720" y="2743200"/>
            <a:ext cx="712800" cy="14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3" descr="g2080781812[1]"/>
          <p:cNvPicPr/>
          <p:nvPr/>
        </p:nvPicPr>
        <p:blipFill>
          <a:blip r:embed="rId17"/>
          <a:stretch/>
        </p:blipFill>
        <p:spPr>
          <a:xfrm>
            <a:off x="5334120" y="2743200"/>
            <a:ext cx="1371600" cy="1320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4" descr="thimble[1]"/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5867280" y="1295280"/>
            <a:ext cx="36828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5" descr="d1-01000[1]"/>
          <p:cNvPicPr/>
          <p:nvPr/>
        </p:nvPicPr>
        <p:blipFill>
          <a:blip r:embed="rId19"/>
          <a:srcRect l="33339" t="-2492" r="23339" b="0"/>
          <a:stretch/>
        </p:blipFill>
        <p:spPr>
          <a:xfrm>
            <a:off x="7815240" y="2666880"/>
            <a:ext cx="1328760" cy="4191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7"/>
          <p:cNvSpPr/>
          <p:nvPr/>
        </p:nvSpPr>
        <p:spPr>
          <a:xfrm>
            <a:off x="1828800" y="5805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152280" y="5805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29169"/>
          <p:cNvPicPr/>
          <p:nvPr/>
        </p:nvPicPr>
        <p:blipFill>
          <a:blip r:embed="rId1"/>
          <a:stretch/>
        </p:blipFill>
        <p:spPr>
          <a:xfrm>
            <a:off x="0" y="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ayaaaqz4"/>
          <p:cNvPicPr/>
          <p:nvPr/>
        </p:nvPicPr>
        <p:blipFill>
          <a:blip r:embed="rId2"/>
          <a:stretch/>
        </p:blipFill>
        <p:spPr>
          <a:xfrm rot="1630200">
            <a:off x="6087600" y="3633480"/>
            <a:ext cx="2971800" cy="28321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9"/>
          <p:cNvSpPr txBox="1"/>
          <p:nvPr/>
        </p:nvSpPr>
        <p:spPr>
          <a:xfrm>
            <a:off x="838080" y="6094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7a1f00"/>
                  </a:outerShdw>
                </a:effectLst>
                <a:latin typeface="Times New Roman"/>
              </a:rPr>
              <a:t>Швейный цех</a:t>
            </a:r>
            <a:endParaRPr b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7a1f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Картинка 210 из 3056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0" y="1171440"/>
            <a:ext cx="1619280" cy="2562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38088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2"/>
          <a:srcRect l="0" t="6332" r="-2896" b="0"/>
          <a:stretch/>
        </p:blipFill>
        <p:spPr>
          <a:xfrm>
            <a:off x="2133720" y="0"/>
            <a:ext cx="1676160" cy="3381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25909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3"/>
          <a:stretch/>
        </p:blipFill>
        <p:spPr>
          <a:xfrm>
            <a:off x="4267080" y="533520"/>
            <a:ext cx="1629000" cy="26668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541008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7772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1542960" cy="2752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6"/>
          <p:cNvSpPr/>
          <p:nvPr/>
        </p:nvSpPr>
        <p:spPr>
          <a:xfrm>
            <a:off x="4572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5"/>
          <a:srcRect l="0" t="622" r="6975" b="0"/>
          <a:stretch/>
        </p:blipFill>
        <p:spPr>
          <a:xfrm>
            <a:off x="609480" y="3809880"/>
            <a:ext cx="1143000" cy="3048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8"/>
          <p:cNvSpPr/>
          <p:nvPr/>
        </p:nvSpPr>
        <p:spPr>
          <a:xfrm>
            <a:off x="2438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5486400" y="624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3" descr=""/>
          <p:cNvPicPr/>
          <p:nvPr/>
        </p:nvPicPr>
        <p:blipFill>
          <a:blip r:embed="rId6"/>
          <a:srcRect l="0" t="0" r="1364" b="7836"/>
          <a:stretch/>
        </p:blipFill>
        <p:spPr>
          <a:xfrm>
            <a:off x="2286000" y="5067360"/>
            <a:ext cx="2057400" cy="179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"/>
          <p:cNvPicPr/>
          <p:nvPr/>
        </p:nvPicPr>
        <p:blipFill>
          <a:blip r:embed="rId7"/>
          <a:stretch/>
        </p:blipFill>
        <p:spPr>
          <a:xfrm>
            <a:off x="4876920" y="3971880"/>
            <a:ext cx="1323720" cy="288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biene-maja"/>
          <p:cNvPicPr/>
          <p:nvPr/>
        </p:nvPicPr>
        <p:blipFill>
          <a:blip r:embed="rId8"/>
          <a:stretch/>
        </p:blipFill>
        <p:spPr>
          <a:xfrm>
            <a:off x="6781680" y="3581280"/>
            <a:ext cx="1914480" cy="2819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0"/>
          <p:cNvSpPr/>
          <p:nvPr/>
        </p:nvSpPr>
        <p:spPr>
          <a:xfrm>
            <a:off x="1676520" y="34290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вижения для здоров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3048120" y="304920"/>
            <a:ext cx="5790960" cy="31809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НСТРУ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 ОХРАН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бщие требования. Опас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ия перед началом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о врем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аварий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 окончании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Картинка 136 из 3056"/>
          <p:cNvPicPr/>
          <p:nvPr/>
        </p:nvPicPr>
        <p:blipFill>
          <a:blip r:embed="rId1"/>
          <a:stretch/>
        </p:blipFill>
        <p:spPr>
          <a:xfrm>
            <a:off x="228600" y="152280"/>
            <a:ext cx="2703600" cy="3733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11122009_2_3"/>
          <p:cNvPicPr/>
          <p:nvPr/>
        </p:nvPicPr>
        <p:blipFill>
          <a:blip r:embed="rId2"/>
          <a:stretch/>
        </p:blipFill>
        <p:spPr>
          <a:xfrm>
            <a:off x="0" y="3886200"/>
            <a:ext cx="2209680" cy="2438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4"/>
          <p:cNvSpPr/>
          <p:nvPr/>
        </p:nvSpPr>
        <p:spPr>
          <a:xfrm>
            <a:off x="2057400" y="4041720"/>
            <a:ext cx="7086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нструкция по пожарной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нструкция при работе с тканью (иголками, булавками, швейной маши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.  Инструкция при работе с электрическим утю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6"/>
          <p:cNvSpPr/>
          <p:nvPr/>
        </p:nvSpPr>
        <p:spPr>
          <a:xfrm>
            <a:off x="380880" y="914400"/>
            <a:ext cx="86108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бщи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терская должна содержаться в чист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вакуационные проходы не загромождать предм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еся должны знать план эвакуации из 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занятия убрать рабочие места, обесточить электрос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Запрещ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ить в здании легковоспламеняющиеся жидкости и матери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влять без присмотра включенные в сеть электроприб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Действия при возникновении пожара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ить о пожаре по телефон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жарную ч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едленно оповестить людей о пож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вакуироваться согласно плану эвакуации из 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1259352978_pogarniy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7096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30492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нструкция по пожарной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57200" y="990720"/>
            <a:ext cx="3505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Общи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 - ...содержать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 - ...не загроможда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 - ...должны зна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 - ...убрать, обесточи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267080" y="990720"/>
            <a:ext cx="449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Запрещ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 - ...храни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 - ... оставлять без присмотр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905120" y="41148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752480" y="3429000"/>
            <a:ext cx="5410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Действия при возникновении пож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 - сообщи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 - оповести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 – эвакуировать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04920" y="304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втори правила, используя слова-под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5458320"/>
            <a:ext cx="723888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89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А ТЫ ЭТИ ЗНА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ЖИЗНИ СТРОГО ВЫПОЛНЯ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mayaaaqz4"/>
          <p:cNvPicPr/>
          <p:nvPr/>
        </p:nvPicPr>
        <p:blipFill>
          <a:blip r:embed="rId1"/>
          <a:stretch/>
        </p:blipFill>
        <p:spPr>
          <a:xfrm>
            <a:off x="5943600" y="4210200"/>
            <a:ext cx="28195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303120" y="1184760"/>
            <a:ext cx="7703280" cy="45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Если же стряслась бе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то тогда Вам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е теряться никогда, действовать уме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ужно мужество найти к телефону подой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мело трубку в руки взять, 01 суметь наб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 назвать ещё потом город, улицу и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 квартиру, где живете, и с каким она зам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 ещё сказать: «Даю Вам фамилию св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Так же номер телефона, у которого ст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у, а дальше – не орите – в руки Вы себя бер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ействуйте по правилам, слаженно и грамот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143000" y="228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ПОМН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Flames_1"/>
          <p:cNvPicPr/>
          <p:nvPr/>
        </p:nvPicPr>
        <p:blipFill>
          <a:blip r:embed="rId1"/>
          <a:stretch/>
        </p:blipFill>
        <p:spPr>
          <a:xfrm>
            <a:off x="7162920" y="4927680"/>
            <a:ext cx="1981080" cy="1930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poj-bez3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6"/>
          <p:cNvSpPr/>
          <p:nvPr/>
        </p:nvSpPr>
        <p:spPr>
          <a:xfrm>
            <a:off x="76320" y="533520"/>
            <a:ext cx="8991360" cy="6041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бщие требования.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олы пальцев р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еред началом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ить качество игл, отсутствие ржавых и погнут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считать количество иг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о время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анить иголки и булавки в определенном месте, не оставлять на рабочем ст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ть иголками только с наперстк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кройки и ткани прикреплять острыми концами булавок в направлении от себ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 аварийных ситуац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поломки иглы или булавки обломки не бросать на пол, собрать все части и выбросить в ур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лучении травмы, работу прекратить и сообщить об этом уч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о окончании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считать количество игл, при отсутствии недостающих, обязательно постараться их най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брать иголки и булавки в специально отведен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Картинка 2 из 1719"/>
          <p:cNvPicPr/>
          <p:nvPr/>
        </p:nvPicPr>
        <p:blipFill>
          <a:blip r:embed="rId1"/>
          <a:stretch/>
        </p:blipFill>
        <p:spPr>
          <a:xfrm>
            <a:off x="5791320" y="685800"/>
            <a:ext cx="1752480" cy="1120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5"/>
          <p:cNvSpPr/>
          <p:nvPr/>
        </p:nvSpPr>
        <p:spPr>
          <a:xfrm>
            <a:off x="228600" y="76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нструкция по охране труда при работе с иголками, булав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7" descr="te3"/>
          <p:cNvPicPr/>
          <p:nvPr/>
        </p:nvPicPr>
        <p:blipFill>
          <a:blip r:embed="rId2"/>
          <a:stretch/>
        </p:blipFill>
        <p:spPr>
          <a:xfrm>
            <a:off x="7523280" y="609480"/>
            <a:ext cx="1361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4495680" y="1143000"/>
            <a:ext cx="2514600" cy="3988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йди пару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yaaaqz4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2362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1"/>
          <p:cNvSpPr/>
          <p:nvPr/>
        </p:nvSpPr>
        <p:spPr>
          <a:xfrm>
            <a:off x="6248520" y="190512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2"/>
          <p:cNvSpPr/>
          <p:nvPr/>
        </p:nvSpPr>
        <p:spPr>
          <a:xfrm>
            <a:off x="4648320" y="251460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6934320" y="342900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5334120" y="4038480"/>
            <a:ext cx="1600200" cy="15242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3733920" y="3809880"/>
            <a:ext cx="1600200" cy="15242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6"/>
          <p:cNvSpPr/>
          <p:nvPr/>
        </p:nvSpPr>
        <p:spPr>
          <a:xfrm>
            <a:off x="990720" y="365760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7"/>
          <p:cNvSpPr/>
          <p:nvPr/>
        </p:nvSpPr>
        <p:spPr>
          <a:xfrm>
            <a:off x="1676520" y="213372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8"/>
          <p:cNvSpPr/>
          <p:nvPr/>
        </p:nvSpPr>
        <p:spPr>
          <a:xfrm>
            <a:off x="762120" y="838080"/>
            <a:ext cx="1600200" cy="152424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9"/>
          <p:cNvSpPr/>
          <p:nvPr/>
        </p:nvSpPr>
        <p:spPr>
          <a:xfrm>
            <a:off x="76320" y="2362320"/>
            <a:ext cx="1600200" cy="15238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0"/>
          <p:cNvSpPr/>
          <p:nvPr/>
        </p:nvSpPr>
        <p:spPr>
          <a:xfrm>
            <a:off x="2362320" y="609480"/>
            <a:ext cx="1600200" cy="152424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762120" y="1295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ас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228600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еред раб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752480" y="2666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 врем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76320" y="2895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 аварий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8380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 окончани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572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ботать с наперст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541008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колы па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6934320" y="3733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верить качество и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62485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осчитать и убрать и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3657600" y="4191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ломанную иглу не бро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1371600" y="838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518148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228600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5943600" y="411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2971800" y="685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685800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1523880" y="373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3"/>
          <p:cNvSpPr/>
          <p:nvPr/>
        </p:nvSpPr>
        <p:spPr>
          <a:xfrm>
            <a:off x="75438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4"/>
          <p:cNvSpPr/>
          <p:nvPr/>
        </p:nvSpPr>
        <p:spPr>
          <a:xfrm>
            <a:off x="68580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5"/>
          <p:cNvSpPr/>
          <p:nvPr/>
        </p:nvSpPr>
        <p:spPr>
          <a:xfrm>
            <a:off x="434340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7"/>
          <p:cNvSpPr/>
          <p:nvPr/>
        </p:nvSpPr>
        <p:spPr>
          <a:xfrm>
            <a:off x="152280" y="609588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9"/>
          <p:cNvSpPr/>
          <p:nvPr/>
        </p:nvSpPr>
        <p:spPr>
          <a:xfrm>
            <a:off x="914400" y="609588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0"/>
          <p:cNvSpPr/>
          <p:nvPr/>
        </p:nvSpPr>
        <p:spPr>
          <a:xfrm>
            <a:off x="1676520" y="6095880"/>
            <a:ext cx="76176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1"/>
          <p:cNvSpPr/>
          <p:nvPr/>
        </p:nvSpPr>
        <p:spPr>
          <a:xfrm>
            <a:off x="2438280" y="609588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2"/>
          <p:cNvSpPr/>
          <p:nvPr/>
        </p:nvSpPr>
        <p:spPr>
          <a:xfrm>
            <a:off x="3200400" y="609588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8"/>
          <p:cNvSpPr/>
          <p:nvPr/>
        </p:nvSpPr>
        <p:spPr>
          <a:xfrm>
            <a:off x="609480" y="152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абота с иголками и була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rush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158400" y="4951800"/>
            <a:ext cx="518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антазии полёт и рук творенье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 восторгом я держу в своих руках..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е знает, к счастью, красота старенья,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юбовь к прекрасному живёт в ве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Картинка 74 из 2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52280"/>
            <a:ext cx="3767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609480" y="2797200"/>
            <a:ext cx="747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3"/>
          <p:cNvSpPr/>
          <p:nvPr/>
        </p:nvSpPr>
        <p:spPr>
          <a:xfrm>
            <a:off x="152280" y="1028880"/>
            <a:ext cx="8839440" cy="52322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бщие требования.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вмирование р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еред началом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ить исправность  инстр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о время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ницы хранить в определенном месте, класть их сомкнутыми острыми концами от себ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вать ножницы друг другу ручками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 аварийных ситуац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оломке ножниц работу прекрат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олучении травмы немедленно сообщить уч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о окончании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рать ножницы в специально отведенн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685800" y="2127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нструкция по охране труда при работе с нож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6" descr="konig908"/>
          <p:cNvPicPr/>
          <p:nvPr/>
        </p:nvPicPr>
        <p:blipFill>
          <a:blip r:embed="rId1"/>
          <a:stretch/>
        </p:blipFill>
        <p:spPr>
          <a:xfrm rot="20101200">
            <a:off x="6171840" y="990360"/>
            <a:ext cx="2590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mayaaaqz4"/>
          <p:cNvPicPr/>
          <p:nvPr/>
        </p:nvPicPr>
        <p:blipFill>
          <a:blip r:embed="rId1"/>
          <a:stretch/>
        </p:blipFill>
        <p:spPr>
          <a:xfrm>
            <a:off x="6324480" y="0"/>
            <a:ext cx="2217960" cy="23623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1600200" y="380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04920" y="1371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. Перед работой провер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04920" y="2286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. На рабочем месте ножницы должны леж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304920" y="3200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. Передавать ножницы нуж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304920" y="4114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. После работы ножниц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" descr="Картинка 69 из 279"/>
          <p:cNvPicPr/>
          <p:nvPr/>
        </p:nvPicPr>
        <p:blipFill>
          <a:blip r:embed="rId2"/>
          <a:stretch/>
        </p:blipFill>
        <p:spPr>
          <a:xfrm rot="19161000">
            <a:off x="6019920" y="2971440"/>
            <a:ext cx="1969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7"/>
          <p:cNvSpPr/>
          <p:nvPr/>
        </p:nvSpPr>
        <p:spPr>
          <a:xfrm>
            <a:off x="76320" y="538200"/>
            <a:ext cx="8991360" cy="63410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бщие требования.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вмирование рук,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ажение электрическим то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еред началом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диться в исправности швейной маш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ить целостность шнура и ви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о время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ржать пальцы рук около лапки швейной машины во избежание прокола их игл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клоняться близко к движущимся частям швейной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 аварийных ситуац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неисправности в работе швейной машины работу прекратить и сообщить учите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олучении травмы немедленно сообщить уч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о окончании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лючить швейную машину от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9" descr="Shveinaya%20mashina%20JANOME%20Sewist%20525"/>
          <p:cNvPicPr/>
          <p:nvPr/>
        </p:nvPicPr>
        <p:blipFill>
          <a:blip r:embed="rId1"/>
          <a:stretch/>
        </p:blipFill>
        <p:spPr>
          <a:xfrm>
            <a:off x="6396120" y="380880"/>
            <a:ext cx="2500200" cy="2590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8"/>
          <p:cNvSpPr/>
          <p:nvPr/>
        </p:nvSpPr>
        <p:spPr>
          <a:xfrm>
            <a:off x="152280" y="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нструкция по охране труда при работе на швейной маш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mayaaaqz4"/>
          <p:cNvPicPr/>
          <p:nvPr/>
        </p:nvPicPr>
        <p:blipFill>
          <a:blip r:embed="rId1"/>
          <a:stretch/>
        </p:blipFill>
        <p:spPr>
          <a:xfrm>
            <a:off x="6576840" y="152280"/>
            <a:ext cx="2001960" cy="2133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1523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ь на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04920" y="106668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чему перед работой необходимо      проверять исправность швейной маш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04920" y="259092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.  Что произойдет, если держать пальцы рук около лапки швейной машины?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04920" y="396252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.  Что необходимо сделать при обнаружении неисправности или поломке швейной маш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304920" y="525780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чему по окончании работу необходимо отключить швейную машину от се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te4"/>
          <p:cNvPicPr/>
          <p:nvPr/>
        </p:nvPicPr>
        <p:blipFill>
          <a:blip r:embed="rId2"/>
          <a:stretch/>
        </p:blipFill>
        <p:spPr>
          <a:xfrm>
            <a:off x="6477120" y="5013360"/>
            <a:ext cx="2666880" cy="1844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q4"/>
          <p:cNvPicPr/>
          <p:nvPr/>
        </p:nvPicPr>
        <p:blipFill>
          <a:blip r:embed="rId3"/>
          <a:stretch/>
        </p:blipFill>
        <p:spPr>
          <a:xfrm>
            <a:off x="6477120" y="251460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4"/>
          <p:cNvSpPr/>
          <p:nvPr/>
        </p:nvSpPr>
        <p:spPr>
          <a:xfrm>
            <a:off x="76320" y="493560"/>
            <a:ext cx="8991360" cy="6380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 Общие требования.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Опасные факто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оги ру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никновение пожа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ажение электрическим т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еред началом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ить исправность утюга, целостность шнура и вил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о время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ть и выключать утюг только сухими ру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работе следить за тем, чтобы горячая подошва утюга не касалась электрического шн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ожогов не касаться горячих металлических частей утюга и не смачивать обильно тка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пожара не оставлять включенный в сеть утюг без присмо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 аварийных ситуац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исправности утюга, утюг отключить и сообщить учите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лучении травмы немедленно сообщить уч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о окончании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лючить утюг от се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152280" y="144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струкция по охране труда при работе с электрическим утю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Картинка 1 из 147434"/>
          <p:cNvPicPr/>
          <p:nvPr/>
        </p:nvPicPr>
        <p:blipFill>
          <a:blip r:embed="rId1"/>
          <a:stretch/>
        </p:blipFill>
        <p:spPr>
          <a:xfrm rot="20778600">
            <a:off x="6548040" y="496800"/>
            <a:ext cx="21099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2" descr="imagesCARMQD4Y"/>
          <p:cNvPicPr/>
          <p:nvPr/>
        </p:nvPicPr>
        <p:blipFill>
          <a:blip r:embed="rId1"/>
          <a:stretch/>
        </p:blipFill>
        <p:spPr>
          <a:xfrm>
            <a:off x="0" y="3641760"/>
            <a:ext cx="419112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8" name="Picture 36" descr="img?2043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Picture 32" descr="_MG_5002a1s"/>
          <p:cNvPicPr/>
          <p:nvPr/>
        </p:nvPicPr>
        <p:blipFill>
          <a:blip r:embed="rId3"/>
          <a:stretch/>
        </p:blipFill>
        <p:spPr>
          <a:xfrm>
            <a:off x="0" y="0"/>
            <a:ext cx="4114800" cy="29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0" name="Text Box 6"/>
          <p:cNvSpPr/>
          <p:nvPr/>
        </p:nvSpPr>
        <p:spPr>
          <a:xfrm>
            <a:off x="1447920" y="2971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зови правила по карт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9"/>
          <p:cNvSpPr/>
          <p:nvPr/>
        </p:nvSpPr>
        <p:spPr>
          <a:xfrm>
            <a:off x="3200400" y="152280"/>
            <a:ext cx="76212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35268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3276720" y="6095880"/>
            <a:ext cx="76176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34290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2" descr="13[2]"/>
          <p:cNvPicPr/>
          <p:nvPr/>
        </p:nvPicPr>
        <p:blipFill>
          <a:blip r:embed="rId4"/>
          <a:stretch/>
        </p:blipFill>
        <p:spPr>
          <a:xfrm>
            <a:off x="5334120" y="3598920"/>
            <a:ext cx="3809880" cy="325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Oval 24"/>
          <p:cNvSpPr/>
          <p:nvPr/>
        </p:nvSpPr>
        <p:spPr>
          <a:xfrm>
            <a:off x="5334120" y="228600"/>
            <a:ext cx="76176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5562720" y="304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6"/>
          <p:cNvSpPr/>
          <p:nvPr/>
        </p:nvSpPr>
        <p:spPr>
          <a:xfrm>
            <a:off x="5410080" y="6095880"/>
            <a:ext cx="76212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5"/>
          <p:cNvSpPr/>
          <p:nvPr/>
        </p:nvSpPr>
        <p:spPr>
          <a:xfrm>
            <a:off x="5562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4" descr="rubashka_11"/>
          <p:cNvPicPr/>
          <p:nvPr/>
        </p:nvPicPr>
        <p:blipFill>
          <a:blip r:embed="rId1"/>
          <a:stretch/>
        </p:blipFill>
        <p:spPr>
          <a:xfrm>
            <a:off x="0" y="762120"/>
            <a:ext cx="3809880" cy="31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1" name="Picture 7" descr="Flames_1"/>
          <p:cNvPicPr/>
          <p:nvPr/>
        </p:nvPicPr>
        <p:blipFill>
          <a:blip r:embed="rId2"/>
          <a:stretch/>
        </p:blipFill>
        <p:spPr>
          <a:xfrm>
            <a:off x="1219320" y="2133720"/>
            <a:ext cx="609480" cy="5936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6"/>
          <p:cNvSpPr/>
          <p:nvPr/>
        </p:nvSpPr>
        <p:spPr>
          <a:xfrm>
            <a:off x="838080" y="2286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аши действия в экстренных ситуация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9" descr="outlet-overload-2"/>
          <p:cNvPicPr/>
          <p:nvPr/>
        </p:nvPicPr>
        <p:blipFill>
          <a:blip r:embed="rId3"/>
          <a:stretch/>
        </p:blipFill>
        <p:spPr>
          <a:xfrm>
            <a:off x="5334120" y="40384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7" descr="Fire-Roasted-Hot-Chili"/>
          <p:cNvPicPr/>
          <p:nvPr/>
        </p:nvPicPr>
        <p:blipFill>
          <a:blip r:embed="rId4"/>
          <a:srcRect l="0" t="-4799" r="19811" b="0"/>
          <a:stretch/>
        </p:blipFill>
        <p:spPr>
          <a:xfrm>
            <a:off x="8077320" y="4572000"/>
            <a:ext cx="1066680" cy="1662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9" descr="cartoon_fire"/>
          <p:cNvPicPr/>
          <p:nvPr/>
        </p:nvPicPr>
        <p:blipFill>
          <a:blip r:embed="rId5"/>
          <a:stretch/>
        </p:blipFill>
        <p:spPr>
          <a:xfrm>
            <a:off x="8001000" y="4419720"/>
            <a:ext cx="863640" cy="10094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2"/>
          <p:cNvSpPr/>
          <p:nvPr/>
        </p:nvSpPr>
        <p:spPr>
          <a:xfrm>
            <a:off x="4419720" y="1143000"/>
            <a:ext cx="37335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Горит утю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выключ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– накрыть плотной тка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– сообщить о пож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3"/>
          <p:cNvSpPr/>
          <p:nvPr/>
        </p:nvSpPr>
        <p:spPr>
          <a:xfrm>
            <a:off x="914400" y="4267080"/>
            <a:ext cx="3429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Горит вилка, розе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обесточить кварти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– сообщить о пож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4"/>
          <p:cNvSpPr/>
          <p:nvPr/>
        </p:nvSpPr>
        <p:spPr>
          <a:xfrm>
            <a:off x="3352680" y="990720"/>
            <a:ext cx="990720" cy="761760"/>
          </a:xfrm>
          <a:custGeom>
            <a:avLst/>
            <a:gdLst>
              <a:gd name="textAreaLeft" fmla="*/ 154800 w 990720"/>
              <a:gd name="textAreaRight" fmla="*/ 866880 w 9907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5"/>
          <p:cNvSpPr/>
          <p:nvPr/>
        </p:nvSpPr>
        <p:spPr>
          <a:xfrm flipH="1">
            <a:off x="4419720" y="4267080"/>
            <a:ext cx="914400" cy="7621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3" descr="59511525_000001782114[1]"/>
          <p:cNvPicPr/>
          <p:nvPr/>
        </p:nvPicPr>
        <p:blipFill>
          <a:blip r:embed="rId1"/>
          <a:stretch/>
        </p:blipFill>
        <p:spPr>
          <a:xfrm>
            <a:off x="4952880" y="3809880"/>
            <a:ext cx="4191120" cy="3048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40630457_05_pribluda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201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6d5b8b806d4cf77d5e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0"/>
            <a:ext cx="4495680" cy="3187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Картинка 19 из 91"/>
          <p:cNvPicPr/>
          <p:nvPr/>
        </p:nvPicPr>
        <p:blipFill>
          <a:blip r:embed="rId4"/>
          <a:stretch/>
        </p:blipFill>
        <p:spPr>
          <a:xfrm rot="1350600">
            <a:off x="4952520" y="5409720"/>
            <a:ext cx="1828800" cy="102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59511665_000001782115[1]"/>
          <p:cNvPicPr/>
          <p:nvPr/>
        </p:nvPicPr>
        <p:blipFill>
          <a:blip r:embed="rId5"/>
          <a:stretch/>
        </p:blipFill>
        <p:spPr>
          <a:xfrm>
            <a:off x="0" y="38098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4"/>
          <p:cNvSpPr/>
          <p:nvPr/>
        </p:nvSpPr>
        <p:spPr>
          <a:xfrm>
            <a:off x="0" y="31845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предели по картинкам, где нарушены правила охраны труда. Назови опасные факторы, которые могут произой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4920" y="533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8381880" y="533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1522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525780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57"/>
          <p:cNvSpPr/>
          <p:nvPr/>
        </p:nvSpPr>
        <p:spPr>
          <a:xfrm>
            <a:off x="7391520" y="0"/>
            <a:ext cx="1752480" cy="2133720"/>
          </a:xfrm>
          <a:prstGeom prst="rect">
            <a:avLst/>
          </a:prstGeom>
          <a:solidFill>
            <a:srgbClr val="ffffa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627120" y="187200"/>
            <a:ext cx="1974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212840" y="187200"/>
            <a:ext cx="187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2133720"/>
          <a:ext cx="8839080" cy="4084560"/>
        </p:xfrm>
        <a:graphic>
          <a:graphicData uri="http://schemas.openxmlformats.org/drawingml/2006/table">
            <a:tbl>
              <a:tblPr/>
              <a:tblGrid>
                <a:gridCol w="349200"/>
                <a:gridCol w="3710160"/>
                <a:gridCol w="1033200"/>
                <a:gridCol w="304920"/>
                <a:gridCol w="351000"/>
                <a:gridCol w="345960"/>
                <a:gridCol w="350640"/>
                <a:gridCol w="347760"/>
                <a:gridCol w="351000"/>
                <a:gridCol w="349200"/>
                <a:gridCol w="352440"/>
                <a:gridCol w="347760"/>
                <a:gridCol w="347400"/>
                <a:gridCol w="2984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еб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, 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к уро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омашнего зад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теоретическ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чего мес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сть выполнения трудовых прием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ость и качество обрабо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вре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правил безопасной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 урока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21"/>
          <p:cNvSpPr/>
          <p:nvPr/>
        </p:nvSpPr>
        <p:spPr>
          <a:xfrm>
            <a:off x="0" y="23076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арта успеваемости по технологии____________ученицы 5 «а» клас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0 - 100 баллов  - 5 (отлич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5 - 85 баллов   - 4 (хорошо)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0 - 70 баллов   - 3 (удовлетворительно)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100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баллов за занятие –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дубл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222"/>
          <p:cNvSpPr txBox="1"/>
          <p:nvPr/>
        </p:nvSpPr>
        <p:spPr>
          <a:xfrm>
            <a:off x="7620120" y="190512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I ДУБЛОН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286" name="Line 233"/>
          <p:cNvSpPr/>
          <p:nvPr/>
        </p:nvSpPr>
        <p:spPr>
          <a:xfrm flipV="1">
            <a:off x="4114800" y="56386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3"/>
          <p:cNvSpPr/>
          <p:nvPr/>
        </p:nvSpPr>
        <p:spPr>
          <a:xfrm flipV="1">
            <a:off x="3886200" y="1523520"/>
            <a:ext cx="3505320" cy="3812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54"/>
          <p:cNvSpPr/>
          <p:nvPr/>
        </p:nvSpPr>
        <p:spPr>
          <a:xfrm>
            <a:off x="152280" y="6248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елаю стать первой ученицей в класс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56" descr="mayaaaqz4"/>
          <p:cNvPicPr/>
          <p:nvPr/>
        </p:nvPicPr>
        <p:blipFill>
          <a:blip r:embed="rId1"/>
          <a:stretch/>
        </p:blipFill>
        <p:spPr>
          <a:xfrm>
            <a:off x="7381800" y="28440"/>
            <a:ext cx="1762200" cy="1876680"/>
          </a:xfrm>
          <a:prstGeom prst="rect">
            <a:avLst/>
          </a:prstGeom>
          <a:ln w="0">
            <a:noFill/>
          </a:ln>
        </p:spPr>
      </p:pic>
      <p:sp>
        <p:nvSpPr>
          <p:cNvPr id="290" name="Line 258"/>
          <p:cNvSpPr/>
          <p:nvPr/>
        </p:nvSpPr>
        <p:spPr>
          <a:xfrm flipV="1">
            <a:off x="380880" y="5638680"/>
            <a:ext cx="3657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28600" y="487584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лово «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технологи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 происходит от древнегреческого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techne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— «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искусство, мастерство, умени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 и латинского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lоgos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— «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учение, слово, наук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Технология - это наука об умении, мастерстве, искус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Картинка 42 из 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52280"/>
            <a:ext cx="60199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2"/>
          <p:cNvSpPr/>
          <p:nvPr/>
        </p:nvSpPr>
        <p:spPr>
          <a:xfrm>
            <a:off x="3809880" y="2514600"/>
            <a:ext cx="1981440" cy="1676520"/>
          </a:xfrm>
          <a:prstGeom prst="hexagon">
            <a:avLst>
              <a:gd name="adj" fmla="val 29547"/>
              <a:gd name="vf" fmla="val 115470"/>
            </a:avLst>
          </a:prstGeom>
          <a:solidFill>
            <a:srgbClr val="ff9900">
              <a:alpha val="67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3809880" y="838080"/>
            <a:ext cx="1981440" cy="1676520"/>
          </a:xfrm>
          <a:prstGeom prst="hexagon">
            <a:avLst>
              <a:gd name="adj" fmla="val 29547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5334120" y="16765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2286000" y="16765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5334120" y="33526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2286000" y="33526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3809880" y="4191120"/>
            <a:ext cx="1981440" cy="1676160"/>
          </a:xfrm>
          <a:prstGeom prst="hexagon">
            <a:avLst>
              <a:gd name="adj" fmla="val 29553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6858000" y="8380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6858000" y="251460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6858000" y="41911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2"/>
          <p:cNvSpPr/>
          <p:nvPr/>
        </p:nvSpPr>
        <p:spPr>
          <a:xfrm>
            <a:off x="762120" y="251460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3"/>
          <p:cNvSpPr/>
          <p:nvPr/>
        </p:nvSpPr>
        <p:spPr>
          <a:xfrm>
            <a:off x="762120" y="8380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3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"/>
          <p:cNvSpPr/>
          <p:nvPr/>
        </p:nvSpPr>
        <p:spPr>
          <a:xfrm>
            <a:off x="762120" y="41911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5"/>
          <p:cNvSpPr/>
          <p:nvPr/>
        </p:nvSpPr>
        <p:spPr>
          <a:xfrm>
            <a:off x="0" y="6156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гадайте эти сло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6" descr="mayaaaqz4"/>
          <p:cNvPicPr/>
          <p:nvPr/>
        </p:nvPicPr>
        <p:blipFill>
          <a:blip r:embed="rId1"/>
          <a:stretch/>
        </p:blipFill>
        <p:spPr>
          <a:xfrm>
            <a:off x="4119480" y="2590920"/>
            <a:ext cx="1430280" cy="1523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7"/>
          <p:cNvSpPr/>
          <p:nvPr/>
        </p:nvSpPr>
        <p:spPr>
          <a:xfrm>
            <a:off x="1600200" y="29718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1523880" y="1219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1523880" y="464832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3048120" y="2209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1"/>
          <p:cNvSpPr/>
          <p:nvPr/>
        </p:nvSpPr>
        <p:spPr>
          <a:xfrm>
            <a:off x="3124080" y="3962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2"/>
          <p:cNvSpPr/>
          <p:nvPr/>
        </p:nvSpPr>
        <p:spPr>
          <a:xfrm>
            <a:off x="4572000" y="1295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3"/>
          <p:cNvSpPr/>
          <p:nvPr/>
        </p:nvSpPr>
        <p:spPr>
          <a:xfrm>
            <a:off x="4648320" y="4724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6095880" y="2133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6095880" y="3886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7467480" y="127944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7391520" y="2971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7467480" y="464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3809880" y="2514600"/>
            <a:ext cx="1981440" cy="1676520"/>
          </a:xfrm>
          <a:prstGeom prst="hexagon">
            <a:avLst>
              <a:gd name="adj" fmla="val 29547"/>
              <a:gd name="vf" fmla="val 115470"/>
            </a:avLst>
          </a:prstGeom>
          <a:solidFill>
            <a:srgbClr val="ff9900">
              <a:alpha val="67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3809880" y="838080"/>
            <a:ext cx="1981440" cy="1676520"/>
          </a:xfrm>
          <a:prstGeom prst="hexagon">
            <a:avLst>
              <a:gd name="adj" fmla="val 29547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5334120" y="16765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2286000" y="16765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5334120" y="33526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2286000" y="33526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3809880" y="4191120"/>
            <a:ext cx="1981440" cy="1676160"/>
          </a:xfrm>
          <a:prstGeom prst="hexagon">
            <a:avLst>
              <a:gd name="adj" fmla="val 29553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6858000" y="8380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6858000" y="251460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6858000" y="41911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2"/>
          <p:cNvSpPr/>
          <p:nvPr/>
        </p:nvSpPr>
        <p:spPr>
          <a:xfrm>
            <a:off x="762120" y="251460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762120" y="838080"/>
            <a:ext cx="1981080" cy="1676520"/>
          </a:xfrm>
          <a:prstGeom prst="hexagon">
            <a:avLst>
              <a:gd name="adj" fmla="val 29542"/>
              <a:gd name="vf" fmla="val 115470"/>
            </a:avLst>
          </a:prstGeom>
          <a:solidFill>
            <a:srgbClr val="ffff00">
              <a:alpha val="33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4"/>
          <p:cNvSpPr/>
          <p:nvPr/>
        </p:nvSpPr>
        <p:spPr>
          <a:xfrm>
            <a:off x="762120" y="4191120"/>
            <a:ext cx="1981080" cy="1676160"/>
          </a:xfrm>
          <a:prstGeom prst="hexagon">
            <a:avLst>
              <a:gd name="adj" fmla="val 29548"/>
              <a:gd name="vf" fmla="val 115470"/>
            </a:avLst>
          </a:prstGeom>
          <a:solidFill>
            <a:srgbClr val="ffff00">
              <a:alpha val="39000"/>
            </a:srgbClr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99072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0666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а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990720" y="4800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2514600" y="2362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хран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251460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ас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3809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4038480" y="4800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нструк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5486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5410080" y="39765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бору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70102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6934320" y="2971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рта успев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6"/>
          <p:cNvSpPr/>
          <p:nvPr/>
        </p:nvSpPr>
        <p:spPr>
          <a:xfrm>
            <a:off x="70866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у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0" y="6156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помните эти сло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8" descr="mayaaaqz4"/>
          <p:cNvPicPr/>
          <p:nvPr/>
        </p:nvPicPr>
        <p:blipFill>
          <a:blip r:embed="rId1"/>
          <a:stretch/>
        </p:blipFill>
        <p:spPr>
          <a:xfrm>
            <a:off x="4119480" y="2590920"/>
            <a:ext cx="143028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29"/>
          <p:cNvSpPr/>
          <p:nvPr/>
        </p:nvSpPr>
        <p:spPr>
          <a:xfrm>
            <a:off x="1600200" y="2590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1600200" y="990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"/>
          <p:cNvSpPr/>
          <p:nvPr/>
        </p:nvSpPr>
        <p:spPr>
          <a:xfrm>
            <a:off x="15238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2"/>
          <p:cNvSpPr/>
          <p:nvPr/>
        </p:nvSpPr>
        <p:spPr>
          <a:xfrm>
            <a:off x="29718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30481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4"/>
          <p:cNvSpPr/>
          <p:nvPr/>
        </p:nvSpPr>
        <p:spPr>
          <a:xfrm>
            <a:off x="44956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5"/>
          <p:cNvSpPr/>
          <p:nvPr/>
        </p:nvSpPr>
        <p:spPr>
          <a:xfrm>
            <a:off x="45720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6"/>
          <p:cNvSpPr/>
          <p:nvPr/>
        </p:nvSpPr>
        <p:spPr>
          <a:xfrm>
            <a:off x="601992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7"/>
          <p:cNvSpPr/>
          <p:nvPr/>
        </p:nvSpPr>
        <p:spPr>
          <a:xfrm>
            <a:off x="6095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8"/>
          <p:cNvSpPr/>
          <p:nvPr/>
        </p:nvSpPr>
        <p:spPr>
          <a:xfrm>
            <a:off x="746748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9"/>
          <p:cNvSpPr/>
          <p:nvPr/>
        </p:nvSpPr>
        <p:spPr>
          <a:xfrm>
            <a:off x="75438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75438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26"/>
          <p:cNvSpPr txBox="1"/>
          <p:nvPr/>
        </p:nvSpPr>
        <p:spPr>
          <a:xfrm>
            <a:off x="5715000" y="5638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5c0000"/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5c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8" name="Picture 4" descr="42197265_22699430_117337_9706147_nn58"/>
          <p:cNvPicPr/>
          <p:nvPr/>
        </p:nvPicPr>
        <p:blipFill>
          <a:blip r:embed="rId1"/>
          <a:stretch/>
        </p:blipFill>
        <p:spPr>
          <a:xfrm>
            <a:off x="4876920" y="1905120"/>
            <a:ext cx="3657600" cy="35049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78"/>
          <p:cNvSpPr/>
          <p:nvPr/>
        </p:nvSpPr>
        <p:spPr>
          <a:xfrm>
            <a:off x="1143000" y="166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ОВЕРЬ СВОИ ЗНАНИЯ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28600" y="1295280"/>
          <a:ext cx="4114800" cy="533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724280" y="1295280"/>
          <a:ext cx="4114800" cy="533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WordArt 382"/>
          <p:cNvSpPr txBox="1"/>
          <p:nvPr/>
        </p:nvSpPr>
        <p:spPr>
          <a:xfrm>
            <a:off x="5257800" y="1371600"/>
            <a:ext cx="304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5c0000"/>
                  </a:outerShdw>
                </a:effectLst>
                <a:latin typeface="Times New Roman"/>
              </a:rPr>
              <a:t>Поздравляю !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5c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Rectangle 383"/>
          <p:cNvSpPr/>
          <p:nvPr/>
        </p:nvSpPr>
        <p:spPr>
          <a:xfrm>
            <a:off x="4724280" y="1295280"/>
            <a:ext cx="4191120" cy="5334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81"/>
          <p:cNvSpPr/>
          <p:nvPr/>
        </p:nvSpPr>
        <p:spPr>
          <a:xfrm>
            <a:off x="5029200" y="4038480"/>
            <a:ext cx="37339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нимательно прочитай вопрос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йди карточку с ответом    и вставь ее в кармашек рядом с вопр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ереверни работу и убери  карт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724280" y="1295280"/>
          <a:ext cx="4191120" cy="255276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2286000" y="1828800"/>
          <a:ext cx="2057400" cy="480060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11"/>
          <p:cNvSpPr/>
          <p:nvPr/>
        </p:nvSpPr>
        <p:spPr>
          <a:xfrm>
            <a:off x="5181480" y="3352680"/>
            <a:ext cx="3429000" cy="2971800"/>
          </a:xfrm>
          <a:prstGeom prst="hexagon">
            <a:avLst>
              <a:gd name="adj" fmla="val 28846"/>
              <a:gd name="vf" fmla="val 115470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2"/>
          <p:cNvSpPr/>
          <p:nvPr/>
        </p:nvSpPr>
        <p:spPr>
          <a:xfrm>
            <a:off x="1676520" y="3352680"/>
            <a:ext cx="3429000" cy="2971800"/>
          </a:xfrm>
          <a:prstGeom prst="hexagon">
            <a:avLst>
              <a:gd name="adj" fmla="val 28846"/>
              <a:gd name="vf" fmla="val 115470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0" y="380880"/>
            <a:ext cx="3429000" cy="2971800"/>
          </a:xfrm>
          <a:prstGeom prst="hexagon">
            <a:avLst>
              <a:gd name="adj" fmla="val 28846"/>
              <a:gd name="vf" fmla="val 115470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mayaaaqz4"/>
          <p:cNvPicPr/>
          <p:nvPr/>
        </p:nvPicPr>
        <p:blipFill>
          <a:blip r:embed="rId1"/>
          <a:stretch/>
        </p:blipFill>
        <p:spPr>
          <a:xfrm>
            <a:off x="5486400" y="152280"/>
            <a:ext cx="3193920" cy="34005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838080" y="10666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Я узнал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057400" y="4191120"/>
            <a:ext cx="2666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аучилас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5638680" y="3886200"/>
            <a:ext cx="2743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годится это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3" descr="1000588122"/>
          <p:cNvPicPr/>
          <p:nvPr/>
        </p:nvPicPr>
        <p:blipFill>
          <a:blip r:embed="rId2"/>
          <a:stretch/>
        </p:blipFill>
        <p:spPr>
          <a:xfrm>
            <a:off x="3505320" y="0"/>
            <a:ext cx="1946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8"/>
          <p:cNvSpPr/>
          <p:nvPr/>
        </p:nvSpPr>
        <p:spPr>
          <a:xfrm>
            <a:off x="3505320" y="762120"/>
            <a:ext cx="5410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Желаю вам боль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спехов в учеб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о новых встре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 занятиях технологи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0" descr=""/>
          <p:cNvPicPr/>
          <p:nvPr/>
        </p:nvPicPr>
        <p:blipFill>
          <a:blip r:embed="rId1"/>
          <a:stretch/>
        </p:blipFill>
        <p:spPr>
          <a:xfrm rot="19362000">
            <a:off x="-304560" y="685440"/>
            <a:ext cx="4648320" cy="3871800"/>
          </a:xfrm>
          <a:prstGeom prst="rect">
            <a:avLst/>
          </a:prstGeom>
          <a:ln w="0">
            <a:noFill/>
          </a:ln>
        </p:spPr>
      </p:pic>
      <p:pic>
        <p:nvPicPr>
          <p:cNvPr id="377" name="mainphoto" descr="http://ph.files.7ja.ru/7ya-photo/2007/12/10/1197304021234.jpg"/>
          <p:cNvPicPr/>
          <p:nvPr/>
        </p:nvPicPr>
        <p:blipFill>
          <a:blip r:embed="rId2"/>
          <a:srcRect l="0" t="17087" r="-1335" b="14592"/>
          <a:stretch/>
        </p:blipFill>
        <p:spPr>
          <a:xfrm>
            <a:off x="2590920" y="4419720"/>
            <a:ext cx="4800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2441160" y="18252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начение слова «Техно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590920" y="1371600"/>
            <a:ext cx="6172200" cy="1008720"/>
          </a:xfrm>
          <a:prstGeom prst="rect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ая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дисциплина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зучающая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спосо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работки материалов,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изготовление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лий и процессы, сопровождающие эти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виды рабо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90920" y="2895480"/>
            <a:ext cx="6248160" cy="703800"/>
          </a:xfrm>
          <a:prstGeom prst="rect">
            <a:avLst/>
          </a:prstGeom>
          <a:noFill/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Учебный предмет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одержащий теоретическ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основ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данной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590920" y="4191120"/>
            <a:ext cx="6324480" cy="703800"/>
          </a:xfrm>
          <a:prstGeom prst="rect">
            <a:avLst/>
          </a:prstGeom>
          <a:noFill/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Учебник,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лагающий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содерж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данного учебного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2590920" y="5638680"/>
            <a:ext cx="6324480" cy="703800"/>
          </a:xfrm>
          <a:prstGeom prst="rect">
            <a:avLst/>
          </a:prstGeom>
          <a:noFill/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Совокуп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иемов, применяемых в како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бо  деле, мастерстве, искус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2"/>
          <p:cNvSpPr txBox="1"/>
          <p:nvPr/>
        </p:nvSpPr>
        <p:spPr>
          <a:xfrm rot="5400000">
            <a:off x="-1371600" y="3657600"/>
            <a:ext cx="47246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800000"/>
                    </a:gs>
                    <a:gs pos="100000">
                      <a:srgbClr val="ffff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4d0000"/>
                  </a:outerShdw>
                </a:effectLst>
                <a:latin typeface="Times New Roman"/>
              </a:rPr>
              <a:t>Технологи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800000"/>
                  </a:gs>
                  <a:gs pos="100000">
                    <a:srgbClr val="ffffcc"/>
                  </a:gs>
                </a:gsLst>
                <a:lin ang="13500000"/>
              </a:gradFill>
              <a:effectLst>
                <a:outerShdw dist="17819" dir="2700000" blurRad="0" rotWithShape="0">
                  <a:srgbClr val="4d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219320" y="4114800"/>
            <a:ext cx="1218960" cy="1523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1219320" y="3352320"/>
            <a:ext cx="114300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1219320" y="3809880"/>
            <a:ext cx="1218960" cy="5335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1219320" y="2057040"/>
            <a:ext cx="1218960" cy="12193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648320" y="524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ехнология применима повсюду, где имеется достижение, стремление к результа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о появления технологии господствовало искусство — человек делал что-то, но это что-то получалось только у него, это как дар - дано или не да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 помощью же технологии все то, что доступно только избранным, одаренным (искусство), становится доступно вс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0b1f78f528e61"/>
          <p:cNvPicPr/>
          <p:nvPr/>
        </p:nvPicPr>
        <p:blipFill>
          <a:blip r:embed="rId1"/>
          <a:stretch/>
        </p:blipFill>
        <p:spPr>
          <a:xfrm>
            <a:off x="152280" y="152280"/>
            <a:ext cx="4496040" cy="6096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7"/>
          <p:cNvSpPr/>
          <p:nvPr/>
        </p:nvSpPr>
        <p:spPr>
          <a:xfrm>
            <a:off x="38088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умею  и  научу т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4572000" y="228600"/>
            <a:ext cx="4343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ехнология – предмет особ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 в жизни вам поможет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учит шить, вязать, гото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 даст советов милли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 тот, кто полностью изуч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сновы этого предм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награду знания получ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 много жизненных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челка Май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mayaaaqz4"/>
          <p:cNvPicPr/>
          <p:nvPr/>
        </p:nvPicPr>
        <p:blipFill>
          <a:blip r:embed="rId1"/>
          <a:stretch/>
        </p:blipFill>
        <p:spPr>
          <a:xfrm rot="303600">
            <a:off x="1274760" y="1463400"/>
            <a:ext cx="2935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mayaaaqz4"/>
          <p:cNvPicPr/>
          <p:nvPr/>
        </p:nvPicPr>
        <p:blipFill>
          <a:blip r:embed="rId2"/>
          <a:stretch/>
        </p:blipFill>
        <p:spPr>
          <a:xfrm>
            <a:off x="3657600" y="2057400"/>
            <a:ext cx="164628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то зашифровала пчелка Май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1066680" y="6094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143000" y="609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4191120" y="685800"/>
            <a:ext cx="53316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2514600" y="17524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1143000" y="2514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066680" y="43434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666880" y="33526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5715000" y="17524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7238880" y="762120"/>
            <a:ext cx="533520" cy="53316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4191120" y="4419720"/>
            <a:ext cx="533160" cy="53316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5715000" y="34290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7315200" y="2514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1"/>
          <p:cNvSpPr/>
          <p:nvPr/>
        </p:nvSpPr>
        <p:spPr>
          <a:xfrm>
            <a:off x="7391520" y="4419720"/>
            <a:ext cx="533160" cy="533160"/>
          </a:xfrm>
          <a:prstGeom prst="octagon">
            <a:avLst>
              <a:gd name="adj" fmla="val 29287"/>
            </a:avLst>
          </a:prstGeom>
          <a:solidFill>
            <a:srgbClr val="ffffa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121932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11430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2590920" y="1752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2743200" y="3352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267080" y="685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5791320" y="1752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4267080" y="4419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57913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716292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7238880" y="25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7315200" y="441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52280" y="76320"/>
            <a:ext cx="883944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АВИЛА ВНУТРЕННЕГО РАСПОРЯДКА В МАСТЕР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еся должны приходить на занятия за несколько минут до зво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ть в мастерскую организованно, только с разрешения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журные должны входить в мастерскую до звонка и подготавливать рабочие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началом занятия надеть спецодеж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деть на закрепленных местах, не вставать без разрешения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порядок и чистоту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жно относиться к оборудованию и инструмен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правила безопасности труда и санитарно-гигиенические треб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перемен выходить из мастер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кончании работы убрать свое рабоче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000588122"/>
          <p:cNvPicPr/>
          <p:nvPr/>
        </p:nvPicPr>
        <p:blipFill>
          <a:blip r:embed="rId1"/>
          <a:stretch/>
        </p:blipFill>
        <p:spPr>
          <a:xfrm>
            <a:off x="6164280" y="0"/>
            <a:ext cx="2979720" cy="373392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838080" y="22860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4d0000"/>
                  </a:outerShdw>
                </a:effectLst>
                <a:latin typeface="Times New Roman"/>
              </a:rPr>
              <a:t>Знакомство с учебник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53753" dir="2700000" blurRad="0" rotWithShape="0">
                  <a:srgbClr val="4d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4d0000"/>
                  </a:outerShdw>
                </a:effectLst>
                <a:latin typeface="Times New Roman"/>
              </a:rPr>
              <a:t>"Технология"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53753" dir="2700000" blurRad="0" rotWithShape="0">
                  <a:srgbClr val="4d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620120" y="1295280"/>
            <a:ext cx="12952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29718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3048120" y="5486400"/>
            <a:ext cx="152280" cy="152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3200400" y="5409720"/>
            <a:ext cx="228600" cy="2286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3017880" y="4038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3505320" y="4114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   Правила техники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3581280" y="47847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  Практ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 flipV="1" rot="10800000">
            <a:off x="3027240" y="594360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358128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  Опорн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581280" y="6019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  Вопросы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533520" y="1523880"/>
            <a:ext cx="548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ы:  Ю.В. Крупская, Н.И. Лебед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.В. Литикова, В.Д. Симон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7" descr="maya"/>
          <p:cNvPicPr/>
          <p:nvPr/>
        </p:nvPicPr>
        <p:blipFill>
          <a:blip r:embed="rId2"/>
          <a:srcRect l="6976" t="1163" r="0" b="0"/>
          <a:stretch/>
        </p:blipFill>
        <p:spPr>
          <a:xfrm>
            <a:off x="0" y="3429000"/>
            <a:ext cx="3048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14</cp:lastModifiedBy>
  <dcterms:modified xsi:type="dcterms:W3CDTF">2018-09-05T11:50:2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