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7FFA-AACC-4EE9-968E-59897367C1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9E34-949E-417E-8C50-1FBA6A92B9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7BB8-F2C3-40D5-83D6-58EDF0C4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E4F4-B441-4743-B77B-6105D521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6129-A804-4D2E-8811-6A01CCCD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9019-9160-44EE-8613-433A0533E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9D3B-A07F-4AB6-8B15-9E0C7C06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A35B-BE97-4FBF-9C1C-48659339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E6B0-B5BB-4BDC-9442-1C4BAA53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A7AD-06FA-4256-B924-AD5DC2EA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81DA-9543-4B1C-B72A-1DB823E6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79E2-AB0F-476C-B675-93C4CBBD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FB16-6848-4DD6-B8A3-E3290A65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4D20-554B-451E-B347-64D30827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4F4E-F643-44A4-9B78-68D85CC3B9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Презентация по проекту </a:t>
            </a:r>
            <a:br>
              <a:rPr sz="4000"/>
            </a:b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«Домашние животные </a:t>
            </a:r>
            <a:br>
              <a:rPr sz="4000"/>
            </a:b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в моей семье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23920" y="4343400"/>
            <a:ext cx="39625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i (1)"/>
          <p:cNvPicPr/>
          <p:nvPr/>
        </p:nvPicPr>
        <p:blipFill>
          <a:blip r:embed="rId1"/>
          <a:stretch/>
        </p:blipFill>
        <p:spPr>
          <a:xfrm>
            <a:off x="822240" y="2895480"/>
            <a:ext cx="339408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Художественное твор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7" descr=""/>
          <p:cNvPicPr/>
          <p:nvPr/>
        </p:nvPicPr>
        <p:blipFill>
          <a:blip r:embed="rId1"/>
          <a:stretch/>
        </p:blipFill>
        <p:spPr>
          <a:xfrm>
            <a:off x="1736640" y="1603440"/>
            <a:ext cx="5370480" cy="77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6"/>
          <p:cNvSpPr txBox="1"/>
          <p:nvPr/>
        </p:nvSpPr>
        <p:spPr>
          <a:xfrm>
            <a:off x="3200400" y="457200"/>
            <a:ext cx="3048120" cy="771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нец!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73" name="Picture 4" descr="i (4)"/>
          <p:cNvPicPr/>
          <p:nvPr/>
        </p:nvPicPr>
        <p:blipFill>
          <a:blip r:embed="rId1"/>
          <a:stretch/>
        </p:blipFill>
        <p:spPr>
          <a:xfrm>
            <a:off x="2514600" y="1371600"/>
            <a:ext cx="4267080" cy="38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Информационная ка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66"/>
                </a:solidFill>
                <a:uFillTx/>
                <a:latin typeface="Times New Roman"/>
              </a:rPr>
              <a:t>Проект «Домашние животные в моей семь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Продолжительность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: краткосрочный 5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Тип проекта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: познавательно - исследователь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Участники проекта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: дети, родители, воспитат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Возраст детей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:  (5-6 л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Актуальность: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 представить нашу жизнь без собак, кошек, хомяков, черепах, попугаев, рыбок - без домашних животных. Мы привыкли к четвероногим друзьям. Они живут рядом, отдают нам свою привязанность, тепло, ласку, побуждая в наших сердцах благодарность и добр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Цель проекта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: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витие экологического сознания дошкольников и формирование осознанно правильного отношения к представителям животного мира через различные виды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66"/>
                </a:solidFill>
                <a:uFillTx/>
                <a:latin typeface="Times New Roman"/>
              </a:rPr>
              <a:t>Задачи проекта</a:t>
            </a:r>
            <a:r>
              <a:rPr b="1" i="1" lang="ru-RU" sz="3200" spc="-1" strike="noStrike" u="sng">
                <a:solidFill>
                  <a:srgbClr val="000066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Для дет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бразовательные: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Формировать интерес к познавательной деятель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Расширять знания детей о домашних животных, о жизненных проявлениях, их повадках и условиях содерж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овершенствовать знания детей о безопасном поведении с живот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родолжать работу по обогащению словаря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развивать диалогическую речь детей, навыки общ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Развивающие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развивать наблюдательность, умственные способности, творчество, креативность, любозна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оспитатель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оспитывать заботливое и ответственное отношение к домашним живот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П –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ГОТОВИТЕ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чем нужны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е питомц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почему собаки кусаются; зачем человек приручил животных; почему у животных разные хвосты; почему у кошки на лапках мягкие подушечки; как ухаживать за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ми питомцам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бучающие вопросы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х животных можно держать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какова роль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х питомцев в жизни люд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что мы можем дать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м питомца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удожественная литератур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рвая охота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. Бианки;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шка, гулявшая сама по себе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. Киплинг; «Кто сказал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яу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Сутеев;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 кошку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. Приходько;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тенок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. Берестов;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пор животных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. Ушинский;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Щенок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. Логер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и с участием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х питомце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дки о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х питомца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, пазлы, подвижные игры,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струирова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знаю названия 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х питомцев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то у кого?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то чем питается?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го не хватает?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кончи предложение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шк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бак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еныш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ыши и кот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удка для собак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то я, угадай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– ОСНОВНОЙ, ПРАК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детьми иллюстраций: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ире кошек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твероногий друг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е животные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с детьми художественной литерату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дидактических игр, физминуток, подвижных иг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еседы с детьм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е животные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богатить знания детей о 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х животны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х образе жизни, роли в жизни людей);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ы в ответе за тех, кого приручили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воспитывать у детей бережное отношение к домашним животных, чувство ответственности);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авила безопасности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чить детей правилам собственной безопасности при обращении с животными;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ни такие разные…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пополнить знания детей о домашних животных на примере кошки и собаки);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ш друг – собака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ассказать детям о роли собак в жизни человека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й ласковый и нежный зверь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расширить знания детей о кошках, развивать познавательный интере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гадывание загадок о домашних живот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бота с родителям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- Папка - передвихка для родителе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Животные – лучшие терапевты для вас и ваших детей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частие в оформлении фотовыставки (фотографии детей с домашними животными, подготовка рассказов о своих живот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- ЗАКЛЮЧИТЕ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отовыстав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е животные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ставка рисунков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е животные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вместная работа родителей и детей по составлению рассказов о своих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х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 по проек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наш проект способствовал вовлечению в активную работу детей, родителей и педагогов, развитию познавательного общения со взрослыми, поощрению познавательной активности, поддерживанию стремления к положительным поступкам и ответственности за домашнего живот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11"/>
          <p:cNvSpPr txBox="1"/>
          <p:nvPr/>
        </p:nvSpPr>
        <p:spPr>
          <a:xfrm>
            <a:off x="2057400" y="152280"/>
            <a:ext cx="5372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граем в подвижные игры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" name="Объект 4" descr=""/>
          <p:cNvPicPr/>
          <p:nvPr/>
        </p:nvPicPr>
        <p:blipFill>
          <a:blip r:embed="rId1"/>
          <a:stretch/>
        </p:blipFill>
        <p:spPr>
          <a:xfrm>
            <a:off x="914400" y="3938760"/>
            <a:ext cx="3124080" cy="2187360"/>
          </a:xfrm>
          <a:prstGeom prst="rect">
            <a:avLst/>
          </a:prstGeom>
          <a:ln w="0">
            <a:noFill/>
          </a:ln>
        </p:spPr>
      </p:pic>
      <p:pic>
        <p:nvPicPr>
          <p:cNvPr id="63" name="Объект 3" descr=""/>
          <p:cNvPicPr/>
          <p:nvPr/>
        </p:nvPicPr>
        <p:blipFill>
          <a:blip r:embed="rId2"/>
          <a:stretch/>
        </p:blipFill>
        <p:spPr>
          <a:xfrm>
            <a:off x="6095880" y="1600200"/>
            <a:ext cx="2667240" cy="21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Объект 4" descr=""/>
          <p:cNvPicPr/>
          <p:nvPr/>
        </p:nvPicPr>
        <p:blipFill>
          <a:blip r:embed="rId1"/>
          <a:stretch/>
        </p:blipFill>
        <p:spPr>
          <a:xfrm>
            <a:off x="1657440" y="1600200"/>
            <a:ext cx="1638360" cy="2185920"/>
          </a:xfrm>
          <a:prstGeom prst="rect">
            <a:avLst/>
          </a:prstGeom>
          <a:ln w="0">
            <a:noFill/>
          </a:ln>
        </p:spPr>
      </p:pic>
      <p:pic>
        <p:nvPicPr>
          <p:cNvPr id="66" name="Объект 7" descr=""/>
          <p:cNvPicPr/>
          <p:nvPr/>
        </p:nvPicPr>
        <p:blipFill>
          <a:blip r:embed="rId2"/>
          <a:stretch/>
        </p:blipFill>
        <p:spPr>
          <a:xfrm>
            <a:off x="5576760" y="1600200"/>
            <a:ext cx="2181240" cy="2185920"/>
          </a:xfrm>
          <a:prstGeom prst="rect">
            <a:avLst/>
          </a:prstGeom>
          <a:ln w="0">
            <a:noFill/>
          </a:ln>
        </p:spPr>
      </p:pic>
      <p:pic>
        <p:nvPicPr>
          <p:cNvPr id="67" name="Объект 8" descr=""/>
          <p:cNvPicPr/>
          <p:nvPr/>
        </p:nvPicPr>
        <p:blipFill>
          <a:blip r:embed="rId3"/>
          <a:stretch/>
        </p:blipFill>
        <p:spPr>
          <a:xfrm>
            <a:off x="1657440" y="3938760"/>
            <a:ext cx="1638360" cy="2187360"/>
          </a:xfrm>
          <a:prstGeom prst="rect">
            <a:avLst/>
          </a:prstGeom>
          <a:ln w="0">
            <a:noFill/>
          </a:ln>
        </p:spPr>
      </p:pic>
      <p:pic>
        <p:nvPicPr>
          <p:cNvPr id="68" name="Объект 11" descr=""/>
          <p:cNvPicPr/>
          <p:nvPr/>
        </p:nvPicPr>
        <p:blipFill>
          <a:blip r:embed="rId4"/>
          <a:stretch/>
        </p:blipFill>
        <p:spPr>
          <a:xfrm>
            <a:off x="5848200" y="3938760"/>
            <a:ext cx="1638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uhter162@outlook.com</cp:lastModifiedBy>
  <dcterms:modified xsi:type="dcterms:W3CDTF">2022-12-07T09:28:41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