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8B5D-83C0-4B71-9797-E29C9FA4C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98B3-7250-4D23-B4B4-BCB69867E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952-76AF-469F-8376-062A2ECB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F70-FBF6-425A-8B11-DD723612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0F1-DEF0-470E-A151-B34B77A2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A53-83CA-45CF-B75B-C39A2086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89F-2CDF-4C5A-A7D5-3FB35599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2BD-4877-4E28-868E-F24C2C40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6E7-3384-4EED-A02F-7290A0B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20A-7A00-4B2B-BACF-ECEC867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77E-8F57-42B6-BACE-F43BFFFA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2CF-A0FE-4B72-BD6A-68A613E7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1F2-A28E-4CF8-BEC3-948E3B51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34A-F6D2-47B5-AB06-55F83F4B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E59E-453E-48E3-A826-5BE247C93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Презентация по проекту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«Домашние животные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в моей семь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23920" y="4343400"/>
            <a:ext cx="396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 (1)"/>
          <p:cNvPicPr/>
          <p:nvPr/>
        </p:nvPicPr>
        <p:blipFill>
          <a:blip r:embed="rId1"/>
          <a:stretch/>
        </p:blipFill>
        <p:spPr>
          <a:xfrm>
            <a:off x="822240" y="2895480"/>
            <a:ext cx="33940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Художественное 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1"/>
          <a:stretch/>
        </p:blipFill>
        <p:spPr>
          <a:xfrm>
            <a:off x="1736640" y="1603440"/>
            <a:ext cx="5370480" cy="77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3200400" y="457200"/>
            <a:ext cx="3048120" cy="77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нец!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3" name="Picture 4" descr="i (4)"/>
          <p:cNvPicPr/>
          <p:nvPr/>
        </p:nvPicPr>
        <p:blipFill>
          <a:blip r:embed="rId1"/>
          <a:stretch/>
        </p:blipFill>
        <p:spPr>
          <a:xfrm>
            <a:off x="2514600" y="1371600"/>
            <a:ext cx="426708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нформационн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Проект «Домашние животные в моей сем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родолжительность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краткосрочный 5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Тип проект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познавательно - исследовате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Участники проект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дети, родители, воспита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озраст детей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 (5-6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Актуальность: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представить нашу жизнь без собак, кошек, хомяков, черепах, попугаев, рыбок - без домашних животных. Мы привыкли к четвероногим друзьям. Они живут рядом, отдают нам свою привязанность, тепло, ласку, побуждая в наших сердцах благодарность и добр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экологического сознания дошкольников и формирование осознанно правильного отношения к представителям животного мира через различн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Задачи проекта</a:t>
            </a: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Для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бразовательные: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ормировать интерес к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сширять знания детей о домашних животных, о жизненных проявлениях, их повадках и условиях содерж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овершенствовать знания детей о безопасном поведении с живот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одолжать работу по обогащению словаря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вивать диалогическую речь детей, навыки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азвивающ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вивать наблюдательность, умственные способности, творчество, креативность, любозна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оспитывать заботливое и ответственное отношение к домашним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 –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нужны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питом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почему собаки кусаются; зачем человек приручил животных; почему у животных разные хвосты; почему у кошки на лапках мягкие подушечки; как ухаживать з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ми питомц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учающие вопросы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животных можно держать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какова роль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питомцев в жизни люд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что мы можем дать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м питомц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удожественная 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вая охот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. Бианки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шка, гулявшая сама по себ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. Киплинг; «Кто сказал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яу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Сутеев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кошку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. Приходько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тенок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. Берестов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ор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. Ушинский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енок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. Логер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с участием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питомце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питомц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, пазлы, подвижные игры,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тру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знаю названия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питомцев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у кого?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чем питается?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го не хватает?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ончи предложени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шк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ак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еныш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ши и кот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удка для собак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я, угада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– ОСНОВНОЙ, ПРА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детьми иллюстраций: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ре кошек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твероногий друг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животны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 детьми художественной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дидактических игр, физминуток, подвижных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еды с деть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животны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огатить знания детей 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живот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х образе жизни, роли в жизни людей);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в ответе за тех, кого приручил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воспитывать у детей бережное отношение к домашним животных, чувство ответственности);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ила безопасност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ить детей правилам собственной безопасности при обращении с животными;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ни такие разные…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пополнить знания детей о домашних животных на примере кошки и собаки);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 друг – собак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сказать детям о роли собак в жизни человека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й ласковый и нежный зверь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расширить знания детей о кошках, развивать познавательный интер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вание загадок о домашни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с родителя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Папка - передвихка для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отные – лучшие терапевты для вас и ваших детей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астие в оформлении фотовыставки (фотографии детей с домашними животными, подготовка рассказов о свои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- ЗАКЛЮЧ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товыста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живо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ставка рисунков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живо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вместная работа родителей и детей по составлению рассказов о своих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 по про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наш проект способствовал вовлечению в активную работу детей, родителей и педагогов, развитию познавательного общения со взрослыми, поощрению познавательной активности, поддерживанию стремления к положительным поступкам и ответственности за домашнего живо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11"/>
          <p:cNvSpPr txBox="1"/>
          <p:nvPr/>
        </p:nvSpPr>
        <p:spPr>
          <a:xfrm>
            <a:off x="2057400" y="152280"/>
            <a:ext cx="5372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ем в подвижные игры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31240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266724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4" descr=""/>
          <p:cNvPicPr/>
          <p:nvPr/>
        </p:nvPicPr>
        <p:blipFill>
          <a:blip r:embed="rId1"/>
          <a:stretch/>
        </p:blipFill>
        <p:spPr>
          <a:xfrm>
            <a:off x="1657440" y="1600200"/>
            <a:ext cx="163836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Объект 7" descr=""/>
          <p:cNvPicPr/>
          <p:nvPr/>
        </p:nvPicPr>
        <p:blipFill>
          <a:blip r:embed="rId2"/>
          <a:stretch/>
        </p:blipFill>
        <p:spPr>
          <a:xfrm>
            <a:off x="5576760" y="1600200"/>
            <a:ext cx="218124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8" descr=""/>
          <p:cNvPicPr/>
          <p:nvPr/>
        </p:nvPicPr>
        <p:blipFill>
          <a:blip r:embed="rId3"/>
          <a:stretch/>
        </p:blipFill>
        <p:spPr>
          <a:xfrm>
            <a:off x="1657440" y="3938760"/>
            <a:ext cx="1638360" cy="218736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11" descr=""/>
          <p:cNvPicPr/>
          <p:nvPr/>
        </p:nvPicPr>
        <p:blipFill>
          <a:blip r:embed="rId4"/>
          <a:stretch/>
        </p:blipFill>
        <p:spPr>
          <a:xfrm>
            <a:off x="5848200" y="3938760"/>
            <a:ext cx="1638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hter162@outlook.com</cp:lastModifiedBy>
  <dcterms:modified xsi:type="dcterms:W3CDTF">2022-12-07T09:28:4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