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8935-1BDF-4ADC-8078-FB54A219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6E09-E7BA-4A57-9724-B16C5620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74F2-4C1E-4288-8E6E-B8E04F1B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F6AB-B338-476A-A73B-CA966169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BA88-C97D-40B2-BF85-B8BF47FB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637B-77EC-445C-BC91-C9625877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23CC-2764-4738-B508-CF20F460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4396-0358-4877-BA9F-F2D7DA25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F11C-A669-427E-8126-859E96E9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8DCF-9B88-4F92-90C5-1FECD00E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0520-1B65-4E5D-A5AF-46E9FFDD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7E1-5DF1-454D-AAA7-296B44C9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0E0C-8D5D-45C9-985F-AFA506BE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16F4-AEC2-42D1-A183-B28D56E2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C954-2F54-436A-92DB-0033284E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2CC5-2E1D-48F9-8A0A-0924A017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0926-1C86-4635-BFC6-A9AC1882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4659A-E5A7-4D21-8897-E97C8AE3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7C33F-6E97-41FC-B1FC-2D439D90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56313-6301-44A7-B15C-937B29F4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1E524-EC61-4AB9-A9CB-1A480E70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2D94E-13B8-47ED-9929-BAB6226B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E54E-6DBE-4602-BC66-120387CA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6C826-3CBF-4B42-830F-B72F7B2B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0DA2D-CC3C-4660-BC12-F51CDC79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68AEA-A65B-44F2-9531-033F5D63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4F5C0-DECC-46C0-825F-93B65C1B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5AD7F-9ED0-4B4C-83FF-7EA7D972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A8E61-DB08-4D5D-89DF-99EBBF14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43221-DDDD-4262-B9F9-5F0C5824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C9A24-D402-43E3-9A4F-23AB9245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E4DC8-B5D0-44FF-8CC7-EA6E132B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73F4C-E989-4F68-A60D-EBF32FEB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74F-B2C5-4719-8DC7-4B287A35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C4160-393D-4067-AD50-026E296A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1372F-DE16-4C99-9D59-B6832985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CB53F-3E65-432C-AD6F-56369BA1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5E320-C3E4-415C-A644-FE855F7B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21B3E-AC5B-43A4-A836-1E7BD15E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C250E-302B-4E97-8F3B-5E586BBD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03D0C-9704-484B-8896-64A73187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04D13-89E0-4572-8445-61D70A15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F8545-2B1E-434D-A455-298B2E38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4F8F-D817-4F2E-AFC5-7DE2C5D2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6B8B-DDD4-4F59-8FBB-9CD8EBA9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6B9E-E187-456A-842A-841DB6E1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6C58-A32F-4A67-A5BC-07BFCB97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FE4C-358C-41B4-88C4-04D3C56D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AD27-F2DE-47DB-B443-97CEF912EF2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0BB7-AFF6-494C-85DE-16BB7E55455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E31F-4FEF-48DD-93B6-B47003C103D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1AF8-BED5-4A4A-92B5-D47E5038CE7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Trebuchet MS"/>
              </a:rPr>
              <a:t>Экология Кузбасса: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8728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rebuchet MS"/>
              </a:rPr>
              <a:t>Заповедники Кузбасс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4" name="Picture 4" descr="karta-rossii"/>
          <p:cNvPicPr/>
          <p:nvPr/>
        </p:nvPicPr>
        <p:blipFill>
          <a:blip r:embed="rId1"/>
          <a:stretch/>
        </p:blipFill>
        <p:spPr>
          <a:xfrm>
            <a:off x="1187280" y="2637000"/>
            <a:ext cx="66675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250920" y="1890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Кемеровская область расположена в южной части Западной Сибири, образована 26 января 1943 года.</a:t>
            </a:r>
            <a:br>
              <a:rPr sz="2600"/>
            </a:b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     Площадь 95,7 тысяч кв. километров, население 2885 тысяч человек.</a:t>
            </a:r>
            <a:br>
              <a:rPr sz="2600"/>
            </a:b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     В Кемеровской области 20 городов, 19 районов. Административный центр области – город Кемерово.</a:t>
            </a:r>
            <a:br>
              <a:rPr sz="2600"/>
            </a:b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     Большинство населения проживает в городах. Живут русские, шорцы, татары, украинцы, чуваши, немцы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95280" y="4221000"/>
          <a:ext cx="8064360" cy="2286000"/>
        </p:xfrm>
        <a:graphic>
          <a:graphicData uri="http://schemas.openxmlformats.org/drawingml/2006/table">
            <a:tbl>
              <a:tblPr/>
              <a:tblGrid>
                <a:gridCol w="1343160"/>
                <a:gridCol w="1346040"/>
                <a:gridCol w="1344600"/>
                <a:gridCol w="1341360"/>
                <a:gridCol w="1346400"/>
                <a:gridCol w="134280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67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                                                                                              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Кузнецкий Алата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                                                                                 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       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Горная Ш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                                                                                             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Салаирский кря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17" name="Picture 11" descr="Kraeve1-27-07-2010"/>
          <p:cNvPicPr/>
          <p:nvPr/>
        </p:nvPicPr>
        <p:blipFill>
          <a:blip r:embed="rId1"/>
          <a:stretch/>
        </p:blipFill>
        <p:spPr>
          <a:xfrm>
            <a:off x="755640" y="450864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Kraeve2-27-07-2010"/>
          <p:cNvPicPr/>
          <p:nvPr/>
        </p:nvPicPr>
        <p:blipFill>
          <a:blip r:embed="rId2"/>
          <a:stretch/>
        </p:blipFill>
        <p:spPr>
          <a:xfrm>
            <a:off x="3492360" y="450864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Kraeve3-27-07-2010"/>
          <p:cNvPicPr/>
          <p:nvPr/>
        </p:nvPicPr>
        <p:blipFill>
          <a:blip r:embed="rId3"/>
          <a:stretch/>
        </p:blipFill>
        <p:spPr>
          <a:xfrm>
            <a:off x="6227640" y="45813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 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еки – Томь, Кондома, Мрас-Су, Иня, Кия, Сары-Чумыш.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    Протяжённость области с севера на юг почти 500 км, с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запада  на восток – 300 км.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    Наивысшая точка – голец Верхний Зуб поднимается на 2178 м, наименьшая – 78 м над уровнем моря лежит в долине реки Томи.      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300480" y="-6369120"/>
          <a:ext cx="833400" cy="19599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19599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92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                                                                                         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Долина реки Том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92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                                                                                         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Кузнецкая котлови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92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                                                                                         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Западно-Сибирская равни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2" name="Picture 5" descr="Kraeve4-27-07-2010"/>
          <p:cNvPicPr/>
          <p:nvPr/>
        </p:nvPicPr>
        <p:blipFill>
          <a:blip r:embed="rId1"/>
          <a:stretch/>
        </p:blipFill>
        <p:spPr>
          <a:xfrm>
            <a:off x="3390840" y="-61707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Kraeve5-27-07-2010"/>
          <p:cNvPicPr/>
          <p:nvPr/>
        </p:nvPicPr>
        <p:blipFill>
          <a:blip r:embed="rId2"/>
          <a:stretch/>
        </p:blipFill>
        <p:spPr>
          <a:xfrm>
            <a:off x="3755880" y="-61707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Kraeve6-27-07-2010"/>
          <p:cNvPicPr/>
          <p:nvPr/>
        </p:nvPicPr>
        <p:blipFill>
          <a:blip r:embed="rId3"/>
          <a:stretch/>
        </p:blipFill>
        <p:spPr>
          <a:xfrm>
            <a:off x="3938760" y="-61707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5" descr="Kraeve4-27-07-2010"/>
          <p:cNvPicPr/>
          <p:nvPr/>
        </p:nvPicPr>
        <p:blipFill>
          <a:blip r:embed="rId4"/>
          <a:stretch/>
        </p:blipFill>
        <p:spPr>
          <a:xfrm>
            <a:off x="3390840" y="-61707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7" descr="Kraeve5-27-07-2010"/>
          <p:cNvPicPr/>
          <p:nvPr/>
        </p:nvPicPr>
        <p:blipFill>
          <a:blip r:embed="rId5"/>
          <a:stretch/>
        </p:blipFill>
        <p:spPr>
          <a:xfrm>
            <a:off x="3755880" y="-61707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9" descr="Kraeve6-27-07-2010"/>
          <p:cNvPicPr/>
          <p:nvPr/>
        </p:nvPicPr>
        <p:blipFill>
          <a:blip r:embed="rId6"/>
          <a:stretch/>
        </p:blipFill>
        <p:spPr>
          <a:xfrm>
            <a:off x="3938760" y="-6170760"/>
            <a:ext cx="1904760" cy="14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971640" y="3357720"/>
          <a:ext cx="7932600" cy="2835000"/>
        </p:xfrm>
        <a:graphic>
          <a:graphicData uri="http://schemas.openxmlformats.org/drawingml/2006/table">
            <a:tbl>
              <a:tblPr/>
              <a:tblGrid>
                <a:gridCol w="1995480"/>
                <a:gridCol w="1977840"/>
                <a:gridCol w="1981440"/>
                <a:gridCol w="1977840"/>
              </a:tblGrid>
              <a:tr h="2847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                                                                 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  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Долина реки Том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узнецкая котлов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дно-Сибирская равни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9" name="Picture 45" descr="Kraeve4-27-07-2010"/>
          <p:cNvPicPr/>
          <p:nvPr/>
        </p:nvPicPr>
        <p:blipFill>
          <a:blip r:embed="rId7"/>
          <a:stretch/>
        </p:blipFill>
        <p:spPr>
          <a:xfrm>
            <a:off x="971640" y="3789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7" descr="Kraeve5-27-07-2010"/>
          <p:cNvPicPr/>
          <p:nvPr/>
        </p:nvPicPr>
        <p:blipFill>
          <a:blip r:embed="rId8"/>
          <a:stretch/>
        </p:blipFill>
        <p:spPr>
          <a:xfrm>
            <a:off x="3059280" y="3789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9" descr="Kraeve6-27-07-2010"/>
          <p:cNvPicPr/>
          <p:nvPr/>
        </p:nvPicPr>
        <p:blipFill>
          <a:blip r:embed="rId9"/>
          <a:stretch/>
        </p:blipFill>
        <p:spPr>
          <a:xfrm>
            <a:off x="5796000" y="37893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9528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олее половины площади Кемеровской области покрыто хвойными лесами, в которых преобладают пихта, кедр, сосна, ель. Леса из пихты, ели и кедра называют черневой тайгой, так как они имеют тёмную хвою.    Растительность весьма разнообразна. На горных вершинах встречаются растения тундры и альпийских лугов, среднегорье и низкогорье поросло пихтово-осиновыми лесами с реликтовыми растениями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     Предгорья и межгорные котловины заняты растительностью степей и лесостепей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-1081080" y="-25252200"/>
          <a:ext cx="208080" cy="575546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63474120">
                <a:tc>
                  <a:txBody>
                    <a:bodyPr tIns="52920" bIns="52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255d06"/>
                          </a:solidFill>
                          <a:latin typeface="Bookman Old Style"/>
                        </a:rPr>
                        <a:t>Более половины площади Кемеровской области покрыто хвойными лесами, в которых преобладают пихта, кедр, сосна, ель. Леса из пихты, ели и кедра называют черневой тайгой, так как они имеют тёмную хвою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8760">
                <a:tc>
                  <a:txBody>
                    <a:bodyPr tIns="52920" bIns="5292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-1071720" y="29216520"/>
          <a:ext cx="11298240" cy="2895480"/>
        </p:xfrm>
        <a:graphic>
          <a:graphicData uri="http://schemas.openxmlformats.org/drawingml/2006/table">
            <a:tbl>
              <a:tblPr/>
              <a:tblGrid>
                <a:gridCol w="1482840"/>
                <a:gridCol w="3110040"/>
                <a:gridCol w="3109680"/>
                <a:gridCol w="3595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3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                                                                  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Пих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3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                                                                  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Сос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3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                                                                  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Кед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3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Bookman Old Style"/>
                        </a:rPr>
                        <a:t>                   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5" name="Picture 10" descr="Kraeve18-27-07-2010"/>
          <p:cNvPicPr/>
          <p:nvPr/>
        </p:nvPicPr>
        <p:blipFill>
          <a:blip r:embed="rId1"/>
          <a:stretch/>
        </p:blipFill>
        <p:spPr>
          <a:xfrm>
            <a:off x="-925560" y="29627640"/>
            <a:ext cx="1428840" cy="2066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Kraeve19-27-07-2010"/>
          <p:cNvPicPr/>
          <p:nvPr/>
        </p:nvPicPr>
        <p:blipFill>
          <a:blip r:embed="rId2"/>
          <a:stretch/>
        </p:blipFill>
        <p:spPr>
          <a:xfrm>
            <a:off x="546120" y="29627640"/>
            <a:ext cx="1428840" cy="206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Kraeve20-27-07-2010"/>
          <p:cNvPicPr/>
          <p:nvPr/>
        </p:nvPicPr>
        <p:blipFill>
          <a:blip r:embed="rId3"/>
          <a:stretch/>
        </p:blipFill>
        <p:spPr>
          <a:xfrm>
            <a:off x="3656160" y="29627640"/>
            <a:ext cx="1428480" cy="2066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Kraeve21-27-07-2010"/>
          <p:cNvPicPr/>
          <p:nvPr/>
        </p:nvPicPr>
        <p:blipFill>
          <a:blip r:embed="rId4"/>
          <a:stretch/>
        </p:blipFill>
        <p:spPr>
          <a:xfrm>
            <a:off x="6781680" y="29627640"/>
            <a:ext cx="1428840" cy="2066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5" descr="Kraeve18-27-07-2010"/>
          <p:cNvPicPr/>
          <p:nvPr/>
        </p:nvPicPr>
        <p:blipFill>
          <a:blip r:embed="rId5"/>
          <a:stretch/>
        </p:blipFill>
        <p:spPr>
          <a:xfrm>
            <a:off x="971640" y="3716280"/>
            <a:ext cx="1428840" cy="2067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7" descr="Kraeve19-27-07-2010"/>
          <p:cNvPicPr/>
          <p:nvPr/>
        </p:nvPicPr>
        <p:blipFill>
          <a:blip r:embed="rId6"/>
          <a:stretch/>
        </p:blipFill>
        <p:spPr>
          <a:xfrm>
            <a:off x="2916360" y="3716280"/>
            <a:ext cx="1428480" cy="2067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9" descr="Kraeve20-27-07-2010"/>
          <p:cNvPicPr/>
          <p:nvPr/>
        </p:nvPicPr>
        <p:blipFill>
          <a:blip r:embed="rId7"/>
          <a:stretch/>
        </p:blipFill>
        <p:spPr>
          <a:xfrm>
            <a:off x="4859280" y="3716280"/>
            <a:ext cx="1428840" cy="2067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1" descr="Kraeve21-27-07-2010"/>
          <p:cNvPicPr/>
          <p:nvPr/>
        </p:nvPicPr>
        <p:blipFill>
          <a:blip r:embed="rId8"/>
          <a:stretch/>
        </p:blipFill>
        <p:spPr>
          <a:xfrm>
            <a:off x="6659640" y="3716280"/>
            <a:ext cx="1428840" cy="20671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62"/>
          <p:cNvSpPr/>
          <p:nvPr/>
        </p:nvSpPr>
        <p:spPr>
          <a:xfrm>
            <a:off x="684360" y="6021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хта                      сосна                     кедр                       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Среди лиственных пород деревьев преобладают осина, берёза, ива, рябина и липа.</a:t>
            </a:r>
            <a:br>
              <a:rPr sz="1900"/>
            </a:b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     Около 75% Кузбасских лесов сосредоточено в горах Кузнецкого Алатау и Горной Шории.      </a:t>
            </a:r>
            <a:br>
              <a:rPr sz="1900"/>
            </a:b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Берёза </a:t>
            </a:r>
            <a:br>
              <a:rPr sz="1900"/>
            </a:b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Рябина </a:t>
            </a:r>
            <a:br>
              <a:rPr sz="1900"/>
            </a:b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Осина </a:t>
            </a:r>
            <a:br>
              <a:rPr sz="1900"/>
            </a:b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Ива </a:t>
            </a:r>
            <a:br>
              <a:rPr sz="1900"/>
            </a:b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Липа      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   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  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Характерной растительностью южной лесостепи являются травы: ковыль, типчак, эспарцет, тонконог, полынь. Они растут обычно по оврагам, пустошам, межам. </a:t>
            </a:r>
            <a:br>
              <a:rPr sz="1900"/>
            </a:b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     В лесах и лесостепях Кемеровской области много дикорастущих плодовых и ягодных кустарников, грибо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Picture 5" descr="Kraeve22-27-07-2010"/>
          <p:cNvPicPr/>
          <p:nvPr/>
        </p:nvPicPr>
        <p:blipFill>
          <a:blip r:embed="rId1"/>
          <a:stretch/>
        </p:blipFill>
        <p:spPr>
          <a:xfrm>
            <a:off x="1835280" y="1989000"/>
            <a:ext cx="952200" cy="1419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Kraeve23-27-07-2010"/>
          <p:cNvPicPr/>
          <p:nvPr/>
        </p:nvPicPr>
        <p:blipFill>
          <a:blip r:embed="rId2"/>
          <a:stretch/>
        </p:blipFill>
        <p:spPr>
          <a:xfrm>
            <a:off x="3059280" y="1989000"/>
            <a:ext cx="952200" cy="1419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Kraeve24-27-07-2010"/>
          <p:cNvPicPr/>
          <p:nvPr/>
        </p:nvPicPr>
        <p:blipFill>
          <a:blip r:embed="rId3"/>
          <a:stretch/>
        </p:blipFill>
        <p:spPr>
          <a:xfrm>
            <a:off x="4356000" y="1989000"/>
            <a:ext cx="952560" cy="1419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Kraeve25-27-07-2010"/>
          <p:cNvPicPr/>
          <p:nvPr/>
        </p:nvPicPr>
        <p:blipFill>
          <a:blip r:embed="rId4"/>
          <a:stretch/>
        </p:blipFill>
        <p:spPr>
          <a:xfrm>
            <a:off x="7164360" y="1989000"/>
            <a:ext cx="952560" cy="1419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Kraeve26-27-07-2010"/>
          <p:cNvPicPr/>
          <p:nvPr/>
        </p:nvPicPr>
        <p:blipFill>
          <a:blip r:embed="rId5"/>
          <a:stretch/>
        </p:blipFill>
        <p:spPr>
          <a:xfrm>
            <a:off x="5724360" y="1989000"/>
            <a:ext cx="95256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 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настоящее время в водах Кузбасса обитает 43 вида рыб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     В Томи и Кии встречаются осётр сибирский, хариус, представляющие наибольшую хозяйственную ценность. Лов этих рыб запрещён. Водятся также щука, налим, окунь, пескарь, сазан, карась, лещ, карп и др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1" name="Picture 5" descr="Kraeve33"/>
          <p:cNvPicPr/>
          <p:nvPr/>
        </p:nvPicPr>
        <p:blipFill>
          <a:blip r:embed="rId1"/>
          <a:stretch/>
        </p:blipFill>
        <p:spPr>
          <a:xfrm>
            <a:off x="216000" y="4221000"/>
            <a:ext cx="1801800" cy="1257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Kraeve34"/>
          <p:cNvPicPr/>
          <p:nvPr/>
        </p:nvPicPr>
        <p:blipFill>
          <a:blip r:embed="rId2"/>
          <a:stretch/>
        </p:blipFill>
        <p:spPr>
          <a:xfrm>
            <a:off x="2050920" y="4221000"/>
            <a:ext cx="1441440" cy="1276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Kraeve35"/>
          <p:cNvPicPr/>
          <p:nvPr/>
        </p:nvPicPr>
        <p:blipFill>
          <a:blip r:embed="rId3"/>
          <a:stretch/>
        </p:blipFill>
        <p:spPr>
          <a:xfrm>
            <a:off x="3525840" y="4221000"/>
            <a:ext cx="1406520" cy="12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Kraeve36"/>
          <p:cNvPicPr/>
          <p:nvPr/>
        </p:nvPicPr>
        <p:blipFill>
          <a:blip r:embed="rId4"/>
          <a:stretch/>
        </p:blipFill>
        <p:spPr>
          <a:xfrm>
            <a:off x="4965840" y="4221000"/>
            <a:ext cx="1474560" cy="1276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Kraeve37"/>
          <p:cNvPicPr/>
          <p:nvPr/>
        </p:nvPicPr>
        <p:blipFill>
          <a:blip r:embed="rId5"/>
          <a:stretch/>
        </p:blipFill>
        <p:spPr>
          <a:xfrm>
            <a:off x="6473880" y="4221000"/>
            <a:ext cx="1266840" cy="12574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5" descr="Kraeve38"/>
          <p:cNvPicPr/>
          <p:nvPr/>
        </p:nvPicPr>
        <p:blipFill>
          <a:blip r:embed="rId6"/>
          <a:stretch/>
        </p:blipFill>
        <p:spPr>
          <a:xfrm>
            <a:off x="7740720" y="4221000"/>
            <a:ext cx="1403280" cy="127656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6"/>
          <p:cNvSpPr/>
          <p:nvPr/>
        </p:nvSpPr>
        <p:spPr>
          <a:xfrm>
            <a:off x="324000" y="580536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карь               осетр                налим               окунь           хариус              щ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 Кемеровской области обитает более 300 видов птиц, как оседлых, так и перелётных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     Самое видное положение среди хищных птиц занимает сокол (сапсан), встречаются также орёл-беркут и чёрный коршун. Филин, глухарь, дятел и рябчик широко распространены в лесной полосе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Picture 5" descr="Kraeve45"/>
          <p:cNvPicPr/>
          <p:nvPr/>
        </p:nvPicPr>
        <p:blipFill>
          <a:blip r:embed="rId1"/>
          <a:stretch/>
        </p:blipFill>
        <p:spPr>
          <a:xfrm>
            <a:off x="684360" y="4149720"/>
            <a:ext cx="952200" cy="1009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Kraeve46"/>
          <p:cNvPicPr/>
          <p:nvPr/>
        </p:nvPicPr>
        <p:blipFill>
          <a:blip r:embed="rId2"/>
          <a:stretch/>
        </p:blipFill>
        <p:spPr>
          <a:xfrm>
            <a:off x="1908000" y="4149720"/>
            <a:ext cx="952560" cy="1009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Kraeve47"/>
          <p:cNvPicPr/>
          <p:nvPr/>
        </p:nvPicPr>
        <p:blipFill>
          <a:blip r:embed="rId3"/>
          <a:stretch/>
        </p:blipFill>
        <p:spPr>
          <a:xfrm>
            <a:off x="3276720" y="4149720"/>
            <a:ext cx="952560" cy="1009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1" descr="Kraeve48"/>
          <p:cNvPicPr/>
          <p:nvPr/>
        </p:nvPicPr>
        <p:blipFill>
          <a:blip r:embed="rId4"/>
          <a:stretch/>
        </p:blipFill>
        <p:spPr>
          <a:xfrm>
            <a:off x="4643280" y="4149720"/>
            <a:ext cx="952560" cy="1009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3" descr="Kraeve49"/>
          <p:cNvPicPr/>
          <p:nvPr/>
        </p:nvPicPr>
        <p:blipFill>
          <a:blip r:embed="rId5"/>
          <a:stretch/>
        </p:blipFill>
        <p:spPr>
          <a:xfrm>
            <a:off x="5940360" y="4149720"/>
            <a:ext cx="952560" cy="1009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" descr="Kraeve50"/>
          <p:cNvPicPr/>
          <p:nvPr/>
        </p:nvPicPr>
        <p:blipFill>
          <a:blip r:embed="rId6"/>
          <a:stretch/>
        </p:blipFill>
        <p:spPr>
          <a:xfrm>
            <a:off x="7380360" y="4149720"/>
            <a:ext cx="952560" cy="1009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6"/>
          <p:cNvSpPr/>
          <p:nvPr/>
        </p:nvSpPr>
        <p:spPr>
          <a:xfrm>
            <a:off x="539640" y="551664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           орел                коршун       детел            глухарь          фи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6:03:22Z</dcterms:created>
  <dc:creator>Tatjana</dc:creator>
  <dc:description/>
  <dc:language>en-US</dc:language>
  <cp:lastModifiedBy>Учетная запись Майкрософт</cp:lastModifiedBy>
  <dcterms:modified xsi:type="dcterms:W3CDTF">2022-12-07T09:13:49Z</dcterms:modified>
  <cp:revision>6</cp:revision>
  <dc:subject/>
  <dc:title>Экология Кузбасса:</dc:title>
</cp:coreProperties>
</file>