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FF8-F6C9-40EC-965B-C1071F89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478-A4D3-4DDE-BFA9-49029431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031-0CCC-4C7D-A881-42332CCC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AB3-D07E-4181-A646-4EF40DE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5C18-25B5-43DA-B573-B41DA349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8FA3-5C2F-4EC0-B6AD-B51EFBB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71A-E630-4D7B-8ED7-74A3F0F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ABF-AB7A-48FE-B41C-129F8D6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02D-8731-4B51-91AD-964EA6F0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C06D-458B-470D-932B-30925B23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A29A-E500-48BC-8929-4F9DD6F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7C7-6E96-4ADC-B627-F4E2BB89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58D-4898-48BC-9FBF-D0FE483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497B-A72B-40C6-946A-9010E8E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22E6-ADFE-4E80-B25F-F188243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9899-6B4A-4DF8-9BA3-B39788D5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E88B-0C93-486F-9498-97964E72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F18A-2A3B-4EA3-9A02-5E332B7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AC95-3FFD-458F-818C-BA4D97A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3A52-4E83-46EF-8519-CA4765E0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8C90-C621-4CCA-ADF8-9549E6F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83A5-2B32-49F5-A15F-59DD014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063-EF9F-4EEE-B1D2-5000BD8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2FCF-5CB4-418C-8194-3569E9FD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60D5-D156-444C-B761-4E49CC0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70D3-E7D2-420E-B630-CD27CAD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96BF-206C-4CAE-8579-52A7974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B0FD-7AAC-4BA4-80E9-B41DB70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70B5-B863-448E-836C-0A063E43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801C-1F0B-4C42-A3F6-BBB02D43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D559-7F82-4F29-94FF-F650CEFE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EF51-5716-49DF-9A00-0E4479B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4F4B-CC40-459A-AAB4-C688914C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6AD-7D24-4E97-85D0-8C36BE2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8115-F333-4F01-B196-B30B3A49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3CB6-A79B-402E-B1FC-84468298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DE60-64A6-4DCD-8566-CB0B80A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4CD4-992F-4624-A89E-A1C6F2CF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03EE-530E-493E-967E-11018B2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393B-44A6-4FE8-A1F9-6BE2EBF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5D10-466D-47A4-9209-5F0870B5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3F22-473B-4B4A-B72B-DBFFA556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7AD4-0F28-4C56-879F-59B67D7A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21E-1BE4-45F1-9DF0-95DADF7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B73-B2C8-4DAA-97A2-C5F2D31B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27-3CB9-4892-84B1-7F76BBB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DB1-ABA3-4F77-9ED1-1E4960BF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123-6BCC-41FE-A70F-83D255C4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098-AC04-4278-8FD3-A2A8ED26E5A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EC6-B283-4D12-8859-0DBA7233F8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763-0FC8-4F6F-855E-A6D868F6A9F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4A7-75DF-4752-B16C-0E60249022D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Экология Кузбасса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rebuchet MS"/>
              </a:rPr>
              <a:t>Заповедники Кузбас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4" descr="karta-rossii"/>
          <p:cNvPicPr/>
          <p:nvPr/>
        </p:nvPicPr>
        <p:blipFill>
          <a:blip r:embed="rId1"/>
          <a:stretch/>
        </p:blipFill>
        <p:spPr>
          <a:xfrm>
            <a:off x="1187280" y="2637000"/>
            <a:ext cx="6667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50920" y="189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емеровская область расположена в южной части Западной Сибири, образована 26 января 1943 года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Площадь 95,7 тысяч кв. километров, население 2885 тысяч человек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В Кемеровской области 20 городов, 19 районов. Административный центр области – город Кемерово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Большинство населения проживает в городах. Живут русские, шорцы, татары, украинцы, чуваши, немцы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4221000"/>
          <a:ext cx="8064360" cy="2286000"/>
        </p:xfrm>
        <a:graphic>
          <a:graphicData uri="http://schemas.openxmlformats.org/drawingml/2006/table">
            <a:tbl>
              <a:tblPr/>
              <a:tblGrid>
                <a:gridCol w="1343160"/>
                <a:gridCol w="1346040"/>
                <a:gridCol w="1344600"/>
                <a:gridCol w="1341360"/>
                <a:gridCol w="1346400"/>
                <a:gridCol w="13428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узнецкий Алата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Горная Ш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Салаирский кря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11" descr="Kraeve1-27-07-2010"/>
          <p:cNvPicPr/>
          <p:nvPr/>
        </p:nvPicPr>
        <p:blipFill>
          <a:blip r:embed="rId1"/>
          <a:stretch/>
        </p:blipFill>
        <p:spPr>
          <a:xfrm>
            <a:off x="755640" y="4508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Kraeve2-27-07-2010"/>
          <p:cNvPicPr/>
          <p:nvPr/>
        </p:nvPicPr>
        <p:blipFill>
          <a:blip r:embed="rId2"/>
          <a:stretch/>
        </p:blipFill>
        <p:spPr>
          <a:xfrm>
            <a:off x="3492360" y="4508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Kraeve3-27-07-2010"/>
          <p:cNvPicPr/>
          <p:nvPr/>
        </p:nvPicPr>
        <p:blipFill>
          <a:blip r:embed="rId3"/>
          <a:stretch/>
        </p:blipFill>
        <p:spPr>
          <a:xfrm>
            <a:off x="6227640" y="458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ки – Томь, Кондома, Мрас-Су, Иня, Кия, Сары-Чумыш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    Протяжённость области с севера на юг почти 500 км, с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пада  на восток – 300 км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    Наивысшая точка – голец Верхний Зуб поднимается на 2178 м, наименьшая – 78 м над уровнем моря лежит в долине реки Томи.     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0480" y="-6369120"/>
          <a:ext cx="833400" cy="19599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1959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Долина реки Том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узнецкая котлов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Западно-Сибирская равн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5" descr="Kraeve4-27-07-2010"/>
          <p:cNvPicPr/>
          <p:nvPr/>
        </p:nvPicPr>
        <p:blipFill>
          <a:blip r:embed="rId1"/>
          <a:stretch/>
        </p:blipFill>
        <p:spPr>
          <a:xfrm>
            <a:off x="339084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Kraeve5-27-07-2010"/>
          <p:cNvPicPr/>
          <p:nvPr/>
        </p:nvPicPr>
        <p:blipFill>
          <a:blip r:embed="rId2"/>
          <a:stretch/>
        </p:blipFill>
        <p:spPr>
          <a:xfrm>
            <a:off x="375588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Kraeve6-27-07-2010"/>
          <p:cNvPicPr/>
          <p:nvPr/>
        </p:nvPicPr>
        <p:blipFill>
          <a:blip r:embed="rId3"/>
          <a:stretch/>
        </p:blipFill>
        <p:spPr>
          <a:xfrm>
            <a:off x="3938760" y="-61707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Kraeve4-27-07-2010"/>
          <p:cNvPicPr/>
          <p:nvPr/>
        </p:nvPicPr>
        <p:blipFill>
          <a:blip r:embed="rId4"/>
          <a:stretch/>
        </p:blipFill>
        <p:spPr>
          <a:xfrm>
            <a:off x="339084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Kraeve5-27-07-2010"/>
          <p:cNvPicPr/>
          <p:nvPr/>
        </p:nvPicPr>
        <p:blipFill>
          <a:blip r:embed="rId5"/>
          <a:stretch/>
        </p:blipFill>
        <p:spPr>
          <a:xfrm>
            <a:off x="375588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Kraeve6-27-07-2010"/>
          <p:cNvPicPr/>
          <p:nvPr/>
        </p:nvPicPr>
        <p:blipFill>
          <a:blip r:embed="rId6"/>
          <a:stretch/>
        </p:blipFill>
        <p:spPr>
          <a:xfrm>
            <a:off x="3938760" y="-6170760"/>
            <a:ext cx="190476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971640" y="3357720"/>
          <a:ext cx="7932600" cy="2835000"/>
        </p:xfrm>
        <a:graphic>
          <a:graphicData uri="http://schemas.openxmlformats.org/drawingml/2006/table">
            <a:tbl>
              <a:tblPr/>
              <a:tblGrid>
                <a:gridCol w="1995480"/>
                <a:gridCol w="1977840"/>
                <a:gridCol w="1981440"/>
                <a:gridCol w="1977840"/>
              </a:tblGrid>
              <a:tr h="284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Долина реки Том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узнецкая котлов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о-Сибирская равн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45" descr="Kraeve4-27-07-2010"/>
          <p:cNvPicPr/>
          <p:nvPr/>
        </p:nvPicPr>
        <p:blipFill>
          <a:blip r:embed="rId7"/>
          <a:stretch/>
        </p:blipFill>
        <p:spPr>
          <a:xfrm>
            <a:off x="971640" y="3789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" descr="Kraeve5-27-07-2010"/>
          <p:cNvPicPr/>
          <p:nvPr/>
        </p:nvPicPr>
        <p:blipFill>
          <a:blip r:embed="rId8"/>
          <a:stretch/>
        </p:blipFill>
        <p:spPr>
          <a:xfrm>
            <a:off x="3059280" y="3789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Kraeve6-27-07-2010"/>
          <p:cNvPicPr/>
          <p:nvPr/>
        </p:nvPicPr>
        <p:blipFill>
          <a:blip r:embed="rId9"/>
          <a:stretch/>
        </p:blipFill>
        <p:spPr>
          <a:xfrm>
            <a:off x="5796000" y="3789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олее половины площади Кемеровской области покрыто хвойными лесами, в которых преобладают пихта, кедр, сосна, ель. Леса из пихты, ели и кедра называют черневой тайгой, так как они имеют тёмную хвою.    Растительность весьма разнообразна. На горных вершинах встречаются растения тундры и альпийских лугов, среднегорье и низкогорье поросло пихтово-осиновыми лесами с реликтовыми растениям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    Предгорья и межгорные котловины заняты растительностью степей и лесостепе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-1081080" y="-25252200"/>
          <a:ext cx="208080" cy="575546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3474120">
                <a:tc>
                  <a:txBody>
                    <a:bodyPr tIns="52920" bIns="52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255d06"/>
                          </a:solidFill>
                          <a:latin typeface="Bookman Old Style"/>
                        </a:rPr>
                        <a:t>Более половины площади Кемеровской области покрыто хвойными лесами, в которых преобладают пихта, кедр, сосна, ель. Леса из пихты, ели и кедра называют черневой тайгой, так как они имеют тёмную хвою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760">
                <a:tc>
                  <a:txBody>
                    <a:bodyPr tIns="52920" bIns="5292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-1071720" y="29216520"/>
          <a:ext cx="11298240" cy="2895480"/>
        </p:xfrm>
        <a:graphic>
          <a:graphicData uri="http://schemas.openxmlformats.org/drawingml/2006/table">
            <a:tbl>
              <a:tblPr/>
              <a:tblGrid>
                <a:gridCol w="1482840"/>
                <a:gridCol w="3110040"/>
                <a:gridCol w="3109680"/>
                <a:gridCol w="3595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Пих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Сос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ед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10" descr="Kraeve18-27-07-2010"/>
          <p:cNvPicPr/>
          <p:nvPr/>
        </p:nvPicPr>
        <p:blipFill>
          <a:blip r:embed="rId1"/>
          <a:stretch/>
        </p:blipFill>
        <p:spPr>
          <a:xfrm>
            <a:off x="-92556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Kraeve19-27-07-2010"/>
          <p:cNvPicPr/>
          <p:nvPr/>
        </p:nvPicPr>
        <p:blipFill>
          <a:blip r:embed="rId2"/>
          <a:stretch/>
        </p:blipFill>
        <p:spPr>
          <a:xfrm>
            <a:off x="54612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Kraeve20-27-07-2010"/>
          <p:cNvPicPr/>
          <p:nvPr/>
        </p:nvPicPr>
        <p:blipFill>
          <a:blip r:embed="rId3"/>
          <a:stretch/>
        </p:blipFill>
        <p:spPr>
          <a:xfrm>
            <a:off x="3656160" y="29627640"/>
            <a:ext cx="1428480" cy="2066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Kraeve21-27-07-2010"/>
          <p:cNvPicPr/>
          <p:nvPr/>
        </p:nvPicPr>
        <p:blipFill>
          <a:blip r:embed="rId4"/>
          <a:stretch/>
        </p:blipFill>
        <p:spPr>
          <a:xfrm>
            <a:off x="678168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5" descr="Kraeve18-27-07-2010"/>
          <p:cNvPicPr/>
          <p:nvPr/>
        </p:nvPicPr>
        <p:blipFill>
          <a:blip r:embed="rId5"/>
          <a:stretch/>
        </p:blipFill>
        <p:spPr>
          <a:xfrm>
            <a:off x="971640" y="37162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7" descr="Kraeve19-27-07-2010"/>
          <p:cNvPicPr/>
          <p:nvPr/>
        </p:nvPicPr>
        <p:blipFill>
          <a:blip r:embed="rId6"/>
          <a:stretch/>
        </p:blipFill>
        <p:spPr>
          <a:xfrm>
            <a:off x="2916360" y="3716280"/>
            <a:ext cx="1428480" cy="206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Kraeve20-27-07-2010"/>
          <p:cNvPicPr/>
          <p:nvPr/>
        </p:nvPicPr>
        <p:blipFill>
          <a:blip r:embed="rId7"/>
          <a:stretch/>
        </p:blipFill>
        <p:spPr>
          <a:xfrm>
            <a:off x="4859280" y="37162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1" descr="Kraeve21-27-07-2010"/>
          <p:cNvPicPr/>
          <p:nvPr/>
        </p:nvPicPr>
        <p:blipFill>
          <a:blip r:embed="rId8"/>
          <a:stretch/>
        </p:blipFill>
        <p:spPr>
          <a:xfrm>
            <a:off x="6659640" y="3716280"/>
            <a:ext cx="1428840" cy="20671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2"/>
          <p:cNvSpPr/>
          <p:nvPr/>
        </p:nvSpPr>
        <p:spPr>
          <a:xfrm>
            <a:off x="684360" y="602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хта                      сосна                     кедр                       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реди лиственных пород деревьев преобладают осина, берёза, ива, рябина и липа.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  Около 75% Кузбасских лесов сосредоточено в горах Кузнецкого Алатау и Горной Шории.     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Берёз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ябин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Осин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Ив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Липа     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Характерной растительностью южной лесостепи являются травы: ковыль, типчак, эспарцет, тонконог, полынь. Они растут обычно по оврагам, пустошам, межам.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  В лесах и лесостепях Кемеровской области много дикорастущих плодовых и ягодных кустарников, грибо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5" descr="Kraeve22-27-07-2010"/>
          <p:cNvPicPr/>
          <p:nvPr/>
        </p:nvPicPr>
        <p:blipFill>
          <a:blip r:embed="rId1"/>
          <a:stretch/>
        </p:blipFill>
        <p:spPr>
          <a:xfrm>
            <a:off x="1835280" y="1989000"/>
            <a:ext cx="952200" cy="141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Kraeve23-27-07-2010"/>
          <p:cNvPicPr/>
          <p:nvPr/>
        </p:nvPicPr>
        <p:blipFill>
          <a:blip r:embed="rId2"/>
          <a:stretch/>
        </p:blipFill>
        <p:spPr>
          <a:xfrm>
            <a:off x="3059280" y="1989000"/>
            <a:ext cx="952200" cy="141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Kraeve24-27-07-2010"/>
          <p:cNvPicPr/>
          <p:nvPr/>
        </p:nvPicPr>
        <p:blipFill>
          <a:blip r:embed="rId3"/>
          <a:stretch/>
        </p:blipFill>
        <p:spPr>
          <a:xfrm>
            <a:off x="4356000" y="1989000"/>
            <a:ext cx="952560" cy="141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Kraeve25-27-07-2010"/>
          <p:cNvPicPr/>
          <p:nvPr/>
        </p:nvPicPr>
        <p:blipFill>
          <a:blip r:embed="rId4"/>
          <a:stretch/>
        </p:blipFill>
        <p:spPr>
          <a:xfrm>
            <a:off x="7164360" y="1989000"/>
            <a:ext cx="952560" cy="141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Kraeve26-27-07-2010"/>
          <p:cNvPicPr/>
          <p:nvPr/>
        </p:nvPicPr>
        <p:blipFill>
          <a:blip r:embed="rId5"/>
          <a:stretch/>
        </p:blipFill>
        <p:spPr>
          <a:xfrm>
            <a:off x="5724360" y="1989000"/>
            <a:ext cx="9525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астоящее время в водах Кузбасса обитает 43 вида рыб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    В Томи и Кии встречаются осётр сибирский, хариус, представляющие наибольшую хозяйственную ценность. Лов этих рыб запрещён. Водятся также щука, налим, окунь, пескарь, сазан, карась, лещ, карп и д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5" descr="Kraeve33"/>
          <p:cNvPicPr/>
          <p:nvPr/>
        </p:nvPicPr>
        <p:blipFill>
          <a:blip r:embed="rId1"/>
          <a:stretch/>
        </p:blipFill>
        <p:spPr>
          <a:xfrm>
            <a:off x="216000" y="4221000"/>
            <a:ext cx="1801800" cy="12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Kraeve34"/>
          <p:cNvPicPr/>
          <p:nvPr/>
        </p:nvPicPr>
        <p:blipFill>
          <a:blip r:embed="rId2"/>
          <a:stretch/>
        </p:blipFill>
        <p:spPr>
          <a:xfrm>
            <a:off x="2050920" y="4221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Kraeve35"/>
          <p:cNvPicPr/>
          <p:nvPr/>
        </p:nvPicPr>
        <p:blipFill>
          <a:blip r:embed="rId3"/>
          <a:stretch/>
        </p:blipFill>
        <p:spPr>
          <a:xfrm>
            <a:off x="3525840" y="4221000"/>
            <a:ext cx="140652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Kraeve36"/>
          <p:cNvPicPr/>
          <p:nvPr/>
        </p:nvPicPr>
        <p:blipFill>
          <a:blip r:embed="rId4"/>
          <a:stretch/>
        </p:blipFill>
        <p:spPr>
          <a:xfrm>
            <a:off x="4965840" y="4221000"/>
            <a:ext cx="1474560" cy="1276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Kraeve37"/>
          <p:cNvPicPr/>
          <p:nvPr/>
        </p:nvPicPr>
        <p:blipFill>
          <a:blip r:embed="rId5"/>
          <a:stretch/>
        </p:blipFill>
        <p:spPr>
          <a:xfrm>
            <a:off x="6473880" y="4221000"/>
            <a:ext cx="1266840" cy="1257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Kraeve38"/>
          <p:cNvPicPr/>
          <p:nvPr/>
        </p:nvPicPr>
        <p:blipFill>
          <a:blip r:embed="rId6"/>
          <a:stretch/>
        </p:blipFill>
        <p:spPr>
          <a:xfrm>
            <a:off x="7740720" y="4221000"/>
            <a:ext cx="1403280" cy="12765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6"/>
          <p:cNvSpPr/>
          <p:nvPr/>
        </p:nvSpPr>
        <p:spPr>
          <a:xfrm>
            <a:off x="324000" y="5805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карь               осетр                налим               окунь           хариус              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Кемеровской области обитает более 300 видов птиц, как оседлых, так и перелётных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     Самое видное положение среди хищных птиц занимает сокол (сапсан), встречаются также орёл-беркут и чёрный коршун. Филин, глухарь, дятел и рябчик широко распространены в лесной полос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5" descr="Kraeve45"/>
          <p:cNvPicPr/>
          <p:nvPr/>
        </p:nvPicPr>
        <p:blipFill>
          <a:blip r:embed="rId1"/>
          <a:stretch/>
        </p:blipFill>
        <p:spPr>
          <a:xfrm>
            <a:off x="684360" y="4149720"/>
            <a:ext cx="952200" cy="1009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Kraeve46"/>
          <p:cNvPicPr/>
          <p:nvPr/>
        </p:nvPicPr>
        <p:blipFill>
          <a:blip r:embed="rId2"/>
          <a:stretch/>
        </p:blipFill>
        <p:spPr>
          <a:xfrm>
            <a:off x="190800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Kraeve47"/>
          <p:cNvPicPr/>
          <p:nvPr/>
        </p:nvPicPr>
        <p:blipFill>
          <a:blip r:embed="rId3"/>
          <a:stretch/>
        </p:blipFill>
        <p:spPr>
          <a:xfrm>
            <a:off x="327672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Kraeve48"/>
          <p:cNvPicPr/>
          <p:nvPr/>
        </p:nvPicPr>
        <p:blipFill>
          <a:blip r:embed="rId4"/>
          <a:stretch/>
        </p:blipFill>
        <p:spPr>
          <a:xfrm>
            <a:off x="464328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Kraeve49"/>
          <p:cNvPicPr/>
          <p:nvPr/>
        </p:nvPicPr>
        <p:blipFill>
          <a:blip r:embed="rId5"/>
          <a:stretch/>
        </p:blipFill>
        <p:spPr>
          <a:xfrm>
            <a:off x="594036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Kraeve50"/>
          <p:cNvPicPr/>
          <p:nvPr/>
        </p:nvPicPr>
        <p:blipFill>
          <a:blip r:embed="rId6"/>
          <a:stretch/>
        </p:blipFill>
        <p:spPr>
          <a:xfrm>
            <a:off x="7380360" y="4149720"/>
            <a:ext cx="952560" cy="1009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539640" y="5516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           орел                коршун       детел            глухарь          ф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03:22Z</dcterms:created>
  <dc:creator>Tatjana</dc:creator>
  <dc:description/>
  <dc:language>en-US</dc:language>
  <cp:lastModifiedBy>Учетная запись Майкрософт</cp:lastModifiedBy>
  <dcterms:modified xsi:type="dcterms:W3CDTF">2022-12-07T09:13:49Z</dcterms:modified>
  <cp:revision>6</cp:revision>
  <dc:subject/>
  <dc:title>Экология Кузбасса:</dc:title>
</cp:coreProperties>
</file>