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move the slide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9B7C-1425-4E21-86D1-F663228867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EDEF-88A6-4F3E-8E09-38CB7C7ACA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8C6-09D1-47C4-94D7-BD933587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EE9-74C2-4F90-AB30-6F08A53D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0017-BCAA-4439-A201-FF46CD0A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A1D0-AEAE-4BE1-9571-4458846D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6854-38F0-4D25-A5AE-1354D5D4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287A-F0CD-40FE-BE0A-A4F5C9B7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BF50-608E-4DF5-B857-FA9A47CB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A422-9A51-43BC-AAAE-4811FBED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AC29-7623-47BB-B6BA-29FEDEF0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4804-46C3-4A97-9C59-68F0CC0E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1434-CFF7-43A2-B15F-4366DA43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D41D-F822-4AD3-A532-6D4E4108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28D7-8D70-4045-ABF6-2E59A634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DBD3-519D-4431-B37A-9D8E8E59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E523-EB48-4DCD-A665-71708C8A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CBE4-A324-437C-96BE-A916B349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E328-83E5-4D27-9D7A-A992948C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4AE9A-CC63-4C02-89A6-A9FF9E46B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592A7-9C53-49B2-9644-5854C640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FA24C-6E21-4620-92C9-0B0ABF52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11BDD-695F-4805-AE57-B810C9B5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7E670-EF8F-4EAD-89A0-14B6CE81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34D1-3546-4A29-BA93-CEEE16DA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8D4B1-8064-49BC-BD8F-17A6AF77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69CF6-6F5C-4973-97D1-B6EDCCC2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F0632-7849-462D-A5F7-EEADAF7F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21755-0FD3-4DAC-A426-F909511D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FBB0D-2FBE-4907-869F-91D21E11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E9009-3936-42CD-A1A9-22ED78C9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652D0-4D31-4C29-A786-6748EBEC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669C5-DE23-41E5-9811-303B02B6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19D12-6017-43F4-96F3-8EE8833D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A9217-45F7-4FC8-BACF-3A3B4F54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FB30-4E04-42A5-B741-D3BB9F2C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D83B1-A6BB-4010-816F-0961E4ED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8F243-EF52-4337-9E85-235EE111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0F399-1649-46CD-B31A-4FA0AD76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74FAC-0F11-42E1-8D69-2EDC642F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DB32B-2A75-4BC8-A6DC-293160EB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C64C2-63C9-47B7-848B-AF84A944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3154C-D7A4-4E91-B959-8CE8B4F5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2DA6C-3DD2-4C83-B291-0A75B1B0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A60B1-B05B-416E-8615-7A687015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9BC17-4298-4788-B2DB-87C147D1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390-B62F-46B0-A600-B678A149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F8A59-334B-4AEE-BE0B-93779D3F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96F00-4455-43A9-A325-12B67782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E205B-FBDA-4F4F-8F18-0D0D9BC5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D070E-459E-4A42-BC30-99BF892C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E59B5-CCEE-4223-876E-20BAD89C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D63EA-A2B4-45CD-A703-828F5853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95F58-AE95-40BC-BF3B-AA705A2B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EB1ED-B87F-4537-BCD7-4319824F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1DBEC-12D0-476A-B331-87246BF6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4CFFF-6D5A-4694-8AA8-3F9DF791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25C6-F2E4-49CD-A0E9-10EA0651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8F1DE-7342-4E83-9006-20A34500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7B8B-898F-4B37-9216-877ADD03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BA0B-E81A-4179-9F15-D3E143B0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B48E-AABC-4540-827E-D6C4014E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C341-0F2C-455D-A6C4-7EA1E9D3F308}" type="slidenum"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2063880" y="630360"/>
            <a:ext cx="5229000" cy="522900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09280" y="6374880"/>
            <a:ext cx="17463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5e04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4880" y="6375240"/>
            <a:ext cx="30862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0040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CBEC-8229-4745-ABD4-5533937BB199}" type="slidenum">
              <a:rPr b="0" lang="ru-RU" sz="1000" spc="-1" strike="noStrike">
                <a:solidFill>
                  <a:srgbClr val="895e0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2111400" cy="68580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655560" y="0"/>
            <a:ext cx="1235160" cy="68580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0" y="0"/>
            <a:ext cx="2111400" cy="6858000"/>
            <a:chOff x="0" y="0"/>
            <a:chExt cx="2111400" cy="6858000"/>
          </a:xfrm>
        </p:grpSpPr>
        <p:sp>
          <p:nvSpPr>
            <p:cNvPr id="91" name="Freeform 8"/>
            <p:cNvSpPr/>
            <p:nvPr/>
          </p:nvSpPr>
          <p:spPr>
            <a:xfrm>
              <a:off x="0" y="0"/>
              <a:ext cx="2111400" cy="68580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655920" y="0"/>
              <a:ext cx="1234800" cy="68580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27120" y="6374880"/>
            <a:ext cx="11210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3f3f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95928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455960" y="6375240"/>
            <a:ext cx="111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C430-46E1-40F5-8616-912CC63561EC}" type="slidenum">
              <a:rPr b="0" lang="ru-RU" sz="1000" spc="-1" strike="noStrike">
                <a:solidFill>
                  <a:srgbClr val="f3f3f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572760" y="6374880"/>
            <a:ext cx="9255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4268880" y="6375240"/>
            <a:ext cx="923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DBE8-6715-4AA0-9A37-7A465008B722}" type="slidenum"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574200" y="6374880"/>
            <a:ext cx="92412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4255560" y="6375240"/>
            <a:ext cx="9478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E4FE-FE0A-45EE-BB85-30EB3B950FBC}" type="slidenum"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378560" cy="439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2a1a00"/>
                </a:solidFill>
                <a:latin typeface="Impact"/>
              </a:rPr>
              <a:t>КАЛЕНДАРЬ И ХОЗЯЙСТВЕННЫЙ ЦИКЛ</a:t>
            </a:r>
            <a:endParaRPr b="0" lang="en-US" sz="28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611280" y="6021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Давлетова Е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57680" y="456840"/>
            <a:ext cx="3929040" cy="8413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Impact"/>
              </a:rPr>
              <a:t>ЛЕТО</a:t>
            </a:r>
            <a:endParaRPr b="0" lang="en-US" sz="54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53" name="Содержимое 4" descr="594861903.jpg"/>
          <p:cNvPicPr/>
          <p:nvPr/>
        </p:nvPicPr>
        <p:blipFill>
          <a:blip r:embed="rId1"/>
          <a:stretch/>
        </p:blipFill>
        <p:spPr>
          <a:xfrm>
            <a:off x="1157400" y="2286000"/>
            <a:ext cx="3165480" cy="36194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986000" y="2286000"/>
            <a:ext cx="359244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Corbel"/>
              </a:rPr>
              <a:t>Я соткано из зноя ,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Corbel"/>
              </a:rPr>
              <a:t>Несу тепло с собою,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Corbel"/>
              </a:rPr>
              <a:t>Я реку согреваю,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Corbel"/>
              </a:rPr>
              <a:t>Купаться приглашаю,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Corbel"/>
              </a:rPr>
              <a:t>И любите за это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Corbel"/>
              </a:rPr>
              <a:t>Вы все меня, Я… 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5929200" cy="10717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Impact"/>
              </a:rPr>
              <a:t>ПРИЗНАКИ ЛЕТА</a:t>
            </a:r>
            <a:endParaRPr b="0" lang="en-US" sz="54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56" name="Содержимое 9" descr="32369-src.jpg"/>
          <p:cNvPicPr/>
          <p:nvPr/>
        </p:nvPicPr>
        <p:blipFill>
          <a:blip r:embed="rId1"/>
          <a:stretch/>
        </p:blipFill>
        <p:spPr>
          <a:xfrm>
            <a:off x="4643280" y="1428840"/>
            <a:ext cx="4262760" cy="2857320"/>
          </a:xfrm>
          <a:prstGeom prst="rect">
            <a:avLst/>
          </a:prstGeom>
          <a:ln w="0">
            <a:noFill/>
          </a:ln>
        </p:spPr>
      </p:pic>
      <p:pic>
        <p:nvPicPr>
          <p:cNvPr id="257" name="Содержимое 8" descr="23.jpg"/>
          <p:cNvPicPr/>
          <p:nvPr/>
        </p:nvPicPr>
        <p:blipFill>
          <a:blip r:embed="rId2"/>
          <a:stretch/>
        </p:blipFill>
        <p:spPr>
          <a:xfrm>
            <a:off x="571680" y="3714840"/>
            <a:ext cx="4362120" cy="28969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0"/>
          <p:cNvSpPr/>
          <p:nvPr/>
        </p:nvSpPr>
        <p:spPr>
          <a:xfrm>
            <a:off x="100800" y="1428840"/>
            <a:ext cx="5086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о лужай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Босик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олнышком согрет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За цветастым мотыль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рибежало ле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5306040" y="4357800"/>
            <a:ext cx="392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Искупалось в ре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олежало на пес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Загоре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ролете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И исчезло вдале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Облако 2"/>
          <p:cNvSpPr/>
          <p:nvPr/>
        </p:nvSpPr>
        <p:spPr>
          <a:xfrm>
            <a:off x="468360" y="549360"/>
            <a:ext cx="8001000" cy="5857920"/>
          </a:xfrm>
          <a:prstGeom prst="pie">
            <a:avLst/>
          </a:prstGeom>
          <a:solidFill>
            <a:srgbClr val="bdee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Corbel"/>
              </a:rPr>
              <a:t>осен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Corbel"/>
              </a:rPr>
              <a:t>сентябрь октябр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Corbel"/>
              </a:rPr>
              <a:t> </a:t>
            </a:r>
            <a:r>
              <a:rPr b="0" lang="ru-RU" sz="6000" spc="-1" strike="noStrike">
                <a:solidFill>
                  <a:srgbClr val="0070c0"/>
                </a:solidFill>
                <a:latin typeface="Corbel"/>
              </a:rPr>
              <a:t>ноябр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714480" y="214200"/>
            <a:ext cx="2786040" cy="100008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Impact"/>
              </a:rPr>
              <a:t>ОСЕНЬ</a:t>
            </a:r>
            <a:endParaRPr b="0" lang="en-US" sz="5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7280" y="1680840"/>
            <a:ext cx="419076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Несу я урожай,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Поля вновь засеваю,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Птиц к югу отправляю,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Деревья раздеваю,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Но не касаюсь сосен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И ёлочек. Я…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63" name="Содержимое 4" descr="6920304605.jpg"/>
          <p:cNvPicPr/>
          <p:nvPr/>
        </p:nvPicPr>
        <p:blipFill>
          <a:blip r:embed="rId1"/>
          <a:stretch/>
        </p:blipFill>
        <p:spPr>
          <a:xfrm>
            <a:off x="4357800" y="1357200"/>
            <a:ext cx="42861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6858000" cy="8413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Impact"/>
              </a:rPr>
              <a:t>ПРИЗНАКИ ОСЕНИ</a:t>
            </a:r>
            <a:endParaRPr b="0" lang="en-US" sz="54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65" name="Содержимое 4" descr="619f17710d92f05511d7db953495fd72.jpg"/>
          <p:cNvPicPr/>
          <p:nvPr/>
        </p:nvPicPr>
        <p:blipFill>
          <a:blip r:embed="rId1"/>
          <a:stretch/>
        </p:blipFill>
        <p:spPr>
          <a:xfrm>
            <a:off x="944640" y="1859040"/>
            <a:ext cx="3781440" cy="3166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746240" y="2352600"/>
            <a:ext cx="4429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Улетели птицы разные,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Смолк их звонкий перепев,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А рябина осень празднует,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Бусы красные надев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100" spc="-1" strike="noStrike">
                <a:solidFill>
                  <a:srgbClr val="2a1a00"/>
                </a:solidFill>
                <a:latin typeface="Impact"/>
              </a:rPr>
              <a:t>СЕЗОННЫЕ ПРОМЫСЛЫ НАРОДОВ ХАНТЫ И МАНСИ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68" name="Объект 5" descr=""/>
          <p:cNvPicPr/>
          <p:nvPr/>
        </p:nvPicPr>
        <p:blipFill>
          <a:blip r:embed="rId1"/>
          <a:stretch/>
        </p:blipFill>
        <p:spPr>
          <a:xfrm>
            <a:off x="5332320" y="1874880"/>
            <a:ext cx="3240360" cy="2130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https://i.ytimg.com/vi/E9LVc5e38JU/maxresdefault.jpg"/>
          <p:cNvPicPr/>
          <p:nvPr/>
        </p:nvPicPr>
        <p:blipFill>
          <a:blip r:embed="rId2"/>
          <a:stretch/>
        </p:blipFill>
        <p:spPr>
          <a:xfrm>
            <a:off x="1116000" y="2384280"/>
            <a:ext cx="4464000" cy="3048120"/>
          </a:xfrm>
          <a:prstGeom prst="rect">
            <a:avLst/>
          </a:prstGeom>
          <a:ln w="0">
            <a:noFill/>
          </a:ln>
        </p:spPr>
      </p:pic>
      <p:pic>
        <p:nvPicPr>
          <p:cNvPr id="270" name="Объект 6" descr=""/>
          <p:cNvPicPr/>
          <p:nvPr/>
        </p:nvPicPr>
        <p:blipFill>
          <a:blip r:embed="rId3"/>
          <a:stretch/>
        </p:blipFill>
        <p:spPr>
          <a:xfrm>
            <a:off x="4932360" y="4286160"/>
            <a:ext cx="31352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99800" y="142920"/>
            <a:ext cx="5715000" cy="135720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Impact"/>
              </a:rPr>
              <a:t>КРУГЛЫЙ ГОД</a:t>
            </a:r>
            <a:endParaRPr b="0" lang="en-US" sz="5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4360" y="164268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Какие времена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года вы знаете?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Назовите их по порядку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Как вы узнали каждое время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года?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  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73" name="Рисунок 5" descr="4Seasons-web.jpg"/>
          <p:cNvPicPr/>
          <p:nvPr/>
        </p:nvPicPr>
        <p:blipFill>
          <a:blip r:embed="rId1"/>
          <a:stretch/>
        </p:blipFill>
        <p:spPr>
          <a:xfrm>
            <a:off x="4067280" y="1644480"/>
            <a:ext cx="471168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63416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2a1a00"/>
                </a:solidFill>
                <a:latin typeface="Impact"/>
              </a:rPr>
              <a:t>ЗАДАНИЕ</a:t>
            </a:r>
            <a:endParaRPr b="0" lang="en-US" sz="18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739800" y="691920"/>
            <a:ext cx="7634160" cy="35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Нарисуй любимое время года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76" name="Рисунок 6" descr=""/>
          <p:cNvPicPr/>
          <p:nvPr/>
        </p:nvPicPr>
        <p:blipFill>
          <a:blip r:embed="rId1"/>
          <a:stretch/>
        </p:blipFill>
        <p:spPr>
          <a:xfrm>
            <a:off x="971640" y="1635120"/>
            <a:ext cx="3862440" cy="26510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7" descr=""/>
          <p:cNvPicPr/>
          <p:nvPr/>
        </p:nvPicPr>
        <p:blipFill>
          <a:blip r:embed="rId2"/>
          <a:stretch/>
        </p:blipFill>
        <p:spPr>
          <a:xfrm>
            <a:off x="4572000" y="333360"/>
            <a:ext cx="4092480" cy="306864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8" descr=""/>
          <p:cNvPicPr/>
          <p:nvPr/>
        </p:nvPicPr>
        <p:blipFill>
          <a:blip r:embed="rId3"/>
          <a:stretch/>
        </p:blipFill>
        <p:spPr>
          <a:xfrm>
            <a:off x="1212840" y="4149720"/>
            <a:ext cx="3456000" cy="246528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9" descr=""/>
          <p:cNvPicPr/>
          <p:nvPr/>
        </p:nvPicPr>
        <p:blipFill>
          <a:blip r:embed="rId4"/>
          <a:stretch/>
        </p:blipFill>
        <p:spPr>
          <a:xfrm>
            <a:off x="5321160" y="2701800"/>
            <a:ext cx="306864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Облако 3"/>
          <p:cNvSpPr/>
          <p:nvPr/>
        </p:nvSpPr>
        <p:spPr>
          <a:xfrm>
            <a:off x="357120" y="571680"/>
            <a:ext cx="8358120" cy="5929200"/>
          </a:xfrm>
          <a:prstGeom prst="pie">
            <a:avLst/>
          </a:prstGeom>
          <a:solidFill>
            <a:srgbClr val="bdee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Corbel"/>
              </a:rPr>
              <a:t>зим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Corbel"/>
              </a:rPr>
              <a:t>декабр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Corbel"/>
              </a:rPr>
              <a:t>январ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Corbel"/>
              </a:rPr>
              <a:t>февра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714760" y="213840"/>
            <a:ext cx="3929040" cy="10717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400" spc="-1" strike="noStrike">
                <a:solidFill>
                  <a:srgbClr val="0070c0"/>
                </a:solidFill>
                <a:latin typeface="Impact"/>
              </a:rPr>
              <a:t>ЗИМА</a:t>
            </a:r>
            <a:endParaRPr b="0" lang="en-US" sz="5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4000" y="2349000"/>
            <a:ext cx="3592440" cy="36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700" spc="-1" strike="noStrike">
                <a:solidFill>
                  <a:srgbClr val="595959"/>
                </a:solidFill>
                <a:latin typeface="Corbel"/>
              </a:rPr>
              <a:t>    </a:t>
            </a:r>
            <a:r>
              <a:rPr b="0" lang="ru-RU" sz="2700" spc="-1" strike="noStrike">
                <a:solidFill>
                  <a:srgbClr val="595959"/>
                </a:solidFill>
                <a:latin typeface="Corbel"/>
              </a:rPr>
              <a:t>Дел у меня немало - </a:t>
            </a:r>
            <a:endParaRPr b="0" lang="en-US" sz="27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700" spc="-1" strike="noStrike">
                <a:solidFill>
                  <a:srgbClr val="595959"/>
                </a:solidFill>
                <a:latin typeface="Corbel"/>
              </a:rPr>
              <a:t>    </a:t>
            </a:r>
            <a:r>
              <a:rPr b="0" lang="ru-RU" sz="2700" spc="-1" strike="noStrike">
                <a:solidFill>
                  <a:srgbClr val="595959"/>
                </a:solidFill>
                <a:latin typeface="Corbel"/>
              </a:rPr>
              <a:t>Я белым одеялом</a:t>
            </a:r>
            <a:endParaRPr b="0" lang="en-US" sz="27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700" spc="-1" strike="noStrike">
                <a:solidFill>
                  <a:srgbClr val="595959"/>
                </a:solidFill>
                <a:latin typeface="Corbel"/>
              </a:rPr>
              <a:t>    </a:t>
            </a:r>
            <a:r>
              <a:rPr b="0" lang="ru-RU" sz="2700" spc="-1" strike="noStrike">
                <a:solidFill>
                  <a:srgbClr val="595959"/>
                </a:solidFill>
                <a:latin typeface="Corbel"/>
              </a:rPr>
              <a:t>Всю землю укрываю,</a:t>
            </a:r>
            <a:endParaRPr b="0" lang="en-US" sz="27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700" spc="-1" strike="noStrike">
                <a:solidFill>
                  <a:srgbClr val="595959"/>
                </a:solidFill>
                <a:latin typeface="Corbel"/>
              </a:rPr>
              <a:t>    </a:t>
            </a:r>
            <a:r>
              <a:rPr b="0" lang="ru-RU" sz="2700" spc="-1" strike="noStrike">
                <a:solidFill>
                  <a:srgbClr val="595959"/>
                </a:solidFill>
                <a:latin typeface="Corbel"/>
              </a:rPr>
              <a:t>В лёд реки убираю,</a:t>
            </a:r>
            <a:endParaRPr b="0" lang="en-US" sz="27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700" spc="-1" strike="noStrike">
                <a:solidFill>
                  <a:srgbClr val="595959"/>
                </a:solidFill>
                <a:latin typeface="Corbel"/>
              </a:rPr>
              <a:t>    </a:t>
            </a:r>
            <a:r>
              <a:rPr b="0" lang="ru-RU" sz="2700" spc="-1" strike="noStrike">
                <a:solidFill>
                  <a:srgbClr val="595959"/>
                </a:solidFill>
                <a:latin typeface="Corbel"/>
              </a:rPr>
              <a:t>Белю поля, дома,</a:t>
            </a:r>
            <a:endParaRPr b="0" lang="en-US" sz="27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700" spc="-1" strike="noStrike">
                <a:solidFill>
                  <a:srgbClr val="595959"/>
                </a:solidFill>
                <a:latin typeface="Corbel"/>
              </a:rPr>
              <a:t>    </a:t>
            </a:r>
            <a:r>
              <a:rPr b="0" lang="ru-RU" sz="2700" spc="-1" strike="noStrike">
                <a:solidFill>
                  <a:srgbClr val="595959"/>
                </a:solidFill>
                <a:latin typeface="Corbel"/>
              </a:rPr>
              <a:t>Зовут меня …</a:t>
            </a:r>
            <a:endParaRPr b="0" lang="en-US" sz="27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34" name="Содержимое 4" descr="winter-gadget-0.jpg"/>
          <p:cNvPicPr/>
          <p:nvPr/>
        </p:nvPicPr>
        <p:blipFill>
          <a:blip r:embed="rId1"/>
          <a:stretch/>
        </p:blipFill>
        <p:spPr>
          <a:xfrm>
            <a:off x="4572000" y="1428840"/>
            <a:ext cx="43434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2640" y="499680"/>
            <a:ext cx="7000920" cy="84132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400" spc="-1" strike="noStrike">
                <a:solidFill>
                  <a:srgbClr val="0070c0"/>
                </a:solidFill>
                <a:latin typeface="Impact"/>
              </a:rPr>
              <a:t>ПРИЗНАКИ ЗИМЫ</a:t>
            </a:r>
            <a:endParaRPr b="0" lang="en-US" sz="54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36" name="Содержимое 4" descr="7400050_835655_21879350_6198596_5328935.jpg"/>
          <p:cNvPicPr/>
          <p:nvPr/>
        </p:nvPicPr>
        <p:blipFill>
          <a:blip r:embed="rId1"/>
          <a:stretch/>
        </p:blipFill>
        <p:spPr>
          <a:xfrm>
            <a:off x="357120" y="1571760"/>
            <a:ext cx="4038840" cy="5000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986000" y="1915920"/>
            <a:ext cx="3592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595959"/>
                </a:solidFill>
                <a:latin typeface="Corbel"/>
              </a:rPr>
              <a:t>холодная погода;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595959"/>
                </a:solidFill>
                <a:latin typeface="Corbel"/>
              </a:rPr>
              <a:t> </a:t>
            </a:r>
            <a:r>
              <a:rPr b="0" lang="ru-RU" sz="1700" spc="-1" strike="noStrike">
                <a:solidFill>
                  <a:srgbClr val="595959"/>
                </a:solidFill>
                <a:latin typeface="Corbel"/>
              </a:rPr>
              <a:t>деревья без листьев, иногда со снежной шапкой на ветвях; 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595959"/>
                </a:solidFill>
                <a:latin typeface="Corbel"/>
              </a:rPr>
              <a:t>короткие дни и длинные ночи; 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595959"/>
                </a:solidFill>
                <a:latin typeface="Corbel"/>
              </a:rPr>
              <a:t>ледяная корка на лужах, 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595959"/>
                </a:solidFill>
                <a:latin typeface="Corbel"/>
              </a:rPr>
              <a:t>гололедица; 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595959"/>
                </a:solidFill>
                <a:latin typeface="Corbel"/>
              </a:rPr>
              <a:t>сугробы и снег;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595959"/>
                </a:solidFill>
                <a:latin typeface="Corbel"/>
              </a:rPr>
              <a:t> </a:t>
            </a:r>
            <a:r>
              <a:rPr b="0" lang="ru-RU" sz="1700" spc="-1" strike="noStrike">
                <a:solidFill>
                  <a:srgbClr val="595959"/>
                </a:solidFill>
                <a:latin typeface="Corbel"/>
              </a:rPr>
              <a:t>низкие, серые, тяжелые облака; трескучие морозы; 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595959"/>
                </a:solidFill>
                <a:latin typeface="Corbel"/>
              </a:rPr>
              <a:t>Метелица и т.д.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700"/>
            </a:br>
            <a:endParaRPr b="0" lang="en-US" sz="27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850104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2a1a00"/>
                </a:solidFill>
                <a:latin typeface="Impact"/>
              </a:rPr>
              <a:t>КАКИЕ ЗИМНИЕ ЗАБАВЫ ВЫ ЗНАЕТЕ?</a:t>
            </a:r>
            <a:br>
              <a:rPr sz="4000"/>
            </a:br>
            <a:endParaRPr b="0" lang="en-US" sz="40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39" name="Содержимое 4" descr="12179539_snow11.jpg"/>
          <p:cNvPicPr/>
          <p:nvPr/>
        </p:nvPicPr>
        <p:blipFill>
          <a:blip r:embed="rId1"/>
          <a:stretch/>
        </p:blipFill>
        <p:spPr>
          <a:xfrm>
            <a:off x="1154160" y="2286000"/>
            <a:ext cx="3171600" cy="36194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986000" y="2286000"/>
            <a:ext cx="359244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Среди нашего двора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Снеговик стоял вчера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Мы его слепили сами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Был он с пышными усами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А сегодня за окном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Потекли ручьи кругом.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Ночью снеговик исчез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Corbel"/>
              </a:rPr>
              <a:t>Может быть ушёл он в      лес?                  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1785960" y="142920"/>
            <a:ext cx="5786280" cy="9169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Franklin Gothic Book"/>
              </a:rPr>
              <a:t>ЗИМНИЕ ИГ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Облако 4"/>
          <p:cNvSpPr/>
          <p:nvPr/>
        </p:nvSpPr>
        <p:spPr>
          <a:xfrm>
            <a:off x="500040" y="928800"/>
            <a:ext cx="8001000" cy="5429160"/>
          </a:xfrm>
          <a:prstGeom prst="pie">
            <a:avLst/>
          </a:prstGeom>
          <a:solidFill>
            <a:srgbClr val="bdee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Corbel"/>
              </a:rPr>
              <a:t>весн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Corbel"/>
              </a:rPr>
              <a:t>мар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Corbel"/>
              </a:rPr>
              <a:t>апрел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0" lang="ru-RU" sz="6000" spc="-1" strike="noStrike">
                <a:solidFill>
                  <a:srgbClr val="002060"/>
                </a:solidFill>
                <a:latin typeface="Corbel"/>
              </a:rPr>
              <a:t>ма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3500280" cy="8413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Impact"/>
              </a:rPr>
              <a:t>ВЕСНА</a:t>
            </a:r>
            <a:endParaRPr b="0" lang="en-US" sz="5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55640" y="1270080"/>
            <a:ext cx="359424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   </a:t>
            </a: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Я раскрываю почки,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   </a:t>
            </a: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В зелёные листочки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   </a:t>
            </a: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Деревья одеваю,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   </a:t>
            </a: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Посевы поливаю,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   </a:t>
            </a: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Движения полна,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   </a:t>
            </a: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Зовут меня …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45" name="Содержимое 4" descr="IMG_05853.jpg"/>
          <p:cNvPicPr/>
          <p:nvPr/>
        </p:nvPicPr>
        <p:blipFill>
          <a:blip r:embed="rId1"/>
          <a:stretch/>
        </p:blipFill>
        <p:spPr>
          <a:xfrm>
            <a:off x="4071960" y="1428840"/>
            <a:ext cx="46432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85560" y="142920"/>
            <a:ext cx="6715080" cy="115560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Impact"/>
              </a:rPr>
              <a:t>ПРИЗНАКИ ВЕСНЫ</a:t>
            </a:r>
            <a:endParaRPr b="0" lang="en-US" sz="54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47" name="Содержимое 4" descr="19636042_1204725540_lazarenko_vt_vesna.jpg"/>
          <p:cNvPicPr/>
          <p:nvPr/>
        </p:nvPicPr>
        <p:blipFill>
          <a:blip r:embed="rId1"/>
          <a:stretch/>
        </p:blipFill>
        <p:spPr>
          <a:xfrm>
            <a:off x="942840" y="2611440"/>
            <a:ext cx="3594240" cy="2968560"/>
          </a:xfrm>
          <a:prstGeom prst="rect">
            <a:avLst/>
          </a:prstGeom>
          <a:ln w="0">
            <a:noFill/>
          </a:ln>
        </p:spPr>
      </p:pic>
      <p:pic>
        <p:nvPicPr>
          <p:cNvPr id="248" name="Содержимое 5" descr="38944009_02_vesna_2.jpg"/>
          <p:cNvPicPr/>
          <p:nvPr/>
        </p:nvPicPr>
        <p:blipFill>
          <a:blip r:embed="rId2"/>
          <a:stretch/>
        </p:blipFill>
        <p:spPr>
          <a:xfrm>
            <a:off x="4572000" y="1428840"/>
            <a:ext cx="4343400" cy="3143160"/>
          </a:xfrm>
          <a:prstGeom prst="rect">
            <a:avLst/>
          </a:prstGeom>
          <a:ln w="0">
            <a:noFill/>
          </a:ln>
        </p:spPr>
      </p:pic>
      <p:sp>
        <p:nvSpPr>
          <p:cNvPr id="249" name="TextBox 6"/>
          <p:cNvSpPr/>
          <p:nvPr/>
        </p:nvSpPr>
        <p:spPr>
          <a:xfrm>
            <a:off x="684360" y="1336680"/>
            <a:ext cx="4111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ие изменения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рироде происход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ес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5000760" y="4714920"/>
            <a:ext cx="4000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Тает снеж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Ожил луж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День приб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Когда это быв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Облако 1"/>
          <p:cNvSpPr/>
          <p:nvPr/>
        </p:nvSpPr>
        <p:spPr>
          <a:xfrm>
            <a:off x="571680" y="571680"/>
            <a:ext cx="8072280" cy="5857560"/>
          </a:xfrm>
          <a:prstGeom prst="pie">
            <a:avLst/>
          </a:prstGeom>
          <a:solidFill>
            <a:srgbClr val="bdee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Corbel"/>
              </a:rPr>
              <a:t>лет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Corbel"/>
              </a:rPr>
              <a:t>июн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Corbel"/>
              </a:rPr>
              <a:t>ию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Corbel"/>
              </a:rPr>
              <a:t>авгус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1:39:27Z</dcterms:created>
  <dc:creator>саша</dc:creator>
  <dc:description/>
  <dc:language>en-US</dc:language>
  <cp:lastModifiedBy>Пользователь</cp:lastModifiedBy>
  <dcterms:modified xsi:type="dcterms:W3CDTF">2022-12-07T07:57:38Z</dcterms:modified>
  <cp:revision>86</cp:revision>
  <dc:subject/>
  <dc:title>Времена года</dc:title>
</cp:coreProperties>
</file>