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044B-8EEC-4175-9714-9620514682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E4F8-8516-44FC-8ACF-5661FEE58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889-F305-4983-84AE-708B46CA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D33-7F4E-4110-A633-60CF557E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670-8778-4A13-8C02-8187469A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94A-5DFC-4EC4-8387-F9775ED9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AF35-5CD3-4861-B783-0099666D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AD57-4F60-4C9E-A707-313B45DD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852B-1CB0-465B-9A7C-AA7A3E34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200E-E8FB-4EE2-BD8A-828F5DA0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1DF9-F91B-492A-9B79-9EA2382E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277C-4ADC-4CEF-8EE3-A80E6D32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B32A-2659-4ABD-81C8-58E7E92A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12F-0A9A-4210-9ABB-3331294E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F80B-1C15-48BB-8EA7-D8BE841F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9EDE-E6C8-4362-BE67-BFA3B592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6297-388A-49D7-B42E-698BF9DC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F488-93C4-4CFE-8ABD-06E6F080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2108-1393-4A20-ABB1-69FB3374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2D0E-687A-42A6-BA01-3A642CA4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10B5-341C-4413-9991-813E574E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7EC0-ACD3-4331-8F6B-F901A191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6B25-9FF2-45A9-B9F0-DDF1B09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E290-B094-489D-9159-B33A5695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472-ACC8-4E56-943D-502B18B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15E8-C32F-4952-BE76-E36C0CED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3459F-3EDB-4CA4-A2DB-AE8157A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6844-ED90-4DB6-8B27-CAF1B8D7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1B2E-E125-46FC-BEA0-4D7575D1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5201-855A-4B47-B1EB-3C574D4A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B61C-D7D6-4D11-921F-D47F5B8C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B947-1C69-4A08-9981-8324E2E0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BCE9-C89D-4250-BA38-370858E1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C401-8752-4382-A138-3CA96483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0892-BA04-4304-9404-41231D2B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999-0636-41FB-94D0-313A70AA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B5B8C-D621-4212-A6A9-E9A1966A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52F4-D337-4129-840A-8800110A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6FA4-C14F-48E6-AD45-540F6F1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FD48-3A67-4AD2-BF39-65D8945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16E5-3AF2-415E-95E0-590F3BD1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9401-E340-4C47-9DBC-1D7984CC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B336-EE1F-4F6F-8AF9-43750640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5B0A-06C1-4EB0-952B-9197862B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5EC8-E81E-409D-ABCF-8BA3684C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C9C8B-2AB0-4617-9E17-D9524D89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232-52E1-4A76-86CA-7329BFFA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9B46-E9E7-4E5D-9E91-B59D1635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0B8F7-3C17-47E2-A52F-2781965E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BCDE4-9CCE-4B35-8C36-81DA3DF4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EEB4-DF7D-4059-A789-AAEB201E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63BFE-433C-4D48-A4C9-5B6D0B9B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29CB-85BE-4005-A85E-AF23D640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D575D-37DC-4656-BC93-2AF1728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D717-5E16-4A1B-8640-0CA85B1A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39280-612A-4DE4-9858-011EF1D1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815BB-2D17-4491-9000-BFEF6690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F52-D0D7-475D-8ADD-706097D8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4F6EA-E8D1-4EB8-A21B-4C0A5F06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CE3-C854-4817-B9C5-AB114E95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2DD-4782-4B97-ADBF-2370A89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170-C88C-4467-960E-25BE1537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7AED-C94B-406B-B171-05EA547F0F3B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914E-9DA6-4AA8-A49D-AB08EA6F5CD0}" type="slidenum">
              <a:rPr b="0" lang="ru-RU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2FA2-31E1-4433-BE1D-7D903049EC52}" type="slidenum">
              <a:rPr b="0" lang="ru-RU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8DAF-261D-4CD3-840D-A83D1A02FC48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4B5B-41D2-4128-86C4-7482DE6419E3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3785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a1a00"/>
                </a:solidFill>
                <a:latin typeface="Impact"/>
              </a:rPr>
              <a:t>КАЛЕНДАРЬ И ХОЗЯЙСТВЕННЫЙ ЦИКЛ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611280" y="6021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Давлетова Е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7680" y="456840"/>
            <a:ext cx="3929040" cy="841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Impact"/>
              </a:rPr>
              <a:t>ЛЕТО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53" name="Содержимое 4" descr="594861903.jpg"/>
          <p:cNvPicPr/>
          <p:nvPr/>
        </p:nvPicPr>
        <p:blipFill>
          <a:blip r:embed="rId1"/>
          <a:stretch/>
        </p:blipFill>
        <p:spPr>
          <a:xfrm>
            <a:off x="1157400" y="2286000"/>
            <a:ext cx="3165480" cy="3619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986000" y="2286000"/>
            <a:ext cx="359244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Я соткано из зноя ,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Несу тепло с собою,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Я реку согреваю,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Купаться приглашаю,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И любите за это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Вы все меня, Я… 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5929200" cy="10717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Impact"/>
              </a:rPr>
              <a:t>ПРИЗНАКИ ЛЕТА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56" name="Содержимое 9" descr="32369-src.jpg"/>
          <p:cNvPicPr/>
          <p:nvPr/>
        </p:nvPicPr>
        <p:blipFill>
          <a:blip r:embed="rId1"/>
          <a:stretch/>
        </p:blipFill>
        <p:spPr>
          <a:xfrm>
            <a:off x="4643280" y="1428840"/>
            <a:ext cx="4262760" cy="285732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8" descr="23.jpg"/>
          <p:cNvPicPr/>
          <p:nvPr/>
        </p:nvPicPr>
        <p:blipFill>
          <a:blip r:embed="rId2"/>
          <a:stretch/>
        </p:blipFill>
        <p:spPr>
          <a:xfrm>
            <a:off x="571680" y="3714840"/>
            <a:ext cx="4362120" cy="28969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>
            <a:off x="100800" y="1428840"/>
            <a:ext cx="508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 лужай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Бос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лнышком согре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цветастым мотыль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ибежало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5306040" y="4357800"/>
            <a:ext cx="392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купалось в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лежало на пес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гор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лет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 исчезло вдал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Облако 2"/>
          <p:cNvSpPr/>
          <p:nvPr/>
        </p:nvSpPr>
        <p:spPr>
          <a:xfrm>
            <a:off x="468360" y="549360"/>
            <a:ext cx="8001000" cy="5857920"/>
          </a:xfrm>
          <a:prstGeom prst="pie">
            <a:avLst/>
          </a:prstGeom>
          <a:solidFill>
            <a:srgbClr val="bdee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осен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сентябрь октябр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но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2786040" cy="100008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Impact"/>
              </a:rPr>
              <a:t>ОСЕНЬ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7280" y="1680840"/>
            <a:ext cx="419076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Несу я урожай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Поля вновь засева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Птиц к югу отправля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Деревья раздева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Но не касаюсь сосен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И ёлочек. Я…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3" name="Содержимое 4" descr="6920304605.jpg"/>
          <p:cNvPicPr/>
          <p:nvPr/>
        </p:nvPicPr>
        <p:blipFill>
          <a:blip r:embed="rId1"/>
          <a:stretch/>
        </p:blipFill>
        <p:spPr>
          <a:xfrm>
            <a:off x="4357800" y="1357200"/>
            <a:ext cx="4286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858000" cy="841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Impact"/>
              </a:rPr>
              <a:t>ПРИЗНАКИ ОСЕНИ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65" name="Содержимое 4" descr="619f17710d92f05511d7db953495fd72.jpg"/>
          <p:cNvPicPr/>
          <p:nvPr/>
        </p:nvPicPr>
        <p:blipFill>
          <a:blip r:embed="rId1"/>
          <a:stretch/>
        </p:blipFill>
        <p:spPr>
          <a:xfrm>
            <a:off x="944640" y="1859040"/>
            <a:ext cx="3781440" cy="3166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746240" y="2352600"/>
            <a:ext cx="4429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Улетели птицы разные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Смолк их звонкий перепев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А рябина осень празднует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Бусы красные надев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100" spc="-1" strike="noStrike">
                <a:solidFill>
                  <a:srgbClr val="2a1a00"/>
                </a:solidFill>
                <a:latin typeface="Impact"/>
              </a:rPr>
              <a:t>СЕЗОННЫЕ ПРОМЫСЛЫ НАРОДОВ ХАНТЫ И МАНСИ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68" name="Объект 5" descr=""/>
          <p:cNvPicPr/>
          <p:nvPr/>
        </p:nvPicPr>
        <p:blipFill>
          <a:blip r:embed="rId1"/>
          <a:stretch/>
        </p:blipFill>
        <p:spPr>
          <a:xfrm>
            <a:off x="5332320" y="1874880"/>
            <a:ext cx="3240360" cy="2130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s://i.ytimg.com/vi/E9LVc5e38JU/maxresdefault.jpg"/>
          <p:cNvPicPr/>
          <p:nvPr/>
        </p:nvPicPr>
        <p:blipFill>
          <a:blip r:embed="rId2"/>
          <a:stretch/>
        </p:blipFill>
        <p:spPr>
          <a:xfrm>
            <a:off x="1116000" y="2384280"/>
            <a:ext cx="4464000" cy="3048120"/>
          </a:xfrm>
          <a:prstGeom prst="rect">
            <a:avLst/>
          </a:prstGeom>
          <a:ln w="0">
            <a:noFill/>
          </a:ln>
        </p:spPr>
      </p:pic>
      <p:pic>
        <p:nvPicPr>
          <p:cNvPr id="270" name="Объект 6" descr=""/>
          <p:cNvPicPr/>
          <p:nvPr/>
        </p:nvPicPr>
        <p:blipFill>
          <a:blip r:embed="rId3"/>
          <a:stretch/>
        </p:blipFill>
        <p:spPr>
          <a:xfrm>
            <a:off x="4932360" y="4286160"/>
            <a:ext cx="31352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99800" y="142920"/>
            <a:ext cx="5715000" cy="13572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Impact"/>
              </a:rPr>
              <a:t>КРУГЛЫЙ ГОД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4360" y="164268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Какие времена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года вы знаете?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Назовите их по порядку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Как вы узнали каждое время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года?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Рисунок 5" descr="4Seasons-web.jpg"/>
          <p:cNvPicPr/>
          <p:nvPr/>
        </p:nvPicPr>
        <p:blipFill>
          <a:blip r:embed="rId1"/>
          <a:stretch/>
        </p:blipFill>
        <p:spPr>
          <a:xfrm>
            <a:off x="4067280" y="1644480"/>
            <a:ext cx="47116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63416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2a1a00"/>
                </a:solidFill>
                <a:latin typeface="Impact"/>
              </a:rPr>
              <a:t>ЗАДАНИЕ</a:t>
            </a:r>
            <a:endParaRPr b="0" lang="en-US" sz="1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39800" y="691920"/>
            <a:ext cx="763416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Нарисуй любимое время года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6" name="Рисунок 6" descr=""/>
          <p:cNvPicPr/>
          <p:nvPr/>
        </p:nvPicPr>
        <p:blipFill>
          <a:blip r:embed="rId1"/>
          <a:stretch/>
        </p:blipFill>
        <p:spPr>
          <a:xfrm>
            <a:off x="971640" y="1635120"/>
            <a:ext cx="3862440" cy="26510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8" descr=""/>
          <p:cNvPicPr/>
          <p:nvPr/>
        </p:nvPicPr>
        <p:blipFill>
          <a:blip r:embed="rId3"/>
          <a:stretch/>
        </p:blipFill>
        <p:spPr>
          <a:xfrm>
            <a:off x="1212840" y="4149720"/>
            <a:ext cx="3456000" cy="24652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"/>
          <p:cNvPicPr/>
          <p:nvPr/>
        </p:nvPicPr>
        <p:blipFill>
          <a:blip r:embed="rId4"/>
          <a:stretch/>
        </p:blipFill>
        <p:spPr>
          <a:xfrm>
            <a:off x="5321160" y="2701800"/>
            <a:ext cx="30686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Облако 3"/>
          <p:cNvSpPr/>
          <p:nvPr/>
        </p:nvSpPr>
        <p:spPr>
          <a:xfrm>
            <a:off x="357120" y="571680"/>
            <a:ext cx="8358120" cy="5929200"/>
          </a:xfrm>
          <a:prstGeom prst="pie">
            <a:avLst/>
          </a:prstGeom>
          <a:solidFill>
            <a:srgbClr val="bdee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зим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декабр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январ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февра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14760" y="213840"/>
            <a:ext cx="3929040" cy="10717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Impact"/>
              </a:rPr>
              <a:t>ЗИМА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4000" y="2349000"/>
            <a:ext cx="3592440" cy="36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Дел у меня немало - 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Я белым одеялом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Всю землю укрываю,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В лёд реки убираю,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Белю поля, дома,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Зовут меня …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4" name="Содержимое 4" descr="winter-gadget-0.jpg"/>
          <p:cNvPicPr/>
          <p:nvPr/>
        </p:nvPicPr>
        <p:blipFill>
          <a:blip r:embed="rId1"/>
          <a:stretch/>
        </p:blipFill>
        <p:spPr>
          <a:xfrm>
            <a:off x="4572000" y="1428840"/>
            <a:ext cx="4343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000920" cy="841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Impact"/>
              </a:rPr>
              <a:t>ПРИЗНАКИ ЗИМЫ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36" name="Содержимое 4" descr="7400050_835655_21879350_6198596_5328935.jpg"/>
          <p:cNvPicPr/>
          <p:nvPr/>
        </p:nvPicPr>
        <p:blipFill>
          <a:blip r:embed="rId1"/>
          <a:stretch/>
        </p:blipFill>
        <p:spPr>
          <a:xfrm>
            <a:off x="357120" y="1571760"/>
            <a:ext cx="4038840" cy="5000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986000" y="1915920"/>
            <a:ext cx="3592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холодная погода;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деревья без листьев, иногда со снежной шапкой на ветвях;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короткие дни и длинные ночи;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ледяная корка на лужах,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гололедица;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сугробы и снег;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низкие, серые, тяжелые облака; трескучие морозы;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Метелица и т.д.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700"/>
            </a:b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50104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2a1a00"/>
                </a:solidFill>
                <a:latin typeface="Impact"/>
              </a:rPr>
              <a:t>КАКИЕ ЗИМНИЕ ЗАБАВЫ ВЫ ЗНАЕТЕ?</a:t>
            </a:r>
            <a:br>
              <a:rPr sz="4000"/>
            </a:br>
            <a:endParaRPr b="0" lang="en-US" sz="40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39" name="Содержимое 4" descr="12179539_snow11.jpg"/>
          <p:cNvPicPr/>
          <p:nvPr/>
        </p:nvPicPr>
        <p:blipFill>
          <a:blip r:embed="rId1"/>
          <a:stretch/>
        </p:blipFill>
        <p:spPr>
          <a:xfrm>
            <a:off x="1154160" y="2286000"/>
            <a:ext cx="3171600" cy="3619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986000" y="2286000"/>
            <a:ext cx="359244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Среди нашего двора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Снеговик стоял вчера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Мы его слепили сами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Был он с пышными усами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А сегодня за окном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Потекли ручьи кругом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Ночью снеговик исчез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Может быть ушёл он в      лес?                  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785960" y="142920"/>
            <a:ext cx="5786280" cy="9169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ЗИМНИЕ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Облако 4"/>
          <p:cNvSpPr/>
          <p:nvPr/>
        </p:nvSpPr>
        <p:spPr>
          <a:xfrm>
            <a:off x="500040" y="928800"/>
            <a:ext cx="8001000" cy="5429160"/>
          </a:xfrm>
          <a:prstGeom prst="pie">
            <a:avLst/>
          </a:prstGeom>
          <a:solidFill>
            <a:srgbClr val="bdee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вес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мар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апрел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м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3500280" cy="841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Impact"/>
              </a:rPr>
              <a:t>ВЕСНА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55640" y="1270080"/>
            <a:ext cx="359424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Я раскрываю почки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В зелёные листоч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Деревья одева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Посевы полива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Движения полна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Зовут меня …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5" name="Содержимое 4" descr="IMG_05853.jpg"/>
          <p:cNvPicPr/>
          <p:nvPr/>
        </p:nvPicPr>
        <p:blipFill>
          <a:blip r:embed="rId1"/>
          <a:stretch/>
        </p:blipFill>
        <p:spPr>
          <a:xfrm>
            <a:off x="4071960" y="1428840"/>
            <a:ext cx="4643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715080" cy="11556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Impact"/>
              </a:rPr>
              <a:t>ПРИЗНАКИ ВЕСНЫ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47" name="Содержимое 4" descr="19636042_1204725540_lazarenko_vt_vesna.jpg"/>
          <p:cNvPicPr/>
          <p:nvPr/>
        </p:nvPicPr>
        <p:blipFill>
          <a:blip r:embed="rId1"/>
          <a:stretch/>
        </p:blipFill>
        <p:spPr>
          <a:xfrm>
            <a:off x="942840" y="2611440"/>
            <a:ext cx="3594240" cy="296856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5" descr="38944009_02_vesna_2.jpg"/>
          <p:cNvPicPr/>
          <p:nvPr/>
        </p:nvPicPr>
        <p:blipFill>
          <a:blip r:embed="rId2"/>
          <a:stretch/>
        </p:blipFill>
        <p:spPr>
          <a:xfrm>
            <a:off x="4572000" y="1428840"/>
            <a:ext cx="4343400" cy="31431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684360" y="1336680"/>
            <a:ext cx="4111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изменени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роде проис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5000760" y="4714920"/>
            <a:ext cx="400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ает сне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жил лу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ень приб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огда это б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Облако 1"/>
          <p:cNvSpPr/>
          <p:nvPr/>
        </p:nvSpPr>
        <p:spPr>
          <a:xfrm>
            <a:off x="571680" y="571680"/>
            <a:ext cx="8072280" cy="5857560"/>
          </a:xfrm>
          <a:prstGeom prst="pie">
            <a:avLst/>
          </a:prstGeom>
          <a:solidFill>
            <a:srgbClr val="bdee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лет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июн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ию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авгу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39:27Z</dcterms:created>
  <dc:creator>саша</dc:creator>
  <dc:description/>
  <dc:language>en-US</dc:language>
  <cp:lastModifiedBy>Пользователь</cp:lastModifiedBy>
  <dcterms:modified xsi:type="dcterms:W3CDTF">2022-12-07T07:57:38Z</dcterms:modified>
  <cp:revision>86</cp:revision>
  <dc:subject/>
  <dc:title>Времена года</dc:title>
</cp:coreProperties>
</file>