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E067-22CC-4E30-BD73-91CB6558AC9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ДОБУ «Детский сад №8 «Сказка» г. Вол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 Ильюшкина Л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F9D-A143-444C-93B9-40E3825FC74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98E-68FC-4364-96F6-57E7B70B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6E9-D1AC-4266-889F-C06080AC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61F-E5DD-4FB3-AA8A-D65DA903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B2F-2ED3-4EC6-BB7B-AEC4D0AA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E9D-9BD2-42F1-9D32-AF423D0A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1D4-3C47-4411-A13A-9748BFB0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9AB-9BF5-41AE-8DE7-4E9B463B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1A2-15E6-47B0-B947-8DDFDE10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44F-2C6E-4FCE-B4E8-7DBC012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5EB-8B14-4284-9D4E-A802BAA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726-A8A4-432C-82B8-6AAFCA8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751-A746-4F76-8434-A9B47DA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AB0-BE6B-4FAD-837A-9D91B4705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9040" y="189000"/>
            <a:ext cx="7772400" cy="5327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57200" y="507168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17b7c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17b7c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e17b7c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ши маленькие помощ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zZ\Desktop\а.Ю\12 001.jpg"/>
          <p:cNvPicPr/>
          <p:nvPr/>
        </p:nvPicPr>
        <p:blipFill>
          <a:blip r:embed="rId1"/>
          <a:stretch/>
        </p:blipFill>
        <p:spPr>
          <a:xfrm>
            <a:off x="2050920" y="1114560"/>
            <a:ext cx="51850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zZ\Desktop\а.Ю\13 001.jpg"/>
          <p:cNvPicPr/>
          <p:nvPr/>
        </p:nvPicPr>
        <p:blipFill>
          <a:blip r:embed="rId1"/>
          <a:stretch/>
        </p:blipFill>
        <p:spPr>
          <a:xfrm>
            <a:off x="1403280" y="189000"/>
            <a:ext cx="633744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2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32d2e"/>
                </a:solidFill>
                <a:uFillTx/>
                <a:latin typeface="Calibri"/>
              </a:rPr>
              <a:t>  </a:t>
            </a:r>
            <a:r>
              <a:rPr b="0" lang="ru-RU" sz="3600" spc="-1" strike="noStrike" u="sng">
                <a:solidFill>
                  <a:srgbClr val="c32d2e"/>
                </a:solidFill>
                <a:uFillTx/>
                <a:latin typeface="Calibri"/>
              </a:rPr>
              <a:t>На кухне с мамой интересно и полезн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764640"/>
            <a:ext cx="8229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32d2e"/>
                </a:solidFill>
                <a:latin typeface="Calibri"/>
              </a:rPr>
              <a:t>Пребывание ребенка на кухне будет способствовать развитию его воображения, росту интереса к домашним делам. В дальнейшем ребенок будет стараться стать более самостоятельным, помогать Вам,  радовать и делать приятное родным и близки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3296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Очень много времени взрослые, особенно мамы и бабушки, проводят на кухне. Рано или поздно родители сталкиваются с одной проблемой — как одновременно готовить обед и не оставлять ребенка без присмотра, не прибегая к помощи телевизора и компьютера.  Время на кухне может стать уникальной возможностью провести несколько драгоценных часов с детьми перед тем, как все соберутся к ужину. Вы обнаружите, как легко и увлекательно занимать ребенка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Вашему вниманию предлагаем несколько полезных игр, которые </a:t>
            </a:r>
            <a:r>
              <a:rPr b="0" i="1" lang="ru-RU" sz="2400" spc="-1" strike="noStrike">
                <a:solidFill>
                  <a:srgbClr val="180397"/>
                </a:solidFill>
                <a:latin typeface="Calibri"/>
              </a:rPr>
              <a:t>способствуют развитию детской речи, обогащению словар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32d2e"/>
                </a:solidFill>
                <a:latin typeface="Calibri"/>
              </a:rPr>
              <a:t>Помоги маме</a:t>
            </a:r>
            <a:br>
              <a:rPr sz="4400"/>
            </a:br>
            <a:r>
              <a:rPr b="1" i="1" lang="ru-RU" sz="2800" spc="-1" strike="noStrike">
                <a:solidFill>
                  <a:srgbClr val="475a8d"/>
                </a:solidFill>
                <a:latin typeface="Calibri"/>
              </a:rPr>
              <a:t>Цель: развивать мелкую моторику рук, расширять знания о разнообразии и пользе кру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5776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Предложите ребёнку перебрать горох, рис, гречку. Тем самым он окажет Вам посильную помощь и потренирует свои пальчики.</a:t>
            </a:r>
            <a:br>
              <a:rPr sz="3200"/>
            </a:b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11" descr="http://im4-tub-ru.yandex.net/i?id=227358546-13-72&amp;n=21"/>
          <p:cNvPicPr/>
          <p:nvPr/>
        </p:nvPicPr>
        <p:blipFill>
          <a:blip r:embed="rId1"/>
          <a:stretch/>
        </p:blipFill>
        <p:spPr>
          <a:xfrm>
            <a:off x="762120" y="2389320"/>
            <a:ext cx="337176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оищем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лова</a:t>
            </a:r>
            <a:br>
              <a:rPr sz="4400"/>
            </a:br>
            <a:r>
              <a:rPr b="1" i="1" lang="ru-RU" sz="3200" spc="-1" strike="noStrike">
                <a:solidFill>
                  <a:srgbClr val="475a8d"/>
                </a:solidFill>
                <a:latin typeface="Calibri"/>
              </a:rPr>
              <a:t>Цель: закрепление активного словаря детей на тему «Ов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84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222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223"/>
                </a:solidFill>
                <a:latin typeface="Calibri"/>
              </a:rPr>
              <a:t>Спросите у ребёнка, какие слова можно вынуть из винегрета, борщ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9222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22223"/>
                </a:solidFill>
                <a:latin typeface="Calibri"/>
              </a:rPr>
              <a:t>Ребёнок перечисляет овощи, из которых готовятся блю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http://im2-tub-ru.yandex.net/i?id=110780129-40-72&amp;n=21"/>
          <p:cNvPicPr/>
          <p:nvPr/>
        </p:nvPicPr>
        <p:blipFill>
          <a:blip r:embed="rId1"/>
          <a:stretch/>
        </p:blipFill>
        <p:spPr>
          <a:xfrm>
            <a:off x="5943600" y="1596960"/>
            <a:ext cx="2724120" cy="207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Назови слово со звуком «К»</a:t>
            </a:r>
            <a:br>
              <a:rPr sz="4000"/>
            </a:br>
            <a:r>
              <a:rPr b="1" i="1" lang="ru-RU" sz="2900" spc="-1" strike="noStrike">
                <a:solidFill>
                  <a:srgbClr val="475a8d"/>
                </a:solidFill>
                <a:latin typeface="Calibri"/>
              </a:rPr>
              <a:t>Цель: совершенствование фонемных уменй и навыков ( </a:t>
            </a:r>
            <a:r>
              <a:rPr b="1" i="1" lang="ru-RU" sz="2000" spc="-1" strike="noStrike">
                <a:solidFill>
                  <a:srgbClr val="475a8d"/>
                </a:solidFill>
                <a:latin typeface="Calibri"/>
              </a:rPr>
              <a:t>работа  со звуком «К», его позицией в слов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773360"/>
            <a:ext cx="81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Предложите сыну или дочке поискать в окружающих предметах слова , в которых есть звук </a:t>
            </a:r>
            <a:r>
              <a:rPr b="1" lang="ru-RU" sz="3200" spc="-1" strike="noStrike">
                <a:solidFill>
                  <a:srgbClr val="964305"/>
                </a:solidFill>
                <a:latin typeface="Calibri"/>
              </a:rPr>
              <a:t>К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 (в начале, середине или в конце слов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Ребёнок находит и называет предметы: стаКан, Кастрюля, салфетКа, Кружка, шКаф, сКоворода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Давай посчитаем</a:t>
            </a:r>
            <a:br>
              <a:rPr sz="4000"/>
            </a:br>
            <a:r>
              <a:rPr b="1" i="1" lang="ru-RU" sz="2500" spc="-1" strike="noStrike">
                <a:solidFill>
                  <a:srgbClr val="475a8d"/>
                </a:solidFill>
                <a:latin typeface="Calibri"/>
              </a:rPr>
              <a:t>Цель: упражнять в правильном согласовании  имени существительного с числительным и прилагательны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618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Предложите посчитать предметы на кухне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огласование числительного с существительным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1 стакан_, 2 стакан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а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, 3 …, 4 …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5 стакан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1 тарелк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а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, 2 тарелк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, 3 …, 4 …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5 тарел</a:t>
            </a:r>
            <a:r>
              <a:rPr b="0" i="1" lang="ru-RU" sz="3200" spc="-1" strike="noStrike" u="sng">
                <a:solidFill>
                  <a:srgbClr val="964305"/>
                </a:solidFill>
                <a:uFillTx/>
                <a:latin typeface="Calibri"/>
              </a:rPr>
              <a:t>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Приготовим</a:t>
            </a:r>
            <a:r>
              <a:rPr b="0" lang="ru-RU" sz="4000" spc="-1" strike="noStrike">
                <a:solidFill>
                  <a:srgbClr val="c32d2e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сок</a:t>
            </a:r>
            <a:br>
              <a:rPr sz="4000"/>
            </a:br>
            <a:r>
              <a:rPr b="1" i="1" lang="ru-RU" sz="2500" spc="-1" strike="noStrike">
                <a:solidFill>
                  <a:srgbClr val="475a8d"/>
                </a:solidFill>
                <a:latin typeface="Calibri"/>
              </a:rPr>
              <a:t>Цель:помочь ребенку образовывать однокоренное прилагательное от существительного при помощи вопроса «какой?»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779640" y="1773000"/>
            <a:ext cx="493524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Спросите у ребёнка, какой сок можно приготовит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апельсина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апельсинов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яблок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яблочн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моркови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морковн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груш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гру</a:t>
            </a:r>
            <a:r>
              <a:rPr b="0" i="1" lang="en-US" sz="3000" spc="-1" strike="noStrike">
                <a:solidFill>
                  <a:srgbClr val="964305"/>
                </a:solidFill>
                <a:latin typeface="Calibri"/>
              </a:rPr>
              <a:t>’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шев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слив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сли</a:t>
            </a:r>
            <a:r>
              <a:rPr b="0" i="1" lang="en-US" sz="3000" spc="-1" strike="noStrike">
                <a:solidFill>
                  <a:srgbClr val="964305"/>
                </a:solidFill>
                <a:latin typeface="Calibri"/>
              </a:rPr>
              <a:t>’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вов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из помидоров (</a:t>
            </a:r>
            <a:r>
              <a:rPr b="0" i="1" lang="ru-RU" sz="3000" spc="-1" strike="noStrike">
                <a:solidFill>
                  <a:srgbClr val="964305"/>
                </a:solidFill>
                <a:latin typeface="Calibri"/>
              </a:rPr>
              <a:t>томатный</a:t>
            </a:r>
            <a:r>
              <a:rPr b="0" lang="ru-RU" sz="3000" spc="-1" strike="noStrike">
                <a:solidFill>
                  <a:srgbClr val="964305"/>
                </a:solidFill>
                <a:latin typeface="Calibri"/>
              </a:rPr>
              <a:t>) 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https://encrypted-tbn0.gstatic.com/images?q=tbn:ANd9GcTCvVdsgMURwf5xJRSR5rijGfvv_wZmFJcxOI5sOg1KeIbx9bQ4uQ"/>
          <p:cNvPicPr/>
          <p:nvPr/>
        </p:nvPicPr>
        <p:blipFill>
          <a:blip r:embed="rId1"/>
          <a:stretch/>
        </p:blipFill>
        <p:spPr>
          <a:xfrm>
            <a:off x="225360" y="2541600"/>
            <a:ext cx="3213000" cy="224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Какая нужна посуда?</a:t>
            </a:r>
            <a:br>
              <a:rPr sz="4000"/>
            </a:br>
            <a:r>
              <a:rPr b="1" i="1" lang="ru-RU" sz="2800" spc="-1" strike="noStrike">
                <a:solidFill>
                  <a:srgbClr val="475a8d"/>
                </a:solidFill>
                <a:latin typeface="Calibri"/>
              </a:rPr>
              <a:t>Цель: обогащать словарь ребенка при помощи образования  однокоренных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просите у ребёнка, к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Вы с ним положит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хлеб  (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в хлебницу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елёдку (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в селёдочницу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ухари (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в сухарницу</a:t>
            </a: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http://im3-tub-ru.yandex.net/i?id=122117913-45-72&amp;n=21"/>
          <p:cNvPicPr/>
          <p:nvPr/>
        </p:nvPicPr>
        <p:blipFill>
          <a:blip r:embed="rId1"/>
          <a:stretch/>
        </p:blipFill>
        <p:spPr>
          <a:xfrm>
            <a:off x="5303880" y="3133800"/>
            <a:ext cx="28591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836640"/>
            <a:ext cx="8186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Calibri"/>
              </a:rPr>
              <a:t>Какая у нас посуда?</a:t>
            </a:r>
            <a:br>
              <a:rPr sz="4000"/>
            </a:br>
            <a:r>
              <a:rPr b="1" i="1" lang="ru-RU" sz="2800" spc="-1" strike="noStrike">
                <a:solidFill>
                  <a:srgbClr val="475a8d"/>
                </a:solidFill>
                <a:latin typeface="Calibri"/>
              </a:rPr>
              <a:t>Цель: обогащать словарь ребенка при помощи образования  однокоренных слов (от существительного образовать прилагательное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1859040"/>
            <a:ext cx="8004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4305"/>
                </a:solidFill>
                <a:latin typeface="Calibri"/>
              </a:rPr>
              <a:t>Выясните с детьми , из чего сделана посу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Стакан из стекла –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стекля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Чашка из фарфора –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фарфор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Тарелка из пластмассы –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пластмасс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Ложка из дерева –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деревя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4305"/>
                </a:solidFill>
                <a:latin typeface="Calibri"/>
              </a:rPr>
              <a:t>Кастрюля из металла - </a:t>
            </a:r>
            <a:r>
              <a:rPr b="0" i="1" lang="ru-RU" sz="3200" spc="-1" strike="noStrike">
                <a:solidFill>
                  <a:srgbClr val="964305"/>
                </a:solidFill>
                <a:latin typeface="Calibri"/>
              </a:rPr>
              <a:t>металли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2:24Z</dcterms:created>
  <dc:creator>Vl</dc:creator>
  <dc:description/>
  <dc:language>en-US</dc:language>
  <cp:lastModifiedBy>Sad</cp:lastModifiedBy>
  <dcterms:modified xsi:type="dcterms:W3CDTF">2022-12-07T12:11:19Z</dcterms:modified>
  <cp:revision>71</cp:revision>
  <dc:subject/>
  <dc:title>На кухне вместе с мам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6f0000000000010292010207f7000400038000</vt:lpwstr>
  </property>
</Properties>
</file>