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E73-E57E-4D0E-A7AF-68FBF7D0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8A8-FAC4-42DF-8B1A-D4A8E90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81E-7CE7-45F0-ABF2-517AEAE6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FDF-C6B9-4210-A39F-F0A07F3B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A726-3E4D-4D10-95B9-182C148F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AA82-0C31-4D54-A62C-933AB929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E28F-E358-4C3B-A3C8-B3DF6E56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6395-A152-458A-A7F3-F43BDF25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27E0-C365-47D5-AB59-72B11AC4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9BE5-1A0B-4141-9615-83A0676C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DB8D-3911-46CD-A9F4-4C7EA5F3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D54-1649-49ED-B73F-7F4AF615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51B6-662B-4585-99C7-A187CD17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5FCA-42D3-4DD9-A2BA-73E0DF73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57E8-569A-4CD5-A3F5-4CA32937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E9EE-2354-4100-9569-7BBCAF2B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6597-2D7F-47BB-B51D-8521084E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7AF-EFD0-42FB-A3B9-7E9DBD82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B45-DD82-452A-8C38-2956CAC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9A7-02F4-4253-8912-3CD1338B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4F2-C70B-4174-B86B-E331B927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20F-0C78-4418-8577-4D50A144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31E-2E67-40DF-8206-93F33985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382-02F6-4B45-A8F6-442D7484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B91C-BD33-42BB-934A-EFC89B36E7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31B8-4868-49B5-B17D-BBD2257CFB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Проблемная ситуация.</a:t>
            </a:r>
            <a:br>
              <a:rPr sz="4000"/>
            </a:b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Сравните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Н…куда поехать – н…куда не выезжа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Образование отрицательных нареч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 вопросительных наречий (где, куда, откуда и др.) с помощью приставок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е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и-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бразуются отрицательные нареч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де   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е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де и где   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этих наречиях под ударением пишется приставка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е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 а без ударения –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и</a:t>
            </a:r>
            <a:r>
              <a:rPr b="0" i="1" lang="ru-RU" sz="2800" spc="-1" strike="noStrike">
                <a:solidFill>
                  <a:srgbClr val="990000"/>
                </a:solidFill>
                <a:latin typeface="Tahoma"/>
              </a:rPr>
              <a:t>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пример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: Не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куда –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куда,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уда -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е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47640" y="350028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3851280" y="350028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6"/>
          <p:cNvSpPr/>
          <p:nvPr/>
        </p:nvSpPr>
        <p:spPr>
          <a:xfrm flipV="1">
            <a:off x="2268360" y="3284280"/>
            <a:ext cx="71640" cy="21564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 flipV="1">
            <a:off x="5076720" y="3284280"/>
            <a:ext cx="142920" cy="21564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3132000" y="4724280"/>
            <a:ext cx="144720" cy="21600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1"/>
          <p:cNvSpPr/>
          <p:nvPr/>
        </p:nvSpPr>
        <p:spPr>
          <a:xfrm flipV="1">
            <a:off x="5724360" y="4797000"/>
            <a:ext cx="71640" cy="14436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7451640" y="4724280"/>
            <a:ext cx="144720" cy="21744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3"/>
          <p:cNvSpPr/>
          <p:nvPr/>
        </p:nvSpPr>
        <p:spPr>
          <a:xfrm flipV="1">
            <a:off x="1187280" y="5229000"/>
            <a:ext cx="71640" cy="14436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1908000" y="3429000"/>
            <a:ext cx="36036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340000" y="3429000"/>
            <a:ext cx="0" cy="144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211640" y="3429000"/>
            <a:ext cx="43164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4643280" y="3429000"/>
            <a:ext cx="0" cy="144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771640" y="4869000"/>
            <a:ext cx="43200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3203640" y="4869000"/>
            <a:ext cx="0" cy="142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4788000" y="4869000"/>
            <a:ext cx="36036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5148360" y="4869000"/>
            <a:ext cx="0" cy="144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6443640" y="4869000"/>
            <a:ext cx="36036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804000" y="4869000"/>
            <a:ext cx="0" cy="144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900000" y="5300640"/>
            <a:ext cx="3589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1258920" y="5300640"/>
            <a:ext cx="0" cy="144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Tahoma"/>
              </a:rPr>
              <a:t>Физминутка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кропауза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утомлении гла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пко зажмурить глаза на 3-5 секунд, а затем открыть их на такое же время. Повторять 6-8 раз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 моргать в течение 10-12 секунд, открыть глаза, отдыхать 10-12 секунд. Повторять 3 раз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ное положение: сидя, закрыть веки, массировать их с помощью легких круговых движений пальца. Повторять в течении 20-30 секун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Семафо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99"/>
                </a:solidFill>
                <a:uFillTx/>
                <a:latin typeface="Tahoma"/>
              </a:rPr>
              <a:t>Задание в группах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: озаглавьте текст, вставьте подходящие по смыслу отрицательные наречия. Поставьте в них ударения и обозначьте приставки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1.Петя заблудился в лесу, но… (не)испугался. … групп ребят пошли на поиски Пе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2.Мальчик решил…(не)идти, а ждать, когда наступит утро. Спешить было…, и Петя устроил себе ночле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3.Пете все… было учиться ориентироваться на местности. …больше он (не)пойдет в лес, пока (не)научится находить дорог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лова для справок: 1)нисколько, несколько; 2)никуда, некуда; 3)некогда, никог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ahoma"/>
              </a:rPr>
              <a:t>Задание: спишите, графически обозначьте условия различия на письме НЕ и Н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79480"/>
            <a:ext cx="84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.Н…где не видно жилья.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2.Н…чем не измерить простора по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.Н…когда не предполагал, что ничего не пойму, ни с чем не соглашу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4.Н…сколько человек остановились на ночлег в гостиниц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5.»Нет, я не могу, мне н…когда», - нередко отвечал 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.Н..как не удавалось преодолеть эту вершин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Задание: распределите слова по двум колонкам – отрицательные наречия и отрицательные местоим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икто, нигде, нимало, никуда, нисколечко, ничуть, ничто, нипочем, никого, никем, никак, никому, некому, незачем, ни с кем, никакой, не с ч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Проверьт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Объект 2" descr=""/>
          <p:cNvPicPr/>
          <p:nvPr/>
        </p:nvPicPr>
        <p:blipFill>
          <a:blip r:embed="rId1"/>
          <a:stretch/>
        </p:blipFill>
        <p:spPr>
          <a:xfrm>
            <a:off x="360360" y="1000080"/>
            <a:ext cx="8326440" cy="5095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428760" y="883440"/>
            <a:ext cx="842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Задание на развитие быстроты реакции и мыш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Соедините части слов, записанные в два столб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Записать в тетради номера частей с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вовсе не                                       1)  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не                                                  2)  дов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недол                                            3)  лив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неле                                              4)  стро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5.неправ                                          5)  а зл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.него                                              6)  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7.невеж                                           7)  соко, а низ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8.не ту                                             8)  крас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9.не вы                                            9)  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0. не добрый                                 10)  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571680" y="571680"/>
            <a:ext cx="8143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твет. 1-8; 2-4; 3-10; 4-9; 5-1; 6-2; 7-3; 8-6; 9-7; 10-5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Вовсе не красиво; не строит; недолго; нелепо; неправда; негодовать; невежливый; не туда; не высоко, а низко; не добрый, а злой)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395280" y="623160"/>
            <a:ext cx="839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Вывод уро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5» – составить словарный диктант на тему: «Е и И в приставках отриц.нареч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4» – придумать 5 предложений с использованием отриц. нареч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3» – упр.2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Tahoma"/>
              </a:rPr>
              <a:t>Проверка домашнего зад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пишите, раскройте скобки и обозначьте орфограм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зговаривать (не)громко, а тихо; идти (не)уклюже; вовсе (не)интересно; рассчитать (не)точно, а приблизительно; говорил (не)торопливо; говорил (не)искренне; поступить(не)леп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Выво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Tahoma"/>
              </a:rPr>
              <a:t>Проверьте!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зговаривать  не громко, а тихо; идти неуклюже; вовсе не интересно; рассчитать не точно, а приблизительно; говорил неторопливо; говорил неискренне; поступить нелеп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Выво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Определим тему урока!</a:t>
            </a:r>
            <a:br>
              <a:rPr sz="4000"/>
            </a:b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Сравните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…кто ночью постучал в мою двер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…кто не встретил приехавш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Вставьте пропущенные бук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В какой морфеме пропущена орфограмм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Какой частью речи являются слов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8880" y="1700280"/>
            <a:ext cx="7702560" cy="13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Буквы Е и И в приставках НЕ- и НИ- отрицательных нареч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8520" y="4140000"/>
            <a:ext cx="770580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Цель урок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знакомство со способами образования отрицательных наречий и их правописанием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Сравните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…кто ночью постучал в мою двер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…кто не встретил приехавш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Вставьте пропущенные бук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В какой морфеме пропущена орфограмм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Какой частью речи являются слов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1:44:22Z</dcterms:created>
  <dc:creator>33 кабинет</dc:creator>
  <dc:description/>
  <dc:language>en-US</dc:language>
  <cp:lastModifiedBy>Дом</cp:lastModifiedBy>
  <dcterms:modified xsi:type="dcterms:W3CDTF">2019-02-06T16:17:24Z</dcterms:modified>
  <cp:revision>36</cp:revision>
  <dc:subject/>
  <dc:title>Буквы е и и в приставках не- и ни- отрицательных наречий</dc:title>
</cp:coreProperties>
</file>