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0AC-F668-48C1-8BA8-E0FC4F1A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F1B-20D2-4253-8C04-81A20F12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17F-D8BE-4987-8CBA-122EDA9F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B0D-72ED-4C00-9B41-1BDF8DFB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8521-35D6-4031-A84E-86F3AF82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1363-A825-49BF-B199-D40C6985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9C49-E0B6-4535-99E2-1C62762A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A13E-1C8B-4BA5-ADE6-50D39B6A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BA0F-5539-4DF5-A3EC-CA48666E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0F64-33B0-41D5-9E2A-29FF746C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5075-F1B0-48F7-A07A-26E52095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082-8AE8-4727-9BDB-6E4F60C2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8D0F-36D4-4947-A67E-E07D9802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FF57-B22A-4178-8B8A-B1643C72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1673-45F5-4355-B095-00402937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949E-F9C0-4B8C-BA01-6F4617CE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1CB6-DD18-46CF-94F6-A216D671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046-FAD9-400A-BD3A-5EE22793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5E3-17A8-4B4B-91DF-4CDC1534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F28-39B5-4BCE-829A-B51FDD8A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39B-BF52-43C9-80AB-629E167D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938-C7B5-42AA-B93C-641D02C7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30A-892A-4BE9-ABDA-266DFD6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D0D-237C-44F0-9C42-BA9144D7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C75E-B0E2-4029-83F6-154717783B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3093-2914-436D-9516-251E801569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Проблемная ситуация.</a:t>
            </a:r>
            <a:br>
              <a:rPr sz="4000"/>
            </a:b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Сравните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Н…куда поехать – н…куда не выезжа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Образование отрицательных нареч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 вопросительных наречий (где, куда, откуда и др.) с помощью приставок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е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и-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бразуются отрицательные нареч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де   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е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де и где   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этих наречиях под ударением пишется приставка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е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 а без ударения –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и</a:t>
            </a:r>
            <a:r>
              <a:rPr b="0" i="1" lang="ru-RU" sz="2800" spc="-1" strike="noStrike">
                <a:solidFill>
                  <a:srgbClr val="990000"/>
                </a:solidFill>
                <a:latin typeface="Tahoma"/>
              </a:rPr>
              <a:t>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пример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: Не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куда –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куда,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уда -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не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47640" y="350028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3851280" y="350028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6"/>
          <p:cNvSpPr/>
          <p:nvPr/>
        </p:nvSpPr>
        <p:spPr>
          <a:xfrm flipV="1">
            <a:off x="2268360" y="3284280"/>
            <a:ext cx="71640" cy="21564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 flipV="1">
            <a:off x="5076720" y="3284280"/>
            <a:ext cx="142920" cy="21564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3132000" y="4724280"/>
            <a:ext cx="144720" cy="21600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1"/>
          <p:cNvSpPr/>
          <p:nvPr/>
        </p:nvSpPr>
        <p:spPr>
          <a:xfrm flipV="1">
            <a:off x="5724360" y="4797000"/>
            <a:ext cx="71640" cy="14436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7451640" y="4724280"/>
            <a:ext cx="144720" cy="21744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3"/>
          <p:cNvSpPr/>
          <p:nvPr/>
        </p:nvSpPr>
        <p:spPr>
          <a:xfrm flipV="1">
            <a:off x="1187280" y="5229000"/>
            <a:ext cx="71640" cy="14436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1908000" y="3429000"/>
            <a:ext cx="36036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340000" y="3429000"/>
            <a:ext cx="0" cy="144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211640" y="3429000"/>
            <a:ext cx="43164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4643280" y="3429000"/>
            <a:ext cx="0" cy="144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771640" y="4869000"/>
            <a:ext cx="43200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3203640" y="4869000"/>
            <a:ext cx="0" cy="142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4788000" y="4869000"/>
            <a:ext cx="36036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5148360" y="4869000"/>
            <a:ext cx="0" cy="144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6443640" y="4869000"/>
            <a:ext cx="36036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804000" y="4869000"/>
            <a:ext cx="0" cy="144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900000" y="5300640"/>
            <a:ext cx="3589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1258920" y="5300640"/>
            <a:ext cx="0" cy="144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Tahoma"/>
              </a:rPr>
              <a:t>Физминутка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кропауза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утомлении гла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пко зажмурить глаза на 3-5 секунд, а затем открыть их на такое же время. Повторять 6-8 раз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 моргать в течение 10-12 секунд, открыть глаза, отдыхать 10-12 секунд. Повторять 3 раз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ное положение: сидя, закрыть веки, массировать их с помощью легких круговых движений пальца. Повторять в течении 20-30 секун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Семафо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99"/>
                </a:solidFill>
                <a:uFillTx/>
                <a:latin typeface="Tahoma"/>
              </a:rPr>
              <a:t>Задание в группах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: озаглавьте текст, вставьте подходящие по смыслу отрицательные наречия. Поставьте в них ударения и обозначьте приставки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1.Петя заблудился в лесу, но… (не)испугался. … групп ребят пошли на поиски Пе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2.Мальчик решил…(не)идти, а ждать, когда наступит утро. Спешить было…, и Петя устроил себе ночле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3.Пете все… было учиться ориентироваться на местности. …больше он (не)пойдет в лес, пока (не)научится находить дорог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лова для справок: 1)нисколько, несколько; 2)никуда, некуда; 3)некогда, никог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ahoma"/>
              </a:rPr>
              <a:t>Задание: спишите, графически обозначьте условия различия на письме НЕ и Н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79480"/>
            <a:ext cx="84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.Н…где не видно жилья.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2.Н…чем не измерить простора по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.Н…когда не предполагал, что ничего не пойму, ни с чем не соглашу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4.Н…сколько человек остановились на ночлег в гостиниц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5.»Нет, я не могу, мне н…когда», - нередко отвечал 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.Н..как не удавалось преодолеть эту вершин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Задание: распределите слова по двум колонкам – отрицательные наречия и отрицательные местоим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икто, нигде, нимало, никуда, нисколечко, ничуть, ничто, нипочем, никого, никем, никак, никому, некому, незачем, ни с кем, никакой, не с ч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Проверьт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Объект 2" descr=""/>
          <p:cNvPicPr/>
          <p:nvPr/>
        </p:nvPicPr>
        <p:blipFill>
          <a:blip r:embed="rId1"/>
          <a:stretch/>
        </p:blipFill>
        <p:spPr>
          <a:xfrm>
            <a:off x="360360" y="1000080"/>
            <a:ext cx="8326440" cy="5095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428760" y="883440"/>
            <a:ext cx="842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Задание на развитие быстроты реакции и мыш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Соедините части слов, записанные в два столб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Записать в тетради номера частей с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вовсе не                                       1)  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не                                                  2)  дов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недол                                            3)  лив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неле                                              4)  стро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5.неправ                                          5)  а зл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.него                                              6)  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7.невеж                                           7)  соко, а низ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8.не ту                                             8)  крас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9.не вы                                            9)  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0. не добрый                                 10)  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571680" y="571680"/>
            <a:ext cx="8143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твет. 1-8; 2-4; 3-10; 4-9; 5-1; 6-2; 7-3; 8-6; 9-7; 10-5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Вовсе не красиво; не строит; недолго; нелепо; неправда; негодовать; невежливый; не туда; не высоко, а низко; не добрый, а злой)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395280" y="623160"/>
            <a:ext cx="839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Вывод уро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5» – составить словарный диктант на тему: «Е и И в приставках отриц.нареч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4» – придумать 5 предложений с использованием отриц. нареч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3» – упр.2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Tahoma"/>
              </a:rPr>
              <a:t>Проверка домашнего зад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пишите, раскройте скобки и обозначьте орфограм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зговаривать (не)громко, а тихо; идти (не)уклюже; вовсе (не)интересно; рассчитать (не)точно, а приблизительно; говорил (не)торопливо; говорил (не)искренне; поступить(не)леп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Выво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Tahoma"/>
              </a:rPr>
              <a:t>Проверьте!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зговаривать  не громко, а тихо; идти неуклюже; вовсе не интересно; рассчитать не точно, а приблизительно; говорил неторопливо; говорил неискренне; поступить нелеп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Выво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Определим тему урока!</a:t>
            </a:r>
            <a:br>
              <a:rPr sz="4000"/>
            </a:b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Сравните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…кто ночью постучал в мою двер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…кто не встретил приехавш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Вставьте пропущенные бук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В какой морфеме пропущена орфограмм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Какой частью речи являются слов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8880" y="1700280"/>
            <a:ext cx="7702560" cy="13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Буквы Е и И в приставках НЕ- и НИ- отрицательных нареч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8520" y="4140000"/>
            <a:ext cx="770580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Цель урок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знакомство со способами образования отрицательных наречий и их правописанием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Сравните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…кто ночью постучал в мою двер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…кто не встретил приехавш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Вставьте пропущенные бук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В какой морфеме пропущена орфограмм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 Какой частью речи являются слов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1:44:22Z</dcterms:created>
  <dc:creator>33 кабинет</dc:creator>
  <dc:description/>
  <dc:language>en-US</dc:language>
  <cp:lastModifiedBy>Дом</cp:lastModifiedBy>
  <dcterms:modified xsi:type="dcterms:W3CDTF">2019-02-06T16:17:24Z</dcterms:modified>
  <cp:revision>36</cp:revision>
  <dc:subject/>
  <dc:title>Буквы е и и в приставках не- и ни- отрицательных наречий</dc:title>
</cp:coreProperties>
</file>