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3F28-0205-4312-9BE9-162A2D0A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7529-647F-4B67-96F3-C59295A2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6FF3-A749-4D38-B714-E780E258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D8F-D323-44A9-9ABD-D912C4FF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1326-74CE-472A-A561-7AD52035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B638-AEBD-46C4-9E5C-A4AF7C91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291D-1253-48AB-99B0-DFE17E5F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C613-675A-4E7A-BC3E-28A00B60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9E1B-F551-4880-BF5E-ADBCFB36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5388-98EB-44A5-86BB-DECD3699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1C9A-B867-45CE-A260-D46B0297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247E-DCB8-447F-A362-99228544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930D-50DB-43B4-96E7-DA8A507A9892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D769-3C5D-4C22-8466-49BA577BDC97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0123-6963-4AC6-8F6B-BC621725AE5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5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15b7"/>
                </a:solidFill>
                <a:latin typeface="Times New Roman"/>
                <a:ea typeface="Times New Roman"/>
              </a:rPr>
              <a:t>Социально -  коммуникативное развитие детей дошкольного возраста </a:t>
            </a:r>
            <a:br>
              <a:rPr sz="4000"/>
            </a:br>
            <a:r>
              <a:rPr b="1" lang="ru-RU" sz="4000" spc="-1" strike="noStrike">
                <a:solidFill>
                  <a:srgbClr val="2115b7"/>
                </a:solidFill>
                <a:latin typeface="Times New Roman"/>
                <a:ea typeface="Times New Roman"/>
              </a:rPr>
              <a:t>в условиях реализации ФГОС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43" name="Picture 2" descr="C:\Users\Админ\Desktop\anaokulu_1.jpg"/>
          <p:cNvPicPr/>
          <p:nvPr/>
        </p:nvPicPr>
        <p:blipFill>
          <a:blip r:embed="rId1"/>
          <a:stretch/>
        </p:blipFill>
        <p:spPr>
          <a:xfrm>
            <a:off x="1000080" y="2714760"/>
            <a:ext cx="7182000" cy="2786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7"/>
          <p:cNvSpPr/>
          <p:nvPr/>
        </p:nvSpPr>
        <p:spPr>
          <a:xfrm>
            <a:off x="5936760" y="571500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оспитатель : 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ыпко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О.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52E7-6E9C-454D-B94A-7ABED90F1664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Прямоугольник 5"/>
          <p:cNvSpPr/>
          <p:nvPr/>
        </p:nvSpPr>
        <p:spPr>
          <a:xfrm>
            <a:off x="457200" y="54936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Освоение общепринятых правил и норм. 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оспитывать элементарные навыки вежливого обращения, продолжать учиться здороваться и прощаться (по напоминанию взрослого);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Излагать собственные просьбы спокойно, употребляя слова «спасибо» и «пожалуйста»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F5AE-8CE3-4280-ABA4-861420850932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457200" y="549360"/>
            <a:ext cx="8229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Развитие целеноправленности, саморегуляции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Формировать умение спокойно вести себя в помещении и на улице: не шуметь, не бегать, выполнять просьбы взрослого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иучать детей не перебивать говорящего взрослого, уметь подождать, если взрослый занят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0853-908F-44AA-9E14-08BE3E8BD944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457200" y="54936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Формирование социальных представлений, умений и навыков.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Стрелка вниз 3"/>
          <p:cNvSpPr/>
          <p:nvPr/>
        </p:nvSpPr>
        <p:spPr>
          <a:xfrm rot="1215600">
            <a:off x="1512720" y="1630080"/>
            <a:ext cx="587520" cy="11523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Стрелка вниз 4"/>
          <p:cNvSpPr/>
          <p:nvPr/>
        </p:nvSpPr>
        <p:spPr>
          <a:xfrm rot="20566200">
            <a:off x="7073640" y="1647360"/>
            <a:ext cx="587160" cy="11527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174600" y="2820960"/>
            <a:ext cx="251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витие игровой деятельности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2262240" y="3402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витие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выков самообслуживания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Стрелка вниз 8"/>
          <p:cNvSpPr/>
          <p:nvPr/>
        </p:nvSpPr>
        <p:spPr>
          <a:xfrm rot="447600">
            <a:off x="3271680" y="2017800"/>
            <a:ext cx="587520" cy="11523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Стрелка вниз 9"/>
          <p:cNvSpPr/>
          <p:nvPr/>
        </p:nvSpPr>
        <p:spPr>
          <a:xfrm rot="21166800">
            <a:off x="5408280" y="1945800"/>
            <a:ext cx="587520" cy="115272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Прямоугольник 1"/>
          <p:cNvSpPr/>
          <p:nvPr/>
        </p:nvSpPr>
        <p:spPr>
          <a:xfrm>
            <a:off x="4865400" y="3454560"/>
            <a:ext cx="202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общение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 труду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6632280" y="2722680"/>
            <a:ext cx="23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ормирование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нов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езопасности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BFD9-2D2C-472C-A1BF-801EBBBB90D1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457200" y="549360"/>
            <a:ext cx="8229600" cy="40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Развитие навыков самообслуживания.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пособствовать развитию элементарных навыков самообслуживания; поддерживать стремление к самостоятельности при овладении навыками самообслуживания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Учить самостоятельно пить из чашки, правильно держать ложку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Учить детей одеваться и раздеваться в определённом порядке; при небольшой помощи взрослого снимать одежду, обувь (расстёгивать пуговицы спереди, застёжки на липучках); в определённом порядке аккуратно складывать снятую одежду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иучать к опрятности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0D40-6B6E-4C93-9FCC-4596F2645AF9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457200" y="549360"/>
            <a:ext cx="82296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риобщение к труду.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оздавать условия для приобщения детей к доступной трудовой деятельности. привлекать их к выполнению простейших трудовых действий: совместно с взрослым и под его контролем расставлять хлебницы (без хлеба), салфетницы, раскладывать ложки и пр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иучать поддерживать порядок в игровой комнате, по окончании игры расставлять игровой материал по местам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оощрять интерес детей к деятельности взрослых. Обращать внимание на то, что и как делает взрослый (как ухаживает за растениями (поливает) и животными (кормит); как дворник подметает двор, убирает снег; как столяр чинит беседку и т. д.), объяснять, зачем он выполняет те или иные действия.  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оспитывать уважительное отношение к труду взрослых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BAEA-9FFA-4943-9BE7-F2C5B6C3F553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466560" y="414360"/>
            <a:ext cx="822960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Формирование основ безопасности.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Знакомить детей с элементарными правилами безопасного поведения в природе (не подходить к незнакомым животным, не гладить их, не дразнить; не рвать и не брать в рот растения и пр.)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Знакомить с элементарными правилами безопасного поведения на дорогах.    -Формировать первичные представления о машинах, улице, дороге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Знакомить с некоторыми видами транспортных средств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Формировать первичные представления о безопасности собственной жизнедеятельности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Знакомить с предметным миром и правилами безопасного обращения с предметами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Знакомить с понятиями «можно» -«нельзя», «опасно»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Формировать представления о правилах безопасного поведения в играх с песком и водой (воду не пить, песком не бросаться и т. д.)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CC36-80D5-4DFD-95D3-CC124F2A3F30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457200" y="549360"/>
            <a:ext cx="822960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Развитие игровой деятельности.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Учить детей проявлять интерес к игровым действиям сверстников; помогать играть рядом, не мешать друг другу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Учить выполнять несколько действий с одним предметом и переносить знакомые действия с одного объекта на другой; выполнять с помощью взрослого несколько игровых действий, объединённых сюжетной канвой.                        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одействовать желанию детей самостоятельно подбирать игрушки и атрибуты для игры, использовать предметы – заместители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одводить детей к пониманию роли в игре. Формировать начальные навыки ролевого поведения; учить связывать сюжетные действия с ролью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86DD-1DDB-4159-B76B-CFF9104D43B5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731880" y="7300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оциально-коммуникативные игры.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Стрелка вниз 3"/>
          <p:cNvSpPr/>
          <p:nvPr/>
        </p:nvSpPr>
        <p:spPr>
          <a:xfrm rot="1215600">
            <a:off x="1512720" y="1630080"/>
            <a:ext cx="587520" cy="11523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Стрелка вниз 4"/>
          <p:cNvSpPr/>
          <p:nvPr/>
        </p:nvSpPr>
        <p:spPr>
          <a:xfrm rot="20566200">
            <a:off x="7073640" y="1647360"/>
            <a:ext cx="587160" cy="11527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174600" y="2820960"/>
            <a:ext cx="25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гры на сближение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Прямоугольник 7"/>
          <p:cNvSpPr/>
          <p:nvPr/>
        </p:nvSpPr>
        <p:spPr>
          <a:xfrm>
            <a:off x="1893960" y="329724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гры для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вития эмоции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Стрелка вниз 8"/>
          <p:cNvSpPr/>
          <p:nvPr/>
        </p:nvSpPr>
        <p:spPr>
          <a:xfrm rot="447600">
            <a:off x="3271680" y="2017800"/>
            <a:ext cx="587520" cy="11523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4" name="Стрелка вниз 9"/>
          <p:cNvSpPr/>
          <p:nvPr/>
        </p:nvSpPr>
        <p:spPr>
          <a:xfrm rot="21166800">
            <a:off x="5408280" y="1945800"/>
            <a:ext cx="587520" cy="115272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Прямоугольник 1"/>
          <p:cNvSpPr/>
          <p:nvPr/>
        </p:nvSpPr>
        <p:spPr>
          <a:xfrm>
            <a:off x="4722480" y="3270240"/>
            <a:ext cx="21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гры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 восприятие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6516000" y="2905200"/>
            <a:ext cx="220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гры на развитие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ммуникативных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выков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47C5-980C-461D-930C-B3629F34013A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03FA-24DA-4F78-8C88-7A2A0BF46F39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0" name="Picture 2" descr="https://2.bp.blogspot.com/-FOELgP3x9zQ/V1W_0nu-1PI/AAAAAAAABLI/F1XlyFZy4b4l4aR9kFlOzd_ThQSjOCyCwCLcB/s1600/veselyie-rebyata-shablon-prevyu-2.png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6"/>
          <p:cNvSpPr/>
          <p:nvPr/>
        </p:nvSpPr>
        <p:spPr>
          <a:xfrm>
            <a:off x="2268360" y="1593720"/>
            <a:ext cx="6985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1a1a"/>
                </a:solidFill>
                <a:latin typeface="Calibri"/>
              </a:rPr>
              <a:t>«Единственная настоящая роскошь - это роскошь человеческого общения».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Антуан де Сент - Экзюпери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0715-B76D-4876-9A44-717F56B6BABE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35DD-819D-4D51-82F6-FB3E39D875A0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539640" y="692280"/>
            <a:ext cx="8291520" cy="46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2115b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15b7"/>
                </a:solidFill>
                <a:latin typeface="Times New Roman"/>
                <a:ea typeface="Times New Roman"/>
              </a:rPr>
              <a:t>Социально - коммуникативное развитие в ДОУ:</a:t>
            </a:r>
            <a:br>
              <a:rPr sz="24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Формирование первичных ценностных представлений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раз Я,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равственное воспитание;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Развитие коммуникативных способностей: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витие общения, готовности к сотрудничеству,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ормирование детско – взрослого общества;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Развитие регулятор6ых способностей: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воение общепринятых правил и норм,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витие целеноправленности, саморегуляции;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Формирование социальных представлений, умений, навыков: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витие игровой деятельности,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витие навыков самообслуживания,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общение к труду,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ормирование основ безопасности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38C0-A17A-44A3-AEC2-CC24B2E700FB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293760" y="984600"/>
            <a:ext cx="836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Формирование первичных ценностных представлений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Стрелка вниз 1"/>
          <p:cNvSpPr/>
          <p:nvPr/>
        </p:nvSpPr>
        <p:spPr>
          <a:xfrm rot="1215600">
            <a:off x="2809800" y="2314440"/>
            <a:ext cx="585720" cy="115272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Стрелка вниз 4"/>
          <p:cNvSpPr/>
          <p:nvPr/>
        </p:nvSpPr>
        <p:spPr>
          <a:xfrm rot="19965600">
            <a:off x="5452560" y="2383920"/>
            <a:ext cx="551160" cy="115092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1951200" y="3724200"/>
            <a:ext cx="16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раз Я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4805280" y="3701880"/>
            <a:ext cx="253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равственное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спитание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D079-1240-433B-993C-5698D519D0C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457200" y="549360"/>
            <a:ext cx="822960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Образ Я.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Формировать у детей элементарные представления о себе, об изменении своего социального статуса (взрослении) в связи с началом посещения детского сада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Учить называть своё имя и возраст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Учить называть свой дом и квартиру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Называть имена членов своей семьи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пособствовать формированию личности ребёнка, проявляя уважительное отношение к его интересам, нуждам, желаниям, возможностям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Формировать у каждого ребёнка уверенность в том, что взрослые его любят, как и всех остальных детей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8BB4-00F4-4986-93E2-93182B2B9555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457200" y="549360"/>
            <a:ext cx="822960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равственное воспитание.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пособствовать усвоению детьми общепринятых морально – нравственных норм и ценностей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оспитывать отрицательное отношение к грубости, жадности; учить умению играть не ссорясь, помогать друг другу и вместе радоваться успехам, красивым игрушкам и т. п. формировать элементарные представления о том, что хорошо и что плохо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оспитывать эмоциональную отзывчивость на состояние близких людей (пожалеть, посочувствовать)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оспитывать внимательное отношение к родителям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71F6-09DA-4DD8-8681-ED09EE06B860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457200" y="54936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Развитие коммуникативных способностей.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Стрелка вниз 3"/>
          <p:cNvSpPr/>
          <p:nvPr/>
        </p:nvSpPr>
        <p:spPr>
          <a:xfrm rot="1215600">
            <a:off x="3025440" y="1766520"/>
            <a:ext cx="585720" cy="115236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Стрелка вниз 4"/>
          <p:cNvSpPr/>
          <p:nvPr/>
        </p:nvSpPr>
        <p:spPr>
          <a:xfrm rot="20566200">
            <a:off x="5234040" y="1762200"/>
            <a:ext cx="585720" cy="115236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1585800" y="3208320"/>
            <a:ext cx="251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витие общения, готовности к сотрудничеству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4932360" y="3208320"/>
            <a:ext cx="23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ормирование детско – взрослого общества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CECA-A820-434B-9075-211DED5E2F5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Прямоугольник 5"/>
          <p:cNvSpPr/>
          <p:nvPr/>
        </p:nvSpPr>
        <p:spPr>
          <a:xfrm>
            <a:off x="457200" y="54936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Развитие общения, готовности к сотрудничеству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Формировать у детей опыт поведения среди своих сверстников.                                    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пособствовать накоплению опыта доброжелательных взаимоотношений со сверстниками: обращать внимание детей на ребёнка, проявившего заботу о товарище, выразившего сочувствие к нему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62C2-AF51-4349-9AAF-F8F666C24154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430200" y="260280"/>
            <a:ext cx="8229600" cy="63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Формирование детско – взрослого общества. 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Формировать у детей положительное отношение к детскому саду (обращать их внимание на красоту и удобство оформления комнат, на множество книжек и игрушек, на возможность играть с детьми, подружиться с ними)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Учить детей узнавать свой детский сад, находить свою группу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оздавать условия, способствующие формированию доверия и любви к своим воспитателям, помощнику воспитателя и другим сотрудникам дошкольного учреждения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оспитывать чувство симпатии к сверстникам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бъяснять, что нельзя драться и обижать других детей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Учить ориентироваться в помещении своей группы, на участке; называть основные помещения, сооружения (групповая комната, лестница, веранда, песочница, горка)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одействовать созданию эмоционально – положительного в группе и детском саду, обеспечению у детей чувства комфорта и защищённости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ивлекать детей к пассивному участию в играх, забавах, развлечениях и праздниках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9DB3-C7C3-48F3-BEBF-0BE17F1B3F49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457200" y="54936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Развитие регуляторных способностей.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Стрелка вниз 3"/>
          <p:cNvSpPr/>
          <p:nvPr/>
        </p:nvSpPr>
        <p:spPr>
          <a:xfrm rot="1215600">
            <a:off x="3025440" y="1766520"/>
            <a:ext cx="585720" cy="115236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Стрелка вниз 4"/>
          <p:cNvSpPr/>
          <p:nvPr/>
        </p:nvSpPr>
        <p:spPr>
          <a:xfrm rot="20566200">
            <a:off x="5234040" y="1762200"/>
            <a:ext cx="585720" cy="115236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1585800" y="3208320"/>
            <a:ext cx="251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воение общепринятых правил и норм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Прямоугольник 7"/>
          <p:cNvSpPr/>
          <p:nvPr/>
        </p:nvSpPr>
        <p:spPr>
          <a:xfrm>
            <a:off x="4502160" y="3208320"/>
            <a:ext cx="31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витие целеноправленности,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аморегуляции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8:35:13Z</dcterms:created>
  <dc:creator>mihail and olga</dc:creator>
  <dc:description>http://aida.ucoz.ru</dc:description>
  <dc:language>en-US</dc:language>
  <cp:lastModifiedBy>User</cp:lastModifiedBy>
  <dcterms:modified xsi:type="dcterms:W3CDTF">2022-12-07T11:01:10Z</dcterms:modified>
  <cp:revision>63</cp:revision>
  <dc:subject/>
  <dc:title>Слайд 1</dc:title>
</cp:coreProperties>
</file>