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330-EAED-4A29-9A5F-8FC07E3F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830-DAC1-484D-ABC6-A6BF60BA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A59-C798-4588-9E55-7D7FD105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C0B-DC3E-404E-8E0B-F858AAEF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EA3-394D-4621-B107-1CC78A1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4A2-1895-4A97-A965-CFEB8D54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807-FAC6-401A-8F4E-80DA0AD9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851-C0F6-43BB-B5BB-9112904A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520-5634-409B-B10A-EDF7C51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CFA-F55F-4944-B665-1E08C22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545-F228-4301-A543-D6CB52D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499-1C64-479B-A90C-C79B8D6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891-A8A3-4F0A-B03F-EB81BF533FD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894-7540-4549-9F85-8479E502F02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B9A7-4BFB-47FD-8F0E-4FE3A1A569E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5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оциально -  коммуникативное развитие детей дошкольного возраста </a:t>
            </a:r>
            <a:br>
              <a:rPr sz="4000"/>
            </a:br>
            <a:r>
              <a:rPr b="1" lang="ru-RU" sz="40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в условиях реализации ФГОС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3" name="Picture 2" descr="C:\Users\Админ\Desktop\anaokulu_1.jpg"/>
          <p:cNvPicPr/>
          <p:nvPr/>
        </p:nvPicPr>
        <p:blipFill>
          <a:blip r:embed="rId1"/>
          <a:stretch/>
        </p:blipFill>
        <p:spPr>
          <a:xfrm>
            <a:off x="1000080" y="2714760"/>
            <a:ext cx="71820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5936760" y="5715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спитатель :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ыпко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О.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E3E-9C87-4F8F-A11F-4C7B9176366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57200" y="54936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своение общепринятых правил и норм. 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элементарные навыки вежливого обращения, продолжать учиться здороваться и прощаться (по напоминанию взрослого);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злагать собственные просьбы спокойно, употребляя слова «спасибо» и «пожалуйста»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EAD-68C2-4A6E-8078-985359D8C45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57200" y="54936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целеноправленности, саморегуляции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мение спокойно вести себя в помещении и на улице: не шуметь, не бегать, выполнять просьбы взрослого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детей не перебивать говорящего взрослого, уметь подождать, если взрослый заня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332-5C1C-4CD5-AD4F-47EF8AB5022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57200" y="5493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ирование социальных представлений, умений и навыков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Стрелка вниз 3"/>
          <p:cNvSpPr/>
          <p:nvPr/>
        </p:nvSpPr>
        <p:spPr>
          <a:xfrm rot="1215600">
            <a:off x="1512720" y="163008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Стрелка вниз 4"/>
          <p:cNvSpPr/>
          <p:nvPr/>
        </p:nvSpPr>
        <p:spPr>
          <a:xfrm rot="20566200">
            <a:off x="7073640" y="1647360"/>
            <a:ext cx="587160" cy="1152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74600" y="2820960"/>
            <a:ext cx="25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игровой деятельнос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262240" y="3402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выков самообслуживания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Стрелка вниз 8"/>
          <p:cNvSpPr/>
          <p:nvPr/>
        </p:nvSpPr>
        <p:spPr>
          <a:xfrm rot="447600">
            <a:off x="3271680" y="201780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Стрелка вниз 9"/>
          <p:cNvSpPr/>
          <p:nvPr/>
        </p:nvSpPr>
        <p:spPr>
          <a:xfrm rot="21166800">
            <a:off x="5408280" y="1945800"/>
            <a:ext cx="587520" cy="1152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4865400" y="34545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труду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6632280" y="272268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зопасност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AA2-8EC5-4703-AF92-F37DD7A1F32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457200" y="549360"/>
            <a:ext cx="8229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навыков самообслуживания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развитию элементарных навыков самообслуживания; поддерживать стремление к самостоятельности при овладении навыками самообслуживания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самостоятельно пить из чашки, правильно держать ложк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одеваться и раздеваться в определённом порядке; при небольшой помощи взрослого снимать одежду, обувь (расстёгивать пуговицы спереди, застёжки на липучках); в определённом порядке аккуратно складывать снятую одежд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к опрятност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032F-FE41-4251-B9B5-19DB0FBD7F8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57200" y="54936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общение к труду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здавать условия для приобщения детей к доступной трудовой деятельности. привлекать их к выполнению простейших трудовых действий: совместно с взрослым и под его контролем расставлять хлебницы (без хлеба), салфетницы, раскладывать ложки и пр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учать поддерживать порядок в игровой комнате, по окончании игры расставлять игровой материал по местам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ощрять интерес детей к деятельности взрослых. Обращать внимание на то, что и как делает взрослый (как ухаживает за растениями (поливает) и животными (кормит); как дворник подметает двор, убирает снег; как столяр чинит беседку и т. д.), объяснять, зачем он выполняет те или иные действия.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уважительное отношение к труду взрослых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DA3-DE83-49CB-89E5-5FB8C927F80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66560" y="414360"/>
            <a:ext cx="82296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ормирование основ безопасности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детей с элементарными правилами безопасного поведения в природе (не подходить к незнакомым животным, не гладить их, не дразнить; не рвать и не брать в рот растения и пр.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элементарными правилами безопасного поведения на дорогах.    -Формировать первичные представления о машинах, улице, дороге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некоторыми видами транспортных средств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первичные представления о безопасности собственной жизнедеятельности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предметным миром и правилами безопасного обращения с предметами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накомить с понятиями «можно» -«нельзя», «опасно»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представления о правилах безопасного поведения в играх с песком и водой (воду не пить, песком не бросаться и т. д.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A8CF-8A76-4E78-9EBE-B06AAB6E6E9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57200" y="549360"/>
            <a:ext cx="82296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игровой деятельности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проявлять интерес к игровым действиям сверстников; помогать играть рядом, не мешать друг друг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выполнять несколько действий с одним предметом и переносить знакомые действия с одного объекта на другой; выполнять с помощью взрослого несколько игровых действий, объединённых сюжетной канвой.                      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йствовать желанию детей самостоятельно подбирать игрушки и атрибуты для игры, использовать предметы – заместител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дводить детей к пониманию роли в игре. Формировать начальные навыки ролевого поведения; учить связывать сюжетные действия с ролью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648-A311-423F-BBA6-CF3E6B136E2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731880" y="730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циально-коммуникативные игры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Стрелка вниз 3"/>
          <p:cNvSpPr/>
          <p:nvPr/>
        </p:nvSpPr>
        <p:spPr>
          <a:xfrm rot="1215600">
            <a:off x="1512720" y="163008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Стрелка вниз 4"/>
          <p:cNvSpPr/>
          <p:nvPr/>
        </p:nvSpPr>
        <p:spPr>
          <a:xfrm rot="20566200">
            <a:off x="7073640" y="1647360"/>
            <a:ext cx="587160" cy="1152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74600" y="2820960"/>
            <a:ext cx="25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на сближен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1893960" y="32972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для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я эмоц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Стрелка вниз 8"/>
          <p:cNvSpPr/>
          <p:nvPr/>
        </p:nvSpPr>
        <p:spPr>
          <a:xfrm rot="447600">
            <a:off x="3271680" y="2017800"/>
            <a:ext cx="587520" cy="11523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 rot="21166800">
            <a:off x="5408280" y="1945800"/>
            <a:ext cx="587520" cy="1152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4722480" y="327024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восприят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6516000" y="2905200"/>
            <a:ext cx="22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ы на развити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муникативных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в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1B60-D218-4724-9C69-1BC20EAABF7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8A0-4CEA-484D-981B-AB7396BEB0E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2" descr="https://2.bp.blogspot.com/-FOELgP3x9zQ/V1W_0nu-1PI/AAAAAAAABLI/F1XlyFZy4b4l4aR9kFlOzd_ThQSjOCyCwCLcB/s1600/veselyie-rebyata-shablon-prevyu-2.pn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"/>
          <p:cNvSpPr/>
          <p:nvPr/>
        </p:nvSpPr>
        <p:spPr>
          <a:xfrm>
            <a:off x="2268360" y="159372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1a1a"/>
                </a:solidFill>
                <a:latin typeface="Calibri"/>
              </a:rPr>
              <a:t>«Единственная настоящая роскошь - это роскошь человеческого общения»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Антуан де Сент - Экзюпери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676-4B2A-4FF1-8C03-28ADE949434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22E-60DF-430B-9D19-58E751D49F5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539640" y="692280"/>
            <a:ext cx="829152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2115b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15b7"/>
                </a:solidFill>
                <a:latin typeface="Times New Roman"/>
                <a:ea typeface="Times New Roman"/>
              </a:rPr>
              <a:t>Социально - коммуникативное развитие в ДОУ:</a:t>
            </a:r>
            <a:br>
              <a:rPr sz="24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Формирование первичных ценностных представлени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Я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равственное воспитание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коммуникативных способностей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общения, готовности к сотрудничеству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детско – взрослого общества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Развитие регулятор6ых способностей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воение общепринятых правил и норм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целеноправленности, саморегуляции;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Формирование социальных представлений, умений, навыков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игровой деятельности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навыков самообслуживания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е к труду,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основ безопас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56B-ABF7-416D-AD47-A62FCEFD3E8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93760" y="9846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Формирование первичных ценностных представлений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Стрелка вниз 1"/>
          <p:cNvSpPr/>
          <p:nvPr/>
        </p:nvSpPr>
        <p:spPr>
          <a:xfrm rot="1215600">
            <a:off x="2809800" y="2314440"/>
            <a:ext cx="585720" cy="1152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Стрелка вниз 4"/>
          <p:cNvSpPr/>
          <p:nvPr/>
        </p:nvSpPr>
        <p:spPr>
          <a:xfrm rot="19965600">
            <a:off x="5452560" y="2383920"/>
            <a:ext cx="551160" cy="11509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951200" y="372420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805280" y="3701880"/>
            <a:ext cx="25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равственное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C0B-EF7C-4CAC-B2DA-FD1BF6E4FDE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57200" y="54936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браз Я.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элементарные представления о себе, об изменении своего социального статуса (взрослении) в связи с началом посещения детского сад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называть своё имя и возра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называть свой дом и квартир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зывать имена членов своей семь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формированию личности ребёнка, проявляя уважительное отношение к его интересам, нуждам, желаниям, возможностям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каждого ребёнка уверенность в том, что взрослые его любят, как и всех остальных дет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37A1-B7B1-4FBC-AA88-23A256484D2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57200" y="549360"/>
            <a:ext cx="82296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равственное воспитание.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усвоению детьми общепринятых морально – нравственных норм и ценностей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отрицательное отношение к грубости, жадности; учить умению играть не ссорясь, помогать друг другу и вместе радоваться успехам, красивым игрушкам и т. п. формировать элементарные представления о том, что хорошо и что плохо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эмоциональную отзывчивость на состояние близких людей (пожалеть, посочувствовать)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внимательное отношение к родителям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E79-1C23-4452-9BEC-2E2127AA54A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457200" y="5493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коммуникативных способност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Стрелка вниз 3"/>
          <p:cNvSpPr/>
          <p:nvPr/>
        </p:nvSpPr>
        <p:spPr>
          <a:xfrm rot="1215600">
            <a:off x="3025440" y="176652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Стрелка вниз 4"/>
          <p:cNvSpPr/>
          <p:nvPr/>
        </p:nvSpPr>
        <p:spPr>
          <a:xfrm rot="20566200">
            <a:off x="5234040" y="176220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585800" y="3208320"/>
            <a:ext cx="251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общения, готовности к сотрудничеству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932360" y="32083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детско – взрослого обществ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879-FAC4-4911-B507-E940588222F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57200" y="5493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общения, готовности к сотрудничеству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опыт поведения среди своих сверстников.                                   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особствовать накоплению опыта доброжелательных взаимоотношений со сверстниками: обращать внимание детей на ребёнка, проявившего заботу о товарище, выразившего сочувствие к нему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C2DC-083C-4E23-9626-66592082307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430200" y="260280"/>
            <a:ext cx="822960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ормирование детско – взрослого общества.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ормировать у детей положительное отношение к детскому саду (обращать их внимание на красоту и удобство оформления комнат, на множество книжек и игрушек, на возможность играть с детьми, подружиться с ними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детей узнавать свой детский сад, находить свою групп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здавать условия, способствующие формированию доверия и любви к своим воспитателям, помощнику воспитателя и другим сотрудникам дошкольного учреждени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спитывать чувство симпатии к сверстникам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ъяснять, что нельзя драться и обижать других дете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Учить ориентироваться в помещении своей группы, на участке; называть основные помещения, сооружения (групповая комната, лестница, веранда, песочница, горка)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йствовать созданию эмоционально – положительного в группе и детском саду, обеспечению у детей чувства комфорта и защищённости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влекать детей к пассивному участию в играх, забавах, развлечениях и праздниках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6D7-CAB1-406D-B319-27F394D820B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457200" y="549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звитие регуляторных способност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Стрелка вниз 3"/>
          <p:cNvSpPr/>
          <p:nvPr/>
        </p:nvSpPr>
        <p:spPr>
          <a:xfrm rot="1215600">
            <a:off x="3025440" y="176652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Стрелка вниз 4"/>
          <p:cNvSpPr/>
          <p:nvPr/>
        </p:nvSpPr>
        <p:spPr>
          <a:xfrm rot="20566200">
            <a:off x="5234040" y="1762200"/>
            <a:ext cx="585720" cy="11523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1585800" y="3208320"/>
            <a:ext cx="25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воение общепринятых правил и норм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502160" y="3208320"/>
            <a:ext cx="31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целеноправленности,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регуляции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8:35:13Z</dcterms:created>
  <dc:creator>mihail and olga</dc:creator>
  <dc:description>http://aida.ucoz.ru</dc:description>
  <dc:language>en-US</dc:language>
  <cp:lastModifiedBy>User</cp:lastModifiedBy>
  <dcterms:modified xsi:type="dcterms:W3CDTF">2022-12-07T11:01:10Z</dcterms:modified>
  <cp:revision>63</cp:revision>
  <dc:subject/>
  <dc:title>Слайд 1</dc:title>
</cp:coreProperties>
</file>