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7C4-D009-4AB6-81FB-B0E23B8F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4DB-8ABE-4F28-843B-9BE0F81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D52-DB4A-443A-A76B-DEF63A3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943-44D5-414C-B39C-97441E70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C0D-B7E2-49ED-9266-C04133B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735-7074-40A8-A7F3-6F30921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544-4001-46FD-BC37-54F8A302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346-610F-4469-B086-D06D1F3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855-87CC-400E-9545-A3EEB9E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9F1-0CBB-4F8F-BE5C-8CD4BB2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A39-D764-43D4-841A-D6D08CB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66B-D392-42BE-BB21-9962F2C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B4B-6AE0-419E-A002-4C3374872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Животный мир Прибайка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53880" y="255600"/>
            <a:ext cx="8466120" cy="963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692360" y="2178000"/>
            <a:ext cx="62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ект в средней группе на тем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572000" y="5049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Автор: Нефедьева А.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презентации «Животные нашей тай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Users\Sad\Desktop\животные прибайкалья\IMG-3a22e864b0fb6aedefa04bc5f1179494-V.jpg"/>
          <p:cNvPicPr/>
          <p:nvPr/>
        </p:nvPicPr>
        <p:blipFill>
          <a:blip r:embed="rId1"/>
          <a:stretch/>
        </p:blipFill>
        <p:spPr>
          <a:xfrm>
            <a:off x="5003640" y="1557360"/>
            <a:ext cx="3665520" cy="27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Sad\Desktop\животные прибайкалья\IMG-1465cdceeec5e30d7f899b9bf01975c1-V.jpg"/>
          <p:cNvPicPr/>
          <p:nvPr/>
        </p:nvPicPr>
        <p:blipFill>
          <a:blip r:embed="rId2"/>
          <a:stretch/>
        </p:blipFill>
        <p:spPr>
          <a:xfrm>
            <a:off x="755640" y="306864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ad\Desktop\животные прибайкалья\IMG-58d1ee3b3b7cadfb8a3be9ab131f526f-V.jpg"/>
          <p:cNvPicPr/>
          <p:nvPr/>
        </p:nvPicPr>
        <p:blipFill>
          <a:blip r:embed="rId1"/>
          <a:stretch/>
        </p:blipFill>
        <p:spPr>
          <a:xfrm>
            <a:off x="1258920" y="620640"/>
            <a:ext cx="724536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художественной литерату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Sad\Desktop\животные прибайкалья\IMG-8e4e8ec7eec2d342a533f0db64aae2d3-V.jpg"/>
          <p:cNvPicPr/>
          <p:nvPr/>
        </p:nvPicPr>
        <p:blipFill>
          <a:blip r:embed="rId1"/>
          <a:stretch/>
        </p:blipFill>
        <p:spPr>
          <a:xfrm>
            <a:off x="611280" y="170028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Sad\Desktop\животные прибайкалья\IMG-abd63c542535b0a2b31fcfaeb5882303-V.jpg"/>
          <p:cNvPicPr/>
          <p:nvPr/>
        </p:nvPicPr>
        <p:blipFill>
          <a:blip r:embed="rId2"/>
          <a:stretch/>
        </p:blipFill>
        <p:spPr>
          <a:xfrm>
            <a:off x="4788000" y="3500280"/>
            <a:ext cx="4006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ad\Desktop\животные прибайкалья\IMG-cde8be2944bfc4ed251b558a127f940c-V.jpg"/>
          <p:cNvPicPr/>
          <p:nvPr/>
        </p:nvPicPr>
        <p:blipFill>
          <a:blip r:embed="rId1"/>
          <a:stretch/>
        </p:blipFill>
        <p:spPr>
          <a:xfrm>
            <a:off x="826920" y="1484280"/>
            <a:ext cx="3305520" cy="247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Sad\Desktop\животные прибайкалья\IMG-69f275834a0c2f989dbb52724c5a1285-V.jpg"/>
          <p:cNvPicPr/>
          <p:nvPr/>
        </p:nvPicPr>
        <p:blipFill>
          <a:blip r:embed="rId2"/>
          <a:stretch/>
        </p:blipFill>
        <p:spPr>
          <a:xfrm>
            <a:off x="4284720" y="2852640"/>
            <a:ext cx="4630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«Лис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Sad\Desktop\животные прибайкалья\IMG-b1696c1ddb8b4b996c0852ba15a71737-V.jpg"/>
          <p:cNvPicPr/>
          <p:nvPr/>
        </p:nvPicPr>
        <p:blipFill>
          <a:blip r:embed="rId1"/>
          <a:stretch/>
        </p:blipFill>
        <p:spPr>
          <a:xfrm>
            <a:off x="684360" y="1413000"/>
            <a:ext cx="3306600" cy="24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Sad\Desktop\животные прибайкалья\IMG-d9a0ee3b5720c54d8e9d7164b359d7fc-V.jpg"/>
          <p:cNvPicPr/>
          <p:nvPr/>
        </p:nvPicPr>
        <p:blipFill>
          <a:blip r:embed="rId2"/>
          <a:stretch/>
        </p:blipFill>
        <p:spPr>
          <a:xfrm>
            <a:off x="4932360" y="155736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ad\Desktop\животные прибайкалья\IMG-683fabcf0dfae63985c93218e73a8346-V.jpg"/>
          <p:cNvPicPr/>
          <p:nvPr/>
        </p:nvPicPr>
        <p:blipFill>
          <a:blip r:embed="rId3"/>
          <a:stretch/>
        </p:blipFill>
        <p:spPr>
          <a:xfrm>
            <a:off x="2843280" y="4143240"/>
            <a:ext cx="33717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кт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Sad\Desktop\животные прибайкалья\IMG-0d3d9ce4d2812a09a6ed403e7d19c314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59911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о «Живот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Sad\Desktop\животные прибайкалья\IMG-7b78afc055d3be0848d016d64f87b22e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зз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Sad\Desktop\животные прибайкалья\IMG-aa4fe8734331c7335511a3c3bfdd94ce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картине «Лиса с лисят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Sad\Desktop\животные прибайкалья\IMG-eb51fdb146577bd60c7f4189bca9c3a9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Sad\Desktop\животные прибайкалья\IMG-dedc231d1a18810e35998fc0527f4586-V.jpg"/>
          <p:cNvPicPr/>
          <p:nvPr/>
        </p:nvPicPr>
        <p:blipFill>
          <a:blip r:embed="rId1"/>
          <a:srcRect l="0" t="0" r="-7" b="0"/>
          <a:stretch/>
        </p:blipFill>
        <p:spPr>
          <a:xfrm>
            <a:off x="324000" y="2781360"/>
            <a:ext cx="5027400" cy="37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Sad\Desktop\животные прибайкалья\IMG-22312e3d89aa908ebcad0f69874544f4-V.jpg"/>
          <p:cNvPicPr/>
          <p:nvPr/>
        </p:nvPicPr>
        <p:blipFill>
          <a:blip r:embed="rId2"/>
          <a:stretch/>
        </p:blipFill>
        <p:spPr>
          <a:xfrm>
            <a:off x="4932360" y="40464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России важно обозначить роль регионального компонента системы дошкольного образования, его соотношения с федеральными основами для обеспечения всестороннего формирования основ личностной культуры дошкольника. 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 является одним из чудес света России. И знакомство с животным миром Прибайкалья дает возможность формировать у детей представления об обитателях, особенностях строения и приспособления к условиям жизни, расширять кругозор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альбома «Животные Прибайкал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Sad\Desktop\животные прибайкалья\IMG-691fcf0c11dbc3e82384c9db58ae2eb3-V.jpg"/>
          <p:cNvPicPr/>
          <p:nvPr/>
        </p:nvPicPr>
        <p:blipFill>
          <a:blip r:embed="rId1"/>
          <a:stretch/>
        </p:blipFill>
        <p:spPr>
          <a:xfrm>
            <a:off x="468360" y="155736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ad\Desktop\животные прибайкалья\IMG-a05d9182f3902b812be72eb28486f636-V.jpg"/>
          <p:cNvPicPr/>
          <p:nvPr/>
        </p:nvPicPr>
        <p:blipFill>
          <a:blip r:embed="rId2"/>
          <a:stretch/>
        </p:blipFill>
        <p:spPr>
          <a:xfrm>
            <a:off x="4716360" y="328464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о животных Прибайка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Sad\Desktop\животные прибайкалья\IMG-990db6389d7043c5bce7da53f0511463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«Животные Прибайкал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Users\Sad\Desktop\IMG-a9674836d81365a2f6845e770f565087-V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5972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Sad\Desktop\kartinka-spasibo-za-vnimanie-dlya-prezentacii-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животным миром Прибайка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Образов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элементарные представления об озере Байкал, представителях животного ми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ь представления детей об условиях необходимых для жизни  живот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олжать учить устанавливать простейшие взаимо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Развив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познавательный интерес, желание узнавать нов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любознательность, наблюдательность, поисковую актив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спит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потребность в речевом общении, доброжелательно взаимодействовать со сверст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 : познава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дети средней группы, воспитатель, род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: краткосрочный (2 нед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ы проекта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 и задач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художественной литературы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 детей;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 (НЕПОСРЕДСТВЕННО РЕАЛИЗАЦИЯ ПРОЕК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g23.jpg"/>
          <p:cNvPicPr/>
          <p:nvPr/>
        </p:nvPicPr>
        <p:blipFill>
          <a:blip r:embed="rId1"/>
          <a:stretch/>
        </p:blipFill>
        <p:spPr>
          <a:xfrm>
            <a:off x="2273400" y="2141640"/>
            <a:ext cx="45972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Д «Как животные готовятся к зим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Sad\Desktop\IMG-2c425da8f782b3d59f16fd168712ca40-V.jpg"/>
          <p:cNvPicPr/>
          <p:nvPr/>
        </p:nvPicPr>
        <p:blipFill>
          <a:blip r:embed="rId1"/>
          <a:stretch/>
        </p:blipFill>
        <p:spPr>
          <a:xfrm>
            <a:off x="468360" y="170028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ad\Desktop\IMG-808bf8c26bcbe1d9adc705f833616ec8-V.jpg"/>
          <p:cNvPicPr/>
          <p:nvPr/>
        </p:nvPicPr>
        <p:blipFill>
          <a:blip r:embed="rId2"/>
          <a:stretch/>
        </p:blipFill>
        <p:spPr>
          <a:xfrm>
            <a:off x="4716360" y="3325680"/>
            <a:ext cx="42595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Sad\Desktop\IMG-07964cb6b9938efecd8ebd36a7feb8f3-V.jpg"/>
          <p:cNvPicPr/>
          <p:nvPr/>
        </p:nvPicPr>
        <p:blipFill>
          <a:blip r:embed="rId1"/>
          <a:stretch/>
        </p:blipFill>
        <p:spPr>
          <a:xfrm>
            <a:off x="826920" y="549360"/>
            <a:ext cx="775368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3:22:17Z</dcterms:created>
  <dc:creator>WS</dc:creator>
  <dc:description/>
  <dc:language>en-US</dc:language>
  <cp:lastModifiedBy>Sad</cp:lastModifiedBy>
  <dcterms:modified xsi:type="dcterms:W3CDTF">2021-12-17T06:07:07Z</dcterms:modified>
  <cp:revision>35</cp:revision>
  <dc:subject/>
  <dc:title>Животный мир Прибайкал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70000000000010292010207f7000400038000</vt:lpwstr>
  </property>
</Properties>
</file>