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465F-08AB-4A08-8C82-4524A6799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3B2A-A505-4D5C-B0A2-23CF6C5BF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11C8-E735-4626-AED3-F2864F266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BF55-C1D4-44A3-8E8B-0A000674E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EB76-11D1-49D1-9BEC-9FC74128A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0FAF-3084-481C-8EE4-77038DCC6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BA8B-88E4-4BD5-A1F4-198350261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7E61-ABF7-4FD3-A8DF-86132C632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DC1C-F9E5-41CA-BD91-BEFF44BF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1F74-AC95-408F-ABD8-CE360EA3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5014-B3BD-4BD1-8934-CFE8A867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AD17-132B-40B0-B7DF-1BF49EE7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83697-8E2B-4575-9BA3-93CBEBFEE7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07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Животный мир Прибайкаль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Заголовок 1" descr=""/>
          <p:cNvPicPr/>
          <p:nvPr/>
        </p:nvPicPr>
        <p:blipFill>
          <a:blip r:embed="rId2"/>
          <a:stretch/>
        </p:blipFill>
        <p:spPr>
          <a:xfrm>
            <a:off x="353880" y="255600"/>
            <a:ext cx="8466120" cy="96372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3"/>
          <p:cNvSpPr/>
          <p:nvPr/>
        </p:nvSpPr>
        <p:spPr>
          <a:xfrm>
            <a:off x="1692360" y="2178000"/>
            <a:ext cx="624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Проект в средней группе на тему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4"/>
          <p:cNvSpPr/>
          <p:nvPr/>
        </p:nvSpPr>
        <p:spPr>
          <a:xfrm>
            <a:off x="4572000" y="5049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Автор: Нефедьева А.Ю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мотр презентации «Животные нашей тайг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C:\Users\Sad\Desktop\животные прибайкалья\IMG-3a22e864b0fb6aedefa04bc5f1179494-V.jpg"/>
          <p:cNvPicPr/>
          <p:nvPr/>
        </p:nvPicPr>
        <p:blipFill>
          <a:blip r:embed="rId1"/>
          <a:stretch/>
        </p:blipFill>
        <p:spPr>
          <a:xfrm>
            <a:off x="5003640" y="1557360"/>
            <a:ext cx="3665520" cy="2747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C:\Users\Sad\Desktop\животные прибайкалья\IMG-1465cdceeec5e30d7f899b9bf01975c1-V.jpg"/>
          <p:cNvPicPr/>
          <p:nvPr/>
        </p:nvPicPr>
        <p:blipFill>
          <a:blip r:embed="rId2"/>
          <a:stretch/>
        </p:blipFill>
        <p:spPr>
          <a:xfrm>
            <a:off x="755640" y="3068640"/>
            <a:ext cx="41292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Users\Sad\Desktop\животные прибайкалья\IMG-58d1ee3b3b7cadfb8a3be9ab131f526f-V.jpg"/>
          <p:cNvPicPr/>
          <p:nvPr/>
        </p:nvPicPr>
        <p:blipFill>
          <a:blip r:embed="rId1"/>
          <a:stretch/>
        </p:blipFill>
        <p:spPr>
          <a:xfrm>
            <a:off x="1258920" y="620640"/>
            <a:ext cx="7245360" cy="54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комление с художественной литературо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C:\Users\Sad\Desktop\животные прибайкалья\IMG-8e4e8ec7eec2d342a533f0db64aae2d3-V.jpg"/>
          <p:cNvPicPr/>
          <p:nvPr/>
        </p:nvPicPr>
        <p:blipFill>
          <a:blip r:embed="rId1"/>
          <a:stretch/>
        </p:blipFill>
        <p:spPr>
          <a:xfrm>
            <a:off x="611280" y="1700280"/>
            <a:ext cx="4032000" cy="3024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C:\Users\Sad\Desktop\животные прибайкалья\IMG-abd63c542535b0a2b31fcfaeb5882303-V.jpg"/>
          <p:cNvPicPr/>
          <p:nvPr/>
        </p:nvPicPr>
        <p:blipFill>
          <a:blip r:embed="rId2"/>
          <a:stretch/>
        </p:blipFill>
        <p:spPr>
          <a:xfrm>
            <a:off x="4788000" y="3500280"/>
            <a:ext cx="400680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атривание иллюстрац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C:\Users\Sad\Desktop\животные прибайкалья\IMG-cde8be2944bfc4ed251b558a127f940c-V.jpg"/>
          <p:cNvPicPr/>
          <p:nvPr/>
        </p:nvPicPr>
        <p:blipFill>
          <a:blip r:embed="rId1"/>
          <a:stretch/>
        </p:blipFill>
        <p:spPr>
          <a:xfrm>
            <a:off x="826920" y="1484280"/>
            <a:ext cx="3305520" cy="2479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C:\Users\Sad\Desktop\животные прибайкалья\IMG-69f275834a0c2f989dbb52724c5a1285-V.jpg"/>
          <p:cNvPicPr/>
          <p:nvPr/>
        </p:nvPicPr>
        <p:blipFill>
          <a:blip r:embed="rId2"/>
          <a:stretch/>
        </p:blipFill>
        <p:spPr>
          <a:xfrm>
            <a:off x="4284720" y="2852640"/>
            <a:ext cx="4630680" cy="34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ование «Лисич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C:\Users\Sad\Desktop\животные прибайкалья\IMG-b1696c1ddb8b4b996c0852ba15a71737-V.jpg"/>
          <p:cNvPicPr/>
          <p:nvPr/>
        </p:nvPicPr>
        <p:blipFill>
          <a:blip r:embed="rId1"/>
          <a:stretch/>
        </p:blipFill>
        <p:spPr>
          <a:xfrm>
            <a:off x="684360" y="1413000"/>
            <a:ext cx="3306600" cy="2481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C:\Users\Sad\Desktop\животные прибайкалья\IMG-d9a0ee3b5720c54d8e9d7164b359d7fc-V.jpg"/>
          <p:cNvPicPr/>
          <p:nvPr/>
        </p:nvPicPr>
        <p:blipFill>
          <a:blip r:embed="rId2"/>
          <a:stretch/>
        </p:blipFill>
        <p:spPr>
          <a:xfrm>
            <a:off x="4932360" y="1557360"/>
            <a:ext cx="3095640" cy="2320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C:\Users\Sad\Desktop\животные прибайкалья\IMG-683fabcf0dfae63985c93218e73a8346-V.jpg"/>
          <p:cNvPicPr/>
          <p:nvPr/>
        </p:nvPicPr>
        <p:blipFill>
          <a:blip r:embed="rId3"/>
          <a:stretch/>
        </p:blipFill>
        <p:spPr>
          <a:xfrm>
            <a:off x="2843280" y="4143240"/>
            <a:ext cx="337176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ие игры: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гадай кто?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C:\Users\Sad\Desktop\животные прибайкалья\IMG-0d3d9ce4d2812a09a6ed403e7d19c314-V.jpg"/>
          <p:cNvPicPr/>
          <p:nvPr/>
        </p:nvPicPr>
        <p:blipFill>
          <a:blip r:embed="rId1"/>
          <a:stretch/>
        </p:blipFill>
        <p:spPr>
          <a:xfrm>
            <a:off x="1554120" y="1600200"/>
            <a:ext cx="5991120" cy="44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то «Животные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C:\Users\Sad\Desktop\животные прибайкалья\IMG-7b78afc055d3be0848d016d64f87b22e-V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аззлы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C:\Users\Sad\Desktop\животные прибайкалья\IMG-aa4fe8734331c7335511a3c3bfdd94ce-V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рассказа по картине «Лиса с лисятам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4" descr="C:\Users\Sad\Desktop\животные прибайкалья\IMG-eb51fdb146577bd60c7f4189bca9c3a9-V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C:\Users\Sad\Desktop\животные прибайкалья\IMG-dedc231d1a18810e35998fc0527f4586-V.jpg"/>
          <p:cNvPicPr/>
          <p:nvPr/>
        </p:nvPicPr>
        <p:blipFill>
          <a:blip r:embed="rId1"/>
          <a:srcRect l="0" t="0" r="-7" b="0"/>
          <a:stretch/>
        </p:blipFill>
        <p:spPr>
          <a:xfrm>
            <a:off x="324000" y="2781360"/>
            <a:ext cx="5027400" cy="3762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C:\Users\Sad\Desktop\животные прибайкалья\IMG-22312e3d89aa908ebcad0f69874544f4-V.jpg"/>
          <p:cNvPicPr/>
          <p:nvPr/>
        </p:nvPicPr>
        <p:blipFill>
          <a:blip r:embed="rId2"/>
          <a:stretch/>
        </p:blipFill>
        <p:spPr>
          <a:xfrm>
            <a:off x="4932360" y="404640"/>
            <a:ext cx="388764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временной России важно обозначить роль регионального компонента системы дошкольного образования, его соотношения с федеральными основами для обеспечения всестороннего формирования основ личностной культуры дошкольника.       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йкал является одним из чудес света России. И знакомство с животным миром Прибайкалья дает возможность формировать у детей представления об обитателях, особенностях строения и приспособления к условиям жизни, расширять кругозор дошкольни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атривание альбома «Животные Прибайкаль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C:\Users\Sad\Desktop\животные прибайкалья\IMG-691fcf0c11dbc3e82384c9db58ae2eb3-V.jpg"/>
          <p:cNvPicPr/>
          <p:nvPr/>
        </p:nvPicPr>
        <p:blipFill>
          <a:blip r:embed="rId1"/>
          <a:stretch/>
        </p:blipFill>
        <p:spPr>
          <a:xfrm>
            <a:off x="468360" y="1557360"/>
            <a:ext cx="4127400" cy="3095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C:\Users\Sad\Desktop\животные прибайкалья\IMG-a05d9182f3902b812be72eb28486f636-V.jpg"/>
          <p:cNvPicPr/>
          <p:nvPr/>
        </p:nvPicPr>
        <p:blipFill>
          <a:blip r:embed="rId2"/>
          <a:stretch/>
        </p:blipFill>
        <p:spPr>
          <a:xfrm>
            <a:off x="4716360" y="3284640"/>
            <a:ext cx="42246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зы о животных Прибайкаль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C:\Users\Sad\Desktop\животные прибайкалья\IMG-990db6389d7043c5bce7da53f0511463-V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авка рисунков «Животные Прибайкаль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4" descr="C:\Users\Sad\Desktop\IMG-a9674836d81365a2f6845e770f565087-V.jpg"/>
          <p:cNvPicPr/>
          <p:nvPr/>
        </p:nvPicPr>
        <p:blipFill>
          <a:blip r:embed="rId1"/>
          <a:stretch/>
        </p:blipFill>
        <p:spPr>
          <a:xfrm>
            <a:off x="1258920" y="1628640"/>
            <a:ext cx="6759720" cy="50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C:\Users\Sad\Desktop\kartinka-spasibo-za-vnimanie-dlya-prezentacii-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 детей с животным миром Прибайкаль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. Образовательн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ормировать элементарные представления об озере Байкал, представителях животного мир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сширять представления детей об условиях необходимых для жизни  животных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должать учить устанавливать простейшие взаимосвяз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. Развивающ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вать познавательный интерес, желание узнавать ново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вать любознательность, наблюдательность, поисковую активность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. Воспитательн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спитывать потребность в речевом общении, доброжелательно взаимодействовать со сверстник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 проекта : познаватель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: дети средней группы, воспитатель, родите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: краткосрочный (2 недел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тапы проек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ГОТОВИТЕЛЬНЫЙ ЭТА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 темы проекта;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ка целей и задач;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ор художественной литературы;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действие с родителями детей;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ор наглядного материала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ИЙ ЭТАП (НЕПОСРЕДСТВЕННО РЕАЛИЗАЦИЯ ПРОЕКТ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3" descr="img23.jpg"/>
          <p:cNvPicPr/>
          <p:nvPr/>
        </p:nvPicPr>
        <p:blipFill>
          <a:blip r:embed="rId1"/>
          <a:stretch/>
        </p:blipFill>
        <p:spPr>
          <a:xfrm>
            <a:off x="2273400" y="2141640"/>
            <a:ext cx="4597200" cy="34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ОД «Как животные готовятся к зиме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C:\Users\Sad\Desktop\IMG-2c425da8f782b3d59f16fd168712ca40-V.jpg"/>
          <p:cNvPicPr/>
          <p:nvPr/>
        </p:nvPicPr>
        <p:blipFill>
          <a:blip r:embed="rId1"/>
          <a:stretch/>
        </p:blipFill>
        <p:spPr>
          <a:xfrm>
            <a:off x="468360" y="1700280"/>
            <a:ext cx="3840120" cy="2881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C:\Users\Sad\Desktop\IMG-808bf8c26bcbe1d9adc705f833616ec8-V.jpg"/>
          <p:cNvPicPr/>
          <p:nvPr/>
        </p:nvPicPr>
        <p:blipFill>
          <a:blip r:embed="rId2"/>
          <a:stretch/>
        </p:blipFill>
        <p:spPr>
          <a:xfrm>
            <a:off x="4716360" y="3325680"/>
            <a:ext cx="4259520" cy="31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Users\Sad\Desktop\IMG-07964cb6b9938efecd8ebd36a7feb8f3-V.jpg"/>
          <p:cNvPicPr/>
          <p:nvPr/>
        </p:nvPicPr>
        <p:blipFill>
          <a:blip r:embed="rId1"/>
          <a:stretch/>
        </p:blipFill>
        <p:spPr>
          <a:xfrm>
            <a:off x="826920" y="549360"/>
            <a:ext cx="7753680" cy="58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06T13:22:17Z</dcterms:created>
  <dc:creator>WS</dc:creator>
  <dc:description/>
  <dc:language>en-US</dc:language>
  <cp:lastModifiedBy>Sad</cp:lastModifiedBy>
  <dcterms:modified xsi:type="dcterms:W3CDTF">2021-12-17T06:07:07Z</dcterms:modified>
  <cp:revision>35</cp:revision>
  <dc:subject/>
  <dc:title>Животный мир Прибайкаль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e170000000000010292010207f7000400038000</vt:lpwstr>
  </property>
</Properties>
</file>