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10980738" cy="7380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0C52-767C-4E7C-B91B-E7DE92462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360" y="1311120"/>
            <a:ext cx="98820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9360" y="4071600"/>
            <a:ext cx="98820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4EE5-F784-4DD2-B036-C85B4763A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49360" y="131112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613120" y="131112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49360" y="407160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613120" y="407160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EC9C-A5AE-4337-BDB9-673E01FE6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49360" y="1311120"/>
            <a:ext cx="318168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90520" y="1311120"/>
            <a:ext cx="318168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231680" y="1311120"/>
            <a:ext cx="318168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49360" y="4071600"/>
            <a:ext cx="318168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90520" y="4071600"/>
            <a:ext cx="318168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7231680" y="4071600"/>
            <a:ext cx="318168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806D-4408-407E-B17C-EBDA3CE05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EA404-D131-41FE-9A69-80A2391B9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49360" y="1311120"/>
            <a:ext cx="988200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060DB-4FCB-431A-87D0-60EB97907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49360" y="1311120"/>
            <a:ext cx="9882000" cy="528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ECADD-7E93-4852-A5A3-91DE20246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49360" y="1311120"/>
            <a:ext cx="4822200" cy="528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613120" y="1311120"/>
            <a:ext cx="4822200" cy="528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F247C-F4D5-4B4B-ACBD-B313E4BAC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4D7FA-4973-4D31-82B4-7DD993E77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49360" y="163440"/>
            <a:ext cx="98820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9B418-807E-4CF4-9AB3-BBC1D6653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49360" y="131112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613120" y="1311120"/>
            <a:ext cx="4822200" cy="528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49360" y="407160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29738-ECF5-4A21-9484-10E1AFD80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49360" y="1311120"/>
            <a:ext cx="988200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58C1-EA65-426F-9744-5306D967B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49360" y="1311120"/>
            <a:ext cx="4822200" cy="528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613120" y="131112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13120" y="407160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01BD4-F55F-471A-84EA-40EE8D01C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49360" y="131112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13120" y="131112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49360" y="4071600"/>
            <a:ext cx="98820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28268-EC25-4EDA-96AA-E60A17DFD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49360" y="1311120"/>
            <a:ext cx="98820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49360" y="4071600"/>
            <a:ext cx="98820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0E987-6D2F-43E8-B7F9-1F1BC3438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49360" y="131112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613120" y="131112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49360" y="407160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13120" y="407160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12391-78E5-4375-800B-9BE8F40AC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49360" y="1311120"/>
            <a:ext cx="318168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0520" y="1311120"/>
            <a:ext cx="318168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7231680" y="1311120"/>
            <a:ext cx="318168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49360" y="4071600"/>
            <a:ext cx="318168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90520" y="4071600"/>
            <a:ext cx="318168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7231680" y="4071600"/>
            <a:ext cx="318168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DE35F-2422-4A90-B2A9-CE431AEEF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81639-3435-4966-9084-02F15100A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49360" y="1311120"/>
            <a:ext cx="988200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67FBA-5A36-4F76-A414-21CF2FF56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49360" y="1311120"/>
            <a:ext cx="9882000" cy="528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C6909-5C2D-4972-BF4A-3CB8C34FF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49360" y="1311120"/>
            <a:ext cx="4822200" cy="528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613120" y="1311120"/>
            <a:ext cx="4822200" cy="528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9DD75-BECA-4D77-A9FB-DE11DA3DC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207BC-810B-4832-B1FA-13A41B772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49360" y="1311120"/>
            <a:ext cx="9882000" cy="528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D1AF-BD39-4F4D-9586-C4933FEB7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549360" y="163440"/>
            <a:ext cx="98820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FF034-89BD-4E62-8021-ADE764101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49360" y="131112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613120" y="1311120"/>
            <a:ext cx="4822200" cy="528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49360" y="407160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720EC-24E8-49D2-AF60-F254A909F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49360" y="1311120"/>
            <a:ext cx="4822200" cy="528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613120" y="131112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613120" y="407160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CF814-D099-45D9-ABDC-7724D7C37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49360" y="131112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613120" y="131112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49360" y="4071600"/>
            <a:ext cx="98820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DD68A-969C-4CEE-9718-64A14126B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49360" y="1311120"/>
            <a:ext cx="98820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49360" y="4071600"/>
            <a:ext cx="98820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D2016-C323-436E-8C17-C7C9899D1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49360" y="131112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613120" y="131112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49360" y="407160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613120" y="407160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75D4D-84EF-43CC-901F-47093EE06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49360" y="1311120"/>
            <a:ext cx="318168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890520" y="1311120"/>
            <a:ext cx="318168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7231680" y="1311120"/>
            <a:ext cx="318168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49360" y="4071600"/>
            <a:ext cx="318168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890520" y="4071600"/>
            <a:ext cx="318168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7231680" y="4071600"/>
            <a:ext cx="318168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1BFC4-9F4E-4B96-8E51-608CDC014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66482-37BD-4DCB-8379-976FFFBA4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49360" y="1311120"/>
            <a:ext cx="988200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0359D-D650-4BB1-9297-E3F86D449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49360" y="1311120"/>
            <a:ext cx="9882000" cy="528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2D098-7DCC-4A45-960C-2A5A4F342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49360" y="1311120"/>
            <a:ext cx="4822200" cy="528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613120" y="1311120"/>
            <a:ext cx="4822200" cy="528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3778-B4BF-4363-B116-3179D7892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49360" y="1311120"/>
            <a:ext cx="4822200" cy="528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613120" y="1311120"/>
            <a:ext cx="4822200" cy="528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3F562-55C7-4B75-A07C-5763E837A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66C0A-C2DE-4975-A49C-D62378C22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49360" y="163440"/>
            <a:ext cx="98820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1ECBD-236D-48C3-AC98-C7B23C59A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49360" y="131112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613120" y="1311120"/>
            <a:ext cx="4822200" cy="528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49360" y="407160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24B6D-DC2E-41AD-907E-6EF668149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49360" y="1311120"/>
            <a:ext cx="4822200" cy="528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613120" y="131112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613120" y="407160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B10E8-F0EC-473C-BD06-54AAA7B9C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49360" y="131112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613120" y="131112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49360" y="4071600"/>
            <a:ext cx="98820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285FC-E640-4B8C-919A-6691A2C55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49360" y="1311120"/>
            <a:ext cx="98820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49360" y="4071600"/>
            <a:ext cx="98820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334D5-0B78-4761-8150-56627842C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49360" y="131112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613120" y="131112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49360" y="407160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5613120" y="407160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9D8BE-F53E-4DB5-9155-6B1324FAB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49360" y="1311120"/>
            <a:ext cx="318168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890520" y="1311120"/>
            <a:ext cx="318168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7231680" y="1311120"/>
            <a:ext cx="318168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49360" y="4071600"/>
            <a:ext cx="318168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890520" y="4071600"/>
            <a:ext cx="318168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7231680" y="4071600"/>
            <a:ext cx="318168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77DAA-032C-41AD-A2BF-AE5B97E6F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CB88E5-826B-443D-AC5D-596C9E789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C95E-3EFB-4EA6-99BF-EA08C225D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49360" y="1311120"/>
            <a:ext cx="988200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D17F59-ED83-4430-B721-2ED944ABE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49360" y="1311120"/>
            <a:ext cx="9882000" cy="528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436005-1270-424A-9544-DD88A2A10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49360" y="1311120"/>
            <a:ext cx="4822200" cy="528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613120" y="1311120"/>
            <a:ext cx="4822200" cy="528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240117-8EA2-4463-A10A-F376DBEED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8EBFF0-D423-438D-9BA0-C8E825E16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49360" y="163440"/>
            <a:ext cx="98820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BE1AC6-1494-448B-9AA5-75FEB2262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49360" y="131112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613120" y="1311120"/>
            <a:ext cx="4822200" cy="528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49360" y="407160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532350-B30C-4655-A6E0-5C075D955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49360" y="1311120"/>
            <a:ext cx="4822200" cy="528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613120" y="131112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613120" y="407160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19A127-1B69-483C-AFD5-EB900E9E4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49360" y="131112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613120" y="131112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49360" y="4071600"/>
            <a:ext cx="98820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3DE01B-0968-408F-88F0-D89C4D329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49360" y="1311120"/>
            <a:ext cx="98820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49360" y="4071600"/>
            <a:ext cx="98820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EFCCE-3905-4192-8CF7-57E71C0EB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49360" y="131112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613120" y="131112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49360" y="407160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613120" y="407160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559BD8-1160-4A97-AA17-B4B805F85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49360" y="163440"/>
            <a:ext cx="98820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2D49-D407-4CEA-B07D-89EDCE319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49360" y="1311120"/>
            <a:ext cx="318168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890520" y="1311120"/>
            <a:ext cx="318168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7231680" y="1311120"/>
            <a:ext cx="318168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49360" y="4071600"/>
            <a:ext cx="318168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890520" y="4071600"/>
            <a:ext cx="318168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7231680" y="4071600"/>
            <a:ext cx="318168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99F919-C26B-41B1-B537-4CA79D92B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105B2B-A003-4B5F-8B01-C7AB0305E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549360" y="1311120"/>
            <a:ext cx="988200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C9BF24-007E-4C4E-B325-D0C768947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49360" y="1311120"/>
            <a:ext cx="9882000" cy="528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4267DD-3C22-4240-B3BE-587B8E9CF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49360" y="1311120"/>
            <a:ext cx="4822200" cy="528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613120" y="1311120"/>
            <a:ext cx="4822200" cy="528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8CD611-CB63-462E-ABD3-8DE12A1A2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344AF8-D47F-4D13-88D0-2E85C94FA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549360" y="163440"/>
            <a:ext cx="98820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7E81BA-80CB-44B6-AB2D-A124EA945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49360" y="131112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613120" y="1311120"/>
            <a:ext cx="4822200" cy="528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49360" y="407160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057B34-DF77-4DB8-8F9D-58166335D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49360" y="1311120"/>
            <a:ext cx="4822200" cy="528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613120" y="131112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613120" y="407160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77ECC8-269D-4926-8E22-2519BCF09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49360" y="131112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613120" y="131112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49360" y="4071600"/>
            <a:ext cx="98820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045EAE-E4B5-42D5-B0E2-7B0EEDB37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49360" y="131112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613120" y="1311120"/>
            <a:ext cx="4822200" cy="528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49360" y="407160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A095-494C-4B95-9B8F-C8CC7D1E9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49360" y="1311120"/>
            <a:ext cx="98820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49360" y="4071600"/>
            <a:ext cx="98820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232F37-7445-4D27-BBE8-4C0051191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49360" y="131112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613120" y="131112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49360" y="407160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5613120" y="407160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9459EF-110C-4461-9E51-E881D6FAD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49360" y="1311120"/>
            <a:ext cx="318168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890520" y="1311120"/>
            <a:ext cx="318168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7231680" y="1311120"/>
            <a:ext cx="318168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549360" y="4071600"/>
            <a:ext cx="318168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890520" y="4071600"/>
            <a:ext cx="318168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7231680" y="4071600"/>
            <a:ext cx="318168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A2FC59-4714-46EC-93A9-22740F398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2C8549-24A4-4481-BE5F-FC338CDC4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49360" y="1311120"/>
            <a:ext cx="988200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1B204B-07B3-4203-9127-78506AA44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49360" y="1311120"/>
            <a:ext cx="9882000" cy="528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2D96E1-60F5-4A73-A143-215B16D05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49360" y="1311120"/>
            <a:ext cx="4822200" cy="528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613120" y="1311120"/>
            <a:ext cx="4822200" cy="528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78A162-CC62-497A-AD94-4B0029BDC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090765-2B04-47C8-B039-33C188D1B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49360" y="163440"/>
            <a:ext cx="98820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C22A59-B437-49AA-AF73-6572F1A31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49360" y="131112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613120" y="1311120"/>
            <a:ext cx="4822200" cy="528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49360" y="407160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FDC5D2-2065-42F6-83F5-EA59E2E89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49360" y="1311120"/>
            <a:ext cx="4822200" cy="528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613120" y="131112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613120" y="407160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5F99-078D-435E-9CA9-B771257C2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49360" y="1311120"/>
            <a:ext cx="4822200" cy="528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613120" y="131112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613120" y="407160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757C9D-A2DD-4F37-9C3A-338BB0F4E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49360" y="131112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613120" y="131112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9360" y="4071600"/>
            <a:ext cx="98820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8C5851-DC50-4B84-871C-26AA049A7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49360" y="1311120"/>
            <a:ext cx="98820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9360" y="4071600"/>
            <a:ext cx="98820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5A7588-2230-47EE-8BCB-49C39CC0A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49360" y="131112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613120" y="131112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49360" y="407160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613120" y="407160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768ACE-C772-4181-B0E0-248CC1976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49360" y="1311120"/>
            <a:ext cx="318168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890520" y="1311120"/>
            <a:ext cx="318168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7231680" y="1311120"/>
            <a:ext cx="318168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49360" y="4071600"/>
            <a:ext cx="318168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890520" y="4071600"/>
            <a:ext cx="318168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7231680" y="4071600"/>
            <a:ext cx="318168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8C8CE9-4B9E-4500-A1BB-BAE269E6C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AA51E5-B441-4B65-A770-C8B509EB4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549360" y="1311120"/>
            <a:ext cx="988200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EC8E41-9BBC-4308-88B6-4EE11946C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49360" y="1311120"/>
            <a:ext cx="9882000" cy="528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17CE92-67CE-4074-B9C9-3B415228E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49360" y="1311120"/>
            <a:ext cx="4822200" cy="528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613120" y="1311120"/>
            <a:ext cx="4822200" cy="528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03E6CD-1017-4101-AFB5-4E47AC228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F28776-26E7-4C2E-89AB-79E5A96FA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49360" y="131112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613120" y="131112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49360" y="4071600"/>
            <a:ext cx="98820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BDB9-005F-4C35-AF18-C4D177986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549360" y="163440"/>
            <a:ext cx="98820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5C61FF-33D4-4EFB-BFF3-7871E1DCF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49360" y="131112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613120" y="1311120"/>
            <a:ext cx="4822200" cy="528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49360" y="407160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F43498-9DEF-4620-A782-8EB4C0FBA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49360" y="1311120"/>
            <a:ext cx="4822200" cy="528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613120" y="131112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613120" y="407160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A3DDCB-5689-4C74-85E2-1ED2C667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49360" y="131112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613120" y="131112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49360" y="4071600"/>
            <a:ext cx="98820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6D532B-068D-40F5-8F99-906A5F5DF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49360" y="1311120"/>
            <a:ext cx="98820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49360" y="4071600"/>
            <a:ext cx="98820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49FD88-C148-45CB-8DAC-FDB8BE469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49360" y="131112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613120" y="131112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49360" y="407160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5613120" y="407160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059EDF-DA49-4536-A30F-CC28705E4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49360" y="1311120"/>
            <a:ext cx="318168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890520" y="1311120"/>
            <a:ext cx="318168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7231680" y="1311120"/>
            <a:ext cx="318168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549360" y="4071600"/>
            <a:ext cx="318168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890520" y="4071600"/>
            <a:ext cx="318168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7231680" y="4071600"/>
            <a:ext cx="318168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C8259A-E8BC-411F-95E1-AA0E75FCE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360" y="1311120"/>
            <a:ext cx="9882000" cy="528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14280" indent="-314280">
              <a:spcBef>
                <a:spcPts val="689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28560" indent="-314280">
              <a:spcBef>
                <a:spcPts val="68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2" marL="942840" indent="-261720">
              <a:spcBef>
                <a:spcPts val="68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3" marL="1258920" indent="-262080">
              <a:spcBef>
                <a:spcPts val="689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4" marL="1573200" indent="-262080">
              <a:spcBef>
                <a:spcPts val="689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5" marL="1573200" indent="-262080">
              <a:spcBef>
                <a:spcPts val="689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6" marL="1573200" indent="-262080">
              <a:spcBef>
                <a:spcPts val="689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86360" y="6840360"/>
            <a:ext cx="2747880" cy="3938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6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81560" y="6840360"/>
            <a:ext cx="4208400" cy="3938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5120" y="6840360"/>
            <a:ext cx="2379600" cy="3938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6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2AF120-5FE6-431B-B609-351F159679E5}" type="slidenum">
              <a:rPr b="0" lang="ru-RU" sz="16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27"/>
          <p:cNvSpPr/>
          <p:nvPr/>
        </p:nvSpPr>
        <p:spPr>
          <a:xfrm>
            <a:off x="549360" y="6837480"/>
            <a:ext cx="98820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04760" rIns="104760" tIns="-52200" bIns="-52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28"/>
          <p:cNvSpPr/>
          <p:nvPr/>
        </p:nvSpPr>
        <p:spPr>
          <a:xfrm>
            <a:off x="549360" y="1230480"/>
            <a:ext cx="98820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04760" rIns="104760" tIns="-52200" bIns="-52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Равнобедренный треугольник 9"/>
          <p:cNvSpPr/>
          <p:nvPr/>
        </p:nvSpPr>
        <p:spPr>
          <a:xfrm rot="5400000">
            <a:off x="514440" y="6952320"/>
            <a:ext cx="206640" cy="14436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760" rIns="104760" tIns="-4320" bIns="-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0"/>
          <p:cNvSpPr/>
          <p:nvPr/>
        </p:nvSpPr>
        <p:spPr>
          <a:xfrm>
            <a:off x="1085760" y="3925800"/>
            <a:ext cx="8785440" cy="137808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760" rIns="104760" tIns="52560" bIns="52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1098720" y="5432400"/>
            <a:ext cx="8783640" cy="73836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760" rIns="104760" tIns="52560" bIns="52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1085760" y="3925800"/>
            <a:ext cx="274680" cy="137808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760" rIns="104760" tIns="52560" bIns="52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1098720" y="5432400"/>
            <a:ext cx="274320" cy="73836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760" rIns="104760" tIns="52560" bIns="52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549360" y="1311120"/>
            <a:ext cx="9882000" cy="528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14280" indent="-314280">
              <a:spcBef>
                <a:spcPts val="689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28560" indent="-314280">
              <a:spcBef>
                <a:spcPts val="68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2" marL="942840" indent="-261720">
              <a:spcBef>
                <a:spcPts val="68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3" marL="1258920" indent="-262080">
              <a:spcBef>
                <a:spcPts val="689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4" marL="1573200" indent="-262080">
              <a:spcBef>
                <a:spcPts val="689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5" marL="1573200" indent="-262080">
              <a:spcBef>
                <a:spcPts val="689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6" marL="1573200" indent="-262080">
              <a:spcBef>
                <a:spcPts val="689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7686720" y="6838920"/>
            <a:ext cx="2744640" cy="3938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6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81560" y="6838920"/>
            <a:ext cx="4171680" cy="3938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460520" y="6838920"/>
            <a:ext cx="1463760" cy="3938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6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DCC9D5-229C-4228-BD9A-144FF04169AC}" type="slidenum">
              <a:rPr b="0" lang="ru-RU" sz="16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0"/>
          <p:cNvSpPr/>
          <p:nvPr/>
        </p:nvSpPr>
        <p:spPr>
          <a:xfrm>
            <a:off x="1098720" y="3033720"/>
            <a:ext cx="8783640" cy="137808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760" rIns="104760" tIns="52560" bIns="52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1098720" y="3033720"/>
            <a:ext cx="274320" cy="137808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760" rIns="104760" tIns="52560" bIns="52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7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549360" y="1311120"/>
            <a:ext cx="9882000" cy="528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14280" indent="-314280">
              <a:spcBef>
                <a:spcPts val="689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  <a:p>
            <a:pPr lvl="1" marL="628560" indent="-314280">
              <a:spcBef>
                <a:spcPts val="68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  <a:p>
            <a:pPr lvl="2" marL="942840" indent="-261720">
              <a:spcBef>
                <a:spcPts val="68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  <a:p>
            <a:pPr lvl="3" marL="1258920" indent="-262080">
              <a:spcBef>
                <a:spcPts val="689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  <a:p>
            <a:pPr lvl="4" marL="1573200" indent="-262080">
              <a:spcBef>
                <a:spcPts val="689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  <a:p>
            <a:pPr lvl="5" marL="1573200" indent="-262080">
              <a:spcBef>
                <a:spcPts val="689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  <a:p>
            <a:pPr lvl="6" marL="1573200" indent="-262080">
              <a:spcBef>
                <a:spcPts val="689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7686720" y="6838920"/>
            <a:ext cx="2744640" cy="3938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6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dde9ec"/>
                </a:solidFill>
                <a:latin typeface="Calibri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481560" y="6838920"/>
            <a:ext cx="4171680" cy="3938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284120" y="6838920"/>
            <a:ext cx="1827360" cy="3938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6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57B950-9C3D-412D-A807-F55862BF2320}" type="slidenum">
              <a:rPr b="0" lang="ru-RU" sz="1600" spc="-1" strike="noStrike">
                <a:solidFill>
                  <a:srgbClr val="dde9ec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ая соединительная линия 27"/>
          <p:cNvSpPr/>
          <p:nvPr/>
        </p:nvSpPr>
        <p:spPr>
          <a:xfrm>
            <a:off x="549360" y="6837480"/>
            <a:ext cx="98820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04760" rIns="104760" tIns="-52200" bIns="-52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ая соединительная линия 28"/>
          <p:cNvSpPr/>
          <p:nvPr/>
        </p:nvSpPr>
        <p:spPr>
          <a:xfrm>
            <a:off x="549360" y="1230480"/>
            <a:ext cx="98820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04760" rIns="104760" tIns="-52200" bIns="-52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Равнобедренный треугольник 9"/>
          <p:cNvSpPr/>
          <p:nvPr/>
        </p:nvSpPr>
        <p:spPr>
          <a:xfrm rot="5400000">
            <a:off x="514440" y="6952320"/>
            <a:ext cx="206640" cy="14436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760" rIns="104760" tIns="-4320" bIns="-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Равнобедренный треугольник 10"/>
          <p:cNvSpPr/>
          <p:nvPr/>
        </p:nvSpPr>
        <p:spPr>
          <a:xfrm rot="5400000">
            <a:off x="514440" y="6952320"/>
            <a:ext cx="206640" cy="14436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760" rIns="104760" tIns="-4320" bIns="-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49360" y="1311120"/>
            <a:ext cx="9882000" cy="528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14280" indent="-314280">
              <a:spcBef>
                <a:spcPts val="689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28560" indent="-314280">
              <a:spcBef>
                <a:spcPts val="68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2" marL="942840" indent="-261720">
              <a:spcBef>
                <a:spcPts val="68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3" marL="1258920" indent="-262080">
              <a:spcBef>
                <a:spcPts val="689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4" marL="1573200" indent="-262080">
              <a:spcBef>
                <a:spcPts val="689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5" marL="1573200" indent="-262080">
              <a:spcBef>
                <a:spcPts val="689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6" marL="1573200" indent="-262080">
              <a:spcBef>
                <a:spcPts val="689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7686360" y="6840360"/>
            <a:ext cx="2747880" cy="3938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6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3481560" y="6840360"/>
            <a:ext cx="4208400" cy="3938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735120" y="6840360"/>
            <a:ext cx="2379600" cy="3938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6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D9237A-D962-4367-8F8B-6D91D6BF8832}" type="slidenum">
              <a:rPr b="0" lang="ru-RU" sz="16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ая соединительная линия 10"/>
          <p:cNvSpPr/>
          <p:nvPr/>
        </p:nvSpPr>
        <p:spPr>
          <a:xfrm>
            <a:off x="549360" y="6837480"/>
            <a:ext cx="98820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04760" rIns="104760" tIns="-52200" bIns="-52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Равнобедренный треугольник 11"/>
          <p:cNvSpPr/>
          <p:nvPr/>
        </p:nvSpPr>
        <p:spPr>
          <a:xfrm rot="5400000">
            <a:off x="514440" y="6952320"/>
            <a:ext cx="206640" cy="14436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760" rIns="104760" tIns="-4320" bIns="-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49360" y="1311120"/>
            <a:ext cx="9882000" cy="528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14280" indent="-314280">
              <a:spcBef>
                <a:spcPts val="689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28560" indent="-314280">
              <a:spcBef>
                <a:spcPts val="68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2" marL="942840" indent="-261720">
              <a:spcBef>
                <a:spcPts val="68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3" marL="1258920" indent="-262080">
              <a:spcBef>
                <a:spcPts val="689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4" marL="1573200" indent="-262080">
              <a:spcBef>
                <a:spcPts val="689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5" marL="1573200" indent="-262080">
              <a:spcBef>
                <a:spcPts val="689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6" marL="1573200" indent="-262080">
              <a:spcBef>
                <a:spcPts val="689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7686360" y="6840360"/>
            <a:ext cx="2747880" cy="3938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6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481560" y="6840360"/>
            <a:ext cx="4208400" cy="3938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735120" y="6840360"/>
            <a:ext cx="2379600" cy="3938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6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27DB8B-3AC9-4FF0-B550-5545EB82DCB7}" type="slidenum">
              <a:rPr b="0" lang="ru-RU" sz="16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0"/>
          <p:cNvSpPr/>
          <p:nvPr/>
        </p:nvSpPr>
        <p:spPr>
          <a:xfrm>
            <a:off x="549360" y="6837480"/>
            <a:ext cx="98820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04760" rIns="104760" tIns="-52200" bIns="-52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ая соединительная линия 11"/>
          <p:cNvSpPr/>
          <p:nvPr/>
        </p:nvSpPr>
        <p:spPr>
          <a:xfrm>
            <a:off x="7418520" y="330120"/>
            <a:ext cx="0" cy="64944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04760" rIns="104760" tIns="52200" bIns="52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Равнобедренный треугольник 12"/>
          <p:cNvSpPr/>
          <p:nvPr/>
        </p:nvSpPr>
        <p:spPr>
          <a:xfrm rot="5400000">
            <a:off x="514440" y="6952320"/>
            <a:ext cx="206640" cy="14436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760" rIns="104760" tIns="-4320" bIns="-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549360" y="1311120"/>
            <a:ext cx="9882000" cy="528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14280" indent="-314280">
              <a:spcBef>
                <a:spcPts val="689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28560" indent="-314280">
              <a:spcBef>
                <a:spcPts val="68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2" marL="942840" indent="-261720">
              <a:spcBef>
                <a:spcPts val="68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3" marL="1258920" indent="-262080">
              <a:spcBef>
                <a:spcPts val="689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4" marL="1573200" indent="-262080">
              <a:spcBef>
                <a:spcPts val="689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5" marL="1573200" indent="-262080">
              <a:spcBef>
                <a:spcPts val="689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6" marL="1573200" indent="-262080">
              <a:spcBef>
                <a:spcPts val="689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7686360" y="6840360"/>
            <a:ext cx="2747880" cy="3938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6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481560" y="6840360"/>
            <a:ext cx="4208400" cy="3938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735120" y="6840360"/>
            <a:ext cx="2379600" cy="3938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6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C59348-F38B-4217-A1E4-4DC27FE72D3B}" type="slidenum">
              <a:rPr b="0" lang="ru-RU" sz="16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ая соединительная линия 10"/>
          <p:cNvSpPr/>
          <p:nvPr/>
        </p:nvSpPr>
        <p:spPr>
          <a:xfrm>
            <a:off x="549360" y="6837480"/>
            <a:ext cx="98820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04760" rIns="104760" tIns="-52200" bIns="-52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Равнобедренный треугольник 11"/>
          <p:cNvSpPr/>
          <p:nvPr/>
        </p:nvSpPr>
        <p:spPr>
          <a:xfrm rot="5400000">
            <a:off x="514440" y="6952320"/>
            <a:ext cx="206640" cy="14436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760" rIns="104760" tIns="-4320" bIns="-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12"/>
          <p:cNvSpPr/>
          <p:nvPr/>
        </p:nvSpPr>
        <p:spPr>
          <a:xfrm>
            <a:off x="549360" y="539640"/>
            <a:ext cx="218880" cy="73656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760" rIns="104760" tIns="52560" bIns="52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7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49360" y="1311120"/>
            <a:ext cx="9882000" cy="528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14280" indent="-314280">
              <a:spcBef>
                <a:spcPts val="689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  <a:p>
            <a:pPr lvl="1" marL="628560" indent="-314280">
              <a:spcBef>
                <a:spcPts val="68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  <a:p>
            <a:pPr lvl="2" marL="942840" indent="-261720">
              <a:spcBef>
                <a:spcPts val="68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  <a:p>
            <a:pPr lvl="3" marL="1258920" indent="-262080">
              <a:spcBef>
                <a:spcPts val="689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  <a:p>
            <a:pPr lvl="4" marL="1573200" indent="-262080">
              <a:spcBef>
                <a:spcPts val="689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  <a:p>
            <a:pPr lvl="5" marL="1573200" indent="-262080">
              <a:spcBef>
                <a:spcPts val="689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  <a:p>
            <a:pPr lvl="6" marL="1573200" indent="-262080">
              <a:spcBef>
                <a:spcPts val="689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7686360" y="6840360"/>
            <a:ext cx="2747880" cy="3938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6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dde9ec"/>
                </a:solidFill>
                <a:latin typeface="Calibri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481560" y="6840360"/>
            <a:ext cx="4208400" cy="3938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735120" y="6840360"/>
            <a:ext cx="2379600" cy="3938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6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B908A8-BAAD-429E-83BA-270047CB4E18}" type="slidenum">
              <a:rPr b="0" lang="ru-RU" sz="1600" spc="-1" strike="noStrike">
                <a:solidFill>
                  <a:srgbClr val="dde9ec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Прямая соединительная линия 10"/>
          <p:cNvSpPr/>
          <p:nvPr/>
        </p:nvSpPr>
        <p:spPr>
          <a:xfrm>
            <a:off x="549360" y="6837480"/>
            <a:ext cx="98820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04760" rIns="104760" tIns="-52200" bIns="-52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Равнобедренный треугольник 11"/>
          <p:cNvSpPr/>
          <p:nvPr/>
        </p:nvSpPr>
        <p:spPr>
          <a:xfrm rot="5400000">
            <a:off x="514440" y="6952320"/>
            <a:ext cx="206640" cy="14436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760" rIns="104760" tIns="-4320" bIns="-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ая соединительная линия 12"/>
          <p:cNvSpPr/>
          <p:nvPr/>
        </p:nvSpPr>
        <p:spPr>
          <a:xfrm>
            <a:off x="7872480" y="297000"/>
            <a:ext cx="0" cy="629748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04760" rIns="104760" tIns="52200" bIns="52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549360" y="1311120"/>
            <a:ext cx="9882000" cy="528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14280" indent="-314280">
              <a:spcBef>
                <a:spcPts val="689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28560" indent="-314280">
              <a:spcBef>
                <a:spcPts val="68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2" marL="942840" indent="-261720">
              <a:spcBef>
                <a:spcPts val="68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3" marL="1258920" indent="-262080">
              <a:spcBef>
                <a:spcPts val="689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4" marL="1573200" indent="-262080">
              <a:spcBef>
                <a:spcPts val="689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5" marL="1573200" indent="-262080">
              <a:spcBef>
                <a:spcPts val="689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6" marL="1573200" indent="-262080">
              <a:spcBef>
                <a:spcPts val="689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7686360" y="6840360"/>
            <a:ext cx="2747880" cy="3938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6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3481560" y="6840360"/>
            <a:ext cx="4208400" cy="3938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735120" y="6840360"/>
            <a:ext cx="2379600" cy="3938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6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2C5345-E9B8-499A-BFE4-BD425B90DD94}" type="slidenum">
              <a:rPr b="0" lang="ru-RU" sz="16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Рисунок 6" descr=""/>
          <p:cNvPicPr/>
          <p:nvPr/>
        </p:nvPicPr>
        <p:blipFill>
          <a:blip r:embed="rId1"/>
          <a:stretch/>
        </p:blipFill>
        <p:spPr>
          <a:xfrm>
            <a:off x="-385920" y="0"/>
            <a:ext cx="11366640" cy="7380360"/>
          </a:xfrm>
          <a:prstGeom prst="rect">
            <a:avLst/>
          </a:prstGeom>
          <a:ln w="0">
            <a:noFill/>
          </a:ln>
        </p:spPr>
      </p:pic>
      <p:sp>
        <p:nvSpPr>
          <p:cNvPr id="353" name="Прямоугольник 3"/>
          <p:cNvSpPr/>
          <p:nvPr/>
        </p:nvSpPr>
        <p:spPr>
          <a:xfrm>
            <a:off x="5630760" y="3255840"/>
            <a:ext cx="5085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Georgia"/>
              </a:rPr>
              <a:t>Подготовил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Georgia"/>
              </a:rPr>
              <a:t>воспитатель МКДОУ «Детский сад «Солнышко» г. Щигры Курской области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Georgia"/>
              </a:rPr>
              <a:t>Филатова Елена Ивано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Прямоугольник 4"/>
          <p:cNvSpPr/>
          <p:nvPr/>
        </p:nvSpPr>
        <p:spPr>
          <a:xfrm>
            <a:off x="0" y="1892160"/>
            <a:ext cx="10074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ВЗАИМОДЕЙСТВИЕ  С  РОДИТЕЛЯМИ (ЗАКОННЫМИ ПРЕДСТАВИЕЛЯМ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Рисунок 6" descr=""/>
          <p:cNvPicPr/>
          <p:nvPr/>
        </p:nvPicPr>
        <p:blipFill>
          <a:blip r:embed="rId1"/>
          <a:stretch/>
        </p:blipFill>
        <p:spPr>
          <a:xfrm>
            <a:off x="0" y="-11160"/>
            <a:ext cx="10980720" cy="7391520"/>
          </a:xfrm>
          <a:prstGeom prst="rect">
            <a:avLst/>
          </a:prstGeom>
          <a:ln w="0">
            <a:noFill/>
          </a:ln>
        </p:spPr>
      </p:pic>
      <p:sp>
        <p:nvSpPr>
          <p:cNvPr id="403" name="Прямоугольник 1"/>
          <p:cNvSpPr/>
          <p:nvPr/>
        </p:nvSpPr>
        <p:spPr>
          <a:xfrm>
            <a:off x="401760" y="307800"/>
            <a:ext cx="761976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1746"/>
                </a:solidFill>
                <a:latin typeface="Georgia"/>
              </a:rPr>
              <a:t>                               </a:t>
            </a:r>
            <a:r>
              <a:rPr b="0" lang="ru-RU" sz="2800" spc="-1" strike="noStrike">
                <a:solidFill>
                  <a:srgbClr val="001746"/>
                </a:solidFill>
                <a:latin typeface="Georgia"/>
              </a:rPr>
              <a:t>Выставки детских работ:                                                                               </a:t>
            </a:r>
            <a:r>
              <a:rPr b="1" lang="ru-RU" sz="2800" spc="-1" strike="noStrike">
                <a:solidFill>
                  <a:srgbClr val="001746"/>
                </a:solidFill>
                <a:latin typeface="Georgi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2019-2020 учебный год</a:t>
            </a:r>
            <a:r>
              <a:rPr b="0" lang="ru-RU" sz="2000" spc="-1" strike="noStrike">
                <a:solidFill>
                  <a:srgbClr val="001746"/>
                </a:solidFill>
                <a:latin typeface="Georgia"/>
              </a:rPr>
              <a:t>:</a:t>
            </a:r>
            <a:r>
              <a:rPr b="0" lang="ru-RU" sz="1800" spc="-1" strike="noStrike">
                <a:solidFill>
                  <a:srgbClr val="001746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1746"/>
                </a:solidFill>
                <a:latin typeface="Georgia"/>
              </a:rPr>
              <a:t>«Осенние фантазии», «Зимняя сказка» , «Пасхальный,  выставка детских рисунков «День Победы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2020-2021 учебный год</a:t>
            </a:r>
            <a:r>
              <a:rPr b="0" lang="ru-RU" sz="2000" spc="-1" strike="noStrike">
                <a:solidFill>
                  <a:srgbClr val="001d58"/>
                </a:solidFill>
                <a:latin typeface="Georgia"/>
              </a:rPr>
              <a:t>: </a:t>
            </a:r>
            <a:r>
              <a:rPr b="0" lang="ru-RU" sz="2000" spc="-1" strike="noStrike">
                <a:solidFill>
                  <a:srgbClr val="001746"/>
                </a:solidFill>
                <a:latin typeface="Georgia"/>
              </a:rPr>
              <a:t>«Лучший осенний букет», «Новогодняя игрушка своими руками», Открытка для папы, Подарок для ма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2021-2022 учебный год</a:t>
            </a:r>
            <a:r>
              <a:rPr b="0" lang="ru-RU" sz="2000" spc="-1" strike="noStrike">
                <a:solidFill>
                  <a:srgbClr val="001746"/>
                </a:solidFill>
                <a:latin typeface="Georgia"/>
              </a:rPr>
              <a:t>: «Богатый урожай»; «Новогодний калейдоскоп», «Цветы для мамы»; «Пасхальные мотивы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2" descr="D:\Фотографии Презентации Видео\Фотографии\фото 2022г\выстака рукодельник пасха\Безымянный94.png"/>
          <p:cNvPicPr/>
          <p:nvPr/>
        </p:nvPicPr>
        <p:blipFill>
          <a:blip r:embed="rId2"/>
          <a:stretch/>
        </p:blipFill>
        <p:spPr>
          <a:xfrm>
            <a:off x="7986600" y="1233360"/>
            <a:ext cx="2649600" cy="346716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3" descr="C:\Users\Ирина\Downloads\IMG_20221031_080839.jpg"/>
          <p:cNvPicPr/>
          <p:nvPr/>
        </p:nvPicPr>
        <p:blipFill>
          <a:blip r:embed="rId3"/>
          <a:stretch/>
        </p:blipFill>
        <p:spPr>
          <a:xfrm>
            <a:off x="4259160" y="3497400"/>
            <a:ext cx="3530880" cy="264780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4" descr="D:\Фотографии Презентации Видео\IMG_7878.JPG"/>
          <p:cNvPicPr/>
          <p:nvPr/>
        </p:nvPicPr>
        <p:blipFill>
          <a:blip r:embed="rId4"/>
          <a:stretch/>
        </p:blipFill>
        <p:spPr>
          <a:xfrm>
            <a:off x="8083440" y="5021280"/>
            <a:ext cx="2676600" cy="200664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2" descr="D:\Фотографии Презентации Видео\Фотографии\фото 2021г\пасх мотивы выставка\IMG_6366.JPG"/>
          <p:cNvPicPr/>
          <p:nvPr/>
        </p:nvPicPr>
        <p:blipFill>
          <a:blip r:embed="rId5"/>
          <a:stretch/>
        </p:blipFill>
        <p:spPr>
          <a:xfrm>
            <a:off x="457200" y="3468600"/>
            <a:ext cx="363384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Рисунок 6" descr=""/>
          <p:cNvPicPr/>
          <p:nvPr/>
        </p:nvPicPr>
        <p:blipFill>
          <a:blip r:embed="rId1"/>
          <a:stretch/>
        </p:blipFill>
        <p:spPr>
          <a:xfrm>
            <a:off x="0" y="-11160"/>
            <a:ext cx="10980720" cy="7391520"/>
          </a:xfrm>
          <a:prstGeom prst="rect">
            <a:avLst/>
          </a:prstGeom>
          <a:ln w="0">
            <a:noFill/>
          </a:ln>
        </p:spPr>
      </p:pic>
      <p:sp>
        <p:nvSpPr>
          <p:cNvPr id="409" name="Прямоугольник 1"/>
          <p:cNvSpPr/>
          <p:nvPr/>
        </p:nvSpPr>
        <p:spPr>
          <a:xfrm>
            <a:off x="1558800" y="209520"/>
            <a:ext cx="778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1d58"/>
                </a:solidFill>
                <a:latin typeface="Georgia"/>
              </a:rPr>
              <a:t>Стенды, ширмы, папки-передвиж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Прямоугольник 3"/>
          <p:cNvSpPr/>
          <p:nvPr/>
        </p:nvSpPr>
        <p:spPr>
          <a:xfrm>
            <a:off x="419040" y="733320"/>
            <a:ext cx="10209240" cy="40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2019-2020 учебный год:</a:t>
            </a:r>
            <a:r>
              <a:rPr b="0" lang="ru-RU" sz="1800" spc="-1" strike="noStrike">
                <a:solidFill>
                  <a:srgbClr val="001746"/>
                </a:solidFill>
                <a:latin typeface="Georgia"/>
              </a:rPr>
              <a:t>.«О правильном питании и пользе витаминов». «Дорожная азбука для детей». «Рождество-семейный праздник» пропаганда семейных ценностей. «Родителям о мальчиках и девочках» психолого-педагогическое просвещение родителей. </a:t>
            </a:r>
            <a:r>
              <a:rPr b="0" lang="ru-RU" sz="1800" spc="-1" strike="noStrike">
                <a:solidFill>
                  <a:srgbClr val="001746"/>
                </a:solidFill>
                <a:latin typeface="Georgia"/>
                <a:ea typeface="Calibri"/>
              </a:rPr>
              <a:t>.«Что мы узнали и чему научились?» информирование родителей о работе детского са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2020-2021 учебный год</a:t>
            </a:r>
            <a:r>
              <a:rPr b="0" lang="ru-RU" sz="1800" spc="-1" strike="noStrike">
                <a:solidFill>
                  <a:srgbClr val="001746"/>
                </a:solidFill>
                <a:latin typeface="Georgia"/>
              </a:rPr>
              <a:t>: «Что бы дети не болели»; «Безопасный Новый год»; «Добрые советы родителям»; «Игры для сенсорного развития ребёнка»;  «День Победы»; «Домашний игровой уголок»; «Первая помощь при ранах, порезах, укусах.»; «Признаки теплового и солнечного ударов»;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2021-2022 учебный год</a:t>
            </a:r>
            <a:r>
              <a:rPr b="0" lang="ru-RU" sz="1800" spc="-1" strike="noStrike">
                <a:solidFill>
                  <a:srgbClr val="002060"/>
                </a:solidFill>
                <a:latin typeface="Georgia"/>
              </a:rPr>
              <a:t>: </a:t>
            </a:r>
            <a:r>
              <a:rPr b="0" lang="ru-RU" sz="1800" spc="-1" strike="noStrike">
                <a:solidFill>
                  <a:srgbClr val="001746"/>
                </a:solidFill>
                <a:latin typeface="Georgia"/>
              </a:rPr>
              <a:t>«Советы психолога»; «День матери»; «Рождество-семейный праздник»;  «Берегите свои зубы»; «Расти здоровым, малыш!»;  «Воспитание у детей любви к природе через художественную литературу»;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апка-передвижка «Роль театрализованных игр в развитии речи детей дошкольного возра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Рисунок 4" descr=""/>
          <p:cNvPicPr/>
          <p:nvPr/>
        </p:nvPicPr>
        <p:blipFill>
          <a:blip r:embed="rId2"/>
          <a:stretch/>
        </p:blipFill>
        <p:spPr>
          <a:xfrm>
            <a:off x="5925960" y="4025880"/>
            <a:ext cx="4672080" cy="2776680"/>
          </a:xfrm>
          <a:prstGeom prst="rect">
            <a:avLst/>
          </a:prstGeom>
          <a:ln w="0">
            <a:noFill/>
          </a:ln>
        </p:spPr>
      </p:pic>
      <p:pic>
        <p:nvPicPr>
          <p:cNvPr id="412" name="Рисунок 5" descr=""/>
          <p:cNvPicPr/>
          <p:nvPr/>
        </p:nvPicPr>
        <p:blipFill>
          <a:blip r:embed="rId3"/>
          <a:stretch/>
        </p:blipFill>
        <p:spPr>
          <a:xfrm>
            <a:off x="617400" y="4189320"/>
            <a:ext cx="4658040" cy="25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Рисунок 6" descr=""/>
          <p:cNvPicPr/>
          <p:nvPr/>
        </p:nvPicPr>
        <p:blipFill>
          <a:blip r:embed="rId1"/>
          <a:stretch/>
        </p:blipFill>
        <p:spPr>
          <a:xfrm>
            <a:off x="0" y="-11160"/>
            <a:ext cx="10980720" cy="7391520"/>
          </a:xfrm>
          <a:prstGeom prst="rect">
            <a:avLst/>
          </a:prstGeom>
          <a:ln w="0">
            <a:noFill/>
          </a:ln>
        </p:spPr>
      </p:pic>
      <p:sp>
        <p:nvSpPr>
          <p:cNvPr id="414" name="TextBox 1"/>
          <p:cNvSpPr/>
          <p:nvPr/>
        </p:nvSpPr>
        <p:spPr>
          <a:xfrm>
            <a:off x="1693800" y="120600"/>
            <a:ext cx="775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1d58"/>
                </a:solidFill>
                <a:latin typeface="Georgia"/>
              </a:rPr>
              <a:t>                     </a:t>
            </a:r>
            <a:r>
              <a:rPr b="0" lang="ru-RU" sz="2800" spc="-1" strike="noStrike">
                <a:solidFill>
                  <a:srgbClr val="001d58"/>
                </a:solidFill>
                <a:latin typeface="Georgia"/>
              </a:rPr>
              <a:t>Памятки и букле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3"/>
          <p:cNvSpPr/>
          <p:nvPr/>
        </p:nvSpPr>
        <p:spPr>
          <a:xfrm>
            <a:off x="419040" y="625320"/>
            <a:ext cx="61261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2019-2010 учебный год</a:t>
            </a:r>
            <a:r>
              <a:rPr b="0" lang="ru-RU" sz="1800" spc="-1" strike="noStrike">
                <a:solidFill>
                  <a:srgbClr val="002060"/>
                </a:solidFill>
                <a:latin typeface="Georgia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1746"/>
                </a:solidFill>
                <a:latin typeface="Georgia"/>
              </a:rPr>
              <a:t>.«Что должен знать и уметь ребенок 6-7 лет». .«Новый год и дети», «Все о прививках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2020-2021 учебный год</a:t>
            </a:r>
            <a:r>
              <a:rPr b="0" lang="ru-RU" sz="1800" spc="-1" strike="noStrike">
                <a:solidFill>
                  <a:srgbClr val="001d58"/>
                </a:solidFill>
                <a:latin typeface="Georgia"/>
              </a:rPr>
              <a:t>: </a:t>
            </a:r>
            <a:r>
              <a:rPr b="0" lang="ru-RU" sz="1800" spc="-1" strike="noStrike">
                <a:solidFill>
                  <a:srgbClr val="001746"/>
                </a:solidFill>
                <a:latin typeface="Georgia"/>
              </a:rPr>
              <a:t>«Игры и упражнения для развития мелкой моторики», «Пальчиковые игры для малышей» , «Учить цвета легко и просто», «Что значит быть хорошим отцом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1d58"/>
                </a:solidFill>
                <a:latin typeface="Georgia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2021-2022 учебный год</a:t>
            </a:r>
            <a:r>
              <a:rPr b="0" lang="ru-RU" sz="1800" spc="-1" strike="noStrike">
                <a:solidFill>
                  <a:srgbClr val="002060"/>
                </a:solidFill>
                <a:latin typeface="Georgia"/>
              </a:rPr>
              <a:t>: </a:t>
            </a:r>
            <a:r>
              <a:rPr b="0" lang="ru-RU" sz="1800" spc="-1" strike="noStrike">
                <a:solidFill>
                  <a:srgbClr val="001746"/>
                </a:solidFill>
                <a:latin typeface="Georgia"/>
              </a:rPr>
              <a:t>«Роль дидактической игры в обучении и развитии ребёнка», «Что должен знать дошкольник по безопасности жизнедеятельности»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2" descr="C:\Users\Ирина\Downloads\IMG20221205101631.jpg"/>
          <p:cNvPicPr/>
          <p:nvPr/>
        </p:nvPicPr>
        <p:blipFill>
          <a:blip r:embed="rId2"/>
          <a:stretch/>
        </p:blipFill>
        <p:spPr>
          <a:xfrm>
            <a:off x="6608880" y="657360"/>
            <a:ext cx="3938400" cy="525132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2" descr="C:\Users\Ирина\Downloads\2022-12-05_15-07-42.png"/>
          <p:cNvPicPr/>
          <p:nvPr/>
        </p:nvPicPr>
        <p:blipFill>
          <a:blip r:embed="rId3"/>
          <a:stretch/>
        </p:blipFill>
        <p:spPr>
          <a:xfrm>
            <a:off x="244440" y="3703680"/>
            <a:ext cx="2995560" cy="21067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2" descr="C:\Users\Ирина\Downloads\2022-12-07_12-27-44.png"/>
          <p:cNvPicPr/>
          <p:nvPr/>
        </p:nvPicPr>
        <p:blipFill>
          <a:blip r:embed="rId4"/>
          <a:stretch/>
        </p:blipFill>
        <p:spPr>
          <a:xfrm>
            <a:off x="3336840" y="3747960"/>
            <a:ext cx="2967120" cy="212724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2" descr="C:\Users\Ирина\Downloads\2022-12-07_12-27-44.png"/>
          <p:cNvPicPr/>
          <p:nvPr/>
        </p:nvPicPr>
        <p:blipFill>
          <a:blip r:embed="rId5"/>
          <a:stretch/>
        </p:blipFill>
        <p:spPr>
          <a:xfrm>
            <a:off x="5389560" y="5070600"/>
            <a:ext cx="2847960" cy="20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Рисунок 9" descr=""/>
          <p:cNvPicPr/>
          <p:nvPr/>
        </p:nvPicPr>
        <p:blipFill>
          <a:blip r:embed="rId1"/>
          <a:stretch/>
        </p:blipFill>
        <p:spPr>
          <a:xfrm>
            <a:off x="0" y="-11160"/>
            <a:ext cx="10980720" cy="7391520"/>
          </a:xfrm>
          <a:prstGeom prst="rect">
            <a:avLst/>
          </a:prstGeom>
          <a:ln w="0">
            <a:noFill/>
          </a:ln>
        </p:spPr>
      </p:pic>
      <p:sp>
        <p:nvSpPr>
          <p:cNvPr id="421" name="Прямоугольник 1"/>
          <p:cNvSpPr/>
          <p:nvPr/>
        </p:nvSpPr>
        <p:spPr>
          <a:xfrm>
            <a:off x="1514520" y="257040"/>
            <a:ext cx="842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1d58"/>
                </a:solidFill>
                <a:latin typeface="Georgia"/>
              </a:rPr>
              <a:t>Совместные мероприят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Рисунок 4" descr=""/>
          <p:cNvPicPr/>
          <p:nvPr/>
        </p:nvPicPr>
        <p:blipFill>
          <a:blip r:embed="rId2"/>
          <a:stretch/>
        </p:blipFill>
        <p:spPr>
          <a:xfrm>
            <a:off x="6161040" y="3849840"/>
            <a:ext cx="4442040" cy="2855880"/>
          </a:xfrm>
          <a:prstGeom prst="rect">
            <a:avLst/>
          </a:prstGeom>
          <a:ln w="0">
            <a:noFill/>
          </a:ln>
        </p:spPr>
      </p:pic>
      <p:pic>
        <p:nvPicPr>
          <p:cNvPr id="423" name="Рисунок 5" descr=""/>
          <p:cNvPicPr/>
          <p:nvPr/>
        </p:nvPicPr>
        <p:blipFill>
          <a:blip r:embed="rId3"/>
          <a:stretch/>
        </p:blipFill>
        <p:spPr>
          <a:xfrm>
            <a:off x="609480" y="3162240"/>
            <a:ext cx="5229360" cy="2516400"/>
          </a:xfrm>
          <a:prstGeom prst="rect">
            <a:avLst/>
          </a:prstGeom>
          <a:ln w="0">
            <a:noFill/>
          </a:ln>
        </p:spPr>
      </p:pic>
      <p:sp>
        <p:nvSpPr>
          <p:cNvPr id="424" name="Прямоугольник 7"/>
          <p:cNvSpPr/>
          <p:nvPr/>
        </p:nvSpPr>
        <p:spPr>
          <a:xfrm>
            <a:off x="465120" y="973080"/>
            <a:ext cx="55832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1746"/>
                </a:solidFill>
                <a:latin typeface="Georgia"/>
              </a:rPr>
              <a:t>«</a:t>
            </a:r>
            <a:r>
              <a:rPr b="0" lang="ru-RU" sz="2000" spc="-1" strike="noStrike">
                <a:solidFill>
                  <a:srgbClr val="001746"/>
                </a:solidFill>
                <a:latin typeface="Georgia"/>
              </a:rPr>
              <a:t>День матери»,  Мастер-класс по изготовлению снежинок, «Новогодний карнавал», «Папа и  - спортивная семья»,  </a:t>
            </a:r>
            <a:r>
              <a:rPr b="0" lang="ru-RU" sz="2000" spc="-1" strike="noStrike">
                <a:solidFill>
                  <a:srgbClr val="002060"/>
                </a:solidFill>
                <a:latin typeface="Georgia"/>
                <a:ea typeface="Times New Roman"/>
              </a:rPr>
              <a:t>театрализованное представление,  посвященное Дню Матери «Подарок маме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2" descr="D:\Фотографии Презентации Видео\Фотографии\фото 2019 г\23 февраля 2019\DSCN0047.JPG"/>
          <p:cNvPicPr/>
          <p:nvPr/>
        </p:nvPicPr>
        <p:blipFill>
          <a:blip r:embed="rId4"/>
          <a:stretch/>
        </p:blipFill>
        <p:spPr>
          <a:xfrm>
            <a:off x="6168960" y="272880"/>
            <a:ext cx="4554720" cy="34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Рисунок 4" descr=""/>
          <p:cNvPicPr/>
          <p:nvPr/>
        </p:nvPicPr>
        <p:blipFill>
          <a:blip r:embed="rId1"/>
          <a:stretch/>
        </p:blipFill>
        <p:spPr>
          <a:xfrm>
            <a:off x="0" y="-11160"/>
            <a:ext cx="10980720" cy="7391520"/>
          </a:xfrm>
          <a:prstGeom prst="rect">
            <a:avLst/>
          </a:prstGeom>
          <a:ln w="0">
            <a:noFill/>
          </a:ln>
        </p:spPr>
      </p:pic>
      <p:sp>
        <p:nvSpPr>
          <p:cNvPr id="427" name="Прямоугольник 2"/>
          <p:cNvSpPr/>
          <p:nvPr/>
        </p:nvSpPr>
        <p:spPr>
          <a:xfrm>
            <a:off x="673200" y="898560"/>
            <a:ext cx="9897840" cy="55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Использование разнообразных форм работы дало определенные результаты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100" spc="-1" strike="noStrike">
                <a:solidFill>
                  <a:srgbClr val="854e05"/>
                </a:solidFill>
                <a:latin typeface="Georgia"/>
              </a:rPr>
              <a:t>- у родителей появился интерес к содержанию образовательного процесса с детьми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100" spc="-1" strike="noStrike">
                <a:solidFill>
                  <a:srgbClr val="854e05"/>
                </a:solidFill>
                <a:latin typeface="Georgia"/>
              </a:rPr>
              <a:t>- родители стали стремится к индивидуальным контактам с воспитателями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100" spc="-1" strike="noStrike">
                <a:solidFill>
                  <a:srgbClr val="854e05"/>
                </a:solidFill>
                <a:latin typeface="Georgia"/>
              </a:rPr>
              <a:t>- возникают дискуссии по инициативе родителей, повысилась  их активность при анализе педагогических ситуаций, также родители стали размышлять о правильности использования тех или иных методов воспитания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54e05"/>
              </a:buClr>
              <a:buFont typeface="Georgia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100" spc="-1" strike="noStrike">
                <a:solidFill>
                  <a:srgbClr val="854e05"/>
                </a:solidFill>
                <a:latin typeface="Georgia"/>
              </a:rPr>
              <a:t>родители стали проявлять больше участия в совместной творческой деятельности с детьм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54e05"/>
              </a:buClr>
              <a:buFont typeface="Georgia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    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 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Эффективность проделанной работы подтверждается в проявлении дальнейшей инициативы родителей в жизни группы и детского са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Прямоугольник 3"/>
          <p:cNvSpPr/>
          <p:nvPr/>
        </p:nvSpPr>
        <p:spPr>
          <a:xfrm>
            <a:off x="1933560" y="374760"/>
            <a:ext cx="707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1d58"/>
                </a:solidFill>
                <a:latin typeface="Georgia"/>
              </a:rPr>
              <a:t>Результатив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Рисунок 3" descr=""/>
          <p:cNvPicPr/>
          <p:nvPr/>
        </p:nvPicPr>
        <p:blipFill>
          <a:blip r:embed="rId1"/>
          <a:stretch/>
        </p:blipFill>
        <p:spPr>
          <a:xfrm>
            <a:off x="0" y="-11160"/>
            <a:ext cx="10980720" cy="739152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1"/>
          <p:cNvSpPr/>
          <p:nvPr/>
        </p:nvSpPr>
        <p:spPr>
          <a:xfrm flipV="1" rot="10800000">
            <a:off x="1186920" y="337320"/>
            <a:ext cx="8695080" cy="69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Литератур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1.Михайлова –Свирская Л.В. «Работа с родителями. , Москва «Просвещение», 2015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2.Арнаутова, Е.П. Социально-педагогическая практика взаимодействия семьи и детского сада в современных условиях / Е.П. Арнаутова / Детский сад от А до Я. – 2004. - №4. – с. 23-3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3. Давыдова О.И., Богославец Л.Г., Майер А.А. Работа с родителями в детском саду: Этнопедагогический подход. - М.: ТЦ Сфера, 2005. - 144с. - (Приложение к журналу «Управление ДОУ»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4. Козлова А.В., Дешеулина Р.П. Работа ДОУ с семьёй: Диагностика, планирование, конспекты лекций, консультации, мониторинг. - М.: ТЦ Сфера, 2004. - 112с. (Серия «Библиотека руководителя ДОУ»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5. Куликова Т.А. Семейная педагогика и домашнее воспитание: Учебник для студ. сред. и высш. пед. учеб. заведений. -- М.: Издательский центр «Академия», 1999. - 232 с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6. Скоролупова О.А. Тематическое планирование воспитательно-образовательного процесса в ДОУ. Часть II. – М.: ООО Издательство «Скрипторий»,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7. Осипова Л.Е. Родительские собрания в детском саду. Старшая группа. - М.: «Издательство Скрипторий 2003», 2008. - 64с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8. Петрущенко Н.А., Зенченко Н.Е. Детский сад и семья – взаимодействие и сотрудничество. Воспитатель ДОУ. 2009, № 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10980720" cy="7391520"/>
          </a:xfrm>
          <a:prstGeom prst="rect">
            <a:avLst/>
          </a:prstGeom>
          <a:ln w="0">
            <a:noFill/>
          </a:ln>
        </p:spPr>
      </p:pic>
      <p:sp>
        <p:nvSpPr>
          <p:cNvPr id="356" name="Прямоугольник 3"/>
          <p:cNvSpPr/>
          <p:nvPr/>
        </p:nvSpPr>
        <p:spPr>
          <a:xfrm>
            <a:off x="1098720" y="1268280"/>
            <a:ext cx="8994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Georgia"/>
              </a:rPr>
              <a:t>Семья для ребенка – это место его рождения и становления, это определенный морально-психологический климат, это школа отношений с людьми. Она занимает центральное место в формировании личности ребёнка. Именно в семье он получает первые навыки восприятия действительности, складываются представления о добре и зле, о порядочности, об уважительном отношении к материальным и духовным ценностям. С близкими людьми в семье ребёнок переживает чувства любви, дружбы, долга, ответственности, справедлив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Прямоугольник 1"/>
          <p:cNvSpPr/>
          <p:nvPr/>
        </p:nvSpPr>
        <p:spPr>
          <a:xfrm>
            <a:off x="1349280" y="465120"/>
            <a:ext cx="688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Monotype Corsiv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Рисунок 4" descr=""/>
          <p:cNvPicPr/>
          <p:nvPr/>
        </p:nvPicPr>
        <p:blipFill>
          <a:blip r:embed="rId1"/>
          <a:stretch/>
        </p:blipFill>
        <p:spPr>
          <a:xfrm>
            <a:off x="0" y="-11160"/>
            <a:ext cx="10980720" cy="7391520"/>
          </a:xfrm>
          <a:prstGeom prst="rect">
            <a:avLst/>
          </a:prstGeom>
          <a:ln w="0">
            <a:noFill/>
          </a:ln>
        </p:spPr>
      </p:pic>
      <p:sp>
        <p:nvSpPr>
          <p:cNvPr id="359" name="Прямоугольник 3"/>
          <p:cNvSpPr/>
          <p:nvPr/>
        </p:nvSpPr>
        <p:spPr>
          <a:xfrm>
            <a:off x="465120" y="465120"/>
            <a:ext cx="102823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100" spc="-1" strike="noStrike">
                <a:solidFill>
                  <a:srgbClr val="002060"/>
                </a:solidFill>
                <a:latin typeface="Georgia"/>
              </a:rPr>
              <a:t>Проблема вовлечения родителей в единое пространство детского развития в ДОУ решается в трех направлениях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54e0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100" spc="-1" strike="noStrike">
                <a:solidFill>
                  <a:srgbClr val="854e05"/>
                </a:solidFill>
                <a:latin typeface="Georgia"/>
              </a:rPr>
              <a:t>повышение педагогической культуры родителей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54e0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100" spc="-1" strike="noStrike">
                <a:solidFill>
                  <a:srgbClr val="854e05"/>
                </a:solidFill>
                <a:latin typeface="Georgia"/>
              </a:rPr>
              <a:t>вовлечение родителей в деятельность ДОУ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54e0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100" spc="-1" strike="noStrike">
                <a:solidFill>
                  <a:srgbClr val="854e05"/>
                </a:solidFill>
                <a:latin typeface="Georgia"/>
              </a:rPr>
              <a:t>совместная работа по обмену опытом</a:t>
            </a:r>
            <a:r>
              <a:rPr b="0" i="1" lang="ru-RU" sz="2100" spc="-1" strike="noStrike">
                <a:solidFill>
                  <a:srgbClr val="002060"/>
                </a:solidFill>
                <a:latin typeface="Georgia"/>
              </a:rPr>
              <a:t>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100" spc="-1" strike="noStrike">
                <a:solidFill>
                  <a:srgbClr val="001d58"/>
                </a:solidFill>
                <a:latin typeface="Georgia"/>
              </a:rPr>
              <a:t>Мной была поставлена </a:t>
            </a:r>
            <a:r>
              <a:rPr b="1" lang="ru-RU" sz="2100" spc="-1" strike="noStrike" u="sng">
                <a:solidFill>
                  <a:srgbClr val="001d58"/>
                </a:solidFill>
                <a:uFillTx/>
                <a:latin typeface="Georgia"/>
              </a:rPr>
              <a:t>цель</a:t>
            </a:r>
            <a:r>
              <a:rPr b="0" lang="ru-RU" sz="2100" spc="-1" strike="noStrike" u="sng">
                <a:solidFill>
                  <a:srgbClr val="001d58"/>
                </a:solidFill>
                <a:uFillTx/>
                <a:latin typeface="Georgia"/>
              </a:rPr>
              <a:t>:</a:t>
            </a:r>
            <a:r>
              <a:rPr b="0" lang="ru-RU" sz="2100" spc="-1" strike="noStrike">
                <a:solidFill>
                  <a:srgbClr val="001d58"/>
                </a:solidFill>
                <a:latin typeface="Georgia"/>
              </a:rPr>
              <a:t> сделать родителей активными участниками педагогического процесса, оказав им помощь в реализации ответственности за воспитание и обучение детей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100" spc="-1" strike="noStrike">
                <a:solidFill>
                  <a:srgbClr val="001d58"/>
                </a:solidFill>
                <a:latin typeface="Georgia"/>
              </a:rPr>
              <a:t>Для достижения данной цели я работала над решением следующих </a:t>
            </a:r>
            <a:r>
              <a:rPr b="1" lang="ru-RU" sz="2100" spc="-1" strike="noStrike" u="sng">
                <a:solidFill>
                  <a:srgbClr val="001d58"/>
                </a:solidFill>
                <a:uFillTx/>
                <a:latin typeface="Georgia"/>
              </a:rPr>
              <a:t>задач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54e0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100" spc="-1" strike="noStrike">
                <a:solidFill>
                  <a:srgbClr val="854e05"/>
                </a:solidFill>
                <a:latin typeface="Georgia"/>
              </a:rPr>
              <a:t>Установить партнерские отношения с семьей каждого воспитанник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54e0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100" spc="-1" strike="noStrike">
                <a:solidFill>
                  <a:srgbClr val="854e05"/>
                </a:solidFill>
                <a:latin typeface="Georgia"/>
              </a:rPr>
              <a:t>Объединить усилия семьи и детского сада для развития и воспитания детей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54e0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100" spc="-1" strike="noStrike">
                <a:solidFill>
                  <a:srgbClr val="854e05"/>
                </a:solidFill>
                <a:latin typeface="Georgia"/>
              </a:rPr>
              <a:t>Создать атмосферу взаимопонимания  с родителями воспитанников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54e0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100" spc="-1" strike="noStrike">
                <a:solidFill>
                  <a:srgbClr val="854e05"/>
                </a:solidFill>
                <a:latin typeface="Georgia"/>
              </a:rPr>
              <a:t>Активизировать и обогащать умения родителей по воспитанию детей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54e0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100" spc="-1" strike="noStrike">
                <a:solidFill>
                  <a:srgbClr val="854e05"/>
                </a:solidFill>
                <a:latin typeface="Georgia"/>
              </a:rPr>
              <a:t>Поддерживать уверенность родителей в собственных педагогических возможностях.</a:t>
            </a:r>
            <a:r>
              <a:rPr b="0" i="1" lang="ru-RU" sz="2100" spc="-1" strike="noStrike">
                <a:solidFill>
                  <a:srgbClr val="002060"/>
                </a:solidFill>
                <a:latin typeface="Georgia"/>
              </a:rPr>
              <a:t> 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Рисунок 16" descr=""/>
          <p:cNvPicPr/>
          <p:nvPr/>
        </p:nvPicPr>
        <p:blipFill>
          <a:blip r:embed="rId1"/>
          <a:stretch/>
        </p:blipFill>
        <p:spPr>
          <a:xfrm>
            <a:off x="0" y="-11160"/>
            <a:ext cx="10980720" cy="7391520"/>
          </a:xfrm>
          <a:prstGeom prst="rect">
            <a:avLst/>
          </a:prstGeom>
          <a:ln w="0">
            <a:noFill/>
          </a:ln>
        </p:spPr>
      </p:pic>
      <p:sp>
        <p:nvSpPr>
          <p:cNvPr id="361" name="TextBox 1"/>
          <p:cNvSpPr/>
          <p:nvPr/>
        </p:nvSpPr>
        <p:spPr>
          <a:xfrm>
            <a:off x="225360" y="149400"/>
            <a:ext cx="1050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Georgia"/>
              </a:rPr>
              <a:t>Формы работы с родителя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Скругленный прямоугольник 3"/>
          <p:cNvSpPr/>
          <p:nvPr/>
        </p:nvSpPr>
        <p:spPr>
          <a:xfrm>
            <a:off x="334800" y="1023840"/>
            <a:ext cx="3441960" cy="763560"/>
          </a:xfrm>
          <a:prstGeom prst="roundRect">
            <a:avLst>
              <a:gd name="adj" fmla="val 16667"/>
            </a:avLst>
          </a:prstGeom>
          <a:solidFill>
            <a:srgbClr val="cee1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Скругленный прямоугольник 4"/>
          <p:cNvSpPr/>
          <p:nvPr/>
        </p:nvSpPr>
        <p:spPr>
          <a:xfrm>
            <a:off x="3821040" y="990720"/>
            <a:ext cx="3362400" cy="765000"/>
          </a:xfrm>
          <a:prstGeom prst="roundRect">
            <a:avLst>
              <a:gd name="adj" fmla="val 16667"/>
            </a:avLst>
          </a:prstGeom>
          <a:solidFill>
            <a:srgbClr val="cee1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Скругленный прямоугольник 5"/>
          <p:cNvSpPr/>
          <p:nvPr/>
        </p:nvSpPr>
        <p:spPr>
          <a:xfrm>
            <a:off x="7396200" y="1008000"/>
            <a:ext cx="3336840" cy="763560"/>
          </a:xfrm>
          <a:prstGeom prst="roundRect">
            <a:avLst>
              <a:gd name="adj" fmla="val 16667"/>
            </a:avLst>
          </a:prstGeom>
          <a:solidFill>
            <a:srgbClr val="cee1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6"/>
          <p:cNvSpPr/>
          <p:nvPr/>
        </p:nvSpPr>
        <p:spPr>
          <a:xfrm>
            <a:off x="368280" y="1170000"/>
            <a:ext cx="32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eorgia"/>
              </a:rPr>
              <a:t>Индивидуа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7"/>
          <p:cNvSpPr/>
          <p:nvPr/>
        </p:nvSpPr>
        <p:spPr>
          <a:xfrm>
            <a:off x="3927600" y="1170000"/>
            <a:ext cx="30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eorgia"/>
              </a:rPr>
              <a:t>Коллектив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8"/>
          <p:cNvSpPr/>
          <p:nvPr/>
        </p:nvSpPr>
        <p:spPr>
          <a:xfrm>
            <a:off x="7289640" y="857160"/>
            <a:ext cx="326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eorgia"/>
              </a:rPr>
              <a:t>Наглядно-информацио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9"/>
          <p:cNvSpPr/>
          <p:nvPr/>
        </p:nvSpPr>
        <p:spPr>
          <a:xfrm>
            <a:off x="495360" y="2128680"/>
            <a:ext cx="3044880" cy="32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1.индивидуальные бесед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2. индивидуальные консультаци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3.поручения родителя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4. индивидуальные памятки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;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5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анкетирование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Стрелка вниз 11"/>
          <p:cNvSpPr/>
          <p:nvPr/>
        </p:nvSpPr>
        <p:spPr>
          <a:xfrm>
            <a:off x="1733400" y="1755720"/>
            <a:ext cx="195480" cy="355680"/>
          </a:xfrm>
          <a:prstGeom prst="downArrow">
            <a:avLst>
              <a:gd name="adj1" fmla="val 50000"/>
              <a:gd name="adj2" fmla="val 49953"/>
            </a:avLst>
          </a:prstGeom>
          <a:solidFill>
            <a:srgbClr val="cee1f2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Стрелка вниз 12"/>
          <p:cNvSpPr/>
          <p:nvPr/>
        </p:nvSpPr>
        <p:spPr>
          <a:xfrm>
            <a:off x="5392800" y="1755720"/>
            <a:ext cx="183960" cy="355680"/>
          </a:xfrm>
          <a:prstGeom prst="downArrow">
            <a:avLst>
              <a:gd name="adj1" fmla="val 50000"/>
              <a:gd name="adj2" fmla="val 50064"/>
            </a:avLst>
          </a:prstGeom>
          <a:solidFill>
            <a:srgbClr val="cee1f2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Стрелка вниз 13"/>
          <p:cNvSpPr/>
          <p:nvPr/>
        </p:nvSpPr>
        <p:spPr>
          <a:xfrm>
            <a:off x="9051840" y="1755720"/>
            <a:ext cx="182520" cy="355680"/>
          </a:xfrm>
          <a:prstGeom prst="downArrow">
            <a:avLst>
              <a:gd name="adj1" fmla="val 50000"/>
              <a:gd name="adj2" fmla="val 50026"/>
            </a:avLst>
          </a:prstGeom>
          <a:solidFill>
            <a:srgbClr val="cee1f2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14"/>
          <p:cNvSpPr/>
          <p:nvPr/>
        </p:nvSpPr>
        <p:spPr>
          <a:xfrm>
            <a:off x="3927600" y="2128680"/>
            <a:ext cx="325584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1.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родительские собрания (общие, групповые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2. конферен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3. круглые стол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4. экскурсии по ДО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15"/>
          <p:cNvSpPr/>
          <p:nvPr/>
        </p:nvSpPr>
        <p:spPr>
          <a:xfrm>
            <a:off x="7564320" y="2133720"/>
            <a:ext cx="29084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1.видеофрагменты организации различных видов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2. фото выставк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3. выставки детских рабо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4.стенды;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5.ширмы; 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6.папки-передвиж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Рисунок 7" descr=""/>
          <p:cNvPicPr/>
          <p:nvPr/>
        </p:nvPicPr>
        <p:blipFill>
          <a:blip r:embed="rId1"/>
          <a:stretch/>
        </p:blipFill>
        <p:spPr>
          <a:xfrm>
            <a:off x="0" y="-11160"/>
            <a:ext cx="10980720" cy="7391520"/>
          </a:xfrm>
          <a:prstGeom prst="rect">
            <a:avLst/>
          </a:prstGeom>
          <a:ln w="0">
            <a:noFill/>
          </a:ln>
        </p:spPr>
      </p:pic>
      <p:sp>
        <p:nvSpPr>
          <p:cNvPr id="375" name="TextBox 1"/>
          <p:cNvSpPr/>
          <p:nvPr/>
        </p:nvSpPr>
        <p:spPr>
          <a:xfrm>
            <a:off x="1112760" y="297000"/>
            <a:ext cx="8080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Georgia"/>
              </a:rPr>
              <a:t>Индивидуальные формы работы с родителями (беседы и консультаци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3"/>
          <p:cNvSpPr/>
          <p:nvPr/>
        </p:nvSpPr>
        <p:spPr>
          <a:xfrm>
            <a:off x="460440" y="2228760"/>
            <a:ext cx="103028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2020-2021 учебный год: </a:t>
            </a:r>
            <a:r>
              <a:rPr b="1" lang="ru-RU" sz="1800" spc="-1" strike="noStrike">
                <a:solidFill>
                  <a:srgbClr val="001746"/>
                </a:solidFill>
                <a:latin typeface="Georgia"/>
              </a:rPr>
              <a:t>«</a:t>
            </a:r>
            <a:r>
              <a:rPr b="0" lang="ru-RU" sz="1800" spc="-1" strike="noStrike">
                <a:solidFill>
                  <a:srgbClr val="001746"/>
                </a:solidFill>
                <a:latin typeface="Georgia"/>
              </a:rPr>
              <a:t>Нужно ли готовить ребенка к поступлению в детский сад», «Адаптация детей к ДОУ», «Как научить ребёнка правильно держать ложку, карандаш», «Оздоровление детей в домашних условиях», «Какие сказки читать детям», «ЛЕГО-конструктор, это увлекательно», «Сенсорное развитие детей раннего возраста», «Как помочь ребёнку заговорить», «Развитие мелкой моторики или несколько идей, чем занять ребёнка дома», «Игры с песком и водой», «как и чем занять ребёнка во время летнего отдых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2021-2022учебный год</a:t>
            </a:r>
            <a:r>
              <a:rPr b="1" lang="ru-RU" sz="1800" spc="-1" strike="noStrike">
                <a:solidFill>
                  <a:srgbClr val="001746"/>
                </a:solidFill>
                <a:latin typeface="Georgia"/>
              </a:rPr>
              <a:t>:</a:t>
            </a:r>
            <a:r>
              <a:rPr b="0" lang="ru-RU" sz="1800" spc="-1" strike="noStrike">
                <a:solidFill>
                  <a:srgbClr val="001746"/>
                </a:solidFill>
                <a:latin typeface="Georgia"/>
              </a:rPr>
              <a:t> «Учим ребёнка общаться», «Воспитание самостоятельности у детей младшего дошкольного возраста», «Воспитание любознательности у ребёнка в детском саду и дома», «Какие сказки читать детям», «Речевые игры по дороге в детский сад», «Зачем детям верить в Деда Мороза»,  «Сказкотерапия», «Роль игры в семье и детском саду», «Роль игрушек в развитии ребёнка», «Роль театрализованных игр в развитии речи детей дошкольного возраста», «Театр- наш друг и помощни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Прямоугольник 6"/>
          <p:cNvSpPr/>
          <p:nvPr/>
        </p:nvSpPr>
        <p:spPr>
          <a:xfrm>
            <a:off x="460440" y="1139760"/>
            <a:ext cx="10302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2019-2020 учебный год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: </a:t>
            </a:r>
            <a:r>
              <a:rPr b="0" lang="ru-RU" sz="1800" spc="-1" strike="noStrike">
                <a:solidFill>
                  <a:srgbClr val="001d58"/>
                </a:solidFill>
                <a:latin typeface="Georgia"/>
                <a:ea typeface="Times New Roman"/>
              </a:rPr>
              <a:t>«Готовим руку к письму», «Игрушки в жизни ребёнка 6-7 лет», «Математическая подготовка к школе», «Как провести новогодние каникулы весело и с пользой», «Как развивать память у детей», «Развитие мелкой моторики»,  «Значение труда в жизни дошкольника»,  «Книга или компьютер. Все «за» и «против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Рисунок 9" descr=""/>
          <p:cNvPicPr/>
          <p:nvPr/>
        </p:nvPicPr>
        <p:blipFill>
          <a:blip r:embed="rId1"/>
          <a:stretch/>
        </p:blipFill>
        <p:spPr>
          <a:xfrm>
            <a:off x="30240" y="-11160"/>
            <a:ext cx="10980720" cy="7391520"/>
          </a:xfrm>
          <a:prstGeom prst="rect">
            <a:avLst/>
          </a:prstGeom>
          <a:ln w="0">
            <a:noFill/>
          </a:ln>
        </p:spPr>
      </p:pic>
      <p:sp>
        <p:nvSpPr>
          <p:cNvPr id="380" name="Прямоугольник 1"/>
          <p:cNvSpPr/>
          <p:nvPr/>
        </p:nvSpPr>
        <p:spPr>
          <a:xfrm>
            <a:off x="1589040" y="239760"/>
            <a:ext cx="724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Поручения родител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3"/>
          <p:cNvSpPr/>
          <p:nvPr/>
        </p:nvSpPr>
        <p:spPr>
          <a:xfrm>
            <a:off x="284040" y="824040"/>
            <a:ext cx="10223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2019-2020 учебный год: </a:t>
            </a:r>
            <a:r>
              <a:rPr b="0" lang="ru-RU" sz="1800" spc="-1" strike="noStrike">
                <a:solidFill>
                  <a:srgbClr val="001746"/>
                </a:solidFill>
                <a:latin typeface="Georgia"/>
                <a:ea typeface="Times New Roman"/>
              </a:rPr>
              <a:t>«Зеленая территория»  привлечение родителей к участию в совместных с педагогами мероприятий и озеленение территории детского сада: Трудовой десант: помощь в изготовлении костюмов к Новому г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2020-2021 учебный год</a:t>
            </a:r>
            <a:r>
              <a:rPr b="0" lang="ru-RU" sz="1800" spc="-1" strike="noStrike">
                <a:solidFill>
                  <a:srgbClr val="001746"/>
                </a:solidFill>
                <a:latin typeface="Georgia"/>
                <a:ea typeface="Times New Roman"/>
              </a:rPr>
              <a:t>: Озеленение участка, посадка цветов на клумбе; помощь родителей в приобретении выносного инвентаря на лето; совместное проведение зимних игр и забав, Сделаем скворечник своими руками.</a:t>
            </a:r>
            <a:r>
              <a:rPr b="1" lang="ru-RU" sz="1800" spc="-1" strike="noStrike">
                <a:solidFill>
                  <a:srgbClr val="001746"/>
                </a:solidFill>
                <a:latin typeface="Georgia"/>
                <a:ea typeface="Times New Roman"/>
              </a:rPr>
              <a:t>                                                    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2021-2022 учебный год</a:t>
            </a:r>
            <a:r>
              <a:rPr b="0" lang="ru-RU" sz="1800" spc="-1" strike="noStrike">
                <a:solidFill>
                  <a:srgbClr val="002060"/>
                </a:solidFill>
                <a:latin typeface="Georgia"/>
                <a:ea typeface="Times New Roman"/>
              </a:rPr>
              <a:t>: </a:t>
            </a:r>
            <a:r>
              <a:rPr b="0" lang="ru-RU" sz="1800" spc="-1" strike="noStrike">
                <a:solidFill>
                  <a:srgbClr val="001746"/>
                </a:solidFill>
                <a:latin typeface="Georgia"/>
                <a:ea typeface="Times New Roman"/>
              </a:rPr>
              <a:t>Трудовой десант: помощь                                                                                       в изготовлении костюмов, атрибутов, масок к сказкам,                                                                                                                                      Привлечение родителей  к изготовлению разных вид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1746"/>
                </a:solidFill>
                <a:latin typeface="Georgia"/>
                <a:ea typeface="Times New Roman"/>
              </a:rPr>
              <a:t>театра. «Игровой уголок» (пошив и изготовление атрибут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1746"/>
                </a:solidFill>
                <a:latin typeface="Georgia"/>
                <a:ea typeface="Times New Roman"/>
              </a:rPr>
              <a:t>для сюжетно-ролевых игр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Прямоугольник 4"/>
          <p:cNvSpPr/>
          <p:nvPr/>
        </p:nvSpPr>
        <p:spPr>
          <a:xfrm>
            <a:off x="3357720" y="3747960"/>
            <a:ext cx="394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Анкетир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5"/>
          <p:cNvSpPr/>
          <p:nvPr/>
        </p:nvSpPr>
        <p:spPr>
          <a:xfrm>
            <a:off x="419040" y="4334040"/>
            <a:ext cx="10345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2019-2020 учебный год</a:t>
            </a:r>
            <a:r>
              <a:rPr b="1" lang="ru-RU" sz="1800" spc="-1" strike="noStrike">
                <a:solidFill>
                  <a:srgbClr val="000066"/>
                </a:solidFill>
                <a:latin typeface="Georgia"/>
              </a:rPr>
              <a:t>: </a:t>
            </a:r>
            <a:r>
              <a:rPr b="0" lang="ru-RU" sz="1800" spc="-1" strike="noStrike">
                <a:solidFill>
                  <a:srgbClr val="001746"/>
                </a:solidFill>
                <a:latin typeface="Georgia"/>
              </a:rPr>
              <a:t>Внесение новых данных в социальный паспорт группы, «Скоро в школу». «Чего вы ждёте от детского сада в этом году?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2020-2021 учебный год</a:t>
            </a:r>
            <a:r>
              <a:rPr b="1" lang="ru-RU" sz="1800" spc="-1" strike="noStrike">
                <a:solidFill>
                  <a:srgbClr val="001746"/>
                </a:solidFill>
                <a:latin typeface="Georgia"/>
              </a:rPr>
              <a:t>: </a:t>
            </a:r>
            <a:r>
              <a:rPr b="0" lang="ru-RU" sz="1800" spc="-1" strike="noStrike">
                <a:solidFill>
                  <a:srgbClr val="001746"/>
                </a:solidFill>
                <a:latin typeface="Georgia"/>
              </a:rPr>
              <a:t>«Давайте познакомимся»,  «Мой ребёнок», ««Удовлетворённость родителей образовательной деятельностью педагогов, условиями ДО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2021-2022 учебный год: </a:t>
            </a:r>
            <a:r>
              <a:rPr b="0" lang="ru-RU" sz="1800" spc="-1" strike="noStrike">
                <a:solidFill>
                  <a:srgbClr val="001746"/>
                </a:solidFill>
                <a:latin typeface="Georgia"/>
              </a:rPr>
              <a:t>«Внесение новых данных в социальный паспорт группы», «Здоровый образ жизни», «Русская народная сказка в жизни вашего ребенка».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2" descr="D:\Фотографии Презентации Видео\Фотографии\фото 2022г\мастер класс театр на дисках 14.01.2022\IMG_6833.JPG"/>
          <p:cNvPicPr/>
          <p:nvPr/>
        </p:nvPicPr>
        <p:blipFill>
          <a:blip r:embed="rId2"/>
          <a:stretch/>
        </p:blipFill>
        <p:spPr>
          <a:xfrm>
            <a:off x="6804000" y="2262240"/>
            <a:ext cx="3719520" cy="15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Рисунок 6" descr=""/>
          <p:cNvPicPr/>
          <p:nvPr/>
        </p:nvPicPr>
        <p:blipFill>
          <a:blip r:embed="rId1"/>
          <a:stretch/>
        </p:blipFill>
        <p:spPr>
          <a:xfrm>
            <a:off x="0" y="-11160"/>
            <a:ext cx="10980720" cy="7391520"/>
          </a:xfrm>
          <a:prstGeom prst="rect">
            <a:avLst/>
          </a:prstGeom>
          <a:ln w="0">
            <a:noFill/>
          </a:ln>
        </p:spPr>
      </p:pic>
      <p:sp>
        <p:nvSpPr>
          <p:cNvPr id="386" name="Прямоугольник 1"/>
          <p:cNvSpPr/>
          <p:nvPr/>
        </p:nvSpPr>
        <p:spPr>
          <a:xfrm>
            <a:off x="1859040" y="360360"/>
            <a:ext cx="795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Georgia"/>
              </a:rPr>
              <a:t>Родительские собран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3"/>
          <p:cNvSpPr/>
          <p:nvPr/>
        </p:nvSpPr>
        <p:spPr>
          <a:xfrm>
            <a:off x="374760" y="1019160"/>
            <a:ext cx="103726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2019-2020 учебный год: </a:t>
            </a:r>
            <a:r>
              <a:rPr b="0" lang="ru-RU" sz="2000" spc="-1" strike="noStrike">
                <a:solidFill>
                  <a:srgbClr val="001746"/>
                </a:solidFill>
                <a:latin typeface="Georgia"/>
              </a:rPr>
              <a:t>«Родительское собрание «Последний год перед школой»: </a:t>
            </a:r>
            <a:r>
              <a:rPr b="1" lang="ru-RU" sz="2000" spc="-1" strike="noStrike">
                <a:solidFill>
                  <a:srgbClr val="001746"/>
                </a:solidFill>
                <a:latin typeface="Georgia"/>
              </a:rPr>
              <a:t>: </a:t>
            </a:r>
            <a:r>
              <a:rPr b="0" lang="ru-RU" sz="2000" spc="-1" strike="noStrike">
                <a:solidFill>
                  <a:srgbClr val="001746"/>
                </a:solidFill>
                <a:latin typeface="Georgia"/>
              </a:rPr>
              <a:t>«Организация  учебно-воспитательной деятельности в детском саду на 2018-2019 учебный год», « Чему научились наши дети за год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2020-2021 учебный год</a:t>
            </a:r>
            <a:r>
              <a:rPr b="0" lang="ru-RU" sz="2000" spc="-1" strike="noStrike">
                <a:solidFill>
                  <a:srgbClr val="002060"/>
                </a:solidFill>
                <a:latin typeface="Georgia"/>
              </a:rPr>
              <a:t>: </a:t>
            </a:r>
            <a:r>
              <a:rPr b="0" lang="ru-RU" sz="2000" spc="-1" strike="noStrike">
                <a:solidFill>
                  <a:srgbClr val="001746"/>
                </a:solidFill>
                <a:latin typeface="Georgia"/>
              </a:rPr>
              <a:t>«Особенности роста и развития детей младшего возраста. Режим дня», «Итоги работы МКДОУ за 2020-2021уч.г»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2021-2022 учебный год</a:t>
            </a:r>
            <a:r>
              <a:rPr b="1" lang="ru-RU" sz="2000" spc="-1" strike="noStrike">
                <a:solidFill>
                  <a:srgbClr val="001746"/>
                </a:solidFill>
                <a:latin typeface="Georgia"/>
              </a:rPr>
              <a:t>: «</a:t>
            </a:r>
            <a:r>
              <a:rPr b="0" lang="ru-RU" sz="2000" spc="-1" strike="noStrike">
                <a:solidFill>
                  <a:srgbClr val="001746"/>
                </a:solidFill>
                <a:latin typeface="Georgia"/>
              </a:rPr>
              <a:t>Возрастные особенности детей 4 года жизни», «Результаты нашего сотрудничества», «Особенности и проблемы речевого развития у детей младшего возраста», «Наши достижени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1" descr="D:\Фотографии\осень 2018\IMG_3238.JPG"/>
          <p:cNvPicPr/>
          <p:nvPr/>
        </p:nvPicPr>
        <p:blipFill>
          <a:blip r:embed="rId2"/>
          <a:stretch/>
        </p:blipFill>
        <p:spPr>
          <a:xfrm>
            <a:off x="639720" y="3576600"/>
            <a:ext cx="4632480" cy="325440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2" descr="D:\Фотографии Презентации Видео\Фотографии\фото 2022г\Родительское собрание в 26.10.2022г\ajhv.JPG"/>
          <p:cNvPicPr/>
          <p:nvPr/>
        </p:nvPicPr>
        <p:blipFill>
          <a:blip r:embed="rId3"/>
          <a:stretch/>
        </p:blipFill>
        <p:spPr>
          <a:xfrm>
            <a:off x="5626080" y="3576600"/>
            <a:ext cx="4332240" cy="32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Рисунок 9" descr=""/>
          <p:cNvPicPr/>
          <p:nvPr/>
        </p:nvPicPr>
        <p:blipFill>
          <a:blip r:embed="rId1"/>
          <a:stretch/>
        </p:blipFill>
        <p:spPr>
          <a:xfrm>
            <a:off x="0" y="-11160"/>
            <a:ext cx="10980720" cy="7391520"/>
          </a:xfrm>
          <a:prstGeom prst="rect">
            <a:avLst/>
          </a:prstGeom>
          <a:ln w="0">
            <a:noFill/>
          </a:ln>
        </p:spPr>
      </p:pic>
      <p:sp>
        <p:nvSpPr>
          <p:cNvPr id="391" name="Прямоугольник 1"/>
          <p:cNvSpPr/>
          <p:nvPr/>
        </p:nvSpPr>
        <p:spPr>
          <a:xfrm>
            <a:off x="1244520" y="360360"/>
            <a:ext cx="863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Georgia"/>
              </a:rPr>
              <a:t>Конференции; круглые столы; экскурсии по ДОУ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3"/>
          <p:cNvSpPr/>
          <p:nvPr/>
        </p:nvSpPr>
        <p:spPr>
          <a:xfrm>
            <a:off x="360360" y="1011240"/>
            <a:ext cx="565452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2019-2020 учебный год</a:t>
            </a:r>
            <a:r>
              <a:rPr b="1" lang="ru-RU" sz="1600" spc="-1" strike="noStrike">
                <a:solidFill>
                  <a:srgbClr val="001746"/>
                </a:solidFill>
                <a:latin typeface="Georgia"/>
              </a:rPr>
              <a:t>:</a:t>
            </a:r>
            <a:r>
              <a:rPr b="0" lang="ru-RU" sz="1600" spc="-1" strike="noStrike">
                <a:solidFill>
                  <a:srgbClr val="001746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1746"/>
                </a:solidFill>
                <a:latin typeface="Georgia"/>
              </a:rPr>
              <a:t>«С кем дружит мой ребенок?» обмен опытом, Посещение мероприятий и режимных моментов,  «Ребенок на пороге школы»  повышение родительской компетентности в вопросах подготовки ребенка к школ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2020-2021 учебный год</a:t>
            </a:r>
            <a:r>
              <a:rPr b="1" lang="ru-RU" sz="1600" spc="-1" strike="noStrike">
                <a:solidFill>
                  <a:srgbClr val="001746"/>
                </a:solidFill>
                <a:latin typeface="Georgia"/>
              </a:rPr>
              <a:t>: </a:t>
            </a:r>
            <a:r>
              <a:rPr b="0" lang="ru-RU" sz="1600" spc="-1" strike="noStrike">
                <a:solidFill>
                  <a:srgbClr val="001746"/>
                </a:solidFill>
                <a:latin typeface="Georgia"/>
              </a:rPr>
              <a:t> «День открытых дверей»-Знакомство родителей с помещением группы»,  Круглый стол «Организация самообслуживания в детском саду и дома», Общение за чаепитием «Отец в жизни ребёнк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2021-2022 учебный год</a:t>
            </a:r>
            <a:r>
              <a:rPr b="0" lang="ru-RU" sz="1600" spc="-1" strike="noStrike">
                <a:solidFill>
                  <a:srgbClr val="001746"/>
                </a:solidFill>
                <a:latin typeface="Georgia"/>
              </a:rPr>
              <a:t>: «День открытых дверей»-присутствие родителей на утренней гимнастике,   круглый стол «Особенности и проблемы речевого развития у детей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1" descr="D:\Фотографии\фото 2015г\день матери 2015г\IMG_2264.JPG"/>
          <p:cNvPicPr/>
          <p:nvPr/>
        </p:nvPicPr>
        <p:blipFill>
          <a:blip r:embed="rId2"/>
          <a:stretch/>
        </p:blipFill>
        <p:spPr>
          <a:xfrm>
            <a:off x="6164280" y="852480"/>
            <a:ext cx="4375080" cy="259704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2" descr="D:\Фотографии Презентации Видео\Фотографии\фото 2021г\родит собрание\IMG_6480.JPG"/>
          <p:cNvPicPr/>
          <p:nvPr/>
        </p:nvPicPr>
        <p:blipFill>
          <a:blip r:embed="rId3"/>
          <a:stretch/>
        </p:blipFill>
        <p:spPr>
          <a:xfrm>
            <a:off x="1147680" y="4321080"/>
            <a:ext cx="4402080" cy="2673360"/>
          </a:xfrm>
          <a:prstGeom prst="rect">
            <a:avLst/>
          </a:prstGeom>
          <a:ln w="0">
            <a:noFill/>
          </a:ln>
        </p:spPr>
      </p:pic>
      <p:pic>
        <p:nvPicPr>
          <p:cNvPr id="395" name="Рисунок 10" descr=""/>
          <p:cNvPicPr/>
          <p:nvPr/>
        </p:nvPicPr>
        <p:blipFill>
          <a:blip r:embed="rId4"/>
          <a:stretch/>
        </p:blipFill>
        <p:spPr>
          <a:xfrm>
            <a:off x="6172200" y="3618000"/>
            <a:ext cx="4319640" cy="32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Рисунок 7" descr=""/>
          <p:cNvPicPr/>
          <p:nvPr/>
        </p:nvPicPr>
        <p:blipFill>
          <a:blip r:embed="rId1"/>
          <a:stretch/>
        </p:blipFill>
        <p:spPr>
          <a:xfrm>
            <a:off x="0" y="-11160"/>
            <a:ext cx="10980720" cy="7391520"/>
          </a:xfrm>
          <a:prstGeom prst="rect">
            <a:avLst/>
          </a:prstGeom>
          <a:ln w="0">
            <a:noFill/>
          </a:ln>
        </p:spPr>
      </p:pic>
      <p:sp>
        <p:nvSpPr>
          <p:cNvPr id="397" name="Прямоугольник 1"/>
          <p:cNvSpPr/>
          <p:nvPr/>
        </p:nvSpPr>
        <p:spPr>
          <a:xfrm>
            <a:off x="1123920" y="419040"/>
            <a:ext cx="9369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Georgia"/>
              </a:rPr>
              <a:t>Наглядно-информационные формы работы с родител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Прямоугольник 3"/>
          <p:cNvSpPr/>
          <p:nvPr/>
        </p:nvSpPr>
        <p:spPr>
          <a:xfrm>
            <a:off x="614520" y="1258920"/>
            <a:ext cx="100281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2019-2020 учебный год</a:t>
            </a:r>
            <a:r>
              <a:rPr b="1" lang="ru-RU" sz="2000" spc="-1" strike="noStrike">
                <a:solidFill>
                  <a:srgbClr val="001746"/>
                </a:solidFill>
                <a:latin typeface="Georgia"/>
              </a:rPr>
              <a:t>: </a:t>
            </a:r>
            <a:r>
              <a:rPr b="0" lang="ru-RU" sz="2000" spc="-1" strike="noStrike">
                <a:solidFill>
                  <a:srgbClr val="001746"/>
                </a:solidFill>
                <a:latin typeface="Georgia"/>
              </a:rPr>
              <a:t>«Безопасный пешеход»;  Фотогазета «Зимняя прогулка в детском саду»; «Мамы разные нужны». .«Что мы узнали и чему научились?» информирование родителей о работе детского сада                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2020-2021 учебный год</a:t>
            </a:r>
            <a:r>
              <a:rPr b="1" lang="ru-RU" sz="2000" spc="-1" strike="noStrike">
                <a:solidFill>
                  <a:srgbClr val="001746"/>
                </a:solidFill>
                <a:latin typeface="Georgia"/>
              </a:rPr>
              <a:t>: </a:t>
            </a:r>
            <a:r>
              <a:rPr b="0" lang="ru-RU" sz="2000" spc="-1" strike="noStrike">
                <a:solidFill>
                  <a:srgbClr val="001746"/>
                </a:solidFill>
                <a:latin typeface="Georgia"/>
              </a:rPr>
              <a:t>Оформление группового альбома с фотографиями пап и мам на работе «Кем работают твои родители», Фотовыставка «Наши с мамой руки», Видеопрезентация: «Вот так мы и жили в детском саду», Фотовыставка «Как я провёл лето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2021-2022 учебный год</a:t>
            </a:r>
            <a:r>
              <a:rPr b="1" lang="ru-RU" sz="2000" spc="-1" strike="noStrike">
                <a:solidFill>
                  <a:srgbClr val="001746"/>
                </a:solidFill>
                <a:latin typeface="Georgia"/>
              </a:rPr>
              <a:t>: </a:t>
            </a:r>
            <a:r>
              <a:rPr b="0" lang="ru-RU" sz="2000" spc="-1" strike="noStrike">
                <a:solidFill>
                  <a:srgbClr val="001746"/>
                </a:solidFill>
                <a:latin typeface="Georgia"/>
              </a:rPr>
              <a:t>Выставка творческих работ «Цветы для мамы», Фотоконкурс «Здоровая семья в объективе», Выставка рисунков «Спорт для всех», Фотовыставка «Наши папы удалые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Рисунок 4" descr=""/>
          <p:cNvPicPr/>
          <p:nvPr/>
        </p:nvPicPr>
        <p:blipFill>
          <a:blip r:embed="rId2"/>
          <a:stretch/>
        </p:blipFill>
        <p:spPr>
          <a:xfrm>
            <a:off x="609480" y="4395960"/>
            <a:ext cx="2048040" cy="2504880"/>
          </a:xfrm>
          <a:prstGeom prst="rect">
            <a:avLst/>
          </a:prstGeom>
          <a:ln w="0">
            <a:noFill/>
          </a:ln>
        </p:spPr>
      </p:pic>
      <p:pic>
        <p:nvPicPr>
          <p:cNvPr id="400" name="Рисунок 5" descr=""/>
          <p:cNvPicPr/>
          <p:nvPr/>
        </p:nvPicPr>
        <p:blipFill>
          <a:blip r:embed="rId3"/>
          <a:stretch/>
        </p:blipFill>
        <p:spPr>
          <a:xfrm>
            <a:off x="3149640" y="4632480"/>
            <a:ext cx="4052880" cy="2471760"/>
          </a:xfrm>
          <a:prstGeom prst="rect">
            <a:avLst/>
          </a:prstGeom>
          <a:ln w="0">
            <a:noFill/>
          </a:ln>
        </p:spPr>
      </p:pic>
      <p:pic>
        <p:nvPicPr>
          <p:cNvPr id="401" name="Рисунок 6" descr=""/>
          <p:cNvPicPr/>
          <p:nvPr/>
        </p:nvPicPr>
        <p:blipFill>
          <a:blip r:embed="rId4"/>
          <a:stretch/>
        </p:blipFill>
        <p:spPr>
          <a:xfrm>
            <a:off x="8182080" y="4632480"/>
            <a:ext cx="1531800" cy="22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14T03:42:50Z</dcterms:created>
  <dc:creator>Дом</dc:creator>
  <dc:description/>
  <dc:language>en-US</dc:language>
  <cp:lastModifiedBy>Ирина</cp:lastModifiedBy>
  <dcterms:modified xsi:type="dcterms:W3CDTF">2022-12-07T10:27:29Z</dcterms:modified>
  <cp:revision>96</cp:revision>
  <dc:subject/>
  <dc:title>Презентация PowerPoint</dc:title>
</cp:coreProperties>
</file>