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10980738" cy="7380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DDE-168F-47CD-A2DF-C6492352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0AD-1628-498A-BD86-232B3970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7E9-D083-4A4D-B919-83351997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817-0117-43C5-9EA9-2CE971C8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73A2-0A4A-4E56-9D4A-61509B6A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1730-A4AA-40D4-9FC6-50882E4E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C74D-A270-421D-AD9A-291183FA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FCC2-C5D8-4527-B3D3-82BAB101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327B-F127-4E6E-B8A5-1943F33B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CB51-24A0-43EF-A913-202C210C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180D-A6F2-449D-901F-ACFD755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DF1-3047-464E-9EAF-1087CE89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68E9-0072-4B28-A916-E4BB01DE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B273-81BF-4F6C-ABAD-358D47B4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3231-1402-4CC5-828F-3AD633B9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F27C-C93F-4A16-9B9C-774097C2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5936-4F87-4AEE-8FE0-8D3F258B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3D770-8255-4150-9CED-0DD1677A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08B7-6C94-489B-9AA8-3060BE7E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AF88A-4130-42DE-A204-CC224F9C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38135-178F-4B59-955C-B3E3DD9C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4CC51-CD1D-409E-86F6-3F91B449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4F1-D6A7-46A7-BD3E-04B9B5F9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3D76-260C-45BB-8891-8DAE4A70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0B318-E38B-48E0-A1AF-50144546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54CE-1831-4532-B86E-A32E1C97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EC54B-E69B-4A11-A4DA-4FC9D1C8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DAC8-1AE2-4585-AA38-82886657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D1B7-B7B4-4084-99A3-203811F5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06BD-85B8-4AE5-9FCD-25415C24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DE6FF-5327-4B60-B3D8-C8B5093D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BF8D-B033-4FA8-A423-1347C9EA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D35F-1CEF-4159-A01E-02EFBEF8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F04-DBCA-4EE6-B0B8-D7B245A2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55BB-FB18-4E76-8C5F-E303A45D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40843-8998-413B-BCFE-FE308AF4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3A57C-3107-4F98-923E-1328599E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02999-73DD-43C2-9B4A-11582A76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48E0E-8ED0-4181-924B-F8181B47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26F57-D1CB-47EA-98EA-C872F9B3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A527-D32C-4DFC-8DE3-75F0EA7E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48C84-330C-4C4B-B369-CA19A238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B465-13C0-4BA2-9A0C-9C00AE0A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4550A-9663-4249-808E-122B7BD6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68E-87DD-4E35-824E-6BBE5134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FE0BF-AF2D-4961-B3E8-E8BF71E6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3C3A6-2087-4880-A5E6-304E90B7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E0BD6-3140-4E99-87E6-9F28E786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86D99-7408-416D-A879-2E5192C3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AEA2B-81C6-4F48-BC83-0E0849D0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53DF-5BCD-46DA-8974-0DE06796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435D1-D79A-439D-AF45-43F89A34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BF23D-88AF-4CED-A793-FE8134AD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BA7A4-5A15-4E6E-BB93-B6A3657E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511D3-C2C0-40AF-A6DF-4314DE86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89A-2A9B-4405-A88A-155CC32A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26C8-5C74-44D2-86A6-DB697F68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1593D-7045-42B3-86D6-A6FA25B2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8131E-56F8-4CA3-866B-3BFD55AA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83C47-5BB9-4C3D-8D33-D0EE0DE8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1DEB1-62B1-4F5C-803D-B74AE4E9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C4BD7-7ECE-4160-BBC5-1784C1CB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1B54A-F57F-4F97-9399-45FB42E1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3D481-3D6D-4D83-BB8A-D15C61D4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24EF3-8C5F-41DE-866A-29CACAEC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9D7B1-4A1D-450A-8059-92D46EB8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478-C84B-4848-9975-64796576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96D6F-2FA0-405D-B4C0-1DDA076C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7831D-1822-4762-9D9C-713C2821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75A91-88E3-442E-BD79-1CC9C098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B4951-7327-4ACE-B974-E73D2FD6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9498B-E39F-431E-8FFF-8C64B8C1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7317B-8962-4AB8-A638-791A03AC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65A22-18F3-4BFE-9BD2-6072B817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46624-87BC-4B2E-905C-9EA2B239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4BA37-B0BF-4C89-9F06-F4388485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FB1DA-FE67-4921-87E8-B6EB1148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B72-15E3-438A-BF29-DA2B6C82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CE5E3-5FEC-4378-A7AA-D3CEAAFA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EC3B4-8330-4AF0-BEFD-CB4BE411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4C5EC-81DF-4E7C-AB66-C8D15EC8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A85DB-B2EF-48C4-A881-A24D9A8F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FB90C-8352-4E44-9744-BB8F7673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8C5EC-F323-487D-9500-3CF8273B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42DF8-9C10-47A7-8328-9540D7B3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88AB5-0C0D-42BB-9B68-A58205C7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7B750-F150-4CC5-9E27-BF987B33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8CAD5-A259-47AA-9241-017FF436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C78-25BC-4289-A1DF-5226ED8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49360" y="163440"/>
            <a:ext cx="9882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AF0DA-65F8-4331-BA48-7F72DA2F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83C49-4AE4-446E-9EBF-0D4A616C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66BB3-05F6-4639-86FC-CBF1ECD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C06EA-DB40-4661-8717-3130A1FA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49360" y="4071600"/>
            <a:ext cx="98820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4961C-EAE8-467A-BB1F-4C6870EA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613120" y="131112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4936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613120" y="4071600"/>
            <a:ext cx="482220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B0B7B-EBFE-4A9C-8BE3-F7CB39A2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4936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9052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231680" y="131112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936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89052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231680" y="4071600"/>
            <a:ext cx="3181680" cy="252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8B208-F427-477D-A0BE-C3F939EF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86360" y="6840360"/>
            <a:ext cx="27478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81560" y="6840360"/>
            <a:ext cx="42084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5120" y="6840360"/>
            <a:ext cx="23796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8E628-A022-483E-B3FE-1290E95799FE}" type="slidenum">
              <a:rPr b="0" lang="ru-RU" sz="16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549360" y="6837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549360" y="1230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1085760" y="3925800"/>
            <a:ext cx="8785440" cy="137808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1098720" y="5432400"/>
            <a:ext cx="8783640" cy="73836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1085760" y="3925800"/>
            <a:ext cx="274680" cy="137808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1098720" y="5432400"/>
            <a:ext cx="274320" cy="73836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686720" y="6838920"/>
            <a:ext cx="274464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81560" y="6838920"/>
            <a:ext cx="41716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60520" y="6838920"/>
            <a:ext cx="146376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DD20B-46F1-43BB-89A4-23C4965B4DA4}" type="slidenum">
              <a:rPr b="0" lang="ru-RU" sz="16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1098720" y="3033720"/>
            <a:ext cx="8783640" cy="137808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098720" y="3033720"/>
            <a:ext cx="274320" cy="137808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86720" y="6838920"/>
            <a:ext cx="274464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81560" y="6838920"/>
            <a:ext cx="41716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284120" y="6838920"/>
            <a:ext cx="182736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71DFE-762A-408E-847F-C1DD6D5D3159}" type="slidenum">
              <a:rPr b="0" lang="ru-RU" sz="16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549360" y="6837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549360" y="1230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7686360" y="6840360"/>
            <a:ext cx="27478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481560" y="6840360"/>
            <a:ext cx="42084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735120" y="6840360"/>
            <a:ext cx="23796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4EDC2-288A-49EA-BA09-EB968E0226A9}" type="slidenum">
              <a:rPr b="0" lang="ru-RU" sz="16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549360" y="6837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686360" y="6840360"/>
            <a:ext cx="27478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481560" y="6840360"/>
            <a:ext cx="42084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35120" y="6840360"/>
            <a:ext cx="23796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C760A-08F8-4CB6-9DB5-050BAAC963B7}" type="slidenum">
              <a:rPr b="0" lang="ru-RU" sz="16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549360" y="6837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7418520" y="330120"/>
            <a:ext cx="0" cy="64944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52200" bIns="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686360" y="6840360"/>
            <a:ext cx="27478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481560" y="6840360"/>
            <a:ext cx="42084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35120" y="6840360"/>
            <a:ext cx="23796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4AF55-94E6-4166-86B8-1422DFDC28BB}" type="slidenum">
              <a:rPr b="0" lang="ru-RU" sz="16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549360" y="6837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549360" y="539640"/>
            <a:ext cx="218880" cy="73656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686360" y="6840360"/>
            <a:ext cx="27478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481560" y="6840360"/>
            <a:ext cx="42084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35120" y="6840360"/>
            <a:ext cx="23796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FD739-9167-4922-80F2-BA38D52F29FA}" type="slidenum">
              <a:rPr b="0" lang="ru-RU" sz="16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549360" y="6837480"/>
            <a:ext cx="98820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-52200" bIns="-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514440" y="6952320"/>
            <a:ext cx="206640" cy="144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-4320" bIns="-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7872480" y="297000"/>
            <a:ext cx="0" cy="629748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4760" rIns="104760" tIns="52200" bIns="52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49360" y="163440"/>
            <a:ext cx="9882000" cy="1067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7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49360" y="1311120"/>
            <a:ext cx="9882000" cy="528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14280" indent="-314280">
              <a:spcBef>
                <a:spcPts val="689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8560" indent="-314280">
              <a:spcBef>
                <a:spcPts val="68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942840" indent="-261720">
              <a:spcBef>
                <a:spcPts val="68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258920" indent="-262080">
              <a:spcBef>
                <a:spcPts val="689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4" marL="1573200" indent="-262080">
              <a:spcBef>
                <a:spcPts val="689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5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6" marL="1573200" indent="-262080">
              <a:spcBef>
                <a:spcPts val="689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686360" y="6840360"/>
            <a:ext cx="274788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481560" y="6840360"/>
            <a:ext cx="42084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35120" y="6840360"/>
            <a:ext cx="2379600" cy="393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6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DF8A4-292A-4C61-B9F2-7FCA8E7931F5}" type="slidenum">
              <a:rPr b="0" lang="ru-RU" sz="16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6" descr=""/>
          <p:cNvPicPr/>
          <p:nvPr/>
        </p:nvPicPr>
        <p:blipFill>
          <a:blip r:embed="rId1"/>
          <a:stretch/>
        </p:blipFill>
        <p:spPr>
          <a:xfrm>
            <a:off x="-385920" y="0"/>
            <a:ext cx="11366640" cy="738036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5630760" y="3255840"/>
            <a:ext cx="5085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Подгото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воспитатель МКДОУ «Детский сад «Солнышко» г. Щигры Курской области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Филатова Елена Ив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0" y="1892160"/>
            <a:ext cx="1007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ВЗАИМОДЕЙСТВИЕ  С  РОДИТЕЛЯМИ (ЗАКОННЫМИ ПРЕДСТАВИЕЛ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6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1"/>
          <p:cNvSpPr/>
          <p:nvPr/>
        </p:nvSpPr>
        <p:spPr>
          <a:xfrm>
            <a:off x="401760" y="307800"/>
            <a:ext cx="76197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1746"/>
                </a:solidFill>
                <a:latin typeface="Georgia"/>
              </a:rPr>
              <a:t>                               </a:t>
            </a:r>
            <a:r>
              <a:rPr b="0" lang="ru-RU" sz="2800" spc="-1" strike="noStrike">
                <a:solidFill>
                  <a:srgbClr val="001746"/>
                </a:solidFill>
                <a:latin typeface="Georgia"/>
              </a:rPr>
              <a:t>Выставки детских работ:                                                                               </a:t>
            </a:r>
            <a:r>
              <a:rPr b="1" lang="ru-RU" sz="2800" spc="-1" strike="noStrike">
                <a:solidFill>
                  <a:srgbClr val="001746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19-2020 учебный год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:</a:t>
            </a:r>
            <a:r>
              <a:rPr b="0" lang="ru-RU" sz="1800" spc="-1" strike="noStrike">
                <a:solidFill>
                  <a:srgbClr val="001746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«Осенние фантазии», «Зимняя сказка» , «Пасхальный,  выставка детских рисунков «День Побед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0" lang="ru-RU" sz="2000" spc="-1" strike="noStrike">
                <a:solidFill>
                  <a:srgbClr val="001d58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«Лучший осенний букет», «Новогодняя игрушка своими руками», Открытка для папы, Подарок для ма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21-2022 учебный год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: «Богатый урожай»; «Новогодний калейдоскоп», «Цветы для мамы»; «Пасхальные мотив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D:\Фотографии Презентации Видео\Фотографии\фото 2022г\выстака рукодельник пасха\Безымянный94.png"/>
          <p:cNvPicPr/>
          <p:nvPr/>
        </p:nvPicPr>
        <p:blipFill>
          <a:blip r:embed="rId2"/>
          <a:stretch/>
        </p:blipFill>
        <p:spPr>
          <a:xfrm>
            <a:off x="7986600" y="1233360"/>
            <a:ext cx="2649600" cy="3467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Users\Ирина\Downloads\IMG_20221031_080839.jpg"/>
          <p:cNvPicPr/>
          <p:nvPr/>
        </p:nvPicPr>
        <p:blipFill>
          <a:blip r:embed="rId3"/>
          <a:stretch/>
        </p:blipFill>
        <p:spPr>
          <a:xfrm>
            <a:off x="4259160" y="3497400"/>
            <a:ext cx="3530880" cy="2647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D:\Фотографии Презентации Видео\IMG_7878.JPG"/>
          <p:cNvPicPr/>
          <p:nvPr/>
        </p:nvPicPr>
        <p:blipFill>
          <a:blip r:embed="rId4"/>
          <a:stretch/>
        </p:blipFill>
        <p:spPr>
          <a:xfrm>
            <a:off x="8083440" y="5021280"/>
            <a:ext cx="2676600" cy="2006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D:\Фотографии Презентации Видео\Фотографии\фото 2021г\пасх мотивы выставка\IMG_6366.JPG"/>
          <p:cNvPicPr/>
          <p:nvPr/>
        </p:nvPicPr>
        <p:blipFill>
          <a:blip r:embed="rId5"/>
          <a:stretch/>
        </p:blipFill>
        <p:spPr>
          <a:xfrm>
            <a:off x="457200" y="3468600"/>
            <a:ext cx="36338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6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1"/>
          <p:cNvSpPr/>
          <p:nvPr/>
        </p:nvSpPr>
        <p:spPr>
          <a:xfrm>
            <a:off x="1558800" y="209520"/>
            <a:ext cx="77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1d58"/>
                </a:solidFill>
                <a:latin typeface="Georgia"/>
              </a:rPr>
              <a:t>Стенды, ширмы, папки-передви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419040" y="733320"/>
            <a:ext cx="10209240" cy="40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19-2020 учебный год: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.«О правильном питании и пользе витаминов». «Дорожная азбука для детей». «Рождество-семейный праздник» пропаганда семейных ценностей. «Родителям о мальчиках и девочках» психолого-педагогическое просвещение родителей.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  <a:ea typeface="Calibri"/>
              </a:rPr>
              <a:t>.«Что мы узнали и чему научились?» информирование родителей о работе дет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: «Что бы дети не болели»; «Безопасный Новый год»; «Добрые советы родителям»; «Игры для сенсорного развития ребёнка»;  «День Победы»; «Домашний игровой уголок»; «Первая помощь при ранах, порезах, укусах.»; «Признаки теплового и солнечного ударов»;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1-2022 учебный год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«Советы психолога»; «День матери»; «Рождество-семейный праздник»;  «Берегите свои зубы»; «Расти здоровым, малыш!»;  «Воспитание у детей любви к природе через художественную литературу»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пка-передвижка «Роль театрализованных игр в развитии речи детей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4" descr=""/>
          <p:cNvPicPr/>
          <p:nvPr/>
        </p:nvPicPr>
        <p:blipFill>
          <a:blip r:embed="rId2"/>
          <a:stretch/>
        </p:blipFill>
        <p:spPr>
          <a:xfrm>
            <a:off x="5925960" y="4025880"/>
            <a:ext cx="4672080" cy="277668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5" descr=""/>
          <p:cNvPicPr/>
          <p:nvPr/>
        </p:nvPicPr>
        <p:blipFill>
          <a:blip r:embed="rId3"/>
          <a:stretch/>
        </p:blipFill>
        <p:spPr>
          <a:xfrm>
            <a:off x="617400" y="4189320"/>
            <a:ext cx="465804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6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414" name="TextBox 1"/>
          <p:cNvSpPr/>
          <p:nvPr/>
        </p:nvSpPr>
        <p:spPr>
          <a:xfrm>
            <a:off x="1693800" y="120600"/>
            <a:ext cx="77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1d58"/>
                </a:solidFill>
                <a:latin typeface="Georgia"/>
              </a:rPr>
              <a:t>                     </a:t>
            </a:r>
            <a:r>
              <a:rPr b="0" lang="ru-RU" sz="2800" spc="-1" strike="noStrike">
                <a:solidFill>
                  <a:srgbClr val="001d58"/>
                </a:solidFill>
                <a:latin typeface="Georgia"/>
              </a:rPr>
              <a:t>Памятки и букл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419040" y="625320"/>
            <a:ext cx="6126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19-2010 учебный год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.«Что должен знать и уметь ребенок 6-7 лет». .«Новый год и дети», «Все о прививк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0" lang="ru-RU" sz="1800" spc="-1" strike="noStrike">
                <a:solidFill>
                  <a:srgbClr val="001d58"/>
                </a:solidFill>
                <a:latin typeface="Georgia"/>
              </a:rPr>
              <a:t>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«Игры и упражнения для развития мелкой моторики», «Пальчиковые игры для малышей» , «Учить цвета легко и просто», «Что значит быть хорошим отц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1d58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1-2022 учебный год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«Роль дидактической игры в обучении и развитии ребёнка», «Что должен знать дошкольник по безопасности жизнедеятельности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C:\Users\Ирина\Downloads\IMG20221205101631.jpg"/>
          <p:cNvPicPr/>
          <p:nvPr/>
        </p:nvPicPr>
        <p:blipFill>
          <a:blip r:embed="rId2"/>
          <a:stretch/>
        </p:blipFill>
        <p:spPr>
          <a:xfrm>
            <a:off x="6608880" y="657360"/>
            <a:ext cx="3938400" cy="52513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Users\Ирина\Downloads\2022-12-05_15-07-42.png"/>
          <p:cNvPicPr/>
          <p:nvPr/>
        </p:nvPicPr>
        <p:blipFill>
          <a:blip r:embed="rId3"/>
          <a:stretch/>
        </p:blipFill>
        <p:spPr>
          <a:xfrm>
            <a:off x="244440" y="3703680"/>
            <a:ext cx="2995560" cy="2106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Ирина\Downloads\2022-12-07_12-27-44.png"/>
          <p:cNvPicPr/>
          <p:nvPr/>
        </p:nvPicPr>
        <p:blipFill>
          <a:blip r:embed="rId4"/>
          <a:stretch/>
        </p:blipFill>
        <p:spPr>
          <a:xfrm>
            <a:off x="3336840" y="3747960"/>
            <a:ext cx="2967120" cy="2127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Ирина\Downloads\2022-12-07_12-27-44.png"/>
          <p:cNvPicPr/>
          <p:nvPr/>
        </p:nvPicPr>
        <p:blipFill>
          <a:blip r:embed="rId5"/>
          <a:stretch/>
        </p:blipFill>
        <p:spPr>
          <a:xfrm>
            <a:off x="5389560" y="5070600"/>
            <a:ext cx="284796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9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1"/>
          <p:cNvSpPr/>
          <p:nvPr/>
        </p:nvSpPr>
        <p:spPr>
          <a:xfrm>
            <a:off x="1514520" y="25704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1d58"/>
                </a:solidFill>
                <a:latin typeface="Georgia"/>
              </a:rPr>
              <a:t>Совместные меропри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Рисунок 4" descr=""/>
          <p:cNvPicPr/>
          <p:nvPr/>
        </p:nvPicPr>
        <p:blipFill>
          <a:blip r:embed="rId2"/>
          <a:stretch/>
        </p:blipFill>
        <p:spPr>
          <a:xfrm>
            <a:off x="6161040" y="3849840"/>
            <a:ext cx="4442040" cy="285588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5" descr=""/>
          <p:cNvPicPr/>
          <p:nvPr/>
        </p:nvPicPr>
        <p:blipFill>
          <a:blip r:embed="rId3"/>
          <a:stretch/>
        </p:blipFill>
        <p:spPr>
          <a:xfrm>
            <a:off x="609480" y="3162240"/>
            <a:ext cx="5229360" cy="25164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7"/>
          <p:cNvSpPr/>
          <p:nvPr/>
        </p:nvSpPr>
        <p:spPr>
          <a:xfrm>
            <a:off x="465120" y="973080"/>
            <a:ext cx="5583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«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День матери»,  Мастер-класс по изготовлению снежинок, «Новогодний карнавал», «Папа и  - спортивная семья», 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театрализованное представление,  посвященное Дню Матери «Подарок мам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D:\Фотографии Презентации Видео\Фотографии\фото 2019 г\23 февраля 2019\DSCN0047.JPG"/>
          <p:cNvPicPr/>
          <p:nvPr/>
        </p:nvPicPr>
        <p:blipFill>
          <a:blip r:embed="rId4"/>
          <a:stretch/>
        </p:blipFill>
        <p:spPr>
          <a:xfrm>
            <a:off x="6168960" y="272880"/>
            <a:ext cx="45547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4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673200" y="898560"/>
            <a:ext cx="9897840" cy="55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спользование разнообразных форм работы дало определенные результат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854e05"/>
                </a:solidFill>
                <a:latin typeface="Georgia"/>
              </a:rPr>
              <a:t>- у родителей появился интерес к содержанию образовательного процесса с детьми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854e05"/>
                </a:solidFill>
                <a:latin typeface="Georgia"/>
              </a:rPr>
              <a:t>- родители стали стремится к индивидуальным контактам с воспитателям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854e05"/>
                </a:solidFill>
                <a:latin typeface="Georgia"/>
              </a:rPr>
              <a:t>- возникают дискуссии по инициативе родителей, повысилась  их активность при анализе педагогических ситуаций, также родители стали размышлять о правильности использования тех или иных методов воспита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Georgi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854e05"/>
                </a:solidFill>
                <a:latin typeface="Georgia"/>
              </a:rPr>
              <a:t>родители стали проявлять больше участия в совместной творческой деятельности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Georgi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  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Эффективность проделанной работы подтверждается в проявлении дальнейшей инициативы родителей в жизни группы и детского с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1933560" y="37476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1d58"/>
                </a:solidFill>
                <a:latin typeface="Georgia"/>
              </a:rPr>
              <a:t>Результа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3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 flipV="1" rot="10800000">
            <a:off x="1186920" y="337320"/>
            <a:ext cx="869508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Литера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.Михайлова –Свирская Л.В. «Работа с родителями. , Москва «Просвещение», 2015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2.Арнаутова, Е.П. Социально-педагогическая практика взаимодействия семьи и детского сада в современных условиях / Е.П. Арнаутова / Детский сад от А до Я. – 2004. - №4. – с. 23-3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3. Давыдова О.И., Богославец Л.Г., Майер А.А. Работа с родителями в детском саду: Этнопедагогический подход. - М.: ТЦ Сфера, 2005. - 144с. - (Приложение к журналу «Управление ДОУ»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4. Козлова А.В., Дешеулина Р.П. Работа ДОУ с семьёй: Диагностика, планирование, конспекты лекций, консультации, мониторинг. - М.: ТЦ Сфера, 2004. - 112с. (Серия «Библиотека руководителя ДОУ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5. Куликова Т.А. Семейная педагогика и домашнее воспитание: Учебник для студ. сред. и высш. пед. учеб. заведений. -- М.: Издательский центр «Академия», 1999. - 232 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6. Скоролупова О.А. Тематическое планирование воспитательно-образовательного процесса в ДОУ. Часть II. – М.: ООО Издательство «Скрипторий»,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 Осипова Л.Е. Родительские собрания в детском саду. Старшая группа. - М.: «Издательство Скрипторий 2003», 2008. - 64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8. Петрущенко Н.А., Зенченко Н.Е. Детский сад и семья – взаимодействие и сотрудничество. Воспитатель ДОУ. 2009, №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3"/>
          <p:cNvSpPr/>
          <p:nvPr/>
        </p:nvSpPr>
        <p:spPr>
          <a:xfrm>
            <a:off x="1098720" y="1268280"/>
            <a:ext cx="8994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Семья для ребенка – это место его рождения и становления, это определенный морально-психологический климат, это школа отношений с людьми. Она занимает центральное место в формировании личности ребёнка. Именно в семье он получает первые навыки восприятия действительности, складываются представления о добре и зле, о порядочности, об уважительном отношении к материальным и духовным ценностям. С близкими людьми в семье ребёнок переживает чувства любви, дружбы, долга, ответственности, справедл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349280" y="465120"/>
            <a:ext cx="68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Рисунок 4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3"/>
          <p:cNvSpPr/>
          <p:nvPr/>
        </p:nvSpPr>
        <p:spPr>
          <a:xfrm>
            <a:off x="465120" y="465120"/>
            <a:ext cx="10282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Georgia"/>
              </a:rPr>
              <a:t>Проблема вовлечения родителей в единое пространство детского развития в ДОУ решается в трех направлениях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повышение педагогической культуры родител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вовлечение родителей в деятельность ДОУ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совместная работа по обмену опытом</a:t>
            </a:r>
            <a:r>
              <a:rPr b="0" i="1" lang="ru-RU" sz="2100" spc="-1" strike="noStrike">
                <a:solidFill>
                  <a:srgbClr val="002060"/>
                </a:solidFill>
                <a:latin typeface="Georgi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1d58"/>
                </a:solidFill>
                <a:latin typeface="Georgia"/>
              </a:rPr>
              <a:t>Мной была поставлена </a:t>
            </a:r>
            <a:r>
              <a:rPr b="1" lang="ru-RU" sz="2100" spc="-1" strike="noStrike" u="sng">
                <a:solidFill>
                  <a:srgbClr val="001d58"/>
                </a:solidFill>
                <a:uFillTx/>
                <a:latin typeface="Georgia"/>
              </a:rPr>
              <a:t>цель</a:t>
            </a:r>
            <a:r>
              <a:rPr b="0" lang="ru-RU" sz="2100" spc="-1" strike="noStrike" u="sng">
                <a:solidFill>
                  <a:srgbClr val="001d58"/>
                </a:solidFill>
                <a:uFillTx/>
                <a:latin typeface="Georgia"/>
              </a:rPr>
              <a:t>:</a:t>
            </a:r>
            <a:r>
              <a:rPr b="0" lang="ru-RU" sz="2100" spc="-1" strike="noStrike">
                <a:solidFill>
                  <a:srgbClr val="001d58"/>
                </a:solidFill>
                <a:latin typeface="Georgia"/>
              </a:rPr>
              <a:t> сделать родителей активными участниками педагогического процесса, оказав им помощь в реализации ответственности за воспитание и обучение дет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1d58"/>
                </a:solidFill>
                <a:latin typeface="Georgia"/>
              </a:rPr>
              <a:t>Для достижения данной цели я работала над решением следующих </a:t>
            </a:r>
            <a:r>
              <a:rPr b="1" lang="ru-RU" sz="2100" spc="-1" strike="noStrike" u="sng">
                <a:solidFill>
                  <a:srgbClr val="001d58"/>
                </a:solidFill>
                <a:uFillTx/>
                <a:latin typeface="Georgia"/>
              </a:rPr>
              <a:t>задач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Установить партнерские отношения с семьей каждого воспитанни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Объединить усилия семьи и детского сада для развития и воспитания де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Создать атмосферу взаимопонимания  с родителями воспитанни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Активизировать и обогащать умения родителей по воспитанию де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4e0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100" spc="-1" strike="noStrike">
                <a:solidFill>
                  <a:srgbClr val="854e05"/>
                </a:solidFill>
                <a:latin typeface="Georgia"/>
              </a:rPr>
              <a:t>Поддерживать уверенность родителей в собственных педагогических возможностях.</a:t>
            </a:r>
            <a:r>
              <a:rPr b="0" i="1" lang="ru-RU" sz="21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16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"/>
          <p:cNvSpPr/>
          <p:nvPr/>
        </p:nvSpPr>
        <p:spPr>
          <a:xfrm>
            <a:off x="225360" y="149400"/>
            <a:ext cx="1050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Georgia"/>
              </a:rPr>
              <a:t>Формы работы с род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334800" y="1023840"/>
            <a:ext cx="3441960" cy="763560"/>
          </a:xfrm>
          <a:prstGeom prst="roundRect">
            <a:avLst>
              <a:gd name="adj" fmla="val 16667"/>
            </a:avLst>
          </a:prstGeom>
          <a:solidFill>
            <a:srgbClr val="cee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кругленный прямоугольник 4"/>
          <p:cNvSpPr/>
          <p:nvPr/>
        </p:nvSpPr>
        <p:spPr>
          <a:xfrm>
            <a:off x="3821040" y="990720"/>
            <a:ext cx="3362400" cy="765000"/>
          </a:xfrm>
          <a:prstGeom prst="roundRect">
            <a:avLst>
              <a:gd name="adj" fmla="val 16667"/>
            </a:avLst>
          </a:prstGeom>
          <a:solidFill>
            <a:srgbClr val="cee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5"/>
          <p:cNvSpPr/>
          <p:nvPr/>
        </p:nvSpPr>
        <p:spPr>
          <a:xfrm>
            <a:off x="7396200" y="1008000"/>
            <a:ext cx="3336840" cy="763560"/>
          </a:xfrm>
          <a:prstGeom prst="roundRect">
            <a:avLst>
              <a:gd name="adj" fmla="val 16667"/>
            </a:avLst>
          </a:prstGeom>
          <a:solidFill>
            <a:srgbClr val="cee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6"/>
          <p:cNvSpPr/>
          <p:nvPr/>
        </p:nvSpPr>
        <p:spPr>
          <a:xfrm>
            <a:off x="368280" y="117000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Индивиду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7"/>
          <p:cNvSpPr/>
          <p:nvPr/>
        </p:nvSpPr>
        <p:spPr>
          <a:xfrm>
            <a:off x="3927600" y="1170000"/>
            <a:ext cx="30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Колл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8"/>
          <p:cNvSpPr/>
          <p:nvPr/>
        </p:nvSpPr>
        <p:spPr>
          <a:xfrm>
            <a:off x="7289640" y="857160"/>
            <a:ext cx="32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Наглядно-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9"/>
          <p:cNvSpPr/>
          <p:nvPr/>
        </p:nvSpPr>
        <p:spPr>
          <a:xfrm>
            <a:off x="495360" y="2128680"/>
            <a:ext cx="30448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индивидуальные бес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индивидуальные консульт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поручения родител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 индивидуальные памятки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;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нкетировани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трелка вниз 11"/>
          <p:cNvSpPr/>
          <p:nvPr/>
        </p:nvSpPr>
        <p:spPr>
          <a:xfrm>
            <a:off x="1733400" y="1755720"/>
            <a:ext cx="195480" cy="35568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cee1f2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трелка вниз 12"/>
          <p:cNvSpPr/>
          <p:nvPr/>
        </p:nvSpPr>
        <p:spPr>
          <a:xfrm>
            <a:off x="5392800" y="1755720"/>
            <a:ext cx="183960" cy="35568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cee1f2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13"/>
          <p:cNvSpPr/>
          <p:nvPr/>
        </p:nvSpPr>
        <p:spPr>
          <a:xfrm>
            <a:off x="9051840" y="1755720"/>
            <a:ext cx="182520" cy="35568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cee1f2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4"/>
          <p:cNvSpPr/>
          <p:nvPr/>
        </p:nvSpPr>
        <p:spPr>
          <a:xfrm>
            <a:off x="3927600" y="2128680"/>
            <a:ext cx="32558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одительские собрания (общие, групповы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конферен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круглые ст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экскурсии по ДО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5"/>
          <p:cNvSpPr/>
          <p:nvPr/>
        </p:nvSpPr>
        <p:spPr>
          <a:xfrm>
            <a:off x="7564320" y="2133720"/>
            <a:ext cx="2908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видеофрагменты организации различных видов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фото выста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выставки детски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стенды;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ширмы; 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6.папки-передвиж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7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75" name="TextBox 1"/>
          <p:cNvSpPr/>
          <p:nvPr/>
        </p:nvSpPr>
        <p:spPr>
          <a:xfrm>
            <a:off x="1112760" y="297000"/>
            <a:ext cx="808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Индивидуальные формы работы с родителями (беседы и консульт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460440" y="2228760"/>
            <a:ext cx="10302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0-2021 учебный год: </a:t>
            </a:r>
            <a:r>
              <a:rPr b="1" lang="ru-RU" sz="1800" spc="-1" strike="noStrike">
                <a:solidFill>
                  <a:srgbClr val="001746"/>
                </a:solidFill>
                <a:latin typeface="Georgia"/>
              </a:rPr>
              <a:t>«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Нужно ли готовить ребенка к поступлению в детский сад», «Адаптация детей к ДОУ», «Как научить ребёнка правильно держать ложку, карандаш», «Оздоровление детей в домашних условиях», «Какие сказки читать детям», «ЛЕГО-конструктор, это увлекательно», «Сенсорное развитие детей раннего возраста», «Как помочь ребёнку заговорить», «Развитие мелкой моторики или несколько идей, чем занять ребёнка дома», «Игры с песком и водой», «как и чем занять ребёнка во время летнего отдых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1-2022учебный год</a:t>
            </a:r>
            <a:r>
              <a:rPr b="1" lang="ru-RU" sz="1800" spc="-1" strike="noStrike">
                <a:solidFill>
                  <a:srgbClr val="001746"/>
                </a:solidFill>
                <a:latin typeface="Georgia"/>
              </a:rPr>
              <a:t>: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 «Учим ребёнка общаться», «Воспитание самостоятельности у детей младшего дошкольного возраста», «Воспитание любознательности у ребёнка в детском саду и дома», «Какие сказки читать детям», «Речевые игры по дороге в детский сад», «Зачем детям верить в Деда Мороза»,  «Сказкотерапия», «Роль игры в семье и детском саду», «Роль игрушек в развитии ребёнка», «Роль театрализованных игр в развитии речи детей дошкольного возраста», «Театр- наш друг и помощ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6"/>
          <p:cNvSpPr/>
          <p:nvPr/>
        </p:nvSpPr>
        <p:spPr>
          <a:xfrm>
            <a:off x="460440" y="1139760"/>
            <a:ext cx="1030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19-2020 учебный год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ru-RU" sz="1800" spc="-1" strike="noStrike">
                <a:solidFill>
                  <a:srgbClr val="001d58"/>
                </a:solidFill>
                <a:latin typeface="Georgia"/>
                <a:ea typeface="Times New Roman"/>
              </a:rPr>
              <a:t>«Готовим руку к письму», «Игрушки в жизни ребёнка 6-7 лет», «Математическая подготовка к школе», «Как провести новогодние каникулы весело и с пользой», «Как развивать память у детей», «Развитие мелкой моторики»,  «Значение труда в жизни дошкольника»,  «Книга или компьютер. Все «за» и «проти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9" descr=""/>
          <p:cNvPicPr/>
          <p:nvPr/>
        </p:nvPicPr>
        <p:blipFill>
          <a:blip r:embed="rId1"/>
          <a:stretch/>
        </p:blipFill>
        <p:spPr>
          <a:xfrm>
            <a:off x="3024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1"/>
          <p:cNvSpPr/>
          <p:nvPr/>
        </p:nvSpPr>
        <p:spPr>
          <a:xfrm>
            <a:off x="1589040" y="239760"/>
            <a:ext cx="72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оручения родит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284040" y="824040"/>
            <a:ext cx="1022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2019-2020 учебный год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  <a:ea typeface="Times New Roman"/>
              </a:rPr>
              <a:t>«Зеленая территория»  привлечение родителей к участию в совместных с педагогами мероприятий и озеленение территории детского сада: Трудовой десант: помощь в изготовлении костюмов к Новому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2020-2021 учебный год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  <a:ea typeface="Times New Roman"/>
              </a:rPr>
              <a:t>: Озеленение участка, посадка цветов на клумбе; помощь родителей в приобретении выносного инвентаря на лето; совместное проведение зимних игр и забав, Сделаем скворечник своими руками.</a:t>
            </a:r>
            <a:r>
              <a:rPr b="1" lang="ru-RU" sz="1800" spc="-1" strike="noStrike">
                <a:solidFill>
                  <a:srgbClr val="001746"/>
                </a:solidFill>
                <a:latin typeface="Georgia"/>
                <a:ea typeface="Times New Roman"/>
              </a:rPr>
              <a:t>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2021-2022 учебный год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  <a:ea typeface="Times New Roman"/>
              </a:rPr>
              <a:t>Трудовой десант: помощь                                                                                       в изготовлении костюмов, атрибутов, масок к сказкам,                                                                                                                                      Привлечение родителей  к изготовлению разных ви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1746"/>
                </a:solidFill>
                <a:latin typeface="Georgia"/>
                <a:ea typeface="Times New Roman"/>
              </a:rPr>
              <a:t>театра. «Игровой уголок» (пошив и изготовление атрибу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1746"/>
                </a:solidFill>
                <a:latin typeface="Georgia"/>
                <a:ea typeface="Times New Roman"/>
              </a:rPr>
              <a:t>для сюжетно-ролевых иг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4"/>
          <p:cNvSpPr/>
          <p:nvPr/>
        </p:nvSpPr>
        <p:spPr>
          <a:xfrm>
            <a:off x="3357720" y="3747960"/>
            <a:ext cx="39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419040" y="4334040"/>
            <a:ext cx="103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19-2020 учебный год</a:t>
            </a:r>
            <a:r>
              <a:rPr b="1" lang="ru-RU" sz="1800" spc="-1" strike="noStrike">
                <a:solidFill>
                  <a:srgbClr val="000066"/>
                </a:solidFill>
                <a:latin typeface="Georgia"/>
              </a:rPr>
              <a:t>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Внесение новых данных в социальный паспорт группы, «Скоро в школу». «Чего вы ждёте от детского сада в этом году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1" lang="ru-RU" sz="1800" spc="-1" strike="noStrike">
                <a:solidFill>
                  <a:srgbClr val="001746"/>
                </a:solidFill>
                <a:latin typeface="Georgia"/>
              </a:rPr>
              <a:t>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«Давайте познакомимся»,  «Мой ребёнок», ««Удовлетворённость родителей образовательной деятельностью педагогов, условиями ДО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021-2022 учебный год: </a:t>
            </a:r>
            <a:r>
              <a:rPr b="0" lang="ru-RU" sz="1800" spc="-1" strike="noStrike">
                <a:solidFill>
                  <a:srgbClr val="001746"/>
                </a:solidFill>
                <a:latin typeface="Georgia"/>
              </a:rPr>
              <a:t>«Внесение новых данных в социальный паспорт группы», «Здоровый образ жизни», «Русская народная сказка в жизни вашего ребенка»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D:\Фотографии Презентации Видео\Фотографии\фото 2022г\мастер класс театр на дисках 14.01.2022\IMG_6833.JPG"/>
          <p:cNvPicPr/>
          <p:nvPr/>
        </p:nvPicPr>
        <p:blipFill>
          <a:blip r:embed="rId2"/>
          <a:stretch/>
        </p:blipFill>
        <p:spPr>
          <a:xfrm>
            <a:off x="6804000" y="2262240"/>
            <a:ext cx="371952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6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"/>
          <p:cNvSpPr/>
          <p:nvPr/>
        </p:nvSpPr>
        <p:spPr>
          <a:xfrm>
            <a:off x="1859040" y="360360"/>
            <a:ext cx="795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Georgia"/>
              </a:rPr>
              <a:t>Родительские собр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74760" y="1019160"/>
            <a:ext cx="10372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19-2020 учебный год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«Родительское собрание «Последний год перед школой»: </a:t>
            </a:r>
            <a:r>
              <a:rPr b="1" lang="ru-RU" sz="2000" spc="-1" strike="noStrike">
                <a:solidFill>
                  <a:srgbClr val="001746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«Организация  учебно-воспитательной деятельности в детском саду на 2018-2019 учебный год», « Чему научились наши дети за го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«Особенности роста и развития детей младшего возраста. Режим дня», «Итоги работы МКДОУ за 2020-2021уч.г»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21-2022 учебный год</a:t>
            </a:r>
            <a:r>
              <a:rPr b="1" lang="ru-RU" sz="2000" spc="-1" strike="noStrike">
                <a:solidFill>
                  <a:srgbClr val="001746"/>
                </a:solidFill>
                <a:latin typeface="Georgia"/>
              </a:rPr>
              <a:t>: «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Возрастные особенности детей 4 года жизни», «Результаты нашего сотрудничества», «Особенности и проблемы речевого развития у детей младшего возраста», «Наши дост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" descr="D:\Фотографии\осень 2018\IMG_3238.JPG"/>
          <p:cNvPicPr/>
          <p:nvPr/>
        </p:nvPicPr>
        <p:blipFill>
          <a:blip r:embed="rId2"/>
          <a:stretch/>
        </p:blipFill>
        <p:spPr>
          <a:xfrm>
            <a:off x="639720" y="3576600"/>
            <a:ext cx="4632480" cy="3254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D:\Фотографии Презентации Видео\Фотографии\фото 2022г\Родительское собрание в 26.10.2022г\ajhv.JPG"/>
          <p:cNvPicPr/>
          <p:nvPr/>
        </p:nvPicPr>
        <p:blipFill>
          <a:blip r:embed="rId3"/>
          <a:stretch/>
        </p:blipFill>
        <p:spPr>
          <a:xfrm>
            <a:off x="5626080" y="3576600"/>
            <a:ext cx="4332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9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1"/>
          <p:cNvSpPr/>
          <p:nvPr/>
        </p:nvSpPr>
        <p:spPr>
          <a:xfrm>
            <a:off x="1244520" y="360360"/>
            <a:ext cx="863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Конференции; круглые столы; экскурсии по ДОУ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360360" y="1011240"/>
            <a:ext cx="56545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019-2020 учебный год</a:t>
            </a:r>
            <a:r>
              <a:rPr b="1" lang="ru-RU" sz="1600" spc="-1" strike="noStrike">
                <a:solidFill>
                  <a:srgbClr val="001746"/>
                </a:solidFill>
                <a:latin typeface="Georgia"/>
              </a:rPr>
              <a:t>:</a:t>
            </a:r>
            <a:r>
              <a:rPr b="0" lang="ru-RU" sz="1600" spc="-1" strike="noStrike">
                <a:solidFill>
                  <a:srgbClr val="001746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1746"/>
                </a:solidFill>
                <a:latin typeface="Georgia"/>
              </a:rPr>
              <a:t>«С кем дружит мой ребенок?» обмен опытом, Посещение мероприятий и режимных моментов,  «Ребенок на пороге школы»  повышение родительской компетентности в вопросах подготовки ребенка к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1" lang="ru-RU" sz="1600" spc="-1" strike="noStrike">
                <a:solidFill>
                  <a:srgbClr val="001746"/>
                </a:solidFill>
                <a:latin typeface="Georgia"/>
              </a:rPr>
              <a:t>: </a:t>
            </a:r>
            <a:r>
              <a:rPr b="0" lang="ru-RU" sz="1600" spc="-1" strike="noStrike">
                <a:solidFill>
                  <a:srgbClr val="001746"/>
                </a:solidFill>
                <a:latin typeface="Georgia"/>
              </a:rPr>
              <a:t> «День открытых дверей»-Знакомство родителей с помещением группы»,  Круглый стол «Организация самообслуживания в детском саду и дома», Общение за чаепитием «Отец в жизни ребё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021-2022 учебный год</a:t>
            </a:r>
            <a:r>
              <a:rPr b="0" lang="ru-RU" sz="1600" spc="-1" strike="noStrike">
                <a:solidFill>
                  <a:srgbClr val="001746"/>
                </a:solidFill>
                <a:latin typeface="Georgia"/>
              </a:rPr>
              <a:t>: «День открытых дверей»-присутствие родителей на утренней гимнастике,   круглый стол «Особенности и проблемы речевого развития у дете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" descr="D:\Фотографии\фото 2015г\день матери 2015г\IMG_2264.JPG"/>
          <p:cNvPicPr/>
          <p:nvPr/>
        </p:nvPicPr>
        <p:blipFill>
          <a:blip r:embed="rId2"/>
          <a:stretch/>
        </p:blipFill>
        <p:spPr>
          <a:xfrm>
            <a:off x="6164280" y="852480"/>
            <a:ext cx="4375080" cy="2597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D:\Фотографии Презентации Видео\Фотографии\фото 2021г\родит собрание\IMG_6480.JPG"/>
          <p:cNvPicPr/>
          <p:nvPr/>
        </p:nvPicPr>
        <p:blipFill>
          <a:blip r:embed="rId3"/>
          <a:stretch/>
        </p:blipFill>
        <p:spPr>
          <a:xfrm>
            <a:off x="1147680" y="4321080"/>
            <a:ext cx="4402080" cy="267336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0" descr=""/>
          <p:cNvPicPr/>
          <p:nvPr/>
        </p:nvPicPr>
        <p:blipFill>
          <a:blip r:embed="rId4"/>
          <a:stretch/>
        </p:blipFill>
        <p:spPr>
          <a:xfrm>
            <a:off x="6172200" y="3618000"/>
            <a:ext cx="431964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7" descr=""/>
          <p:cNvPicPr/>
          <p:nvPr/>
        </p:nvPicPr>
        <p:blipFill>
          <a:blip r:embed="rId1"/>
          <a:stretch/>
        </p:blipFill>
        <p:spPr>
          <a:xfrm>
            <a:off x="0" y="-11160"/>
            <a:ext cx="10980720" cy="739152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1"/>
          <p:cNvSpPr/>
          <p:nvPr/>
        </p:nvSpPr>
        <p:spPr>
          <a:xfrm>
            <a:off x="1123920" y="419040"/>
            <a:ext cx="936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Наглядно-информационные формы работы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3"/>
          <p:cNvSpPr/>
          <p:nvPr/>
        </p:nvSpPr>
        <p:spPr>
          <a:xfrm>
            <a:off x="614520" y="1258920"/>
            <a:ext cx="10028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19-2020 учебный год</a:t>
            </a:r>
            <a:r>
              <a:rPr b="1" lang="ru-RU" sz="2000" spc="-1" strike="noStrike">
                <a:solidFill>
                  <a:srgbClr val="001746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«Безопасный пешеход»;  Фотогазета «Зимняя прогулка в детском саду»; «Мамы разные нужны». .«Что мы узнали и чему научились?» информирование родителей о работе детского сада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20-2021 учебный год</a:t>
            </a:r>
            <a:r>
              <a:rPr b="1" lang="ru-RU" sz="2000" spc="-1" strike="noStrike">
                <a:solidFill>
                  <a:srgbClr val="001746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Оформление группового альбома с фотографиями пап и мам на работе «Кем работают твои родители», Фотовыставка «Наши с мамой руки», Видеопрезентация: «Вот так мы и жили в детском саду», Фотовыставка «Как я провёл лет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21-2022 учебный год</a:t>
            </a:r>
            <a:r>
              <a:rPr b="1" lang="ru-RU" sz="2000" spc="-1" strike="noStrike">
                <a:solidFill>
                  <a:srgbClr val="001746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1746"/>
                </a:solidFill>
                <a:latin typeface="Georgia"/>
              </a:rPr>
              <a:t>Выставка творческих работ «Цветы для мамы», Фотоконкурс «Здоровая семья в объективе», Выставка рисунков «Спорт для всех», Фотовыставка «Наши папы удалы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4" descr=""/>
          <p:cNvPicPr/>
          <p:nvPr/>
        </p:nvPicPr>
        <p:blipFill>
          <a:blip r:embed="rId2"/>
          <a:stretch/>
        </p:blipFill>
        <p:spPr>
          <a:xfrm>
            <a:off x="609480" y="4395960"/>
            <a:ext cx="2048040" cy="250488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5" descr=""/>
          <p:cNvPicPr/>
          <p:nvPr/>
        </p:nvPicPr>
        <p:blipFill>
          <a:blip r:embed="rId3"/>
          <a:stretch/>
        </p:blipFill>
        <p:spPr>
          <a:xfrm>
            <a:off x="3149640" y="4632480"/>
            <a:ext cx="4052880" cy="247176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6" descr=""/>
          <p:cNvPicPr/>
          <p:nvPr/>
        </p:nvPicPr>
        <p:blipFill>
          <a:blip r:embed="rId4"/>
          <a:stretch/>
        </p:blipFill>
        <p:spPr>
          <a:xfrm>
            <a:off x="8182080" y="4632480"/>
            <a:ext cx="15318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4T03:42:50Z</dcterms:created>
  <dc:creator>Дом</dc:creator>
  <dc:description/>
  <dc:language>en-US</dc:language>
  <cp:lastModifiedBy>Ирина</cp:lastModifiedBy>
  <dcterms:modified xsi:type="dcterms:W3CDTF">2022-12-07T10:27:29Z</dcterms:modified>
  <cp:revision>96</cp:revision>
  <dc:subject/>
  <dc:title>Презентация PowerPoint</dc:title>
</cp:coreProperties>
</file>