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C2C-BAC4-4E01-9200-73E187CB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CFF-2AD0-4898-9362-2952482B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0C4-7106-432C-BCE5-84C5ADF4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7DD0-7FAB-49EC-B16F-4E96505D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5514-4050-4CF8-A554-C118FBBA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F162-C439-4296-AD67-2A03469F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F80-34D8-4E2F-A8CC-B34DD0AC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032B-7F58-449A-B679-31469834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A14E-A089-4DBB-BF68-B0F1FCEF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4AA-B9A4-4719-9EBC-C506459E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9EC-EE2C-4641-887B-659C7009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01A-5C27-40A6-9E98-EC26A303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5FF84A-76FD-47F9-8814-3D2A12B0F85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571320" y="857160"/>
            <a:ext cx="7944840" cy="255852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rig="threePt" dir="t"/>
            </a:scene3d>
            <a:sp3d extrusionH="57150">
              <a:bevelT prst="angle" w="38100" h="38100"/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3d9d7"/>
                </a:solidFill>
                <a:latin typeface="Calibri"/>
              </a:rPr>
              <a:t>Прави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3d9d7"/>
                </a:solidFill>
                <a:latin typeface="Calibri"/>
              </a:rPr>
              <a:t>по русскому язык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3d9d7"/>
                </a:solidFill>
                <a:latin typeface="Calibri"/>
              </a:rPr>
              <a:t>за курс начальной школ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2754000" y="214200"/>
            <a:ext cx="28357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Запом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857160" y="1571760"/>
            <a:ext cx="7500600" cy="4694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сочетаниях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ЧК   ЧН   НЧ   НЩ   РЩ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ягкий знак не пиш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о</a:t>
            </a:r>
            <a:r>
              <a:rPr b="1" i="1" lang="ru-RU" sz="2800" spc="-1" strike="noStrike">
                <a:solidFill>
                  <a:srgbClr val="3333cc"/>
                </a:solidFill>
                <a:latin typeface="Georgia"/>
              </a:rPr>
              <a:t>чк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        каме</a:t>
            </a:r>
            <a:r>
              <a:rPr b="1" i="1" lang="ru-RU" sz="2800" spc="-1" strike="noStrike">
                <a:solidFill>
                  <a:srgbClr val="3333cc"/>
                </a:solidFill>
                <a:latin typeface="Georgia"/>
              </a:rPr>
              <a:t>нщ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к        спо</a:t>
            </a:r>
            <a:r>
              <a:rPr b="1" i="1" lang="ru-RU" sz="2800" spc="-1" strike="noStrike">
                <a:solidFill>
                  <a:srgbClr val="3333cc"/>
                </a:solidFill>
                <a:latin typeface="Georgia"/>
              </a:rPr>
              <a:t>рщ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елительный мягкий знак пишется после согласных перед гласным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Е  Ё  И  Ю 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лать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i="1" lang="ru-RU" sz="28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   ручь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и</a:t>
            </a:r>
            <a:r>
              <a:rPr b="1" i="1" lang="ru-RU" sz="28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       обезь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я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елительный твердый знак пишется после приставки, оканчивающейся на согласную перед гласными  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Е   Ё   Ю  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од</a:t>
            </a: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ъ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зд      под</a:t>
            </a: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ъ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         об</a:t>
            </a: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ъ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я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357120" y="2071800"/>
            <a:ext cx="8357760" cy="4035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иставки   </a:t>
            </a: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без-   воз-   вз-  из-   низ-  раз-   чрез-   через-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пишутся перед гласными и звонкими соглас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3333cc"/>
                </a:solidFill>
                <a:latin typeface="Georgia"/>
              </a:rPr>
              <a:t>вз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лет       </a:t>
            </a:r>
            <a:r>
              <a:rPr b="1" i="1" lang="ru-RU" sz="3200" spc="-1" strike="noStrike">
                <a:solidFill>
                  <a:srgbClr val="3333cc"/>
                </a:solidFill>
                <a:latin typeface="Georgia"/>
              </a:rPr>
              <a:t>без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одный    </a:t>
            </a:r>
            <a:r>
              <a:rPr b="1" i="1" lang="ru-RU" sz="3200" spc="-1" strike="noStrike">
                <a:solidFill>
                  <a:srgbClr val="3333cc"/>
                </a:solidFill>
                <a:latin typeface="Georgia"/>
              </a:rPr>
              <a:t> раз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д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иставки   </a:t>
            </a: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бес-   вос-   вс-   ис-   нис-  рас-   чрез-   через-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пишутся перед глухими соглас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ru-RU" sz="3200" spc="-1" strike="noStrike">
                <a:solidFill>
                  <a:srgbClr val="3333cc"/>
                </a:solidFill>
                <a:latin typeface="Georgia"/>
              </a:rPr>
              <a:t>вос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итание    </a:t>
            </a:r>
            <a:r>
              <a:rPr b="1" i="1" lang="ru-RU" sz="3200" spc="-1" strike="noStrike">
                <a:solidFill>
                  <a:srgbClr val="3333cc"/>
                </a:solidFill>
                <a:latin typeface="Georgia"/>
              </a:rPr>
              <a:t>вс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омнить  </a:t>
            </a:r>
            <a:r>
              <a:rPr b="1" i="1" lang="ru-RU" sz="3200" spc="-1" strike="noStrike">
                <a:solidFill>
                  <a:srgbClr val="3333cc"/>
                </a:solidFill>
                <a:latin typeface="Georgia"/>
              </a:rPr>
              <a:t> ис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угать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541440" y="642960"/>
            <a:ext cx="77432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Правописание предл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928080" y="285840"/>
            <a:ext cx="706968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Правопис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приставок и предл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1000080" y="1928880"/>
            <a:ext cx="6857640" cy="359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Приставк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это часть слова и пишется 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слитн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Предлог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это часть речи и пишется 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отдельн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С глаголами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предл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не употребляютс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бята  </a:t>
            </a:r>
            <a:r>
              <a:rPr b="1" i="1" lang="ru-RU" sz="3200" spc="-1" strike="noStrike">
                <a:solidFill>
                  <a:srgbClr val="3333cc"/>
                </a:solidFill>
                <a:latin typeface="Georgia"/>
              </a:rPr>
              <a:t>на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равились  </a:t>
            </a:r>
            <a:r>
              <a:rPr b="1" i="1" lang="ru-RU" sz="3200" spc="-1" strike="noStrike">
                <a:solidFill>
                  <a:srgbClr val="3333cc"/>
                </a:solidFill>
                <a:latin typeface="Georgia"/>
              </a:rPr>
              <a:t>на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прогул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500040" y="1285920"/>
            <a:ext cx="8429400" cy="507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ИМЯ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вечает на вопросы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то?  ч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значает </a:t>
            </a:r>
            <a:r>
              <a:rPr b="0" lang="ru-RU" sz="2800" spc="-1" strike="noStrike">
                <a:solidFill>
                  <a:srgbClr val="3333cc"/>
                </a:solidFill>
                <a:latin typeface="Georgia"/>
              </a:rPr>
              <a:t>предме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ИМЯ ПРИЛАГ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вечает на вопросы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акой? какая? какое? как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значает </a:t>
            </a:r>
            <a:r>
              <a:rPr b="0" lang="ru-RU" sz="2800" spc="-1" strike="noStrike">
                <a:solidFill>
                  <a:srgbClr val="3333cc"/>
                </a:solidFill>
                <a:latin typeface="Georgia"/>
              </a:rPr>
              <a:t>признак предмет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ГЛА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вечает на вопрос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что делать? что с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значает </a:t>
            </a:r>
            <a:r>
              <a:rPr b="0" lang="ru-RU" sz="2800" spc="-1" strike="noStrike">
                <a:solidFill>
                  <a:srgbClr val="3333cc"/>
                </a:solidFill>
                <a:latin typeface="Georgia"/>
              </a:rPr>
              <a:t>действие предмет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МЕСТОИ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казывает на предметы, но не называет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2326320" y="357120"/>
            <a:ext cx="35384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Части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041840" y="357120"/>
            <a:ext cx="68533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357120" y="1428840"/>
            <a:ext cx="8429400" cy="3501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РОД ИМЁН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Мужской род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он    мой – пе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Женский род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она   моя – кни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Средний род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оно   моё – 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ЧИСЛО ИМЁН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Единственное числ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ручк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, д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Множественное числ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ручк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, дуб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42840" y="357120"/>
            <a:ext cx="89517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Падежи имён существи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Таблица 2"/>
          <p:cNvGraphicFramePr/>
          <p:nvPr/>
        </p:nvGraphicFramePr>
        <p:xfrm>
          <a:off x="285840" y="1214280"/>
          <a:ext cx="8643600" cy="5363640"/>
        </p:xfrm>
        <a:graphic>
          <a:graphicData uri="http://schemas.openxmlformats.org/drawingml/2006/table">
            <a:tbl>
              <a:tblPr/>
              <a:tblGrid>
                <a:gridCol w="1506960"/>
                <a:gridCol w="2458080"/>
                <a:gridCol w="1664640"/>
                <a:gridCol w="3013920"/>
              </a:tblGrid>
              <a:tr h="784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звание паде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спомогательные с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адежные 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ед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И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к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0" lang="ru-RU" sz="2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Р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ко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че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ез, возле, до, из, около, от, подле, с, 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Д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дойти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ко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че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, п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В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иж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ко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д, за, про, через, в, 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Т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во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к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ч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за, между, над, под,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П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ума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о ко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о ч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, о, об, на, п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771840" y="142920"/>
            <a:ext cx="735012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Три скло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имён существитель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Таблица 2"/>
          <p:cNvGraphicFramePr/>
          <p:nvPr/>
        </p:nvGraphicFramePr>
        <p:xfrm>
          <a:off x="642960" y="1714680"/>
          <a:ext cx="8000640" cy="485748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160"/>
                <a:gridCol w="2000160"/>
              </a:tblGrid>
              <a:tr h="198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ПЕРВОЕ СКЛО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УЖСКО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ЖЕНСК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- А, - 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ЮНОШ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ЯД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ТИЦ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ЕМЛ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ВТОРОЕ СКЛО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УЖСКО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РЕДН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- О, - 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ЕРН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ЧАСТЬ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ТРЕТЬЕ СКЛО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ЖЕНСК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- 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Ч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ОЖ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1143000" y="0"/>
            <a:ext cx="642888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Число и род имё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прилагатель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214200" y="1500120"/>
            <a:ext cx="85723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Число род  имён прилагательных определяется по числу  и роду имен существительных, с которыми оно употреб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Таблица 3"/>
          <p:cNvGraphicFramePr/>
          <p:nvPr/>
        </p:nvGraphicFramePr>
        <p:xfrm>
          <a:off x="428760" y="2857680"/>
          <a:ext cx="8143560" cy="3500280"/>
        </p:xfrm>
        <a:graphic>
          <a:graphicData uri="http://schemas.openxmlformats.org/drawingml/2006/table">
            <a:tbl>
              <a:tblPr/>
              <a:tblGrid>
                <a:gridCol w="1819080"/>
                <a:gridCol w="3118680"/>
                <a:gridCol w="3205440"/>
              </a:tblGrid>
              <a:tr h="975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</a:t>
                      </a: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Число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  </a:t>
                      </a: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Единстве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  </a:t>
                      </a: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Множестве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ужско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пел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ый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л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сок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ий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пото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пел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ы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пл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сок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и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потол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Женски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азов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ая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пли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и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яя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блуз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азов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ы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пл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и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и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блуз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ротк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о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расстоя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ет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е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плат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ротк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и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расстоя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ет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и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пла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Line 51"/>
          <p:cNvSpPr/>
          <p:nvPr/>
        </p:nvSpPr>
        <p:spPr>
          <a:xfrm>
            <a:off x="428400" y="2857320"/>
            <a:ext cx="1857600" cy="1000080"/>
          </a:xfrm>
          <a:prstGeom prst="line">
            <a:avLst/>
          </a:prstGeom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599560" y="357120"/>
            <a:ext cx="37382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Вид глаг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571680" y="1357200"/>
            <a:ext cx="8286480" cy="4912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лаголы бывают</a:t>
            </a: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 совершенног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несовершенног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ви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Совершенный вид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действие уже сделано, закончено, то есть соверш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Что сделал?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- 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написал, выучил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Несовершенный вид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действие еще незаконч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Что делает?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ишет, учит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ЗАПОМНИ!</a:t>
            </a: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Частица</a:t>
            </a: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 н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с глаголами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ишется всегда отдельно: </a:t>
            </a:r>
            <a:r>
              <a:rPr b="1" i="1" lang="ru-RU" sz="3200" spc="-1" strike="noStrike">
                <a:solidFill>
                  <a:srgbClr val="3333cc"/>
                </a:solidFill>
                <a:latin typeface="Book Antiqua"/>
              </a:rPr>
              <a:t>Не</a:t>
            </a: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 написал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714240" y="0"/>
            <a:ext cx="750060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Изменение глаго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по времен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Таблица 2"/>
          <p:cNvGraphicFramePr/>
          <p:nvPr/>
        </p:nvGraphicFramePr>
        <p:xfrm>
          <a:off x="357120" y="1571760"/>
          <a:ext cx="8500680" cy="4815360"/>
        </p:xfrm>
        <a:graphic>
          <a:graphicData uri="http://schemas.openxmlformats.org/drawingml/2006/table">
            <a:tbl>
              <a:tblPr/>
              <a:tblGrid>
                <a:gridCol w="2779200"/>
                <a:gridCol w="3024360"/>
                <a:gridCol w="2697120"/>
              </a:tblGrid>
              <a:tr h="122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Настоящее 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то делает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мотр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ил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ису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Прошедшее 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то делал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то сделал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мотре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или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исов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3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Будуще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то будет дела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то сделал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удет смотр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смотр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удет рисо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рису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1643040" y="500040"/>
            <a:ext cx="50716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Гласные  бу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500040" y="1714680"/>
            <a:ext cx="8000640" cy="3502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А   Е   Ё   И   О   У   Ы   Э   Ю  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А   О   У   Ы   Э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и гласные обозначают твёрдость согласных зву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И</a:t>
            </a:r>
            <a:r>
              <a:rPr b="1" lang="ru-RU" sz="2800" spc="-1" strike="noStrike">
                <a:solidFill>
                  <a:srgbClr val="cc00cc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значает мягкость согласных зву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Е   Ё   Ю   Я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и гласные обозначают мягкость</a:t>
            </a: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гласных звуков, а в начале слова или после другой гласной – два звука.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000080" y="0"/>
            <a:ext cx="692892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Изменение глаг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по числам и лиц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Таблица 2"/>
          <p:cNvGraphicFramePr/>
          <p:nvPr/>
        </p:nvGraphicFramePr>
        <p:xfrm>
          <a:off x="285840" y="1536840"/>
          <a:ext cx="8643600" cy="5083560"/>
        </p:xfrm>
        <a:graphic>
          <a:graphicData uri="http://schemas.openxmlformats.org/drawingml/2006/table">
            <a:tbl>
              <a:tblPr/>
              <a:tblGrid>
                <a:gridCol w="2738520"/>
                <a:gridCol w="1797120"/>
                <a:gridCol w="1964880"/>
                <a:gridCol w="2143080"/>
              </a:tblGrid>
              <a:tr h="1343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Лиц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1 – е  лиц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2 – е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лиц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3 – е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лиц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Единствен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бот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дых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бот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еш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дых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еш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Он, она,о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бот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дых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Множестве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бот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дых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В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бот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е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дых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е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О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бот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ю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дых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ю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Line 61"/>
          <p:cNvSpPr/>
          <p:nvPr/>
        </p:nvSpPr>
        <p:spPr>
          <a:xfrm>
            <a:off x="285480" y="1571400"/>
            <a:ext cx="2714760" cy="1285920"/>
          </a:xfrm>
          <a:prstGeom prst="line">
            <a:avLst/>
          </a:prstGeom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511200" y="357120"/>
            <a:ext cx="791532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Морфологический раз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глаг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85840" y="1450800"/>
            <a:ext cx="8071920" cy="1278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орфем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т греч. morphe «форма») – </a:t>
            </a:r>
            <a:r>
              <a:rPr b="0" lang="ru-RU" sz="2000" spc="-1" strike="noStrike">
                <a:solidFill>
                  <a:srgbClr val="0000cd"/>
                </a:solidFill>
                <a:latin typeface="Times New Roman"/>
              </a:rPr>
              <a:t>минимальная значимая часть слова: корень, суффикс,приставка, окончание 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357120" y="2428920"/>
            <a:ext cx="8429400" cy="100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орфология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от греч. morphe «форма», lоgos « учение, наука») – раздел грамматики, изучающий структуру слова и выражение грамматических значений в сл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928800" y="3657240"/>
            <a:ext cx="7071840" cy="264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Читал ( что?) книгу -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Нач.форма - кни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  Признаки существительного (всё, что знаем о данной части речи : род, число, падеж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Читал ( что?) книгу ( подчёркиваем, как дополн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2333520" y="357120"/>
            <a:ext cx="427140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Местоим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428760" y="1143000"/>
            <a:ext cx="8714880" cy="507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естоимения указывают на предметы, признаки и качества, но не называют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Личные местои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я, мы, ты, вы, он, она, оно, 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Указательные местои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этот, это, эта, э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Вопросительные местои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то, что, какой, который, чей, ск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Отрицательные местои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икто, ничто, никакой, ни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Неопределенные местои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то-то, что-то, кто-нибуд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что- нибудь,  кое-что, кое-к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1557000" y="357120"/>
            <a:ext cx="58244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Имя числ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214200" y="1143000"/>
            <a:ext cx="8714880" cy="6124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мена числительные обозначают количество или порядок предметов при сч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Числ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cc"/>
                </a:solidFill>
                <a:latin typeface="Georgia"/>
              </a:rPr>
              <a:t>Количественны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пять книг)         </a:t>
            </a:r>
            <a:r>
              <a:rPr b="0" lang="ru-RU" sz="2400" spc="-1" strike="noStrike">
                <a:solidFill>
                  <a:srgbClr val="3333cc"/>
                </a:solidFill>
                <a:latin typeface="Georgia"/>
              </a:rPr>
              <a:t>Порядковы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пятый эта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Числите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cc"/>
                </a:solidFill>
                <a:latin typeface="Georgia"/>
              </a:rPr>
              <a:t>Простые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2400" spc="-1" strike="noStrike">
                <a:solidFill>
                  <a:srgbClr val="3333cc"/>
                </a:solidFill>
                <a:latin typeface="Georgia"/>
              </a:rPr>
              <a:t> Сложные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ru-RU" sz="2400" spc="-1" strike="noStrike">
                <a:solidFill>
                  <a:srgbClr val="3333cc"/>
                </a:solidFill>
                <a:latin typeface="Georgia"/>
              </a:rPr>
              <a:t>Составные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ru-RU" sz="2400" spc="-1" strike="noStrike">
                <a:solidFill>
                  <a:srgbClr val="3333cc"/>
                </a:solidFill>
                <a:latin typeface="Georgia"/>
              </a:rPr>
              <a:t>Дроб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семь)           (тридцать)          (тридцать два)         (три пят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 flipH="1">
            <a:off x="1928520" y="2643120"/>
            <a:ext cx="2571840" cy="1000080"/>
          </a:xfrm>
          <a:prstGeom prst="line">
            <a:avLst/>
          </a:prstGeom>
          <a:ln w="1905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7"/>
          <p:cNvSpPr/>
          <p:nvPr/>
        </p:nvSpPr>
        <p:spPr>
          <a:xfrm>
            <a:off x="4500360" y="2643120"/>
            <a:ext cx="1714680" cy="1000080"/>
          </a:xfrm>
          <a:prstGeom prst="line">
            <a:avLst/>
          </a:prstGeom>
          <a:ln w="1905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0"/>
          <p:cNvSpPr/>
          <p:nvPr/>
        </p:nvSpPr>
        <p:spPr>
          <a:xfrm flipH="1">
            <a:off x="1143000" y="4572000"/>
            <a:ext cx="3357360" cy="928440"/>
          </a:xfrm>
          <a:prstGeom prst="line">
            <a:avLst/>
          </a:prstGeom>
          <a:ln w="1905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3"/>
          <p:cNvSpPr/>
          <p:nvPr/>
        </p:nvSpPr>
        <p:spPr>
          <a:xfrm flipH="1">
            <a:off x="3000240" y="4572000"/>
            <a:ext cx="1500120" cy="928440"/>
          </a:xfrm>
          <a:prstGeom prst="line">
            <a:avLst/>
          </a:prstGeom>
          <a:ln w="1905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6"/>
          <p:cNvSpPr/>
          <p:nvPr/>
        </p:nvSpPr>
        <p:spPr>
          <a:xfrm>
            <a:off x="4500360" y="4572000"/>
            <a:ext cx="3000240" cy="928440"/>
          </a:xfrm>
          <a:prstGeom prst="line">
            <a:avLst/>
          </a:prstGeom>
          <a:ln w="1905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4"/>
          <p:cNvSpPr/>
          <p:nvPr/>
        </p:nvSpPr>
        <p:spPr>
          <a:xfrm>
            <a:off x="4500360" y="4572000"/>
            <a:ext cx="642960" cy="928440"/>
          </a:xfrm>
          <a:prstGeom prst="line">
            <a:avLst/>
          </a:prstGeom>
          <a:ln w="1905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3099240" y="357120"/>
            <a:ext cx="27385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Наре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85840" y="1143000"/>
            <a:ext cx="8572320" cy="74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речие – неизменяемая часть речи, обозначающая признак действия или кач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Таблица 3"/>
          <p:cNvGraphicFramePr/>
          <p:nvPr/>
        </p:nvGraphicFramePr>
        <p:xfrm>
          <a:off x="285840" y="2286000"/>
          <a:ext cx="8357760" cy="2490840"/>
        </p:xfrm>
        <a:graphic>
          <a:graphicData uri="http://schemas.openxmlformats.org/drawingml/2006/table">
            <a:tbl>
              <a:tblPr/>
              <a:tblGrid>
                <a:gridCol w="4178880"/>
                <a:gridCol w="4178880"/>
              </a:tblGrid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в-, за-, на-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имеют на конце букву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до-, из-, с-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имеют на конце букву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ав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н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лев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из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авн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до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л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Прямоугольник 4"/>
          <p:cNvSpPr/>
          <p:nvPr/>
        </p:nvSpPr>
        <p:spPr>
          <a:xfrm>
            <a:off x="357120" y="5072040"/>
            <a:ext cx="835776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а конце наречий после шипящих пишется </a:t>
            </a:r>
            <a:r>
              <a:rPr b="1" i="1" lang="ru-RU" sz="2000" spc="-1" strike="noStrike">
                <a:solidFill>
                  <a:srgbClr val="3333cc"/>
                </a:solidFill>
                <a:latin typeface="Georgia"/>
              </a:rPr>
              <a:t>Ь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: настеж</a:t>
            </a:r>
            <a:r>
              <a:rPr b="1" i="1" lang="ru-RU" sz="2000" spc="-1" strike="noStrike">
                <a:solidFill>
                  <a:srgbClr val="3333cc"/>
                </a:solidFill>
                <a:latin typeface="Georgia"/>
              </a:rPr>
              <a:t>ь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, проч</a:t>
            </a:r>
            <a:r>
              <a:rPr b="1" i="1" lang="ru-RU" sz="2000" spc="-1" strike="noStrike">
                <a:solidFill>
                  <a:srgbClr val="3333cc"/>
                </a:solidFill>
                <a:latin typeface="Georgia"/>
              </a:rPr>
              <a:t>ь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. (кроме: замуж, невтерпеж, уж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3614040" y="357120"/>
            <a:ext cx="17096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Сою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285840" y="1643040"/>
            <a:ext cx="8500680" cy="4311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оюзы – это служебные части речи, которые связывают однородные члены в составе простого предложения и простые предложения в составе сложного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зошло солнце </a:t>
            </a:r>
            <a:r>
              <a:rPr b="1" i="1" lang="ru-RU" sz="2800" spc="-1" strike="noStrike">
                <a:solidFill>
                  <a:srgbClr val="3333cc"/>
                </a:solidFill>
                <a:latin typeface="Georgia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осветило все вок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альчик побежал за собакой, </a:t>
            </a:r>
            <a:r>
              <a:rPr b="1" i="1" lang="ru-RU" sz="2800" spc="-1" strike="noStrike">
                <a:solidFill>
                  <a:srgbClr val="3333cc"/>
                </a:solidFill>
                <a:latin typeface="Georgia"/>
              </a:rPr>
              <a:t>но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не догнал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идит око, </a:t>
            </a:r>
            <a:r>
              <a:rPr b="1" i="1" lang="ru-RU" sz="2800" spc="-1" strike="noStrike">
                <a:solidFill>
                  <a:srgbClr val="3333cc"/>
                </a:solidFill>
                <a:latin typeface="Georgia"/>
              </a:rPr>
              <a:t>да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зуб нейм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 лесу растут грибы </a:t>
            </a:r>
            <a:r>
              <a:rPr b="1" i="1" lang="ru-RU" sz="2800" spc="-1" strike="noStrike">
                <a:solidFill>
                  <a:srgbClr val="3333cc"/>
                </a:solidFill>
                <a:latin typeface="Georgia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444320" y="357120"/>
            <a:ext cx="604836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Виды предлож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Таблица 2"/>
          <p:cNvGraphicFramePr/>
          <p:nvPr/>
        </p:nvGraphicFramePr>
        <p:xfrm>
          <a:off x="214200" y="1571760"/>
          <a:ext cx="8643600" cy="4773960"/>
        </p:xfrm>
        <a:graphic>
          <a:graphicData uri="http://schemas.openxmlformats.org/drawingml/2006/table">
            <a:tbl>
              <a:tblPr/>
              <a:tblGrid>
                <a:gridCol w="3251160"/>
                <a:gridCol w="1070280"/>
                <a:gridCol w="1706040"/>
                <a:gridCol w="2615400"/>
              </a:tblGrid>
              <a:tr h="4507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По интон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1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Восклиц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Невосклиц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не подарили щенка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не подарили щенк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1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По цели высказы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1" lang="ru-RU" sz="22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Повествователь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1" lang="ru-RU" sz="22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Вопроситель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1" lang="ru-RU" sz="22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Побудитель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 дворе прекрасная погода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чему вы не гуляете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дите скорее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По наличию второстепенных чле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1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Нераспространён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Распространён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есна пришла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ишла долгожданная вес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807120" y="357120"/>
            <a:ext cx="732240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Синтаксический раз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357120" y="2022840"/>
            <a:ext cx="8286480" cy="4478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СИНТАКСИС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от греч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i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изучаются </a:t>
            </a:r>
            <a:r>
              <a:rPr b="0" lang="ru-RU" sz="2400" spc="-1" strike="noStrike">
                <a:solidFill>
                  <a:srgbClr val="0000cd"/>
                </a:solidFill>
                <a:latin typeface="Times New Roman"/>
              </a:rPr>
              <a:t>сочетания слов, типы этих сочетаний, формы связи между словами в словосочетании и предложении, строение предложений, структурные типы предложе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арактеризуем предложение по цели высказывания (повествовательное,побудительное, вопросительное), по интонации ( восклицательное, невосклицательное), по количеству грамматических основ ( простое, сложное), распространённое и нераспространё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юзы обводим в кружок, над каждым словом подписываем часть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1265760" y="357120"/>
            <a:ext cx="64051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Члены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Таблица 2"/>
          <p:cNvGraphicFramePr/>
          <p:nvPr/>
        </p:nvGraphicFramePr>
        <p:xfrm>
          <a:off x="357120" y="1428840"/>
          <a:ext cx="8499240" cy="5471280"/>
        </p:xfrm>
        <a:graphic>
          <a:graphicData uri="http://schemas.openxmlformats.org/drawingml/2006/table">
            <a:tbl>
              <a:tblPr/>
              <a:tblGrid>
                <a:gridCol w="2857320"/>
                <a:gridCol w="1545840"/>
                <a:gridCol w="1081440"/>
                <a:gridCol w="3013920"/>
              </a:tblGrid>
              <a:tr h="57780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Глав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8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Подлежа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Сказуем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8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то? Что?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(существительное, местоим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то делает?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(глаго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8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альчик, 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ису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80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Второстеп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Опреде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Допо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Обстоятель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уществи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речие, существи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Я читаю </a:t>
                      </a: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интересную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книг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Я встретил </a:t>
                      </a: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друг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ы пошли </a:t>
                      </a: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быстр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Утро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светило солнц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571320" y="1000080"/>
            <a:ext cx="8214840" cy="5299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вонкие      </a:t>
            </a: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Б   В    Г   Д   Ж   З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арные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</a:rPr>
              <a:t>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лухие       </a:t>
            </a: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П   Ф   К   Т   Ш  С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вонкие     </a:t>
            </a: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Л   М   Н  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парные</a:t>
            </a:r>
            <a:r>
              <a:rPr b="1" lang="ru-RU" sz="2400" spc="-1" strike="noStrike">
                <a:solidFill>
                  <a:srgbClr val="cc00cc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лухие       </a:t>
            </a: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Х   Ц   Ч   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егда твердые  </a:t>
            </a: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Ж   Ш   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егда мягкие   </a:t>
            </a: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Й   Ч   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уквы  </a:t>
            </a:r>
            <a:r>
              <a:rPr b="1" lang="ru-RU" sz="2400" spc="-1" strike="noStrike">
                <a:solidFill>
                  <a:srgbClr val="00cc00"/>
                </a:solidFill>
                <a:latin typeface="Georgia"/>
              </a:rPr>
              <a:t>Ь, Ъ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звуков не обозначают, а обознач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ягкость или твердость согласной, после которой о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о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1428840" y="285840"/>
            <a:ext cx="60004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Согласные  бу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AutoShape 2"/>
          <p:cNvCxnSpPr/>
          <p:nvPr/>
        </p:nvCxnSpPr>
        <p:spPr>
          <a:xfrm>
            <a:off x="2500200" y="3143160"/>
            <a:ext cx="928800" cy="28620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47" name="AutoShape 3"/>
          <p:cNvCxnSpPr/>
          <p:nvPr/>
        </p:nvCxnSpPr>
        <p:spPr>
          <a:xfrm>
            <a:off x="2143080" y="1785600"/>
            <a:ext cx="1428840" cy="35784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48" name="AutoShape 4"/>
          <p:cNvCxnSpPr/>
          <p:nvPr/>
        </p:nvCxnSpPr>
        <p:spPr>
          <a:xfrm flipH="1">
            <a:off x="2143080" y="1500120"/>
            <a:ext cx="1357560" cy="28584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49" name="AutoShape 5"/>
          <p:cNvCxnSpPr/>
          <p:nvPr/>
        </p:nvCxnSpPr>
        <p:spPr>
          <a:xfrm flipV="1">
            <a:off x="2500200" y="2857320"/>
            <a:ext cx="1000440" cy="27648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sp>
        <p:nvSpPr>
          <p:cNvPr id="50" name="Прямоугольник 17"/>
          <p:cNvSpPr/>
          <p:nvPr/>
        </p:nvSpPr>
        <p:spPr>
          <a:xfrm>
            <a:off x="698040" y="6000840"/>
            <a:ext cx="1850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Л   М   Н  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2504160" y="6000840"/>
            <a:ext cx="325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Й  -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норные зв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642960" y="1357200"/>
            <a:ext cx="7786440" cy="381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Бегает – бе-га-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Б-  б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΄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ягкий, звонк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-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э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– гласный, удар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г-  г</a:t>
            </a:r>
            <a:r>
              <a:rPr b="1" lang="ru-RU" sz="3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– твёрдый,звонк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а-  а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–гласный,безудар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3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-  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΄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ягкий, звонк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3000" spc="-1" strike="noStrike">
                <a:solidFill>
                  <a:srgbClr val="cc00cc"/>
                </a:solidFill>
                <a:latin typeface="Times New Roman"/>
              </a:rPr>
              <a:t>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э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– гласный, безудар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т-  т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– твёрдый, глух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30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313560" y="285840"/>
            <a:ext cx="85586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Фонетический разбор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авая круглая скобка 4"/>
          <p:cNvSpPr/>
          <p:nvPr/>
        </p:nvSpPr>
        <p:spPr>
          <a:xfrm flipV="1">
            <a:off x="1714680" y="185652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авая круглая скобка 7"/>
          <p:cNvSpPr/>
          <p:nvPr/>
        </p:nvSpPr>
        <p:spPr>
          <a:xfrm flipH="1">
            <a:off x="1285200" y="185724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авая круглая скобка 14"/>
          <p:cNvSpPr/>
          <p:nvPr/>
        </p:nvSpPr>
        <p:spPr>
          <a:xfrm flipH="1">
            <a:off x="1285200" y="228600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авая круглая скобка 15"/>
          <p:cNvSpPr/>
          <p:nvPr/>
        </p:nvSpPr>
        <p:spPr>
          <a:xfrm flipH="1">
            <a:off x="1213560" y="271476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авая круглая скобка 16"/>
          <p:cNvSpPr/>
          <p:nvPr/>
        </p:nvSpPr>
        <p:spPr>
          <a:xfrm flipH="1">
            <a:off x="1285200" y="314316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авая круглая скобка 17"/>
          <p:cNvSpPr/>
          <p:nvPr/>
        </p:nvSpPr>
        <p:spPr>
          <a:xfrm flipH="1">
            <a:off x="1213560" y="392904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авая круглая скобка 18"/>
          <p:cNvSpPr/>
          <p:nvPr/>
        </p:nvSpPr>
        <p:spPr>
          <a:xfrm flipH="1">
            <a:off x="1213560" y="435780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авая круглая скобка 19"/>
          <p:cNvSpPr/>
          <p:nvPr/>
        </p:nvSpPr>
        <p:spPr>
          <a:xfrm flipH="1">
            <a:off x="1213560" y="350028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авая круглая скобка 21"/>
          <p:cNvSpPr/>
          <p:nvPr/>
        </p:nvSpPr>
        <p:spPr>
          <a:xfrm flipV="1">
            <a:off x="1500120" y="271404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авая круглая скобка 22"/>
          <p:cNvSpPr/>
          <p:nvPr/>
        </p:nvSpPr>
        <p:spPr>
          <a:xfrm flipV="1">
            <a:off x="1571760" y="228528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авая круглая скобка 23"/>
          <p:cNvSpPr/>
          <p:nvPr/>
        </p:nvSpPr>
        <p:spPr>
          <a:xfrm flipV="1">
            <a:off x="1500120" y="314244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авая круглая скобка 24"/>
          <p:cNvSpPr/>
          <p:nvPr/>
        </p:nvSpPr>
        <p:spPr>
          <a:xfrm flipV="1">
            <a:off x="1428840" y="392832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авая круглая скобка 25"/>
          <p:cNvSpPr/>
          <p:nvPr/>
        </p:nvSpPr>
        <p:spPr>
          <a:xfrm flipV="1">
            <a:off x="1500120" y="435708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авая круглая скобка 26"/>
          <p:cNvSpPr/>
          <p:nvPr/>
        </p:nvSpPr>
        <p:spPr>
          <a:xfrm flipV="1">
            <a:off x="1643040" y="349956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AutoShape 2"/>
          <p:cNvCxnSpPr/>
          <p:nvPr/>
        </p:nvCxnSpPr>
        <p:spPr>
          <a:xfrm>
            <a:off x="1000080" y="3857400"/>
            <a:ext cx="157320" cy="17028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69" name="AutoShape 3"/>
          <p:cNvCxnSpPr/>
          <p:nvPr/>
        </p:nvCxnSpPr>
        <p:spPr>
          <a:xfrm>
            <a:off x="857160" y="4786200"/>
            <a:ext cx="4715280" cy="180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sp>
        <p:nvSpPr>
          <p:cNvPr id="70" name="Rectangle 8"/>
          <p:cNvSpPr/>
          <p:nvPr/>
        </p:nvSpPr>
        <p:spPr>
          <a:xfrm>
            <a:off x="785880" y="4754880"/>
            <a:ext cx="3571560" cy="54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6 б., 7з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43280" y="285840"/>
            <a:ext cx="825228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Правописание пар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согласных  на конц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928800" y="1928880"/>
            <a:ext cx="7143480" cy="3929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конце слов парные согласные надо писать так же, как они пишутся в однокоренных словах или в другом падеже перед глас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у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зуб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у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лук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р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</a:rPr>
              <a:t></a:t>
            </a:r>
            <a:r>
              <a:rPr b="0" lang="ru-RU" sz="28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мор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е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 бег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1940760" y="357120"/>
            <a:ext cx="53125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Прописная бу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1357200" y="1357200"/>
            <a:ext cx="6214680" cy="507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Помни: пишутся все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С большой буквы горо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Реки, страны и мор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Наши и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И фамилия тво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ород 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сновоборс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трана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Р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ка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К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рское  мо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зеро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П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яс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2355120" y="5143680"/>
            <a:ext cx="47379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ета,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ёша,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ро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371880" y="357120"/>
            <a:ext cx="836640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Правописание безударны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гласных в кор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2143080" y="1785960"/>
            <a:ext cx="4571640" cy="447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езударные гласные в корне проверяются удар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л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а – л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на – в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ё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жать – б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ru-RU" sz="3200" spc="-1" strike="noStrike">
                <a:solidFill>
                  <a:srgbClr val="3333cc"/>
                </a:solidFill>
                <a:latin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но –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ёлый – в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лыш - м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лен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642960" y="1643040"/>
            <a:ext cx="7786440" cy="301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ЖИ – ШИ</a:t>
            </a:r>
            <a:r>
              <a:rPr b="1" lang="ru-RU" sz="3200" spc="-1" strike="noStrike">
                <a:solidFill>
                  <a:srgbClr val="cc00cc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 пиши с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буквой 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ыш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уж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лыж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ш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ЧА – ЩА</a:t>
            </a: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  пиши с буквой 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ач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  туч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свеч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саранч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ЧУ – ЩУ</a:t>
            </a: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  пиши с буквой 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щ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а    ч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лок    ч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еса     ч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овище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2687760" y="500040"/>
            <a:ext cx="307224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eorgia"/>
              </a:rPr>
              <a:t>Запом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714240" y="1714680"/>
            <a:ext cx="7857720" cy="447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Корень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общая часть родственных с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Приставка и суффикс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-   значимые части слов, образуют новые слова.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Окончание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изменяемая  часть слова,  служит для связи слов в предло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рень, приставка и суффикс – это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осно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2036160" y="214200"/>
            <a:ext cx="40262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Состав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  <Words>1354</Words>
  <Paragraphs>36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3:23:38Z</dcterms:created>
  <dc:creator>Admin</dc:creator>
  <dc:description/>
  <dc:language>en-US</dc:language>
  <cp:lastModifiedBy>мама</cp:lastModifiedBy>
  <dcterms:modified xsi:type="dcterms:W3CDTF">2017-10-22T14:04:45Z</dcterms:modified>
  <cp:revision>5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8</vt:r8>
  </property>
</Properties>
</file>