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9A25A-520A-4653-A67A-C43A87E7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FFBC-22EC-4B99-B18F-45C20BBD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E3BB9-838B-4654-92F6-6CAE146B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6DDBD-E0D5-418E-B237-5FE0FDFE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F00F-0879-4C0F-8521-76597553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672F-E56D-4561-98A5-6BC43109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D404-7DBD-4D78-9F35-A2CE7B5D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EF70-45DD-4061-B440-772D4E0D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76AD-C5E5-4786-A1C4-5A5DFE8A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F8D5-0619-4F81-A1D1-B9F456B8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2345-5F94-4D5D-8699-3A3481A0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6E36B-3753-4F6C-B632-9A330D2F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4120-F8E8-4CF1-B360-1001ECE6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9C6C-4B88-4A64-9B75-EAFB78E1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A3CB-BB8A-4715-B50E-D28DFA94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168B-40B4-4E9A-8EDF-39F8E16D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64A7-1B6B-49F0-82E7-408D1B70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1E57D-3434-4291-A4EC-C2254E69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09E27-8249-4D7D-B917-856ABD9C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B09D8-F56E-4024-88CE-7C45DC69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EE6FA-9E08-465D-8E69-73F6952E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85F70-382F-440C-B9C3-BCC63725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BC37A-010A-49B1-BDC1-32479051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57583-5056-4CC0-987D-C07DA179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9E90-F489-4BBC-AEEC-2C44F105B4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2D5F-F286-4AD9-9F84-642022062D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e5ff"/>
                </a:solidFill>
                <a:latin typeface="Times New Roman"/>
              </a:rPr>
              <a:t>Муниципальное бюджетное дошкольное образовательное учреждение «Степноозерский центр развития ребенка –детский сад «Золотая рыбка»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3000" y="1676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енсорные коробки  - один из методов познавательного развития дошкольников с ОВ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Выполнили:  Ерошенко С. 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Аксенова Е.В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472464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e5e5ff"/>
                </a:solidFill>
                <a:latin typeface="Times New Roman"/>
              </a:rPr>
              <a:t>Сенсорная коробка – это ёмкость, наполненная всякого рода тактильным материалом, которая служит для многих тематических игр и является хорошим игровым полем. Это прекрасная своей универсальностью вещь, с которой можно играть, во что угодно и которая одновременно подходит детям разных возрастов</a:t>
            </a:r>
            <a:r>
              <a:rPr b="0" lang="en-US" sz="1800" spc="-1" strike="noStrike">
                <a:solidFill>
                  <a:srgbClr val="e5e5ff"/>
                </a:solidFill>
                <a:latin typeface="Times New Roman"/>
              </a:rPr>
              <a:t>.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e5e5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5e5ff"/>
                </a:solidFill>
                <a:latin typeface="Times New Roman"/>
              </a:rPr>
              <a:t>Сад             </a:t>
            </a:r>
            <a:r>
              <a:rPr b="0" lang="en-US" sz="1800" spc="-1" strike="noStrike">
                <a:solidFill>
                  <a:srgbClr val="e5e5ff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en-US" sz="2000" spc="-1" strike="noStrike">
                <a:solidFill>
                  <a:srgbClr val="e5e5ff"/>
                </a:solidFill>
                <a:latin typeface="Times New Roman"/>
              </a:rPr>
              <a:t>Насекомые</a:t>
            </a:r>
            <a:r>
              <a:rPr b="0" lang="en-US" sz="1800" spc="-1" strike="noStrike">
                <a:solidFill>
                  <a:srgbClr val="e5e5ff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4495680" cy="3825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8320" y="2819520"/>
            <a:ext cx="449568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e5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e5e5ff"/>
                </a:solidFill>
                <a:latin typeface="Times New Roman"/>
              </a:rPr>
              <a:t>Морское дно                                            Лес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343400" cy="4190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402084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e5e5ff"/>
                </a:solidFill>
                <a:latin typeface="Times New Roman"/>
              </a:rPr>
              <a:t>огород                                             в гостях у сказк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343400" cy="4267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40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86856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70520" y="1600200"/>
            <a:ext cx="386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11480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970520" y="1600200"/>
            <a:ext cx="386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680" y="1828800"/>
            <a:ext cx="7162920" cy="18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Спасибо  за  внимание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0T05:46:02Z</dcterms:created>
  <dc:creator>Марина</dc:creator>
  <dc:description/>
  <dc:language>en-US</dc:language>
  <cp:lastModifiedBy>Марина</cp:lastModifiedBy>
  <dcterms:modified xsi:type="dcterms:W3CDTF">2022-12-07T15:50:4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