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375-016C-4725-B5F4-BBB9F652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E46-E98D-4D48-AE08-4352FF7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074-E23C-4457-96CE-E463E167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F42-9D78-4F35-9982-677491D5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EA1-54FF-46C7-BAEB-B8A70AB3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4B0-C5C3-4B5B-9E02-27E3084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727-71AC-4D22-B4D2-70A34246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B00-3A46-4ACF-9AFF-35377D8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B18-69CE-495F-A845-98D12557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AF-4F07-4C1F-9DE9-688B999C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89C-1B44-40F5-9446-17D80F4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9B1-6F29-41A6-A3C2-2F38764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7549-E618-48F2-94F5-CD9524139C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17480" y="2252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УРОК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ВО 2 «Б»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0" y="5241960"/>
            <a:ext cx="9144000" cy="1582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4005360"/>
            <a:ext cx="9144000" cy="15192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        6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        6                     90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Я ВИДА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+ 4 =                          95+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ЗМЫШЛЯ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881080" y="3141720"/>
            <a:ext cx="48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РАСС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Й СЕБЕ Д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C:\Users\1\Desktop\попова\hizhina-raskraska_bykva_x_3.gif"/>
          <p:cNvPicPr/>
          <p:nvPr/>
        </p:nvPicPr>
        <p:blipFill>
          <a:blip r:embed="rId1"/>
          <a:stretch/>
        </p:blipFill>
        <p:spPr>
          <a:xfrm>
            <a:off x="379440" y="1414440"/>
            <a:ext cx="4857840" cy="4143240"/>
          </a:xfrm>
          <a:prstGeom prst="rect">
            <a:avLst/>
          </a:prstGeom>
          <a:ln w="0">
            <a:noFill/>
          </a:ln>
        </p:spPr>
      </p:pic>
      <p:sp>
        <p:nvSpPr>
          <p:cNvPr id="104" name="Овал 6"/>
          <p:cNvSpPr/>
          <p:nvPr/>
        </p:nvSpPr>
        <p:spPr>
          <a:xfrm>
            <a:off x="5643720" y="1928880"/>
            <a:ext cx="714240" cy="62856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5643720" y="2857680"/>
            <a:ext cx="714240" cy="628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5643720" y="3714840"/>
            <a:ext cx="714240" cy="642960"/>
          </a:xfrm>
          <a:prstGeom prst="ellipse">
            <a:avLst/>
          </a:prstGeom>
          <a:solidFill>
            <a:srgbClr val="974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572160" y="20718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643800" y="3000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уга 19"/>
          <p:cNvSpPr/>
          <p:nvPr/>
        </p:nvSpPr>
        <p:spPr>
          <a:xfrm>
            <a:off x="6715080" y="39290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  <a:lnTo>
                  <a:pt x="457200" y="457200"/>
                </a:lnTo>
                <a:lnTo>
                  <a:pt x="457200" y="0"/>
                </a:lnTo>
                <a:close/>
              </a:path>
              <a:path fill="none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</a:path>
            </a:pathLst>
          </a:custGeom>
          <a:noFill/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664704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2209680" y="2847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1280" y="17845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411280" y="48434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448280" y="489420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959200" y="40784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2462040" y="2162160"/>
            <a:ext cx="5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БОТАТЬ СООБЩ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306440" y="285264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СЛУШАТЬ ДРУГ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163440" y="261144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250920" y="126828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БЫТЬ   ВНИМАТЕЛЬНЫ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325880" y="285264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БЫТЬ НАБЛЮДАТЕ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600200"/>
            <a:ext cx="9036000" cy="449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Заменить двузначное число суммой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Десятки сложить с деся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Прочитать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Единицы сложить с единицами, получится дес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77840" y="263844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63440" y="1773360"/>
            <a:ext cx="587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163440" y="3370320"/>
            <a:ext cx="587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77840" y="416880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77840" y="5006880"/>
            <a:ext cx="585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4"/>
          <p:cNvSpPr/>
          <p:nvPr/>
        </p:nvSpPr>
        <p:spPr>
          <a:xfrm>
            <a:off x="306360" y="16286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 РАДОВАТЬ СЕБ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97080" y="29242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МСЯ РАДОВАТЬ ДРУ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4880" y="1628280"/>
            <a:ext cx="8061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ось путешествовать, все было интересно и поня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чень понравилось, не совсем понятен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сем было неинтересно и непоня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"/>
          <p:cNvPicPr/>
          <p:nvPr/>
        </p:nvPicPr>
        <p:blipFill>
          <a:blip r:embed="rId1"/>
          <a:stretch/>
        </p:blipFill>
        <p:spPr>
          <a:xfrm>
            <a:off x="0" y="3213000"/>
            <a:ext cx="1335240" cy="11937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https://i.etsystatic.com/7967479/r/il/ddf94a/681636092/il_1588xN.681636092_10ij.jpg"/>
          <p:cNvPicPr/>
          <p:nvPr/>
        </p:nvPicPr>
        <p:blipFill>
          <a:blip r:embed="rId2"/>
          <a:stretch/>
        </p:blipFill>
        <p:spPr>
          <a:xfrm>
            <a:off x="142920" y="1643040"/>
            <a:ext cx="114300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Picture 24" descr="https://i.pinimg.com/736x/59/7a/e1/597ae19cff1c2fb3a68e9d8d7f772086--shell-art-beach-art.jpg"/>
          <p:cNvPicPr/>
          <p:nvPr/>
        </p:nvPicPr>
        <p:blipFill>
          <a:blip r:embed="rId3"/>
          <a:stretch/>
        </p:blipFill>
        <p:spPr>
          <a:xfrm>
            <a:off x="142920" y="471492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rcRect l="15288" t="29000" r="21600" b="30052"/>
          <a:stretch/>
        </p:blipFill>
        <p:spPr>
          <a:xfrm>
            <a:off x="187200" y="1857240"/>
            <a:ext cx="85438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ЕТКИЙ СТРЕ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Users\гиа\Downloads\9ca4b13ec4bd7e1976acaa16ce92b78b.jpg"/>
          <p:cNvPicPr/>
          <p:nvPr/>
        </p:nvPicPr>
        <p:blipFill>
          <a:blip r:embed="rId1"/>
          <a:stretch/>
        </p:blipFill>
        <p:spPr>
          <a:xfrm>
            <a:off x="1573200" y="1139760"/>
            <a:ext cx="6431040" cy="485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572000" y="3357720"/>
            <a:ext cx="5875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072040" y="2714760"/>
            <a:ext cx="63972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72080" y="2214720"/>
            <a:ext cx="55584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43760" y="1785960"/>
            <a:ext cx="55548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143240" y="4071960"/>
            <a:ext cx="397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86120" y="4500720"/>
            <a:ext cx="397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357720" y="5072040"/>
            <a:ext cx="4950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500280" y="2571840"/>
            <a:ext cx="692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071880" y="2071800"/>
            <a:ext cx="4953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357880" y="4357800"/>
            <a:ext cx="4572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786280" y="4714920"/>
            <a:ext cx="6620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+20        56+30           26+4           71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вычислять выражения на действие сложения для случаев вида 26 + 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навыки устного счё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навыки работы в паре,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8812080" cy="3787560"/>
          </a:xfrm>
          <a:prstGeom prst="rect">
            <a:avLst/>
          </a:prstGeom>
          <a:ln w="0">
            <a:noFill/>
          </a:ln>
        </p:spPr>
      </p:pic>
      <p:sp>
        <p:nvSpPr>
          <p:cNvPr id="69" name="Овал 5"/>
          <p:cNvSpPr/>
          <p:nvPr/>
        </p:nvSpPr>
        <p:spPr>
          <a:xfrm>
            <a:off x="214200" y="4429080"/>
            <a:ext cx="642960" cy="64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3357720" y="3357720"/>
            <a:ext cx="642960" cy="50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3214800" y="5000760"/>
            <a:ext cx="642960" cy="571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7500960" y="3000240"/>
            <a:ext cx="642960" cy="57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9"/>
          <p:cNvSpPr/>
          <p:nvPr/>
        </p:nvSpPr>
        <p:spPr>
          <a:xfrm>
            <a:off x="8072280" y="5072040"/>
            <a:ext cx="635040" cy="55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 rot="19857600">
            <a:off x="1187280" y="3622680"/>
            <a:ext cx="1225800" cy="50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3571920" y="4143240"/>
            <a:ext cx="720720" cy="50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 rot="19469400">
            <a:off x="4818240" y="3738240"/>
            <a:ext cx="1223640" cy="50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7643880" y="4071960"/>
            <a:ext cx="720720" cy="50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ЛУЧАИ СЛОЖЕНИЕ ВИДА  26+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 6     15      5      95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4"/>
          <p:cNvCxnSpPr/>
          <p:nvPr/>
        </p:nvCxnSpPr>
        <p:spPr>
          <a:xfrm flipH="1">
            <a:off x="2268000" y="3284280"/>
            <a:ext cx="50400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Прямая со стрелкой 6"/>
          <p:cNvCxnSpPr/>
          <p:nvPr/>
        </p:nvCxnSpPr>
        <p:spPr>
          <a:xfrm>
            <a:off x="2843280" y="3284280"/>
            <a:ext cx="43416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H="1">
            <a:off x="5729040" y="3285720"/>
            <a:ext cx="50544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6300720" y="3284280"/>
            <a:ext cx="432720" cy="36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11-18T18:45:39Z</dcterms:modified>
  <cp:revision>74</cp:revision>
  <dc:subject/>
  <dc:title>Diapositiva 1</dc:title>
</cp:coreProperties>
</file>