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4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jpeg" ContentType="image/jpeg"/>
  <Override PartName="/ppt/media/image11.jpeg" ContentType="image/jpeg"/>
  <Override PartName="/ppt/media/image1.jpeg" ContentType="image/jpeg"/>
  <Override PartName="/ppt/media/image7.png" ContentType="image/png"/>
  <Override PartName="/ppt/media/image13.jpeg" ContentType="image/jpeg"/>
  <Override PartName="/ppt/media/image9.png" ContentType="image/png"/>
  <Override PartName="/ppt/media/image5.png" ContentType="image/png"/>
  <Override PartName="/ppt/media/image8.jpeg" ContentType="image/jpeg"/>
  <Override PartName="/ppt/media/image10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A0930-1AF0-4F1A-8DBD-E5EB53A8A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C63C4-B066-4A98-878E-EDF3E2863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BEDBB-A6AB-428E-BF6D-5B7E4B2BA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6063C-5EB7-4337-B19E-0656221F9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88472-D19E-4A0E-9EAB-E8299EA71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2F667-FF52-4C8C-A7DE-9C6CB7551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DF595-3A4E-41A9-B10D-1BA574F36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23AEA-3FC0-458E-83B6-DC3F3E3A8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B92F1-944D-4F31-83B9-E181EF31F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C0BDA-0610-409A-B691-850C8A260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97E94-9AEE-4C0B-A769-21A4C51EF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818D2-BB7E-4C4C-8803-019E7E9BB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D8FD2-9202-4FB7-9AA8-17B80DC69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24CBB-D4D0-49DC-AAF6-13AF7CC80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D421A-B070-4863-B6D0-0913AE8A1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F77B3-4541-4EDF-81B0-AF12F7049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E2A73-46B7-470C-9057-351795823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48C85E-BE29-49C0-B57D-1BFED712A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EB8B02-6F57-4768-B9CF-DA12CDDFB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CA77A5-45F3-432B-A031-69339ECE7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6A0CD1-7364-44FB-BE95-F9F6F9F18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82CE3C-A836-4A54-9DBA-CB0802112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D0E43-9CF0-4C6C-B5F3-50955C162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D0B434-68D2-460D-BBCB-25C58CE3D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946FA1-3CDA-4CCF-8C22-04E037A4B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03A147-4D69-4233-A5A1-4107E5D3F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8DBA53-A3B3-45BF-88AE-E159BF051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66451C-5F0F-419D-A82F-C448DEAD7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B1FA33-C28A-4BA1-B48D-8CEE3A720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158272-92DD-4C7A-B8F5-5DB733DFB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EA22BF-AEEC-4FE7-BF84-A5869AC0D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1E9961-E865-4981-819E-886468FD9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761140-CD3E-4D9C-99FA-E0B767E6C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992AF-503E-4989-B58A-4133DC393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2D1878-FEF8-48E9-9A16-AA06867FF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597AD9-FDAC-44EB-A2A7-E0D450E7A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623E15-5574-483C-A692-F692980D1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D405F9-90CC-40AC-B1DE-668AECDAD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3FD9DF-24A9-450E-821B-7312D1916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C5CAE8-75B1-4281-A51D-F5A3D9FC1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E2B610-7070-432D-B0F9-50A04416F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477C4A-B281-481A-BE75-1BC1398FC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1D2B7A-39E8-48E4-B98D-D4DBA4CBE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4FC99-D75D-42EE-8DCC-CBF9F17B2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E6232-C785-436D-9AFA-C211460A8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4AB5A-4A6C-45ED-A097-2FF1A73EA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8EC19-012A-4A9D-84F2-960187FC8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79FB5-C85A-48C4-B00A-C3251AB51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EDDFE-B3D1-482A-9428-4F26C4E180E7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1BEBD-421B-4DF8-8D84-D5D5588C1DE7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86953-CA54-42CA-870D-9DEEDA75ABD7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B7533-9408-4EFB-B1D8-5DDB0277F45A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4617b"/>
                </a:solidFill>
                <a:latin typeface="Calibri"/>
              </a:rPr>
              <a:t>Т</a:t>
            </a:r>
            <a:br>
              <a:rPr sz="4500"/>
            </a:br>
            <a:br>
              <a:rPr sz="4500"/>
            </a:br>
            <a:r>
              <a:rPr b="1" lang="ru-RU" sz="2400" spc="-1" strike="noStrike">
                <a:solidFill>
                  <a:srgbClr val="04617b"/>
                </a:solidFill>
                <a:latin typeface="Calibri"/>
              </a:rPr>
              <a:t>Тема урока</a:t>
            </a:r>
            <a:r>
              <a:rPr b="0" lang="ru-RU" sz="2400" spc="-1" strike="noStrike">
                <a:solidFill>
                  <a:srgbClr val="04617b"/>
                </a:solidFill>
                <a:latin typeface="Calibri"/>
              </a:rPr>
              <a:t>:  Согласные звуки г,г'. Буква Г,г.</a:t>
            </a:r>
            <a:br>
              <a:rPr sz="2400"/>
            </a:br>
            <a:r>
              <a:rPr b="1" lang="ru-RU" sz="2400" spc="-1" strike="noStrike">
                <a:solidFill>
                  <a:srgbClr val="04617b"/>
                </a:solidFill>
                <a:latin typeface="Calibri"/>
              </a:rPr>
              <a:t>Тип урока</a:t>
            </a:r>
            <a:r>
              <a:rPr b="0" lang="ru-RU" sz="2400" spc="-1" strike="noStrike">
                <a:solidFill>
                  <a:srgbClr val="04617b"/>
                </a:solidFill>
                <a:latin typeface="Calibri"/>
              </a:rPr>
              <a:t>: изучение нового материала.</a:t>
            </a:r>
            <a:br>
              <a:rPr sz="4500"/>
            </a:b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59200" indent="-25920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Цели: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Constantia"/>
              </a:rPr>
              <a:t>Образовательные: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Формировать умение находить в словах букву г, знать, какие звуки она обозначает; читать слова с этой буквой.</a:t>
            </a:r>
            <a:r>
              <a:rPr b="0" i="1" lang="ru-RU" sz="2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Совершенствовать навыки  сознательного, правильного, беглого чтения, умения работать с текстом  (отвечать на вопросы по содержанию).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Способствовать </a:t>
            </a:r>
            <a:r>
              <a:rPr b="0" i="1" lang="ru-RU" sz="2200" spc="-1" strike="noStrike">
                <a:solidFill>
                  <a:srgbClr val="000000"/>
                </a:solidFill>
                <a:latin typeface="Constantia"/>
              </a:rPr>
              <a:t>развитию 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фонематического слуха, связной речи, оперативной памяти, произвольного внимания, вербального, наглядно-образного мышления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Constantia"/>
              </a:rPr>
              <a:t>Воспитывать 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уважительное отношение друг к другу, умение слушать ответы учащихся; воспитание сознательного отношения к учёбе и к изучению предмета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Анализ схемы слова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457200" y="1934640"/>
            <a:ext cx="8229600" cy="43894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6" descr="https://avatars.mds.yandex.net/i?id=9d62e8dff222198ed26eae6681dd55d4_l-5179985-images-thumbs&amp;n=13"/>
          <p:cNvPicPr/>
          <p:nvPr/>
        </p:nvPicPr>
        <p:blipFill>
          <a:blip r:embed="rId2"/>
          <a:stretch/>
        </p:blipFill>
        <p:spPr>
          <a:xfrm>
            <a:off x="4429080" y="1785960"/>
            <a:ext cx="3786120" cy="3921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8" descr="https://placepic.ru/wp-content/uploads/2021/07/30-11.jpg"/>
          <p:cNvPicPr/>
          <p:nvPr/>
        </p:nvPicPr>
        <p:blipFill>
          <a:blip r:embed="rId3"/>
          <a:stretch/>
        </p:blipFill>
        <p:spPr>
          <a:xfrm>
            <a:off x="1714680" y="2714760"/>
            <a:ext cx="1643040" cy="71424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14" descr="https://yurachgames.ru/wp-content/uploads/tablica-zvukov-foto.jpg"/>
          <p:cNvPicPr/>
          <p:nvPr/>
        </p:nvPicPr>
        <p:blipFill>
          <a:blip r:embed="rId4"/>
          <a:stretch/>
        </p:blipFill>
        <p:spPr>
          <a:xfrm>
            <a:off x="1214280" y="2500200"/>
            <a:ext cx="571680" cy="8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500"/>
            </a:br>
            <a:r>
              <a:rPr b="1" lang="ru-RU" sz="45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1" lang="ru-RU" sz="4500" spc="-1" strike="noStrike">
                <a:solidFill>
                  <a:srgbClr val="04617b"/>
                </a:solidFill>
                <a:latin typeface="Calibri"/>
              </a:rPr>
              <a:t>Первичное закрепление </a:t>
            </a: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(7-9 мин)</a:t>
            </a:r>
            <a:br>
              <a:rPr sz="4500"/>
            </a:b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Куда поселим букву г на нашей ленте букв?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-Почему?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Упражнения в чтении слов, предложений с буквой г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-Открыли учебники на с. 119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- Попробуем хором прочитать слоги  в азбуке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(Чтение слогов в учебнике хором 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-На какие группы разделим?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(слоги, в которых г-тв., и г -мягкая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-Теперь читаем столбики слов, которые помогут нам хорошо, без ошибок прочитать текст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-Прочитайте слова, в которых все согласные мягкие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-Все согласные твёрдые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-Имена собственные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-Слово, соответствующее схеме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Работа с текстом стр119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Чтение текста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-Прочитаем по "Цепочке"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-Сколько здесь предложений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- Прочитай текст самостоятельно. Придумай вопросы по  его содержанию  и задай их классу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- Составь схему первого предложения и обсуди её  с соседом по парте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-Озаглавьте текст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- Назовите съедобные грибы, в названиях которых есть звуки 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[г'], [г]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Работа по развитию речи.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Стр.118 в "Азбуке "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-Посмотрите на иллюстрацию на странице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-Чем занимаются жители города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-Какое название можно дать этому городу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-Составьте рассказ "Жили-были..."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- Мы использовали слова "гриб, грибочек, грибной".Как можно назвать эти слова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Как можно назвать эти слова?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0000"/>
                </a:solidFill>
                <a:latin typeface="Constantia"/>
              </a:rPr>
              <a:t>Гриб</a:t>
            </a:r>
            <a:r>
              <a:rPr b="1" lang="ru-RU" sz="96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1" lang="ru-RU" sz="9600" spc="-1" strike="noStrike">
                <a:solidFill>
                  <a:srgbClr val="ff0000"/>
                </a:solidFill>
                <a:latin typeface="Constantia"/>
              </a:rPr>
              <a:t>гриб</a:t>
            </a:r>
            <a:r>
              <a:rPr b="1" lang="ru-RU" sz="9600" spc="-1" strike="noStrike">
                <a:solidFill>
                  <a:srgbClr val="000000"/>
                </a:solidFill>
                <a:latin typeface="Constantia"/>
              </a:rPr>
              <a:t>очек, </a:t>
            </a:r>
            <a:r>
              <a:rPr b="1" lang="ru-RU" sz="9600" spc="-1" strike="noStrike">
                <a:solidFill>
                  <a:srgbClr val="ff0000"/>
                </a:solidFill>
                <a:latin typeface="Constantia"/>
              </a:rPr>
              <a:t>гриб</a:t>
            </a:r>
            <a:r>
              <a:rPr b="1" lang="ru-RU" sz="9600" spc="-1" strike="noStrike">
                <a:solidFill>
                  <a:srgbClr val="000000"/>
                </a:solidFill>
                <a:latin typeface="Constantia"/>
              </a:rPr>
              <a:t>ной</a:t>
            </a:r>
            <a:endParaRPr b="0" lang="en-US" sz="9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457200" y="1934640"/>
            <a:ext cx="8229600" cy="438948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2" descr="https://forkidsandmum.ru/pictures/1015618611.jpg"/>
          <p:cNvPicPr/>
          <p:nvPr/>
        </p:nvPicPr>
        <p:blipFill>
          <a:blip r:embed="rId2"/>
          <a:stretch/>
        </p:blipFill>
        <p:spPr>
          <a:xfrm>
            <a:off x="785880" y="428760"/>
            <a:ext cx="8143920" cy="626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1440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4617b"/>
                </a:solidFill>
                <a:latin typeface="Calibri"/>
              </a:rPr>
              <a:t>Самостоятельная работа с самопроверкой</a:t>
            </a:r>
            <a:r>
              <a:rPr b="0" lang="ru-RU" sz="3200" spc="-1" strike="noStrike">
                <a:solidFill>
                  <a:srgbClr val="04617b"/>
                </a:solidFill>
                <a:latin typeface="Calibri"/>
              </a:rPr>
              <a:t>  по эталону в классе </a:t>
            </a:r>
            <a:br>
              <a:rPr sz="3200"/>
            </a:b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(Работа в группах )стр 121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1 группа. 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Найди и подчеркни слова с буквой г в рассказе "Весна"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2 групп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Найди и прочитай предложение, в котором говорится, куда сбегает вода весной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2) Самопроверка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–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однимите руку, у  кого так же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500"/>
            </a:b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Работа в парах </a:t>
            </a:r>
            <a:br>
              <a:rPr sz="4500"/>
            </a:b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Игра "Найди слово в слове"</a:t>
            </a:r>
            <a:br>
              <a:rPr sz="4500"/>
            </a:b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31840" indent="-23184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Constantia"/>
              </a:rPr>
              <a:t>ГРОЗА </a:t>
            </a:r>
            <a:endParaRPr b="0" lang="en-US" sz="9600" spc="-1" strike="noStrike">
              <a:solidFill>
                <a:srgbClr val="000000"/>
              </a:solidFill>
              <a:latin typeface="Constantia"/>
            </a:endParaRPr>
          </a:p>
          <a:p>
            <a:pPr marL="231840" indent="-23184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Constantia"/>
              </a:rPr>
              <a:t>ГАЗЕТА </a:t>
            </a:r>
            <a:r>
              <a:rPr b="1" lang="ru-RU" sz="96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9600" spc="-1" strike="noStrike">
              <a:solidFill>
                <a:srgbClr val="000000"/>
              </a:solidFill>
              <a:latin typeface="Constantia"/>
            </a:endParaRPr>
          </a:p>
          <a:p>
            <a:pPr marL="231840" indent="-23184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Constantia"/>
              </a:rPr>
              <a:t>ГИТАРА</a:t>
            </a:r>
            <a:endParaRPr b="0" lang="en-US" sz="9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4617b"/>
                </a:solidFill>
                <a:latin typeface="Calibri"/>
              </a:rPr>
              <a:t>Включение в систему знаний и повторение</a:t>
            </a: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 (10-12 мин)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1). Самостоятельное чтение по азбуке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1группа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– чтение слов и предложений (с.123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2группа –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чтение текста (с.122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роверка самостоятельного чтения.                                                                          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Чтение вслух загадок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Чтение вслух рассказа "Подарки к празднику"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4617b"/>
                </a:solidFill>
                <a:latin typeface="Calibri"/>
              </a:rPr>
              <a:t>Рефлексия деятельности</a:t>
            </a: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 (2-3 мин)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Наш урок подходит к концу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- С какими звуками и буквами познакомились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-Что узнали о букве г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-За что можете себя похвалить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-Над чем ещё надо поработать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-Достигли ли цели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67120" indent="-26712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nstantia"/>
              </a:rPr>
              <a:t>Формировать УУД: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onstantia"/>
              </a:rPr>
              <a:t>- Личностные: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способность к самооценке на основе критерия успешности учебной деятельности; сохранять мотивацию к учёбе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onstantia"/>
              </a:rPr>
              <a:t>-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Constantia"/>
              </a:rPr>
              <a:t>Регулятивные УУД: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 умение определять и формировать цель на уроке с помощью учителя, проговаривать  последовательность действий на уроке, оценивать правильность выполнения действий, высказывать свои предположения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- </a:t>
            </a:r>
            <a:r>
              <a:rPr b="0" i="1" lang="ru-RU" sz="1800" spc="-1" strike="noStrike">
                <a:solidFill>
                  <a:srgbClr val="000000"/>
                </a:solidFill>
                <a:latin typeface="Constantia"/>
              </a:rPr>
              <a:t>Коммуникативные УУД: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 умение оформлять свои мысли в устной форме, слушать и понимать речь других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- </a:t>
            </a:r>
            <a:r>
              <a:rPr b="0" i="1" lang="ru-RU" sz="1800" spc="-1" strike="noStrike">
                <a:solidFill>
                  <a:srgbClr val="000000"/>
                </a:solidFill>
                <a:latin typeface="Constantia"/>
              </a:rPr>
              <a:t>Познавательные УУД: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умение ориентироваться в своей системе знаний, отличать новое от уже изученного с помощью учителя, добывать новые знания, находить ответы на вопросы, используя свой жизненный опыт и информацию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Дети с помощью слов – подсказок подводят итог урок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-Мне удалось..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-Я могу похвалить..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-Я недостаточно..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-Я старался..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500"/>
            </a:br>
            <a:r>
              <a:rPr b="1" lang="ru-RU" sz="4500" spc="-1" strike="noStrike">
                <a:solidFill>
                  <a:srgbClr val="04617b"/>
                </a:solidFill>
                <a:latin typeface="Calibri"/>
              </a:rPr>
              <a:t>1.Организационный момент. Психологический настрой</a:t>
            </a:r>
            <a:br>
              <a:rPr sz="4500"/>
            </a:b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nstantia"/>
              </a:rPr>
              <a:t>Громко прозвенел звонок –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nstantia"/>
              </a:rPr>
              <a:t>Начинается урок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nstantia"/>
              </a:rPr>
              <a:t>Наши ушки на макушке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nstantia"/>
              </a:rPr>
              <a:t>Глазки широко открыты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nstantia"/>
              </a:rPr>
              <a:t>Слушаем, запоминаем, ни минуты не теряем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500"/>
            </a:br>
            <a:br>
              <a:rPr sz="4500"/>
            </a:br>
            <a:br>
              <a:rPr sz="4500"/>
            </a:br>
            <a:r>
              <a:rPr b="1" lang="ru-RU" sz="4500" spc="-1" strike="noStrike">
                <a:solidFill>
                  <a:srgbClr val="04617b"/>
                </a:solidFill>
                <a:latin typeface="Calibri"/>
              </a:rPr>
              <a:t>2.</a:t>
            </a:r>
            <a:r>
              <a:rPr b="1" lang="ru-RU" sz="4500" spc="-1" strike="noStrike">
                <a:solidFill>
                  <a:srgbClr val="ff0000"/>
                </a:solidFill>
                <a:latin typeface="Calibri"/>
              </a:rPr>
              <a:t>Актуализация знаний и мотивация</a:t>
            </a:r>
            <a:r>
              <a:rPr b="0" lang="ru-RU" sz="4500" spc="-1" strike="noStrike">
                <a:solidFill>
                  <a:srgbClr val="ff0000"/>
                </a:solidFill>
                <a:latin typeface="Calibri"/>
              </a:rPr>
              <a:t>  (4-5 мин)</a:t>
            </a:r>
            <a:br>
              <a:rPr sz="4500"/>
            </a:b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 </a:t>
            </a:r>
            <a:br>
              <a:rPr sz="4500"/>
            </a:b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0000"/>
                </a:solidFill>
                <a:latin typeface="Constantia"/>
              </a:rPr>
              <a:t>А О Я У И Ы Е</a:t>
            </a:r>
            <a:endParaRPr b="0" lang="en-US" sz="9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На какие  группы разделите данные буквы?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Когда буквы обозначают 2 звука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Прочитайте слова, в которых буква я обозначает 2 звука</a:t>
            </a:r>
            <a:br>
              <a:rPr sz="4500"/>
            </a:b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Прочитайте имена собственные;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59200" indent="-259200">
              <a:lnSpc>
                <a:spcPct val="80000"/>
              </a:lnSpc>
              <a:spcBef>
                <a:spcPts val="102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ff0000"/>
                </a:solidFill>
                <a:latin typeface="Constantia"/>
              </a:rPr>
              <a:t>Я</a:t>
            </a:r>
            <a:r>
              <a:rPr b="1" lang="ru-RU" sz="4100" spc="-1" strike="noStrike">
                <a:solidFill>
                  <a:srgbClr val="000000"/>
                </a:solidFill>
                <a:latin typeface="Constantia"/>
              </a:rPr>
              <a:t>ЗЫК             </a:t>
            </a:r>
            <a:r>
              <a:rPr b="1" lang="ru-RU" sz="41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ru-RU" sz="4100" spc="-1" strike="noStrike">
                <a:solidFill>
                  <a:srgbClr val="000000"/>
                </a:solidFill>
                <a:latin typeface="Constantia"/>
              </a:rPr>
              <a:t>              САДОВА</a:t>
            </a:r>
            <a:r>
              <a:rPr b="1" lang="ru-RU" sz="4100" spc="-1" strike="noStrike">
                <a:solidFill>
                  <a:srgbClr val="ff0000"/>
                </a:solidFill>
                <a:latin typeface="Constantia"/>
              </a:rPr>
              <a:t>Я</a:t>
            </a:r>
            <a:endParaRPr b="0" lang="en-US" sz="41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102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ff0000"/>
                </a:solidFill>
                <a:latin typeface="Constantia"/>
              </a:rPr>
              <a:t>Я</a:t>
            </a:r>
            <a:r>
              <a:rPr b="1" lang="ru-RU" sz="4100" spc="-1" strike="noStrike">
                <a:solidFill>
                  <a:srgbClr val="000000"/>
                </a:solidFill>
                <a:latin typeface="Constantia"/>
              </a:rPr>
              <a:t>НА                                  Б</a:t>
            </a:r>
            <a:r>
              <a:rPr b="1" lang="ru-RU" sz="4100" spc="-1" strike="noStrike">
                <a:solidFill>
                  <a:srgbClr val="ff0000"/>
                </a:solidFill>
                <a:latin typeface="Constantia"/>
              </a:rPr>
              <a:t>Е</a:t>
            </a:r>
            <a:r>
              <a:rPr b="1" lang="ru-RU" sz="4100" spc="-1" strike="noStrike">
                <a:solidFill>
                  <a:srgbClr val="000000"/>
                </a:solidFill>
                <a:latin typeface="Constantia"/>
              </a:rPr>
              <a:t>ЛА</a:t>
            </a:r>
            <a:r>
              <a:rPr b="1" lang="ru-RU" sz="4100" spc="-1" strike="noStrike">
                <a:solidFill>
                  <a:srgbClr val="ff0000"/>
                </a:solidFill>
                <a:latin typeface="Constantia"/>
              </a:rPr>
              <a:t>Я</a:t>
            </a:r>
            <a:endParaRPr b="0" lang="en-US" sz="41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102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000000"/>
                </a:solidFill>
                <a:latin typeface="Constantia"/>
              </a:rPr>
              <a:t>ТАН</a:t>
            </a:r>
            <a:r>
              <a:rPr b="1" lang="ru-RU" sz="4100" spc="-1" strike="noStrike">
                <a:solidFill>
                  <a:srgbClr val="ff0000"/>
                </a:solidFill>
                <a:latin typeface="Constantia"/>
              </a:rPr>
              <a:t>Я</a:t>
            </a:r>
            <a:r>
              <a:rPr b="1" lang="ru-RU" sz="4100" spc="-1" strike="noStrike">
                <a:solidFill>
                  <a:srgbClr val="000000"/>
                </a:solidFill>
                <a:latin typeface="Constantia"/>
              </a:rPr>
              <a:t>                                КРАСНА</a:t>
            </a:r>
            <a:r>
              <a:rPr b="1" lang="ru-RU" sz="4100" spc="-1" strike="noStrike">
                <a:solidFill>
                  <a:srgbClr val="ff0000"/>
                </a:solidFill>
                <a:latin typeface="Constantia"/>
              </a:rPr>
              <a:t>Я</a:t>
            </a:r>
            <a:endParaRPr b="0" lang="en-US" sz="41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102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ff0000"/>
                </a:solidFill>
                <a:latin typeface="Constantia"/>
              </a:rPr>
              <a:t>Я</a:t>
            </a:r>
            <a:r>
              <a:rPr b="1" lang="ru-RU" sz="4100" spc="-1" strike="noStrike">
                <a:solidFill>
                  <a:srgbClr val="000000"/>
                </a:solidFill>
                <a:latin typeface="Constantia"/>
              </a:rPr>
              <a:t>КОР</a:t>
            </a:r>
            <a:r>
              <a:rPr b="1" lang="ru-RU" sz="4100" spc="-1" strike="noStrike">
                <a:solidFill>
                  <a:srgbClr val="ff0000"/>
                </a:solidFill>
                <a:latin typeface="Constantia"/>
              </a:rPr>
              <a:t>Я</a:t>
            </a:r>
            <a:r>
              <a:rPr b="1" lang="ru-RU" sz="4100" spc="-1" strike="noStrike">
                <a:solidFill>
                  <a:srgbClr val="000000"/>
                </a:solidFill>
                <a:latin typeface="Constantia"/>
              </a:rPr>
              <a:t>                             З</a:t>
            </a:r>
            <a:r>
              <a:rPr b="1" lang="ru-RU" sz="4100" spc="-1" strike="noStrike">
                <a:solidFill>
                  <a:srgbClr val="ff0000"/>
                </a:solidFill>
                <a:latin typeface="Constantia"/>
              </a:rPr>
              <a:t>Е</a:t>
            </a:r>
            <a:r>
              <a:rPr b="1" lang="ru-RU" sz="4100" spc="-1" strike="noStrike">
                <a:solidFill>
                  <a:srgbClr val="000000"/>
                </a:solidFill>
                <a:latin typeface="Constantia"/>
              </a:rPr>
              <a:t>МЛ</a:t>
            </a:r>
            <a:r>
              <a:rPr b="1" lang="ru-RU" sz="4100" spc="-1" strike="noStrike">
                <a:solidFill>
                  <a:srgbClr val="ff0000"/>
                </a:solidFill>
                <a:latin typeface="Constantia"/>
              </a:rPr>
              <a:t>Я</a:t>
            </a:r>
            <a:r>
              <a:rPr b="1" lang="ru-RU" sz="4100" spc="-1" strike="noStrike">
                <a:solidFill>
                  <a:srgbClr val="000000"/>
                </a:solidFill>
                <a:latin typeface="Constantia"/>
              </a:rPr>
              <a:t>НИКА</a:t>
            </a:r>
            <a:endParaRPr b="0" lang="en-US" sz="41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Прочитайте слова, в которых буква я обозначает мягкость согласного звука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Составьте новые слов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23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300" spc="-1" strike="noStrike">
                <a:solidFill>
                  <a:srgbClr val="000000"/>
                </a:solidFill>
                <a:latin typeface="Constantia"/>
              </a:rPr>
              <a:t>З</a:t>
            </a:r>
            <a:r>
              <a:rPr b="1" lang="ru-RU" sz="9300" spc="-1" strike="noStrike">
                <a:solidFill>
                  <a:srgbClr val="ff0000"/>
                </a:solidFill>
                <a:latin typeface="Constantia"/>
              </a:rPr>
              <a:t>Е</a:t>
            </a:r>
            <a:r>
              <a:rPr b="1" lang="ru-RU" sz="9300" spc="-1" strike="noStrike">
                <a:solidFill>
                  <a:srgbClr val="000000"/>
                </a:solidFill>
                <a:latin typeface="Constantia"/>
              </a:rPr>
              <a:t>МЛ</a:t>
            </a:r>
            <a:r>
              <a:rPr b="1" lang="ru-RU" sz="9300" spc="-1" strike="noStrike">
                <a:solidFill>
                  <a:srgbClr val="ff0000"/>
                </a:solidFill>
                <a:latin typeface="Constantia"/>
              </a:rPr>
              <a:t>Я</a:t>
            </a:r>
            <a:r>
              <a:rPr b="1" lang="ru-RU" sz="9300" spc="-1" strike="noStrike">
                <a:solidFill>
                  <a:srgbClr val="000000"/>
                </a:solidFill>
                <a:latin typeface="Constantia"/>
              </a:rPr>
              <a:t>Н</a:t>
            </a:r>
            <a:r>
              <a:rPr b="1" lang="ru-RU" sz="9300" spc="-1" strike="noStrike">
                <a:solidFill>
                  <a:srgbClr val="ff0000"/>
                </a:solidFill>
                <a:latin typeface="Constantia"/>
              </a:rPr>
              <a:t>И</a:t>
            </a:r>
            <a:r>
              <a:rPr b="1" lang="ru-RU" sz="9300" spc="-1" strike="noStrike">
                <a:solidFill>
                  <a:srgbClr val="000000"/>
                </a:solidFill>
                <a:latin typeface="Constantia"/>
              </a:rPr>
              <a:t>К</a:t>
            </a:r>
            <a:r>
              <a:rPr b="1" lang="ru-RU" sz="9300" spc="-1" strike="noStrike">
                <a:solidFill>
                  <a:srgbClr val="ff0000"/>
                </a:solidFill>
                <a:latin typeface="Constantia"/>
              </a:rPr>
              <a:t>А</a:t>
            </a:r>
            <a:endParaRPr b="0" lang="en-US" sz="93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0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0000"/>
                </a:solidFill>
                <a:latin typeface="Constantia"/>
              </a:rPr>
              <a:t>Где растёт земляника?</a:t>
            </a:r>
            <a:endParaRPr b="0" lang="en-US" sz="4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0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0000"/>
                </a:solidFill>
                <a:latin typeface="Constantia"/>
              </a:rPr>
              <a:t>Продолжим путешествие в лес</a:t>
            </a:r>
            <a:endParaRPr b="0" lang="en-US" sz="4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4617b"/>
                </a:solidFill>
                <a:latin typeface="Calibri"/>
              </a:rPr>
              <a:t>3.Постановка учебной  задачи. Открытие детьми нового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Какую цель поставим на уроке?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- Какая тема нашего урока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9" name="Picture 2" descr="https://avatars.mds.yandex.net/i?id=99acb073bc4ad0507a8633ed10b55d44-5243206-images-thumbs&amp;n=13"/>
          <p:cNvPicPr/>
          <p:nvPr/>
        </p:nvPicPr>
        <p:blipFill>
          <a:blip r:embed="rId1"/>
          <a:stretch/>
        </p:blipFill>
        <p:spPr>
          <a:xfrm>
            <a:off x="571680" y="2714760"/>
            <a:ext cx="8072280" cy="37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4617b"/>
                </a:solidFill>
                <a:latin typeface="Calibri"/>
              </a:rPr>
              <a:t>3.Постановка учебной  задачи. Открытие детьми нового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Стоят на крепкой ножке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Теперь лежат в лукошке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2" name="Picture 2" descr="https://e7.pngegg.com/pngimages/504/324/png-clipart-fungus-mushroom-mycelium-boletus-edulis-%D0%A1%D0%BF%D0%BE%D1%80%D1%8B-%D0%B3%D1%80%D0%B8%D0%B1%D0%BE%D0%B2-mushroom-food-flower.png"/>
          <p:cNvPicPr/>
          <p:nvPr/>
        </p:nvPicPr>
        <p:blipFill>
          <a:blip r:embed="rId1"/>
          <a:stretch/>
        </p:blipFill>
        <p:spPr>
          <a:xfrm>
            <a:off x="4429080" y="2714760"/>
            <a:ext cx="4071960" cy="361944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2" descr="https://avatars.mds.yandex.net/i?id=bda5ef336ef0cb9d367874db8768a593_l-5255188-images-thumbs&amp;n=13"/>
          <p:cNvPicPr/>
          <p:nvPr/>
        </p:nvPicPr>
        <p:blipFill>
          <a:blip r:embed="rId2"/>
          <a:stretch/>
        </p:blipFill>
        <p:spPr>
          <a:xfrm>
            <a:off x="428760" y="3500280"/>
            <a:ext cx="3571920" cy="10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Колько лет дереву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457200" y="1934640"/>
            <a:ext cx="8229600" cy="438948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4" descr="https://fsd.multiurok.ru/html/2018/04/22/s_5adbfea37ef75/img_s887249_0_2.jpg"/>
          <p:cNvPicPr/>
          <p:nvPr/>
        </p:nvPicPr>
        <p:blipFill>
          <a:blip r:embed="rId2"/>
          <a:stretch/>
        </p:blipFill>
        <p:spPr>
          <a:xfrm>
            <a:off x="500040" y="1500120"/>
            <a:ext cx="82152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12-07T12:39:17Z</dcterms:created>
  <dc:creator>Татьяна</dc:creator>
  <dc:description/>
  <dc:language>en-US</dc:language>
  <cp:lastModifiedBy>Татьяна</cp:lastModifiedBy>
  <dcterms:modified xsi:type="dcterms:W3CDTF">2022-12-07T16:08:56Z</dcterms:modified>
  <cp:revision>6</cp:revision>
  <dc:subject/>
  <dc:title>Т  Тема урока:  Согласные звуки г,г'. Буква Г,г. Тип урока: изучение нового материала.</dc:title>
</cp:coreProperties>
</file>