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8E6-CB6A-48B1-900C-099B0D2E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81-30B6-4344-8C51-3D04C9D8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70E-6E85-4A94-A48E-1187A917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548-8C55-4DB9-ADE3-C556C113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E0A3-0BCA-4105-8EC4-58B9B2CB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D338-AE4A-49C0-82E2-ECCD2CC4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0559-8C9A-46AC-9073-4D9509E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EA02-8DBA-4AEE-A266-A10AEE67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BD0-10D5-4716-AD7A-EC9169F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49E-41A2-49F2-8A93-CF95A4F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4847-AEDE-41B6-8D8C-DB3F4AB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7C7-83DF-4712-8FE2-5F5BFAC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8E2E-0F46-454F-A1B7-DDC1D4C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56AB-A359-48A7-8C6D-C7A3B0E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2FD-DAD8-4599-80A0-E03797DF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2021-48E9-47E9-B4B6-B47E355D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948-56A4-4EF8-90E4-B3ED3478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4FC0-2071-4CD9-8CD6-8FE38C70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89E-82E3-48A3-A2F3-C6C3C24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B2F2-76D6-4DF7-8EFD-092E648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43BE-987E-44F3-8F8B-51C66DB4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3510-87B4-4E38-AB25-A028C860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A84-C24A-498D-9405-C652A325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437F-2773-4F4F-A4ED-77BB68D0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DDE0-5496-4C15-AAA7-89F61C2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E4F6-E8D7-4E16-AA50-8A0D651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376A-2C46-4EF5-984B-03727C4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762B-7662-4D35-9680-3283969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74B6-AE68-44DF-8C58-C7939237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A6B2-9885-464B-ABD9-33C2D912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A5A8-2E1F-437A-88A2-FB6B3BA0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4581-3C18-4F2D-9900-E6D9349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2531-9A47-4158-8B22-74DD716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999-1F53-497E-9C6F-59F591A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402C-C38A-483A-BB12-5FB6365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6EFD-9B3B-411C-9D03-654BFD2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6DB4-149C-4663-AD07-DEAC38E2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68EF-B849-4149-9B14-29CB875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5558-C71F-48AE-B182-81D9332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F58A-5617-410A-B8D5-AB2E3EE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57D7-44A9-4835-A16A-55B43BB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5545-8DE2-4688-8535-8E56CEB0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6E1D-D9CD-4514-8FC3-BC3F3B60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C3A-E7F4-4850-A20B-7B8BBF57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A9C-152E-4280-910D-91D9ECD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44A-0933-4EDB-8DC2-00B4831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705-A7FA-4434-A333-D2F5588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62F-C505-4C36-8FBA-CC01193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3C7-74A6-4CFB-97D6-C54FCC990D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4F2-0BED-4549-8A94-C62BD4FC96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5212-102D-4ACB-AFB0-87FE855BAE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BDAD-1B99-4CE1-AD60-FD1BA1B3D0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</a:t>
            </a:r>
            <a:br>
              <a:rPr sz="4500"/>
            </a:br>
            <a:br>
              <a:rPr sz="45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  Согласные звуки г,г'. Буква Г,г.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ип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 изучение нового материала.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рмировать умение находить в словах букву г, знать, какие звуки она обозначает; читать слова с этой буквой.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вершенствовать навыки  сознательного, правильного, беглого чтения, умения работать с текстом  (отвечать на вопросы по содержанию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пособствовать 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развитию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нематического слуха, связной речи, оперативной памяти, произвольного внимания, вербального, наглядно-образного мышл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спитывать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важительное отношение друг к другу, умение слушать ответы учащихся; воспитание сознательного отношения к учёбе и к изучению предме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ализ схемы слов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s://avatars.mds.yandex.net/i?id=9d62e8dff222198ed26eae6681dd55d4_l-5179985-images-thumbs&amp;n=13"/>
          <p:cNvPicPr/>
          <p:nvPr/>
        </p:nvPicPr>
        <p:blipFill>
          <a:blip r:embed="rId2"/>
          <a:stretch/>
        </p:blipFill>
        <p:spPr>
          <a:xfrm>
            <a:off x="4429080" y="1785960"/>
            <a:ext cx="3786120" cy="392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placepic.ru/wp-content/uploads/2021/07/30-11.jpg"/>
          <p:cNvPicPr/>
          <p:nvPr/>
        </p:nvPicPr>
        <p:blipFill>
          <a:blip r:embed="rId3"/>
          <a:stretch/>
        </p:blipFill>
        <p:spPr>
          <a:xfrm>
            <a:off x="1714680" y="2714760"/>
            <a:ext cx="1643040" cy="71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s://yurachgames.ru/wp-content/uploads/tablica-zvukov-foto.jpg"/>
          <p:cNvPicPr/>
          <p:nvPr/>
        </p:nvPicPr>
        <p:blipFill>
          <a:blip r:embed="rId4"/>
          <a:stretch/>
        </p:blipFill>
        <p:spPr>
          <a:xfrm>
            <a:off x="1214280" y="2500200"/>
            <a:ext cx="5716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ервичное закрепление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7-9 мин)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да поселим букву г на нашей ленте бук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очему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пражнения в чтении слов, предложений с буквой 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Открыли учебники на с. 119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опробуем хором прочитать слоги  в азбу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Чтение слогов в учебнике хором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На какие группы раздели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логи, в которых г-тв., и г -мягка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Теперь читаем столбики слов, которые помогут нам хорошо, без ошибок прочитать текс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рочитайте слова, в которых все согласные мягк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Все согласные твёрд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Имена собственн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Слово, соответствующее сх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с текстом стр1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ение текс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рочитаем по "Цепочке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колько здесь предложени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очитай текст самостоятельно. Придумай вопросы по  его содержанию  и задай их клас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оставь схему первого предложения и обсуди её  с соседом по пар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Озаглавь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зовите съедобные грибы, в названиях которых есть звук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[г'], [г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по развитию реч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18 в "Азбуке 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осмотрите на иллюстрацию на страниц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Чем занимаются жители 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Какое название можно дать этому город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оставьте рассказ "Жили-были...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Мы использовали слова "гриб, грибочек, грибной".Как можно назвать эт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можно назвать эти слов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очек, </a:t>
            </a: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ной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s://forkidsandmum.ru/pictures/1015618611.jpg"/>
          <p:cNvPicPr/>
          <p:nvPr/>
        </p:nvPicPr>
        <p:blipFill>
          <a:blip r:embed="rId2"/>
          <a:stretch/>
        </p:blipFill>
        <p:spPr>
          <a:xfrm>
            <a:off x="785880" y="428760"/>
            <a:ext cx="81439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мостоятельная работа с самопроверкой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 по эталону в классе </a:t>
            </a:r>
            <a:br>
              <a:rPr sz="32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Работа в группах )стр 12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 группа.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 и подчеркни слова с буквой г в рассказе "Весна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 и прочитай предложение, в котором говорится, куда сбегает вода весн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Самопровер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нимите руку, у  кого так ж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бота в парах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гра "Найди слово в слове"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РОЗА 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АЗЕТА 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ключение в систему знаний и повторение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(10-12 ми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. Самостоятельное чтение по азбу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групп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чтение слов и предложений (с.12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группа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текста (с.1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рка самостоятельного чтения.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ение вслух загад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ение вслух рассказа "Подарки к празднику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флексия деятельности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(2-3 ми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урок подходит к конц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 какими звуками и буквами познакомили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Что узнали о букве г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За что можете себя похвали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ад чем ещё надо поработ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остигли ли цел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Формировать УУ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- Личностные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ность к самооценке на основе критерия успешности учебной деятельности; сохранять мотивацию к учё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егуля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умение определять и формировать цель на уроке с помощью учителя, проговаривать  последовательность действий на уроке, оценивать правильность выполнения действий, высказывать свои предполож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Коммуника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умение оформлять свои мысли в устной форме, слушать и понимать речь друг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Познаватель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мение ориентироваться в своей системе знаний, отличать новое от уже изученного с помощью учителя, добывать новые знания, находить ответы на вопросы, используя свой жизненный опыт и информац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с помощью слов – подсказок подводят итог уро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не удалось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могу похвалить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недостаточно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старался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1.Организационный момент. Психологический настрой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Громко прозвенел звонок –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чинается ур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ши ушки на макушк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Глазки широко открыт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лушаем, запоминаем, ни минуты не теряе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Актуализация знаний и мотивация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  (4-5 мин)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А О Я У И Ы Е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какие  группы разделите данные буквы?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гда буквы обозначают 2 зву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читайте слова, в которых буква я обозначает 2 звука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читайте имена собственные;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ЗЫК             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САДОВ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НА                                  Б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Л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ТАН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                  КРАСН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КОР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               З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МЛ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НИКА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читайте слова, в которых буква я обозначает мягкость согласного звук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ьте новые с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МЛ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9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nstantia"/>
              </a:rPr>
              <a:t>Где растёт земляника?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nstantia"/>
              </a:rPr>
              <a:t>Продолжим путешествие в лес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3.Постановка учебной  задачи. Открытие детьми новог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ую цель поставим на уроке?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Какая тема нашего уро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s://avatars.mds.yandex.net/i?id=99acb073bc4ad0507a8633ed10b55d44-5243206-images-thumbs&amp;n=13"/>
          <p:cNvPicPr/>
          <p:nvPr/>
        </p:nvPicPr>
        <p:blipFill>
          <a:blip r:embed="rId1"/>
          <a:stretch/>
        </p:blipFill>
        <p:spPr>
          <a:xfrm>
            <a:off x="571680" y="2714760"/>
            <a:ext cx="8072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3.Постановка учебной  задачи. Открытие детьми новог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оят на крепкой нож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перь лежат в лукош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s://e7.pngegg.com/pngimages/504/324/png-clipart-fungus-mushroom-mycelium-boletus-edulis-%D0%A1%D0%BF%D0%BE%D1%80%D1%8B-%D0%B3%D1%80%D0%B8%D0%B1%D0%BE%D0%B2-mushroom-food-flower.png"/>
          <p:cNvPicPr/>
          <p:nvPr/>
        </p:nvPicPr>
        <p:blipFill>
          <a:blip r:embed="rId1"/>
          <a:stretch/>
        </p:blipFill>
        <p:spPr>
          <a:xfrm>
            <a:off x="4429080" y="2714760"/>
            <a:ext cx="4071960" cy="361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s://avatars.mds.yandex.net/i?id=bda5ef336ef0cb9d367874db8768a593_l-5255188-images-thumbs&amp;n=13"/>
          <p:cNvPicPr/>
          <p:nvPr/>
        </p:nvPicPr>
        <p:blipFill>
          <a:blip r:embed="rId2"/>
          <a:stretch/>
        </p:blipFill>
        <p:spPr>
          <a:xfrm>
            <a:off x="428760" y="3500280"/>
            <a:ext cx="3571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лько лет дере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s://fsd.multiurok.ru/html/2018/04/22/s_5adbfea37ef75/img_s887249_0_2.jpg"/>
          <p:cNvPicPr/>
          <p:nvPr/>
        </p:nvPicPr>
        <p:blipFill>
          <a:blip r:embed="rId2"/>
          <a:stretch/>
        </p:blipFill>
        <p:spPr>
          <a:xfrm>
            <a:off x="500040" y="15001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7T12:39:17Z</dcterms:created>
  <dc:creator>Татьяна</dc:creator>
  <dc:description/>
  <dc:language>en-US</dc:language>
  <cp:lastModifiedBy>Татьяна</cp:lastModifiedBy>
  <dcterms:modified xsi:type="dcterms:W3CDTF">2022-12-07T16:08:56Z</dcterms:modified>
  <cp:revision>6</cp:revision>
  <dc:subject/>
  <dc:title>Т  Тема урока:  Согласные звуки г,г'. Буква Г,г. Тип урока: изучение нового материала.</dc:title>
</cp:coreProperties>
</file>