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40E-7297-4D03-B5C2-E806B1F045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274-B61D-410E-9402-0BA4E19B30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9CC-8D75-423C-8477-324D1DB6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267-5271-42B0-8B9F-23BA8BB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B00-BC89-4694-8F2F-5EE22D8A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27F-B067-480F-83A8-2D880240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59E-0F7D-41A7-A2BA-6E01569B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4D0-F17C-4090-BD61-803CAB30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4F2D-DE69-4A81-8507-B4A7FB85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EA36-2811-471F-8B1B-518750AA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61D4-C818-45D8-B353-BF77A86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8EB8-8D20-44F8-968C-68AAA5F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6E4-0CA5-44BA-B820-9F1862C6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50C-6D66-4DDB-8492-991E5D7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7C2-1DC9-4A7B-9994-96670FD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324E-B943-4670-BCDF-ACF180B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9D4E-76B4-44B2-A768-7597CFC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A56-6474-4C09-BBC5-6E502D0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EAC0-27E4-46C5-B353-F448A08A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88F-C763-4789-85FE-8F26299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14C-95EA-4EE3-9E14-1754F5E0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264-3350-4E8E-99CF-7166AA0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5F2-29CF-4304-A0C0-710543A7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FE7-0E55-47E6-9FF4-0ACABD1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26E-D03C-4A38-BC30-6019621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605-7051-4471-BB1B-07A4D9F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1F9B-7CA2-4C82-BC16-F926F561A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5FE-4DB3-45FD-86F1-BFB4DBEFC3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Творческое занятие с детьми 5-6 лет с применением техники «Монотипия»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63640" y="4581000"/>
            <a:ext cx="50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опыта работы Пастор Н. 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а-психолога ГБДОУ №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Монотипия и другие приемы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IMG_0738"/>
          <p:cNvPicPr/>
          <p:nvPr/>
        </p:nvPicPr>
        <p:blipFill>
          <a:blip r:embed="rId1"/>
          <a:stretch/>
        </p:blipFill>
        <p:spPr>
          <a:xfrm>
            <a:off x="826920" y="1700280"/>
            <a:ext cx="2978280" cy="439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IMG_0744"/>
          <p:cNvPicPr/>
          <p:nvPr/>
        </p:nvPicPr>
        <p:blipFill>
          <a:blip r:embed="rId2"/>
          <a:stretch/>
        </p:blipFill>
        <p:spPr>
          <a:xfrm>
            <a:off x="4859280" y="1700280"/>
            <a:ext cx="30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4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аботы художников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1000" y="820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IMG_0741"/>
          <p:cNvPicPr/>
          <p:nvPr/>
        </p:nvPicPr>
        <p:blipFill>
          <a:blip r:embed="rId1"/>
          <a:stretch/>
        </p:blipFill>
        <p:spPr>
          <a:xfrm>
            <a:off x="3213000" y="8175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229003201"/>
          <p:cNvPicPr/>
          <p:nvPr/>
        </p:nvPicPr>
        <p:blipFill>
          <a:blip r:embed="rId2"/>
          <a:stretch/>
        </p:blipFill>
        <p:spPr>
          <a:xfrm>
            <a:off x="468360" y="816120"/>
            <a:ext cx="2286000" cy="2809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1229003223"/>
          <p:cNvPicPr/>
          <p:nvPr/>
        </p:nvPicPr>
        <p:blipFill>
          <a:blip r:embed="rId3"/>
          <a:stretch/>
        </p:blipFill>
        <p:spPr>
          <a:xfrm>
            <a:off x="900000" y="4272120"/>
            <a:ext cx="3565800" cy="2311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235237021"/>
          <p:cNvPicPr/>
          <p:nvPr/>
        </p:nvPicPr>
        <p:blipFill>
          <a:blip r:embed="rId4"/>
          <a:stretch/>
        </p:blipFill>
        <p:spPr>
          <a:xfrm>
            <a:off x="5364000" y="4292640"/>
            <a:ext cx="2482920" cy="2270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1232557096"/>
          <p:cNvPicPr/>
          <p:nvPr/>
        </p:nvPicPr>
        <p:blipFill>
          <a:blip r:embed="rId5"/>
          <a:stretch/>
        </p:blipFill>
        <p:spPr>
          <a:xfrm>
            <a:off x="5716440" y="817560"/>
            <a:ext cx="28879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Обобщая,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ика монотипия способствует развитию мелкой моторики руки, развитию воображения, творческого мышления и фантазии. Данная технология развивает свободу и спонтанность взаимодействия с художественными материалами. А также у детей развивается устойчивая мотивация к художественным изобразительным занятиям. Возможно, кто-то из них вскоре сам изобретет новую технологию. Ведь нет границ творческой фантазии и полету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Специфика группового занятия в ДОУ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Я решила попробовать адаптировать эту технику для группового занятия в подготовительной группе ДОУ, где есть определённая специфика. Это и возрастные особенности детей, и разный уровень умения в изобразительной деятельности, развитости работы кистей; особенности взаимоотношений в каждой группе,  особенности режима дня и требования к продолжительности занятий. Попробовала всё это примирить и при этом подумать о творческой арт-терапевтической составляющей – чтобы ожидание по качеству произведения от педагога к детям было минимальным, не было бы привязки к правилам изображения образов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Цель и задачи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ить детей с новой нетрадиционной техникой рис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ить возможности для самовыражения и поддержать в э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творческих способностей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наблюдательности и вооб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внимания и образного мыш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закреплению навыков доброжелательного и уважительного общения в груп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адекватной само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ить правила аккуратной работы с гуаш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Необходимые материалы</a:t>
            </a:r>
            <a:br>
              <a:rPr sz="3800"/>
            </a:b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ашевые краски – не густые, тягучие. Либо заранее разбавленные в палитрах или мелких ёмкост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га формата А4 – по количеству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га размера примерно 10х10см – по 3 листка для каждого участ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льное сопровождение – по жел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обия для проведения задуманных иг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ые каранд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в устойчивых ёмкост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жные салф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е удобно проводить за одним большим столом. Комфортной будет работа в группе до 12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742788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етствие. При необходимости – игра на знаком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про кляксу «Хитрая клякса» автора Ивиса Ревю (см. последние слай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е предваряющее пояснение «Мы сегодня попробуем делать кляксы специально – посмотрим, можно ли их во что-то преврати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ыбор цвета краски («у кого какой цвет любимый»), распределение по группам за сто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к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765000"/>
            <a:ext cx="74282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я – обязательно с демонстрацией: «Наберите на кисть воды. Потом много краски. Проверьте на большом листе: краска должна легко стекать с кисти, на листе должна оставаться лужица краски. Затем накройте эту лужицу маленьким листком, прижмите. Можно немного повернуть листок или сдвинуть в какую-то сторону – так наше пятно может получиться интересне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ем таким же способом сделайте ещё 2 пятна. Использованные маленькие листки убирайте к середине стола. Когда всё будет готово – рассмотрите ваши пятна со всех сторон, неспеша поворачивая лист. Подумайте – на что они похожи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красками. Далее ждём когда все завершат этот этап работы и даём детям ещё пару минут на разглядывание пятен – можно для большего погружения включить 1 музыкальную компози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7427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на объединение (чтобы подождать когда гуашь на бумаге подсохнет) У нас – волшебный камушек собирал по кругу пожелания для всех друзей на предстоящи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рисовка образов. «Сейчас я раздам карандаши – добавьте к вашим пятнам то, что сделает ваши картинки видными для всех. Скажите, пожалуйста, мне, если нужна помощь» Можно вновь включить 1-3 музыкальные композиции, обозначив для детей, что мы работаем, пока играет му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зентация работ. Все желающие по очереди описывают, что они увидели в пятнах. Похвала и благодарности детя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Ирис Рев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а-была Клякса. Она часто пробиралась в альбомы и тетрадки ребят просто затем, чтобы на нее обратили внимание. Дети злились на Кляксу, но ей до их недовольства не было никакого дела. Она-то считала себя просто красавицей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спросите, где Клякса родилась? Кто-то говорил, что в чернильнице, кто-то — в красках. Долгое время она никак не проявляла себя, и об её существовании никто не зна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от однажды Коля Кляксин решил нарисовать домик. Он нашёл подходящую кисточку, намочил её в воде, а потом окунул в краску. Краски было с избытком. Во что это вылилось? В кляксу. А дело было так. С кисточки стекла капля и плюхнулась на альбомный лис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93116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Что такое монотипия?</a:t>
            </a:r>
            <a:br>
              <a:rPr sz="3800"/>
            </a:b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живописи очень много техник: мозаика, по-сырому (на мокрой бумаге), лессировка (плавный переход цвета), монотипия и друг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– это оттиск со стекла, на которое нанесены краски. «Моно» - один, «типия» - отпеча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произошла от гравю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ую технику можно использовать в изображении животных, портретов, натюрмортов, в иллюстрации к сказк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дали? – спросила Клякса у Ко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Нет, — искренне ответил мальч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видно, что он расстроился. Что делать? Оставалось только взять новый лист и начать рисовать снова. Но, увидев действия мальчика, Клякса сказа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Не торопись. Взять новый лист ты всегда успеешь. Давай превратим меня во что-то полез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Во что можно тебя превратить? – удивился Коля Клякси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А ты подумай. Если человек захочет, то он может многое осуществ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я почесал в затылке. Он решил превратить Кляксу в маленькое озеро. А на берегу озера будет стоять давно задуманный мальчиком дом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я взял голубую краску и превратил бесформенную кляксу в маленькое прекрасное озерцо, рядом с которым летали бабочки, стрекозы. Недалеко цвели цветочк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м Коля нарисовал домик. Аккуратным, красивым он получился. На крыльце дома стояла девочка и любовалась водной гладью озе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й получился рисунок. Давно Коле хотелось нарисовать нечто подобное. Именно такой Коля представлял и планету Земля – доброй, радостной, со множеством светлых домик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редь, когда Коля пользовался красками и кисточкой, он делал это аккуратно. Но иногда Коле Кляксину, а ведь на то он и Кляксин, хотелось пошалить. И тогда он начинал свой рисунок с Кляксы. А потом совершал разные превращения. Клякса становилась тучкой, облаком, медвежонком…Так интересно совершать превращени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когда Коля делал перерыв в рисовании, например, читал книги или играл в мяч, Клякса, чтобы не заскучать, пробиралась в альбомы и тетрадки других реб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учать она не любил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имеры работы с пятнами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95" name="Объект 5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3671640" cy="276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6464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3719520" cy="24494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671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Необходимые материалы</a:t>
            </a:r>
            <a:br>
              <a:rPr sz="3800"/>
            </a:b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для выполнения рисунка в технике 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ашевые краски, толстое стекло с закругленными краями (для безопасности), можно также использовать лист пластика или бумаги, кисти, в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IMG_0708"/>
          <p:cNvPicPr/>
          <p:nvPr/>
        </p:nvPicPr>
        <p:blipFill>
          <a:blip r:embed="rId1"/>
          <a:stretch/>
        </p:blipFill>
        <p:spPr>
          <a:xfrm>
            <a:off x="2627280" y="3789360"/>
            <a:ext cx="3683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работы в технике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4278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Исполнить живописное изображение на стекле, пластике или бумаге гуаш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Увлажнить бума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IMG_0706"/>
          <p:cNvPicPr/>
          <p:nvPr/>
        </p:nvPicPr>
        <p:blipFill>
          <a:blip r:embed="rId1"/>
          <a:stretch/>
        </p:blipFill>
        <p:spPr>
          <a:xfrm>
            <a:off x="125892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G_0707"/>
          <p:cNvPicPr/>
          <p:nvPr/>
        </p:nvPicPr>
        <p:blipFill>
          <a:blip r:embed="rId2"/>
          <a:stretch/>
        </p:blipFill>
        <p:spPr>
          <a:xfrm>
            <a:off x="4788000" y="3284640"/>
            <a:ext cx="25318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92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работы в технике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Наложить сверху влажный лист бумаги и прогладить ладонью или комком тряпки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IMG_0712"/>
          <p:cNvPicPr/>
          <p:nvPr/>
        </p:nvPicPr>
        <p:blipFill>
          <a:blip r:embed="rId1"/>
          <a:stretch/>
        </p:blipFill>
        <p:spPr>
          <a:xfrm>
            <a:off x="971640" y="350028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MG_0713"/>
          <p:cNvPicPr/>
          <p:nvPr/>
        </p:nvPicPr>
        <p:blipFill>
          <a:blip r:embed="rId2"/>
          <a:stretch/>
        </p:blipFill>
        <p:spPr>
          <a:xfrm>
            <a:off x="4788000" y="3500280"/>
            <a:ext cx="338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Разновидности монотипии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еркальная монотипия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IMG_0745"/>
          <p:cNvPicPr/>
          <p:nvPr/>
        </p:nvPicPr>
        <p:blipFill>
          <a:blip r:embed="rId1"/>
          <a:stretch/>
        </p:blipFill>
        <p:spPr>
          <a:xfrm>
            <a:off x="5508720" y="2205000"/>
            <a:ext cx="2908080" cy="388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0754"/>
          <p:cNvPicPr/>
          <p:nvPr/>
        </p:nvPicPr>
        <p:blipFill>
          <a:blip r:embed="rId2"/>
          <a:stretch/>
        </p:blipFill>
        <p:spPr>
          <a:xfrm>
            <a:off x="755640" y="3141720"/>
            <a:ext cx="38052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Фактурная монотипия (эстамп)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45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отовить аппликацию на картоне из крупных четких силуэтов и покрасить черной гуашью. Наложить сверху влажный лист бумаги и плотно прижать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IMG_0746"/>
          <p:cNvPicPr/>
          <p:nvPr/>
        </p:nvPicPr>
        <p:blipFill>
          <a:blip r:embed="rId1"/>
          <a:stretch/>
        </p:blipFill>
        <p:spPr>
          <a:xfrm>
            <a:off x="1042920" y="2852640"/>
            <a:ext cx="2619360" cy="3409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MG_0756"/>
          <p:cNvPicPr/>
          <p:nvPr/>
        </p:nvPicPr>
        <p:blipFill>
          <a:blip r:embed="rId2"/>
          <a:stretch/>
        </p:blipFill>
        <p:spPr>
          <a:xfrm>
            <a:off x="4211640" y="3284640"/>
            <a:ext cx="3889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онотипия ручная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Эстамп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IMG_0742"/>
          <p:cNvPicPr/>
          <p:nvPr/>
        </p:nvPicPr>
        <p:blipFill>
          <a:blip r:embed="rId1"/>
          <a:stretch/>
        </p:blipFill>
        <p:spPr>
          <a:xfrm>
            <a:off x="755640" y="1484280"/>
            <a:ext cx="4222800" cy="305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752"/>
          <p:cNvPicPr/>
          <p:nvPr/>
        </p:nvPicPr>
        <p:blipFill>
          <a:blip r:embed="rId2"/>
          <a:stretch/>
        </p:blipFill>
        <p:spPr>
          <a:xfrm>
            <a:off x="5724360" y="981000"/>
            <a:ext cx="2808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имеры готовых работ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5" name="Picture 5" descr="Назимова Женя 10л."/>
          <p:cNvPicPr/>
          <p:nvPr/>
        </p:nvPicPr>
        <p:blipFill>
          <a:blip r:embed="rId1"/>
          <a:stretch/>
        </p:blipFill>
        <p:spPr>
          <a:xfrm>
            <a:off x="826920" y="148428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Миронова Лена 12л."/>
          <p:cNvPicPr/>
          <p:nvPr/>
        </p:nvPicPr>
        <p:blipFill>
          <a:blip r:embed="rId2"/>
          <a:stretch/>
        </p:blipFill>
        <p:spPr>
          <a:xfrm flipH="1">
            <a:off x="6372360" y="1483560"/>
            <a:ext cx="1906560" cy="13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Цветкова Оля 10л."/>
          <p:cNvPicPr/>
          <p:nvPr/>
        </p:nvPicPr>
        <p:blipFill>
          <a:blip r:embed="rId3"/>
          <a:stretch/>
        </p:blipFill>
        <p:spPr>
          <a:xfrm>
            <a:off x="5219640" y="51577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Корчагина Оля 14л."/>
          <p:cNvPicPr/>
          <p:nvPr/>
        </p:nvPicPr>
        <p:blipFill>
          <a:blip r:embed="rId4"/>
          <a:stretch/>
        </p:blipFill>
        <p:spPr>
          <a:xfrm>
            <a:off x="6227640" y="3284640"/>
            <a:ext cx="1908360" cy="160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Миронова Лена 12л."/>
          <p:cNvPicPr/>
          <p:nvPr/>
        </p:nvPicPr>
        <p:blipFill>
          <a:blip r:embed="rId5"/>
          <a:stretch/>
        </p:blipFill>
        <p:spPr>
          <a:xfrm>
            <a:off x="1042920" y="3357720"/>
            <a:ext cx="1889280" cy="160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Красненкова Аня 13л."/>
          <p:cNvPicPr/>
          <p:nvPr/>
        </p:nvPicPr>
        <p:blipFill>
          <a:blip r:embed="rId6"/>
          <a:stretch/>
        </p:blipFill>
        <p:spPr>
          <a:xfrm>
            <a:off x="3564000" y="1484280"/>
            <a:ext cx="1979640" cy="1416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Кулиев Тимур 7л."/>
          <p:cNvPicPr/>
          <p:nvPr/>
        </p:nvPicPr>
        <p:blipFill>
          <a:blip r:embed="rId7"/>
          <a:stretch/>
        </p:blipFill>
        <p:spPr>
          <a:xfrm>
            <a:off x="2556000" y="5157720"/>
            <a:ext cx="1904760" cy="145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Давтян Ануш 9л."/>
          <p:cNvPicPr/>
          <p:nvPr/>
        </p:nvPicPr>
        <p:blipFill>
          <a:blip r:embed="rId8"/>
          <a:stretch/>
        </p:blipFill>
        <p:spPr>
          <a:xfrm>
            <a:off x="3635280" y="3429000"/>
            <a:ext cx="19764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7:05:17Z</dcterms:created>
  <dc:creator>Сварог</dc:creator>
  <dc:description/>
  <dc:language>en-US</dc:language>
  <cp:lastModifiedBy>Nina</cp:lastModifiedBy>
  <dcterms:modified xsi:type="dcterms:W3CDTF">2022-12-07T13:33:14Z</dcterms:modified>
  <cp:revision>43</cp:revision>
  <dc:subject/>
  <dc:title>Волшебная            монотипия</dc:title>
</cp:coreProperties>
</file>