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E44-C91A-4D4E-BFF3-CD9331024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20C0-41A5-4718-81BD-94054B2E7220}" type="slidenum">
              <a:rPr b="0" lang="ru-RU" sz="1200" spc="-1" strike="noStrike">
                <a:solidFill>
                  <a:srgbClr val="92d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714-C5D4-4287-8579-0FC529C1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17B-AF91-41EA-84C1-E38D4B1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146-B225-4835-B2FD-648D3A1E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F15-CEBE-4FE3-B631-5D15AE0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F8-36D9-414C-B1C5-15844477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CC6-BAB6-4C5C-8BF9-A1B72433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CBC-DD87-4226-BA8A-E99E36A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EA1-1B44-4686-92EB-43A96BF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147-BEC8-465C-8B57-F52266DB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F9C-2813-46EA-AE04-F8F97F6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7AB-E78B-4E93-A903-0E4C4D8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E17-71FF-4ED2-A959-B8F723F8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6dd9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6A7B-F18B-4AC1-B99D-849624BA72AC}" type="slidenum">
              <a:rPr b="0" lang="ru-RU" sz="1200" spc="-1" strike="noStrike">
                <a:solidFill>
                  <a:srgbClr val="b6dd9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дзаголовок 2"/>
          <p:cNvSpPr/>
          <p:nvPr/>
        </p:nvSpPr>
        <p:spPr>
          <a:xfrm>
            <a:off x="3203640" y="6165720"/>
            <a:ext cx="5940360" cy="507960"/>
          </a:xfrm>
          <a:prstGeom prst="rect">
            <a:avLst/>
          </a:prstGeom>
          <a:solidFill>
            <a:srgbClr val="e1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9721e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1b210d"/>
                </a:solidFill>
                <a:latin typeface="Calibri"/>
                <a:ea typeface="Arial"/>
              </a:rPr>
              <a:t>Подготовила: Панкратова С.В.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357720" y="2527920"/>
            <a:ext cx="54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f252f"/>
                </a:solidFill>
                <a:latin typeface="Arial"/>
              </a:rPr>
              <a:t>Особенности развития внимания и речи школьников с ограниченными возможностями развития</a:t>
            </a:r>
            <a:br>
              <a:rPr sz="3600"/>
            </a:br>
            <a:endParaRPr b="0" lang="en-US" sz="36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252f"/>
                </a:solidFill>
                <a:latin typeface="Arial"/>
                <a:ea typeface="Arial"/>
              </a:rPr>
              <a:t>Методические приемы развития речи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20" y="1268280"/>
            <a:ext cx="807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ловес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ечевой образец, повторное проговаривание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бъяснение, указания, оценка речи учащихся,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просы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гляд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емонстрация иллюстративного материала, показ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ложения органов артикуляции при обучении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авильному звукопроизношению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овые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аграммы, шарады, скороговорки и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руги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324000" y="974880"/>
            <a:ext cx="87138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звитие внимания и речи школьников с ОВЗ зависит от первичных дефектов развития, поэтому они своеобразны или нарушены, но коррекция процессов </a:t>
            </a:r>
            <a:r>
              <a:rPr b="1" lang="ru-RU" sz="3200" spc="-1" strike="noStrike">
                <a:solidFill>
                  <a:srgbClr val="8f252f"/>
                </a:solidFill>
                <a:latin typeface="Arial"/>
              </a:rPr>
              <a:t>необходим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для полноценного обучения, развития, воспитания, социализации наших обучающихся!</a:t>
            </a:r>
            <a:endParaRPr b="0" lang="en-US" sz="3200" spc="-1" strike="noStrike">
              <a:solidFill>
                <a:srgbClr val="92d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f252f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052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нятие </a:t>
            </a: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«внимание»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5520" y="11304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средоточенность человека на объектах и явлениях окружающего мира, наиболее значимых для него. 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свойства вниман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: активность, концентрация, переключаемость, распределение, объем, устойчивость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виды внимания: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родное, социальное, непосредственное, опосредованное, внешнее, внутренне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нятие </a:t>
            </a: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«речь»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2360" y="9810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познавательный процесс, связанный с использованием языка для представления, сохранения в устной или письменной форме и последующей переработки разнообразной информации, а также для обмена ею с другими людьми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виды речи: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устная, письменная, монологическая, диалогическая, активная, пассивная, кинетическая, внутренняя, внешняя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свойства речи: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 содержательность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понятность, выразительность, убедительность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120" y="785880"/>
          <a:ext cx="8572680" cy="2759040"/>
        </p:xfrm>
        <a:graphic>
          <a:graphicData uri="http://schemas.openxmlformats.org/drawingml/2006/table">
            <a:tbl>
              <a:tblPr/>
              <a:tblGrid>
                <a:gridCol w="2357640"/>
                <a:gridCol w="621504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епых и слабовидящих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произвольное и послепроизвольное вним-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ы переключаемость, объем, устойчивость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словарный запас, интонирование, мимика; есть вербализм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нарушена выраз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7120" y="3714840"/>
          <a:ext cx="8572680" cy="2860560"/>
        </p:xfrm>
        <a:graphic>
          <a:graphicData uri="http://schemas.openxmlformats.org/drawingml/2006/table">
            <a:tbl>
              <a:tblPr/>
              <a:tblGrid>
                <a:gridCol w="2357640"/>
                <a:gridCol w="62150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расстройством аутистического спектр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едоразвитие произвольного, дефицит направленного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всех видов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а коммуникация,  контакт с окружающими, речь не используется как средство обще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всех видов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7120" y="785880"/>
          <a:ext cx="8572680" cy="2928960"/>
        </p:xfrm>
        <a:graphic>
          <a:graphicData uri="http://schemas.openxmlformats.org/drawingml/2006/table">
            <a:tbl>
              <a:tblPr/>
              <a:tblGrid>
                <a:gridCol w="2000160"/>
                <a:gridCol w="6572520"/>
              </a:tblGrid>
              <a:tr h="42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задержкой психического развит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произвольное, послепроизвольное  внимани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ы переключаемость, объем, устойчивость, распределение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снижена логичность высказывания, словарный запас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выразительность,  убед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7120" y="3714840"/>
          <a:ext cx="8572680" cy="2896920"/>
        </p:xfrm>
        <a:graphic>
          <a:graphicData uri="http://schemas.openxmlformats.org/drawingml/2006/table">
            <a:tbl>
              <a:tblPr/>
              <a:tblGrid>
                <a:gridCol w="2000160"/>
                <a:gridCol w="65725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легкой степенью умственной  отсталост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произвольное, послепроизвольное внимание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ы переключаемость, объем, устойчивость, распределение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о звукопроизношение, логичность, бедный словарный запас, лексико-грамматическая сторона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Упрощены содержательность, выразительность,  убедительность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28760" y="216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7120" y="785880"/>
          <a:ext cx="8572680" cy="2759040"/>
        </p:xfrm>
        <a:graphic>
          <a:graphicData uri="http://schemas.openxmlformats.org/drawingml/2006/table">
            <a:tbl>
              <a:tblPr/>
              <a:tblGrid>
                <a:gridCol w="2071800"/>
                <a:gridCol w="650088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синдромом дефицита внимания и гиперактивн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роизвольного, послепроизвольного вним-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 объем, нарушены переключаемость, распределение, устойчивость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еобоснованно увеличен темп устной речи, в письменной речи большое количество ошибок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Зависят от индивидуальных особенностей школьник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57120" y="3514680"/>
          <a:ext cx="8572680" cy="3343320"/>
        </p:xfrm>
        <a:graphic>
          <a:graphicData uri="http://schemas.openxmlformats.org/drawingml/2006/table">
            <a:tbl>
              <a:tblPr/>
              <a:tblGrid>
                <a:gridCol w="2071800"/>
                <a:gridCol w="650088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тугоух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о  произвольное, послепроизвольное внимание  из-за сильного переутомле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ереключения, устойчивости, медленное «врабатывание»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а произносительная и письменная сторон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речь малопонятн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500040" y="7160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252f"/>
                </a:solidFill>
                <a:latin typeface="Arial"/>
                <a:ea typeface="Arial"/>
              </a:rPr>
              <a:t>Особенности внимания и речи школьников 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5840" y="1785960"/>
          <a:ext cx="8572320" cy="3232080"/>
        </p:xfrm>
        <a:graphic>
          <a:graphicData uri="http://schemas.openxmlformats.org/drawingml/2006/table">
            <a:tbl>
              <a:tblPr/>
              <a:tblGrid>
                <a:gridCol w="2071440"/>
                <a:gridCol w="6500880"/>
              </a:tblGrid>
              <a:tr h="42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детским церебральным параличом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виды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Дефицит произвольного, послепроизвольного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внимания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ие объема, переключаемости, распределения, устойчивости внимания в связи с его истощаемостью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особенности речи 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Нарушены звукопроизносительная, лексическая стороны речи, снижение словарного  запаса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c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войства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b210d"/>
                          </a:solidFill>
                          <a:latin typeface="Calibri"/>
                        </a:rPr>
                        <a:t>Снижена содержательность, логичность, выразительность  речи</a:t>
                      </a:r>
                      <a:endParaRPr b="0" lang="en-US" sz="2000" spc="-1" strike="noStrike">
                        <a:solidFill>
                          <a:srgbClr val="92d05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f252f"/>
                </a:solidFill>
                <a:latin typeface="Arial"/>
                <a:ea typeface="Arial"/>
              </a:rPr>
              <a:t>Методические приемы развития внимания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71640" y="1916280"/>
            <a:ext cx="7743600" cy="44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ловес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иемы-активаторы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глядн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нализ, направленный на результат,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овые: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звивающие упражнения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2743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f252f"/>
                </a:solidFill>
                <a:latin typeface="Calibri"/>
              </a:rPr>
              <a:t>Таблицы Шульте  и  Объем внимания</a:t>
            </a:r>
            <a:endParaRPr b="0" lang="en-US" sz="38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8908141502</a:t>
            </a:r>
            <a:endParaRPr b="0" lang="en-US" sz="4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69" name="Picture 6" descr="ÑÐ°Ð±Ð»Ð¸ÑÐ° Ð¨ÑÐ»ÑÑÐµ"/>
          <p:cNvPicPr/>
          <p:nvPr/>
        </p:nvPicPr>
        <p:blipFill>
          <a:blip r:embed="rId1"/>
          <a:stretch/>
        </p:blipFill>
        <p:spPr>
          <a:xfrm>
            <a:off x="641520" y="1692360"/>
            <a:ext cx="3786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7:15:27Z</dcterms:created>
  <dc:creator>Директор</dc:creator>
  <dc:description/>
  <dc:language>en-US</dc:language>
  <cp:lastModifiedBy>Андрей</cp:lastModifiedBy>
  <dcterms:modified xsi:type="dcterms:W3CDTF">2019-03-25T14:58:25Z</dcterms:modified>
  <cp:revision>62</cp:revision>
  <dc:subject/>
  <dc:title>Слайд 1</dc:title>
</cp:coreProperties>
</file>