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84-F599-4B92-BDCD-37F6FD1C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46A-C490-4BC9-97F0-A65069E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C1A-A11F-4DA0-8DB7-8CB9E4D4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28A-9259-4D6E-B6CC-B1A8E86F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0C3E-EC6E-4590-A57F-D0F8116C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4BAF-06EB-4AC1-AAC5-CDB9F57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4DC-2B90-41F4-8241-3C229D1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8D6-0EC6-4001-9EDC-8F9C99B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0C22-3226-40AA-8499-B94B14E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651-F0FE-4A77-A486-62F004D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3F60-980A-453B-AF01-06D11E7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F36-DF23-47DC-9270-0ADBEF29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F12A-8439-403D-B109-3F06146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99C-CFF6-40AD-85E0-A6E6B3B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C43F-FBAE-433E-8D6A-303BEAF2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9F62-FEBA-4FE0-BB7A-E45ECAE9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4CAF-600F-41EF-B95E-5FC76079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E43F-C821-49D7-9BE1-87946C0B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3FD3-D473-4A7E-8C37-09EA8C3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18DF-9DC0-4387-8FC9-58FCBB2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55FC-29F3-4F54-901A-7E0449F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4151-8CA1-477F-ACB1-A7434B7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002-CB3F-41DD-9A2A-3E8F8E4D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9739-5F3C-4D5B-A71F-F40B5A0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5D66-D8FD-403C-8179-88950F4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E964-0771-4006-87F4-60639E5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6243-C0B0-4809-8FE6-313BD22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F2B8-F83C-4A99-8A01-562434E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FA2A-F377-4088-A9C3-7561553F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E7E4-82CA-434C-99BA-CF88839F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1FA3-E22F-4327-BEF7-040E1E15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A8E7-101A-42F7-9492-609AE4A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80EE-9433-4E58-ACA9-8F09D8C4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448-D9E6-414A-832D-E6B4AC9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28EB-8193-4DA7-9784-3C3131D1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2249-ACEE-43F6-A98E-D73478D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77EA-04FB-4290-9596-2FCE4AE9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3DD9-9734-4356-897F-05F5251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B600-10F6-4092-9C15-5900A5B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DAB5-DA66-4B19-AAAE-A7A3478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B199-1F02-412D-8564-77AFECD6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752B-9A32-44DE-AE35-C425094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D46B-4380-48D6-8CEA-E6747864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D81-6E57-4B74-B511-F2820AE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A8D-9F22-40F0-82A4-BF0DAB51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CA7-8A7D-4FCD-9427-4F2497D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59D-6857-4756-AF6F-C75368B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595-4176-4091-B769-D2E193F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473-E7F0-430C-BD96-4490030E44C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A77A-885A-47CE-AE49-23BCE736D0C7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5AF-754E-43C7-844E-23B5DA658327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E5D-5C93-47C1-BC0F-A0FCB4C37D3C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7a6c"/>
                </a:solidFill>
                <a:latin typeface="Calibri"/>
              </a:rPr>
              <a:t>Фонетическая зарядк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4" descr="WACKY"/>
          <p:cNvPicPr/>
          <p:nvPr/>
        </p:nvPicPr>
        <p:blipFill>
          <a:blip r:embed="rId1"/>
          <a:stretch/>
        </p:blipFill>
        <p:spPr>
          <a:xfrm>
            <a:off x="1258920" y="1844640"/>
            <a:ext cx="4394160" cy="3987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5580000" y="4508640"/>
            <a:ext cx="450072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Дворянкина О.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МАОУ СОШ № 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г. Балаков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a6c"/>
                </a:solidFill>
                <a:latin typeface="Constantia"/>
              </a:rPr>
              <a:t>Саратовская об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Фонетическая зарядк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1. Звуки 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[w],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29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], [</a:t>
            </a:r>
            <a:r>
              <a:rPr b="0" lang="en-US" sz="4300" spc="-1" strike="noStrike">
                <a:solidFill>
                  <a:srgbClr val="04617b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3600" spc="-1" strike="noStrike">
                <a:solidFill>
                  <a:srgbClr val="04617b"/>
                </a:solidFill>
                <a:latin typeface="Lucida Sans Unicode"/>
              </a:rPr>
              <a:t>]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2. Чтение буквы 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y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» в открытом и закрытом слоге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. Чтение буквы «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w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], [w], [w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, </a:t>
            </a: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, </a:t>
            </a:r>
            <a:r>
              <a:rPr b="0" lang="en-US" sz="6600" spc="-1" strike="noStrike">
                <a:solidFill>
                  <a:srgbClr val="047a6c"/>
                </a:solidFill>
                <a:latin typeface="Constantia"/>
              </a:rPr>
              <a:t>[wa</a:t>
            </a: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ı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7a6c"/>
                </a:solidFill>
                <a:latin typeface="Lucida Sans Unicode"/>
              </a:rPr>
              <a:t>[wılı], [wılı], [wılı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 do you cry, Will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 Why do you cr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, Willy? Why, Willy?</a:t>
            </a:r>
            <a:br>
              <a:rPr sz="5400"/>
            </a:br>
            <a:r>
              <a:rPr b="0" lang="en-US" sz="5400" spc="-1" strike="noStrike">
                <a:solidFill>
                  <a:srgbClr val="047a6c"/>
                </a:solidFill>
                <a:latin typeface="Calibri"/>
              </a:rPr>
              <a:t>Why, Willy? Why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3715920"/>
            <a:ext cx="8229600" cy="2414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baby34"/>
          <p:cNvPicPr/>
          <p:nvPr/>
        </p:nvPicPr>
        <p:blipFill>
          <a:blip r:embed="rId2"/>
          <a:stretch/>
        </p:blipFill>
        <p:spPr>
          <a:xfrm>
            <a:off x="5148360" y="3443400"/>
            <a:ext cx="4549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w]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ill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40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]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ill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7a6c"/>
                </a:solidFill>
                <a:latin typeface="Calibri"/>
              </a:rPr>
              <a:t>Назовите слова, в которых встречается звук 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[</a:t>
            </a:r>
            <a:r>
              <a:rPr b="0" lang="en-US" sz="5900" spc="-1" strike="noStrike">
                <a:solidFill>
                  <a:srgbClr val="04617b"/>
                </a:solidFill>
                <a:latin typeface="Lucida Sans Unicode"/>
              </a:rPr>
              <a:t>a</a:t>
            </a:r>
            <a:r>
              <a:rPr b="0" lang="en-US" sz="4300" spc="-1" strike="noStrike">
                <a:solidFill>
                  <a:srgbClr val="04617b"/>
                </a:solidFill>
                <a:latin typeface="Lucida Sans Unicode"/>
              </a:rPr>
              <a:t>l</a:t>
            </a:r>
            <a:r>
              <a:rPr b="0" lang="en-US" sz="4900" spc="-1" strike="noStrike">
                <a:solidFill>
                  <a:srgbClr val="04617b"/>
                </a:solidFill>
                <a:latin typeface="Lucida Sans Unicode"/>
              </a:rPr>
              <a:t>]</a:t>
            </a:r>
            <a:r>
              <a:rPr b="0" lang="ru-RU" sz="4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nstantia"/>
              </a:rPr>
              <a:t>cr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4:31:51Z</dcterms:created>
  <dc:creator>МВД</dc:creator>
  <dc:description/>
  <dc:language>en-US</dc:language>
  <cp:lastModifiedBy>IRINA</cp:lastModifiedBy>
  <dcterms:modified xsi:type="dcterms:W3CDTF">2022-12-07T18:23:54Z</dcterms:modified>
  <cp:revision>9</cp:revision>
  <dc:subject/>
  <dc:title>Good morning, children!</dc:title>
</cp:coreProperties>
</file>