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18D-26B6-48E6-80DA-293FBB0C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0E2-2FDB-440E-9CF7-6A91A189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952-B659-43CA-89B6-9CCCD6B7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E1D-4F63-46D5-BAF5-7F1395E0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A003-1F8F-4E06-8ADD-7930980C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91D3-D83C-4A40-ADEC-7042C8C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8653-0219-4344-8FB7-71D16FE6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243-00B1-412C-9C00-B66EA9B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0AF-FA8A-459B-8E45-4011F431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6A5-761B-4368-8A24-636599D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67F4-870E-4E5B-8CB0-506BAB8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E0F-B878-4559-9985-51A0A67C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43D-7E8E-4FF2-B366-600F4FED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23E7-6661-4E39-BFE8-60A15B2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834-BC22-46E9-9CAB-CFA0153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FE19-7424-4BDF-8650-55CE864C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0E28-75AE-4415-97CE-D6CE0E12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1E2-7F61-4C60-A53E-D98B763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CAC-845C-48D7-ADB8-DD304E9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BB5-9434-4BDC-AA32-FE79645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65C-F14F-4F12-905E-7F40548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06A-4329-4ABB-B93A-D41EA0D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A4E-3384-40C1-B6BE-1FAD231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24C-381A-41E0-81BE-CEA92661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1ADF4A-C9FA-4C70-B868-0F1FFEFF2699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A53B6-76FA-421B-A432-73BE1251E07A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" y="0"/>
            <a:ext cx="9143640" cy="19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«Здоровое питание спортсменов»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32800" y="4964040"/>
            <a:ext cx="3210840" cy="18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Выполнили: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Ершов В. 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ултанов Ф. 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Таблица 4"/>
          <p:cNvGraphicFramePr/>
          <p:nvPr/>
        </p:nvGraphicFramePr>
        <p:xfrm>
          <a:off x="0" y="-39240"/>
          <a:ext cx="9143640" cy="1165680"/>
        </p:xfrm>
        <a:graphic>
          <a:graphicData uri="http://schemas.openxmlformats.org/drawingml/2006/table">
            <a:tbl>
              <a:tblPr/>
              <a:tblGrid>
                <a:gridCol w="3971160"/>
                <a:gridCol w="1269000"/>
                <a:gridCol w="3903120"/>
              </a:tblGrid>
              <a:tr h="6753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</a:pPr>
                      <a:r>
                        <a:rPr b="0" lang="kk-KZ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35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35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49032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</a:pPr>
                      <a:endParaRPr b="0" lang="ru-RU" sz="28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4" descr="http://kachalka.com.ua/uploads/posts/2010-08/1281369035_55.jpg"/>
          <p:cNvPicPr/>
          <p:nvPr/>
        </p:nvPicPr>
        <p:blipFill>
          <a:blip r:embed="rId1"/>
          <a:stretch/>
        </p:blipFill>
        <p:spPr>
          <a:xfrm>
            <a:off x="152280" y="2656080"/>
            <a:ext cx="57564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90000"/>
              </a:lnSpc>
              <a:buNone/>
            </a:pPr>
            <a:br>
              <a:rPr sz="3300"/>
            </a:br>
            <a:br>
              <a:rPr sz="3300"/>
            </a:b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rcRect l="-1552" t="31898" r="1552" b="-32404"/>
          <a:stretch/>
        </p:blipFill>
        <p:spPr>
          <a:xfrm>
            <a:off x="-191160" y="0"/>
            <a:ext cx="9334800" cy="112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41280" y="406080"/>
            <a:ext cx="847476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Режим питания спортсмена должен обеспечивать: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етические потребности с учетом спортивной нагрузки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держание оптимального веса спортсмена и содержания жира в организме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дный и электролитный баланc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ыстрое восстановление после физической нагрузки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олнение дефицита питательных веществ. Энергозатраты при занятиях спортом зависят от пола, возраста, веса тела, вида спорта и других факторов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отношение основных компонентов питания в суточном пищевом рационе следующее: 9 – 13 грамм углеводов : 2 – 2,5 грамма белка : 1,6 – 2,3 грамма жир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тренировка проходит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в первой половине дн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о на завтрак приходится 30 – 35% суточной энергетической ценности рациона, на обед – 35 – 40%, на полдник – 5%, на ужин – 25 – 30%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тренировка попадает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на вторую половину дн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о процентное соотношение по распределению рациона изменяется: 35 – 40% - на завтрак, 30 – 35% - на обед, 5% - на полдник, 25 – 30% - на ужин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161280" indent="-16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итут питания РАМН рекомендуе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ятикратный прием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ищи с включением восстановительных средств (до и после тренировки) с энергетической ценностью каждого приема до 10% от суточного рациона, распределение рациона следующее - 25% - на завтрак, 35% - на обед, 20% - на ужин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18756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4320" y="14162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ртивное питание полностью безвредное, если принимать его правильно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ртивное питание причисляется именно к категории добавок, так как его правильное использование представляет собой дополнение к основному рациону, состоящему из обычных продуктов, а не полную их замену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levcov-sport.com/images/joomlart/demo/technology/m.jpg"/>
          <p:cNvPicPr/>
          <p:nvPr/>
        </p:nvPicPr>
        <p:blipFill>
          <a:blip r:embed="rId1"/>
          <a:stretch/>
        </p:blipFill>
        <p:spPr>
          <a:xfrm>
            <a:off x="4326480" y="3644640"/>
            <a:ext cx="4817160" cy="321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6480" y="938520"/>
            <a:ext cx="8924400" cy="59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итание - жизненная потребность человека. Основные задачи питания состоят в обеспечении организма человека энергией, пластическими (строительными) веществами и биологически активными компонентами. Любые отклонения от адекватного потребностям снабжения организма пищевыми веществами могут нанести существенный ущерб здоровью, привести к снижению сопротивляемости неблагоприятным факторам среды, ухудшению умственной и физической работоспособности. Для спортсменов, стремящихся к достижению высоких результатов, вопросы рационального питания приобретают особое значение, поскольку взаимосвязь питания и физической работоспособности в настоящее время не вызывает сомнений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serpeika.com/images/cms/data/beauty19.jpg"/>
          <p:cNvPicPr/>
          <p:nvPr/>
        </p:nvPicPr>
        <p:blipFill>
          <a:blip r:embed="rId1"/>
          <a:stretch/>
        </p:blipFill>
        <p:spPr>
          <a:xfrm>
            <a:off x="1238760" y="1976400"/>
            <a:ext cx="6936120" cy="4881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91160"/>
            <a:ext cx="91436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рамотное построение рациона питания спортсмена с обязательным восполнением затрат энергии и поддержанием водного баланса организма - важное требование при организации тренировочного процесса. В основе стратегии питания спортсменов лежат общие принципы здорового питания, однако имеются и специальные задачи. Они заключаются в повышении работоспособности, отдалении времени наступления утомления и ускорении процессов восстановления после физической нагрузки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mmenu.com/upload/articles/50aa6eb7cdbcf.jpg"/>
          <p:cNvPicPr/>
          <p:nvPr/>
        </p:nvPicPr>
        <p:blipFill>
          <a:blip r:embed="rId1"/>
          <a:stretch/>
        </p:blipFill>
        <p:spPr>
          <a:xfrm>
            <a:off x="4947120" y="4609440"/>
            <a:ext cx="4196520" cy="2258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-27792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Бел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1160" y="733680"/>
            <a:ext cx="87069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лючевым моментом физической работоспособности является оптимальное энергообеспечение мышечной деятельности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читается, что для удовлетворения повышенных потребностей спортсменов достаточно увеличить потребление белка на 50-125% по сравнению с общепринятыми нормами. Существуют следующие рекомендации по приему в сутки: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,2-1,4 г белка на кг массы тела для спортсменов, чья физическая деятельность связана с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выносливостью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,7-1,8 г белка на кг массы тела и 1,6-1,7 г на кг массы тела в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силовых видах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рта;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 2 г на кг массы тела (1,4-2,0 г/кг)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racion.net/uploads/posts/2013-07/1373228017_525323523.jpg"/>
          <p:cNvPicPr/>
          <p:nvPr/>
        </p:nvPicPr>
        <p:blipFill>
          <a:blip r:embed="rId1"/>
          <a:stretch/>
        </p:blipFill>
        <p:spPr>
          <a:xfrm>
            <a:off x="5404680" y="819720"/>
            <a:ext cx="3738960" cy="2336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913680" y="-16380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глеводы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080" y="662760"/>
            <a:ext cx="5841000" cy="619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етическая ценность пищевого рациона большинства людей, в том числе и спортсменов, обеспечивается, главным образом, углеводами. Основные рекомендации для спортсменов относительно употребления углеводов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 целях максимального восстановления мышечного гликогена после физической нагрузки и/или оптимизации его запасов перед соревнованиями спортсмен ежедневно должен употреблять 7-10г углеводов на кг массы тел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За 1-4 часа до физической нагрузки/соревнования, особенно если речь идет о продолжительной физической нагрузке, рекомендуется употребление богатой углеводами пищи в количестве 1-4г углеводов на кг массы тел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 целях обеспечения энергией в ходе продолжительной физической нагрузки умеренной/высокой интенсивности рекомендуется употребление углеводов в количестве 30-60г в час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В течение первых 30 мин после завершения физической нагрузки спортсменам рекомендуется прием богатой углеводами пищи, обеспечивающей, по меньшей мере, 1г углеводов на кг массы тел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www.tiensmed.ru/news/uimg/28/shtoesti-uglevodi-1.jpg"/>
          <p:cNvPicPr/>
          <p:nvPr/>
        </p:nvPicPr>
        <p:blipFill>
          <a:blip r:embed="rId2"/>
          <a:stretch/>
        </p:blipFill>
        <p:spPr>
          <a:xfrm>
            <a:off x="5950440" y="3606480"/>
            <a:ext cx="31932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olfworkout.ru/wp-content/uploads/2014/07/svoystva-jirov-1.jpg"/>
          <p:cNvPicPr/>
          <p:nvPr/>
        </p:nvPicPr>
        <p:blipFill>
          <a:blip r:embed="rId1"/>
          <a:stretch/>
        </p:blipFill>
        <p:spPr>
          <a:xfrm>
            <a:off x="2265480" y="3173040"/>
            <a:ext cx="5117400" cy="3684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Жир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0120" y="1033920"/>
            <a:ext cx="8993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р как источник энергии имеет некоторые преимущества: большая плотность (9 ккал/г для стеариновой кислоты по сравнению с 4 ккал/г для глюкозы) и большее количество аденозинтрифосфата (АТФ) на молекулу жира (142 по сравнению с 38 для глюкозы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Рационы с высоким содержанием жира и адаптация к ним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6840"/>
            <a:ext cx="9143640" cy="54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настоящее время можно сделать следующие выводы: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зкое увеличение количества циркулирующих жирных кислот не оказывает заметного влияния на физическую работоспособность, связанную с выносливостью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атковременное применение рационов с высоким содержанием жира ( 3 -5 дней) ведет к ухудшению выносливости по сравнению с использованием высокоуглеводных рационов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даптация к рациону с высоким содержанием жира в сочетании с тренировкой в течение 1-4 недель не влияет на связанную с выносливостью работоспособность при сравнении с высокоуглеводным рационом. При увеличении длительности воздействия до 7 недель высокоуглеводное питание имеет явные преимущества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ереход на высокоуглеводный рацион после адаптации к рациону с высоким содержанием жира не дает преимуществ по сравнению с высокоуглеводным питанием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Содержимое 4" descr="Рисунок1.jpg"/>
          <p:cNvPicPr/>
          <p:nvPr/>
        </p:nvPicPr>
        <p:blipFill>
          <a:blip r:embed="rId1"/>
          <a:stretch/>
        </p:blipFill>
        <p:spPr>
          <a:xfrm>
            <a:off x="217080" y="217800"/>
            <a:ext cx="892656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murana.ru/_pics/255/sports-nutrition-001.jpg"/>
          <p:cNvPicPr/>
          <p:nvPr/>
        </p:nvPicPr>
        <p:blipFill>
          <a:blip r:embed="rId1"/>
          <a:stretch/>
        </p:blipFill>
        <p:spPr>
          <a:xfrm>
            <a:off x="2612520" y="2796480"/>
            <a:ext cx="4061160" cy="4061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ставление рациона для спортсмена </a:t>
            </a:r>
            <a:br>
              <a:rPr sz="33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9320" y="1170360"/>
            <a:ext cx="8474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веденный ниже вариант рациона предназначен для  лиц, регулярно переносящих физические нагрузки.  Диетическая формула: белки — 15% от общей энергии,  жиры — 25%, углеводы — 60%. Чтобы сохранить такое соотношение белков, жиров и углеводов, необходимо, чтобы зерновые продукты  составляли 50% энергии рациона, хлеб — 15%, мясо — 15%, молочные продукты — 13-15%, овощи и фрукты — 5-7%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912</Words>
  <Paragraphs>5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21:07:32Z</dcterms:created>
  <dc:creator>Umida Ismailova</dc:creator>
  <dc:description/>
  <dc:language>en-US</dc:language>
  <cp:lastModifiedBy>Вовин</cp:lastModifiedBy>
  <dcterms:modified xsi:type="dcterms:W3CDTF">2022-05-24T16:03:48Z</dcterms:modified>
  <cp:revision>21</cp:revision>
  <dc:subject/>
  <dc:title>СРС на тему: «Питание спортсмен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