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731-860D-4A09-B233-53F6636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BE5-DE15-4027-9EBA-7B0C3B70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273-9245-4954-8542-BB3111D1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2F4-4E2F-4A63-943C-B70DA95D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4A-7488-4C1A-924B-A4C658F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38E-7517-4997-BCD8-B6C26FE1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5F5-78B5-4196-A740-C350CC0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3A9-B4E5-450B-B7A7-0C3F643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D48-71D0-4400-8332-AB74AE96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21A-EE3F-4D25-9FCA-5B567FA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BE6-43AD-4F6B-BE73-4C70056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991-646D-4F0A-BA24-79F2820E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8F35C-BF42-44E9-BB34-ED84DEFC36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Ж 9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№-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«Опасные и чрезвычайные ситуации, общие понятия, определения, их классификац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357360"/>
            <a:ext cx="8569080" cy="333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897440" cy="3311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303880" y="5218200"/>
            <a:ext cx="3451320" cy="1411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Чрезвычайная ситуация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50403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 нарушение условий жизнедеятельност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Экстремальная ситу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йне необычная по сложности  опасная ситуация, на грани несчастного случ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64000" y="3822840"/>
            <a:ext cx="347364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24000" y="3822840"/>
            <a:ext cx="34002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47640" y="902880"/>
            <a:ext cx="4891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вар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2878200"/>
            <a:ext cx="8928000" cy="3790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пасное техногенное явление, происходящее по конструктивным, производственным, технологическим  или эксплуатационным причин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6984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тастроф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бытие с трагическими последств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непредвиденная и неожиданная ситуация, возникшая в результате природных явлений или деятельности человека и несущая угрозу его жизни, следствием которой стала  гибель человека или большой группы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тихийные бедстви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тастрофические природные явления и процессы, приводящие  к нарушению повседневного уклада жизни значительных групп людей, уничтожению материальных ценностей, к  человеческим жерт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3457440" cy="192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37450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257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ь сообщение в виде  реферата (формат - лист А-4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тличия опасных от экстремальных ситуаций. Какие ситуации относятся к ЧС природного, техногенного, социального характер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28680"/>
          </a:xfrm>
          <a:prstGeom prst="rect">
            <a:avLst/>
          </a:prstGeom>
          <a:solidFill>
            <a:srgbClr val="85ffe0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пция национальной безопасности Росси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358920" algn="just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яет систему взглядов на обеспечение безопасности личности, общества и государства от внешних и внутренних угр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ы общая теоретическая база безопасности и условия обеспечения национальной безопас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35000"/>
            <a:ext cx="9144000" cy="15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ые ключевые понятия в области безопасности жизне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941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опас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енно важные интересы, угроза безопасности, Обеспечение безопас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ение безопасности жизнедеятельности, опасность, опасное явление, опасная ситуация, экстремальная ситуация, авария,  катастрофа, стихийные бедствия, чрезвычайная ситу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определения этим пон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циональная безопасность Российской Федерации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7512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опасность  ее многонационального народа как носителя суверенитета и единственного источника власти в государств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Безопасность -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ояние защищенности жизненно  важных интересов  личности, общества и государства от внутренних и внешних угроз.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Угроза безопасности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окупность условий и факторов, создающих опасность жизненно важным интересам личности, общества и госуд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беспечение безопасност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диной государственной полит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области обеспечения безопасности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истема мер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ого, политического, организационного и иного характера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декватных угрозам жизненно важным интереса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и, общества и госуд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еспечение безопасности жизнедеятельности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а деятельности, целью которой является реализация права людей на жизнь и здоров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0" y="3670200"/>
            <a:ext cx="914400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Жизненно важные интересы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4336920"/>
            <a:ext cx="9144000" cy="252108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окупность потребностей, удовлетворение которых обеспечивает существование и возможности прогрессивного  развития личности, общества,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3457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пасность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ь при конкретных условиях создания негативных воздействий, способных привести к отрицательным последствиям для жизнедеятельности человека и определенному  ущербу окружающей его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232000" cy="172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160" y="4011120"/>
            <a:ext cx="914400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пасное явл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60" y="4653000"/>
            <a:ext cx="9144000" cy="2521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ение, приводящее  к формированию вредных или поражающих факторов для населения, объектов техносферы и окружающей  природной  ср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71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пасная  ситуаци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4105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ечение обстоятельств, которые при определенном развитии могут привести к отрицательным последстви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8:52:40Z</dcterms:created>
  <dc:creator>USER</dc:creator>
  <dc:description/>
  <dc:language>en-US</dc:language>
  <cp:lastModifiedBy>Васько Александр Васильевич</cp:lastModifiedBy>
  <dcterms:modified xsi:type="dcterms:W3CDTF">2022-09-27T09:32:10Z</dcterms:modified>
  <cp:revision>31</cp:revision>
  <dc:subject/>
  <dc:title>Опасные и чрезвычайные ситуации, общие понятия, определения, их классифик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60000000000010243100207f6000400038000</vt:lpwstr>
  </property>
</Properties>
</file>