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85F-4BAB-4869-B48A-34E29C56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19D-2D2D-485F-8575-6EFDD935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EDD-5311-4D85-9AC6-0E1B748D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38E-18BD-4F60-B4F1-C66915F9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2DD-930C-4C9B-9D1C-DE9DA322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1DF-29BB-47D7-8130-888B5F86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C06-E82D-41C7-A5D8-17088CF0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435-999E-4529-99E7-E4A8B483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80C-C330-4EDF-8B14-C7536FDF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2EE-B50F-4D7A-B7EB-2B39FBD2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004-F88E-4CD6-B07F-A79B5CC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D9F-712B-4531-A5B9-5D50F74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4C694F-D717-44C4-90AD-4A14E258B31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Ж 9 клас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к №-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: «Опасные и чрезвычайные ситуации, общие понятия, определения, их классификаци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357360"/>
            <a:ext cx="8569080" cy="333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4897440" cy="3311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5303880" y="5218200"/>
            <a:ext cx="3451320" cy="1411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сько Александр Васил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подаватель-организатор ОБ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БОУ СОШ №-6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морский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Чрезвычайная ситуация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96000" cy="504036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это обстановка на определенной территории, сложившаяся в результате аварии, опасного природного явления, катастрофы, стихийного или иного бедствия, которые могут повлечь или повлекли за собой человеческие жертвы, ущерб здоровью людей и нарушение условий жизнедеятельност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Экстремальная ситу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йне необычная по сложности  опасная ситуация, на грани несчастного случ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364000" y="3822840"/>
            <a:ext cx="3473640" cy="277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324000" y="3822840"/>
            <a:ext cx="3400200" cy="27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47640" y="902880"/>
            <a:ext cx="48913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Авар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2878200"/>
            <a:ext cx="8928000" cy="3790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Опасное техногенное явление, происходящее по конструктивным, производственным, технологическим  или эксплуатационным причин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69840"/>
            <a:ext cx="4248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7527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атастроф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обытие с трагическими последств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непредвиденная и неожиданная ситуация, возникшая в результате природных явлений или деятельности человека и несущая угрозу его жизни, следствием которой стала  гибель человека или большой группы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Стихийные бедствия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катастрофические природные явления и процессы, приводящие  к нарушению повседневного уклада жизни значительных групп людей, уничтожению материальных ценностей, к  человеческим жерт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435640" y="4653000"/>
            <a:ext cx="3457440" cy="192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179280" y="4653000"/>
            <a:ext cx="37450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257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готовить сообщение в виде  реферата (формат - лист А-4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Отличия опасных от экстремальных ситуаций. Какие ситуации относятся к ЧС природного, техногенного, социального характера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28680"/>
          </a:xfrm>
          <a:prstGeom prst="rect">
            <a:avLst/>
          </a:prstGeom>
          <a:solidFill>
            <a:srgbClr val="85ffe0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цепция национальной безопасности Росси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358920" algn="just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яет систему взглядов на обеспечение безопасности личности, общества и государства от внешних и внутренних угро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ы общая теоретическая база безопасности и условия обеспечения национальной безопас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35000"/>
            <a:ext cx="9144000" cy="156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сновные ключевые понятия в области безопасности жизнедеятель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941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опас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зненно важные интересы, угроза безопасности, Обеспечение безопас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еспечение безопасности жизнедеятельности, опасность, опасное явление, опасная ситуация, экстремальная ситуация, авария,  катастрофа, стихийные бедствия, чрезвычайная ситу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ть определения этим понят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циональная безопасность Российской Федерации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7512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зопасность  ее многонационального народа как носителя суверенитета и единственного источника власти в государств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Безопасность -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стояние защищенности жизненно  важных интересов  личности, общества и государства от внутренних и внешних угроз.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Угроза безопасности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окупность условий и факторов, создающих опасность жизненно важным интересам личности, общества и государ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беспечение безопасност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дение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диной государственной политик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области обеспечения безопасности,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истема мер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ческого, политического, организационного и иного характера,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декватных угрозам жизненно важным интересам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чности, общества и государ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еспечение безопасности жизнедеятельности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1728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а деятельности, целью которой является реализация права людей на жизнь и здоров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0" y="3670200"/>
            <a:ext cx="914400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Жизненно важные интересы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4336920"/>
            <a:ext cx="9144000" cy="252108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окупность потребностей, удовлетворение которых обеспечивает существование и возможности прогрессивного  развития личности, общества, госуда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28000" cy="34574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пасность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ность при конкретных условиях создания негативных воздействий, способных привести к отрицательным последствиям для жизнедеятельности человека и определенному  ущербу окружающей его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227640" y="4724280"/>
            <a:ext cx="2232000" cy="172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160" y="4011120"/>
            <a:ext cx="9144000" cy="63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пасное явл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160" y="4653000"/>
            <a:ext cx="9144000" cy="25210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ение, приводящее  к формированию вредных или поражающих факторов для населения, объектов техносферы и окружающей  природной  сре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71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Опасная  ситуация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40720" cy="41054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ечение обстоятельств, которые при определенном развитии могут привести к отрицательным последствия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8:52:40Z</dcterms:created>
  <dc:creator>USER</dc:creator>
  <dc:description/>
  <dc:language>en-US</dc:language>
  <cp:lastModifiedBy>Васько Александр Васильевич</cp:lastModifiedBy>
  <dcterms:modified xsi:type="dcterms:W3CDTF">2022-09-27T09:32:10Z</dcterms:modified>
  <cp:revision>31</cp:revision>
  <dc:subject/>
  <dc:title>Опасные и чрезвычайные ситуации, общие понятия, определения, их классифик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60000000000010243100207f6000400038000</vt:lpwstr>
  </property>
</Properties>
</file>