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37C-7130-48CC-ADE7-50658AE7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346-7863-43D3-B0AA-5C20614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82C-0F71-41E7-9996-9510EDA0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3BA-742E-4E39-99C9-FB646B47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267-E6A1-4128-8994-9772865B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C96-CBA8-42F9-9224-7F9429D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9C3-6EF2-4B2A-A714-4AED6D32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86B-5B4A-4D74-BDA4-67C54EA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997-6520-423E-8440-C9E96D45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FA04-7F59-4D70-A8EB-5C4BAEB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0BED-EF7F-4660-95D1-5A2334D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542-A51A-41AA-BD76-1A78D69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4EE-0CB3-47FC-86A4-3138301A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7E7-CE16-4843-B39F-35462B7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83E-DC89-4050-B541-9C06C498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2B5B-57FC-4179-A3FF-263E385B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17AA-5C20-4B13-AF1E-453D67A6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669-7DAF-48ED-AB79-3F4FF8D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32B-9361-46E5-86B8-0D3DB89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EC9-0A22-48AA-9740-7236921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30F-F132-48D9-91D7-A3ABD01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5D2-7289-4D1A-BBD2-2F41A39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BF3-CCF3-4171-9140-A8A5E01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17F-1D54-4696-BACA-D6A830D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ECF6-47B6-4F45-9F01-F02E47EB7C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3E4-1AB6-4590-AF2F-17318D53F6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759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Arial Black"/>
              </a:rPr>
              <a:t>ОБЖ 9 класс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Arial Black"/>
              </a:rPr>
              <a:t>Тема: «Гражданская оборона как составная часть национальной безопасности и обороноспособности страны.»</a:t>
            </a:r>
            <a:r>
              <a:rPr b="0" lang="ru-RU" sz="4400" spc="-1" strike="noStrike">
                <a:solidFill>
                  <a:srgbClr val="330033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438280" y="4114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рганы управления гражданской оборон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2" descr="http://dom.pln24.ru/pictures/121227091344.jpg"/>
          <p:cNvPicPr/>
          <p:nvPr/>
        </p:nvPicPr>
        <p:blipFill>
          <a:blip r:embed="rId1"/>
          <a:stretch/>
        </p:blipFill>
        <p:spPr>
          <a:xfrm>
            <a:off x="237960" y="3571920"/>
            <a:ext cx="440064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www.32.mchs.gov.ru/upload/resize_cache/iblock/532/360_360_0/%20eoyucnboi%20yrnuwqwf-pmnygyixuruc%20pyhdwbgkdvsc.jpg"/>
          <p:cNvPicPr/>
          <p:nvPr/>
        </p:nvPicPr>
        <p:blipFill>
          <a:blip r:embed="rId2"/>
          <a:stretch/>
        </p:blipFill>
        <p:spPr>
          <a:xfrm>
            <a:off x="4578480" y="1682640"/>
            <a:ext cx="4187520" cy="279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gazeta.ru/files3/345/4783345/TASS_3181550-pic4_zoom-1000x1000-24431.jpg"/>
          <p:cNvPicPr/>
          <p:nvPr/>
        </p:nvPicPr>
        <p:blipFill>
          <a:blip r:embed="rId3"/>
          <a:stretch/>
        </p:blipFill>
        <p:spPr>
          <a:xfrm>
            <a:off x="158760" y="993600"/>
            <a:ext cx="346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с двумя скругленными противолежащими углами 2"/>
          <p:cNvSpPr/>
          <p:nvPr/>
        </p:nvSpPr>
        <p:spPr>
          <a:xfrm>
            <a:off x="228600" y="304920"/>
            <a:ext cx="3505320" cy="10666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едер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с двумя скругленными противолежащими углами 3"/>
          <p:cNvSpPr/>
          <p:nvPr/>
        </p:nvSpPr>
        <p:spPr>
          <a:xfrm>
            <a:off x="228600" y="1676520"/>
            <a:ext cx="342900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4"/>
          <p:cNvSpPr/>
          <p:nvPr/>
        </p:nvSpPr>
        <p:spPr>
          <a:xfrm>
            <a:off x="228600" y="2895480"/>
            <a:ext cx="3406680" cy="11606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гион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с двумя скругленными противолежащими углами 5"/>
          <p:cNvSpPr/>
          <p:nvPr/>
        </p:nvSpPr>
        <p:spPr>
          <a:xfrm>
            <a:off x="228600" y="4292640"/>
            <a:ext cx="34066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ницип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6"/>
          <p:cNvSpPr/>
          <p:nvPr/>
        </p:nvSpPr>
        <p:spPr>
          <a:xfrm>
            <a:off x="228600" y="5445000"/>
            <a:ext cx="342900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ъектов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соседними углами 7"/>
          <p:cNvSpPr/>
          <p:nvPr/>
        </p:nvSpPr>
        <p:spPr>
          <a:xfrm>
            <a:off x="4800600" y="304920"/>
            <a:ext cx="3981600" cy="10666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Ч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соседними углами 8"/>
          <p:cNvSpPr/>
          <p:nvPr/>
        </p:nvSpPr>
        <p:spPr>
          <a:xfrm>
            <a:off x="4724280" y="1676520"/>
            <a:ext cx="40528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гиональные центры МЧС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соседними углами 9"/>
          <p:cNvSpPr/>
          <p:nvPr/>
        </p:nvSpPr>
        <p:spPr>
          <a:xfrm>
            <a:off x="4800600" y="2895480"/>
            <a:ext cx="4038480" cy="11606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лавные управления МЧС России по субъектам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соседними углами 10"/>
          <p:cNvSpPr/>
          <p:nvPr/>
        </p:nvSpPr>
        <p:spPr>
          <a:xfrm>
            <a:off x="4800600" y="4221000"/>
            <a:ext cx="40924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делы ГОЧС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с двумя скругленными соседними углами 11"/>
          <p:cNvSpPr/>
          <p:nvPr/>
        </p:nvSpPr>
        <p:spPr>
          <a:xfrm>
            <a:off x="4724280" y="5251320"/>
            <a:ext cx="4095720" cy="127332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руктурные подразделения (работники) организаций, уполномоченные на решение задач в области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3"/>
          <p:cNvCxnSpPr>
            <a:stCxn id="118" idx="9"/>
            <a:endCxn id="123" idx="9"/>
          </p:cNvCxnSpPr>
          <p:nvPr/>
        </p:nvCxnSpPr>
        <p:spPr>
          <a:xfrm>
            <a:off x="3733560" y="837720"/>
            <a:ext cx="106740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>
            <a:stCxn id="119" idx="9"/>
            <a:endCxn id="124" idx="9"/>
          </p:cNvCxnSpPr>
          <p:nvPr/>
        </p:nvCxnSpPr>
        <p:spPr>
          <a:xfrm>
            <a:off x="3657240" y="2133360"/>
            <a:ext cx="106740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0" name="Прямая со стрелкой 19"/>
          <p:cNvCxnSpPr>
            <a:stCxn id="120" idx="9"/>
            <a:endCxn id="125" idx="9"/>
          </p:cNvCxnSpPr>
          <p:nvPr/>
        </p:nvCxnSpPr>
        <p:spPr>
          <a:xfrm>
            <a:off x="3634920" y="3476160"/>
            <a:ext cx="116604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1" name="Прямая со стрелкой 21"/>
          <p:cNvCxnSpPr>
            <a:stCxn id="121" idx="9"/>
            <a:endCxn id="126" idx="9"/>
          </p:cNvCxnSpPr>
          <p:nvPr/>
        </p:nvCxnSpPr>
        <p:spPr>
          <a:xfrm flipV="1">
            <a:off x="3634920" y="4677480"/>
            <a:ext cx="1166040" cy="72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2" name="Прямая со стрелкой 23"/>
          <p:cNvCxnSpPr>
            <a:stCxn id="122" idx="9"/>
            <a:endCxn id="127" idx="9"/>
          </p:cNvCxnSpPr>
          <p:nvPr/>
        </p:nvCxnSpPr>
        <p:spPr>
          <a:xfrm flipV="1">
            <a:off x="3657240" y="5887440"/>
            <a:ext cx="1067400" cy="14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1255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с двумя скругленными противолежащими углами 2"/>
          <p:cNvSpPr/>
          <p:nvPr/>
        </p:nvSpPr>
        <p:spPr>
          <a:xfrm>
            <a:off x="900000" y="1197000"/>
            <a:ext cx="7786800" cy="14698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оходить обучение по гражданской оборо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с двумя скругленными противолежащими углами 3"/>
          <p:cNvSpPr/>
          <p:nvPr/>
        </p:nvSpPr>
        <p:spPr>
          <a:xfrm>
            <a:off x="900000" y="2819520"/>
            <a:ext cx="7786800" cy="17524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нимать участие в проведении мероприятий по гражданской оборо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4"/>
          <p:cNvSpPr/>
          <p:nvPr/>
        </p:nvSpPr>
        <p:spPr>
          <a:xfrm>
            <a:off x="826920" y="4724280"/>
            <a:ext cx="7859880" cy="19814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казывать содействие органам государственной власти и организациям в решении задач гражданской обор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ить хронологию истории создания гражданской об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с 1932 года по настоящее врем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12.02.1998 г. № 28-Ф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 гражданской оборо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4296669"/>
          <p:cNvPicPr/>
          <p:nvPr/>
        </p:nvPicPr>
        <p:blipFill>
          <a:blip r:embed="rId1"/>
          <a:stretch/>
        </p:blipFill>
        <p:spPr>
          <a:xfrm>
            <a:off x="0" y="0"/>
            <a:ext cx="4419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lid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Гражданская оборона -</a:t>
            </a: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а мероприятий по подготовке к защите и по защите насе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материальных и культурных ценностей на территории РФ от опасностей, возникающ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 ведении военных 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вследствие этих действий, а такж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мирное врем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возникновении чрезвычайных ситуаций природного и техноген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учение насел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ам защиты от опасностей, возникающих при ведении военных действий или вследствие этих действий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повещение насел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опасностях, возникающих в мирное и военн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селения, материальных и культурных цен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доставл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селению средств коллективной и индивидуальной защиты (убежища, противогазы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оведение аварийно-спасательных работ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борьба с пожара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озникшими при ведении военных действий или вследствие эти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осстановление и поддержание поряд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йонах, пострадавших при Ч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рочное восстановление функционир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обходимых коммунальных служб в во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1"/>
          <p:cNvSpPr/>
          <p:nvPr/>
        </p:nvSpPr>
        <p:spPr>
          <a:xfrm>
            <a:off x="838080" y="0"/>
            <a:ext cx="7910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уководство гражданской обороной в Российской Федерации осуществляет Правительство Российской Федерации. </a:t>
            </a:r>
            <a:br>
              <a:rPr sz="2200"/>
            </a:br>
            <a:br>
              <a:rPr sz="22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Государственную политику в области гражданской обороны осуществля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едеральный орган исполнительной власти, уполномоченный Президентом Российской Федерации на решение задач в области гражданской обороны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(МЧС России).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www.76.mchs.gov.ru/upload/iblock/1e3/1e3a5a497f83c24a79f6cbb8b719227f.jpg"/>
          <p:cNvPicPr/>
          <p:nvPr/>
        </p:nvPicPr>
        <p:blipFill>
          <a:blip r:embed="rId1"/>
          <a:stretch/>
        </p:blipFill>
        <p:spPr>
          <a:xfrm>
            <a:off x="3124080" y="4572000"/>
            <a:ext cx="2862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5:44:45Z</dcterms:created>
  <dc:creator>максим</dc:creator>
  <dc:description/>
  <dc:language>en-US</dc:language>
  <cp:lastModifiedBy>Васько Александр Васильевич</cp:lastModifiedBy>
  <dcterms:modified xsi:type="dcterms:W3CDTF">2021-11-15T08:16:0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1d0000000000010243100207f6000400038000</vt:lpwstr>
  </property>
  <property fmtid="{D5CDD505-2E9C-101B-9397-08002B2CF9AE}" pid="3" name="Version">
    <vt:r8>1</vt:r8>
  </property>
</Properties>
</file>