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A6F-03B6-4C2F-8C74-8793213F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ED7-B1A1-48D6-9F8C-CD65A04C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D50-0D75-4E23-86C8-D38FD968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454-C449-4D00-8FCD-2D8431A4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A7D4-5F8B-47FF-8EA2-654DB2C0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693E-C7E8-4F8B-9D2B-9C974EB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F7C6-4ADC-497F-89D9-B44DA8C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991E-EFF8-4501-B768-7CD47BC9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6793-8438-48EA-B62F-6F71D190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F6F9-6EB5-4474-97E9-8DEE00C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5B57-7174-4A0C-976B-340B563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004-D285-40E7-9FF3-76261C46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7CB3-241B-4420-BD41-3901CE2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97DA-78B4-479B-AE53-F387DB0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318-943E-402F-B060-EC756825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4812-568F-48FB-B8A7-1CAC3E9D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A064-2E10-4677-BEA4-BD464AC1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CB6-0458-4C4B-8064-81236A0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171-0697-4CDE-AE6B-90763D54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BD7-5383-4B8E-B80F-CA6367E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0ED-01D2-404A-8732-C227097C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A53-64A0-4777-A490-878E009C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E57-9491-4804-A91F-90479A9D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1E-E2EE-4E94-9864-62B4DF70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D2C0-460F-49CE-BD5C-427E8ADAC8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71F5-439A-4D7C-B32F-E30C158B07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759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Arial Black"/>
              </a:rPr>
              <a:t>ОБЖ 9 класс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Arial Black"/>
              </a:rPr>
              <a:t>Тема: «Гражданская оборона как составная часть национальной безопасности и обороноспособности страны.»</a:t>
            </a:r>
            <a:r>
              <a:rPr b="0" lang="ru-RU" sz="4400" spc="-1" strike="noStrike">
                <a:solidFill>
                  <a:srgbClr val="330033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438280" y="4114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сько Александр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СОШ №-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ор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рганы управления гражданской обороно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2" descr="http://dom.pln24.ru/pictures/121227091344.jpg"/>
          <p:cNvPicPr/>
          <p:nvPr/>
        </p:nvPicPr>
        <p:blipFill>
          <a:blip r:embed="rId1"/>
          <a:stretch/>
        </p:blipFill>
        <p:spPr>
          <a:xfrm>
            <a:off x="237960" y="3571920"/>
            <a:ext cx="4400640" cy="30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www.32.mchs.gov.ru/upload/resize_cache/iblock/532/360_360_0/%20eoyucnboi%20yrnuwqwf-pmnygyixuruc%20pyhdwbgkdvsc.jpg"/>
          <p:cNvPicPr/>
          <p:nvPr/>
        </p:nvPicPr>
        <p:blipFill>
          <a:blip r:embed="rId2"/>
          <a:stretch/>
        </p:blipFill>
        <p:spPr>
          <a:xfrm>
            <a:off x="4578480" y="1682640"/>
            <a:ext cx="4187520" cy="279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gazeta.ru/files3/345/4783345/TASS_3181550-pic4_zoom-1000x1000-24431.jpg"/>
          <p:cNvPicPr/>
          <p:nvPr/>
        </p:nvPicPr>
        <p:blipFill>
          <a:blip r:embed="rId3"/>
          <a:stretch/>
        </p:blipFill>
        <p:spPr>
          <a:xfrm>
            <a:off x="158760" y="993600"/>
            <a:ext cx="346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с двумя скругленными противолежащими углами 2"/>
          <p:cNvSpPr/>
          <p:nvPr/>
        </p:nvSpPr>
        <p:spPr>
          <a:xfrm>
            <a:off x="228600" y="304920"/>
            <a:ext cx="3505320" cy="10666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Федеральн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с двумя скругленными противолежащими углами 3"/>
          <p:cNvSpPr/>
          <p:nvPr/>
        </p:nvSpPr>
        <p:spPr>
          <a:xfrm>
            <a:off x="228600" y="1676520"/>
            <a:ext cx="342900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с двумя скругленными противолежащими углами 4"/>
          <p:cNvSpPr/>
          <p:nvPr/>
        </p:nvSpPr>
        <p:spPr>
          <a:xfrm>
            <a:off x="228600" y="2895480"/>
            <a:ext cx="3406680" cy="116064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гиональн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с двумя скругленными противолежащими углами 5"/>
          <p:cNvSpPr/>
          <p:nvPr/>
        </p:nvSpPr>
        <p:spPr>
          <a:xfrm>
            <a:off x="228600" y="4292640"/>
            <a:ext cx="340668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ниципальн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с двумя скругленными противолежащими углами 6"/>
          <p:cNvSpPr/>
          <p:nvPr/>
        </p:nvSpPr>
        <p:spPr>
          <a:xfrm>
            <a:off x="228600" y="5445000"/>
            <a:ext cx="342900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ъектовый уров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с двумя скругленными соседними углами 7"/>
          <p:cNvSpPr/>
          <p:nvPr/>
        </p:nvSpPr>
        <p:spPr>
          <a:xfrm>
            <a:off x="4800600" y="304920"/>
            <a:ext cx="3981600" cy="10666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Ч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соседними углами 8"/>
          <p:cNvSpPr/>
          <p:nvPr/>
        </p:nvSpPr>
        <p:spPr>
          <a:xfrm>
            <a:off x="4724280" y="1676520"/>
            <a:ext cx="405288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гиональные центры МЧС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соседними углами 9"/>
          <p:cNvSpPr/>
          <p:nvPr/>
        </p:nvSpPr>
        <p:spPr>
          <a:xfrm>
            <a:off x="4800600" y="2895480"/>
            <a:ext cx="4038480" cy="116064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лавные управления МЧС России по субъектам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с двумя скругленными соседними углами 10"/>
          <p:cNvSpPr/>
          <p:nvPr/>
        </p:nvSpPr>
        <p:spPr>
          <a:xfrm>
            <a:off x="4800600" y="4221000"/>
            <a:ext cx="4092480" cy="91440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делы ГОЧС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с двумя скругленными соседними углами 11"/>
          <p:cNvSpPr/>
          <p:nvPr/>
        </p:nvSpPr>
        <p:spPr>
          <a:xfrm>
            <a:off x="4724280" y="5251320"/>
            <a:ext cx="4095720" cy="127332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руктурные подразделения (работники) организаций, уполномоченные на решение задач в области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3"/>
          <p:cNvCxnSpPr>
            <a:stCxn id="118" idx="9"/>
            <a:endCxn id="123" idx="9"/>
          </p:cNvCxnSpPr>
          <p:nvPr/>
        </p:nvCxnSpPr>
        <p:spPr>
          <a:xfrm>
            <a:off x="3733560" y="837720"/>
            <a:ext cx="1067400" cy="10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9" name="Прямая со стрелкой 17"/>
          <p:cNvCxnSpPr>
            <a:stCxn id="119" idx="9"/>
            <a:endCxn id="124" idx="9"/>
          </p:cNvCxnSpPr>
          <p:nvPr/>
        </p:nvCxnSpPr>
        <p:spPr>
          <a:xfrm>
            <a:off x="3657240" y="2133360"/>
            <a:ext cx="1067400" cy="10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30" name="Прямая со стрелкой 19"/>
          <p:cNvCxnSpPr>
            <a:stCxn id="120" idx="9"/>
            <a:endCxn id="125" idx="9"/>
          </p:cNvCxnSpPr>
          <p:nvPr/>
        </p:nvCxnSpPr>
        <p:spPr>
          <a:xfrm>
            <a:off x="3634920" y="3476160"/>
            <a:ext cx="1166040" cy="10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31" name="Прямая со стрелкой 21"/>
          <p:cNvCxnSpPr>
            <a:stCxn id="121" idx="9"/>
            <a:endCxn id="126" idx="9"/>
          </p:cNvCxnSpPr>
          <p:nvPr/>
        </p:nvCxnSpPr>
        <p:spPr>
          <a:xfrm flipV="1">
            <a:off x="3634920" y="4677480"/>
            <a:ext cx="1166040" cy="723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32" name="Прямая со стрелкой 23"/>
          <p:cNvCxnSpPr>
            <a:stCxn id="122" idx="9"/>
            <a:endCxn id="127" idx="9"/>
          </p:cNvCxnSpPr>
          <p:nvPr/>
        </p:nvCxnSpPr>
        <p:spPr>
          <a:xfrm flipV="1">
            <a:off x="3657240" y="5887440"/>
            <a:ext cx="1067400" cy="14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12556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с двумя скругленными противолежащими углами 2"/>
          <p:cNvSpPr/>
          <p:nvPr/>
        </p:nvSpPr>
        <p:spPr>
          <a:xfrm>
            <a:off x="900000" y="1197000"/>
            <a:ext cx="7786800" cy="14698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оходить обучение по гражданской оборо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с двумя скругленными противолежащими углами 3"/>
          <p:cNvSpPr/>
          <p:nvPr/>
        </p:nvSpPr>
        <p:spPr>
          <a:xfrm>
            <a:off x="900000" y="2819520"/>
            <a:ext cx="7786800" cy="175248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нимать участие в проведении мероприятий по гражданской оборо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двумя скругленными противолежащими углами 4"/>
          <p:cNvSpPr/>
          <p:nvPr/>
        </p:nvSpPr>
        <p:spPr>
          <a:xfrm>
            <a:off x="826920" y="4724280"/>
            <a:ext cx="7859880" cy="1981440"/>
          </a:xfrm>
          <a:prstGeom prst="pi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казывать содействие органам государственной власти и организациям в решении задач гражданской обор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ить хронологию истории создания гражданской об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с 1932 года по настоящее врем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1640" y="182880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еральный зак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 12.02.1998 г. № 28-Ф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 гражданской оборо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04296669"/>
          <p:cNvPicPr/>
          <p:nvPr/>
        </p:nvPicPr>
        <p:blipFill>
          <a:blip r:embed="rId1"/>
          <a:stretch/>
        </p:blipFill>
        <p:spPr>
          <a:xfrm>
            <a:off x="0" y="0"/>
            <a:ext cx="4419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slid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Гражданская оборона -</a:t>
            </a:r>
            <a:r>
              <a:rPr b="0" lang="ru-RU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стема мероприятий по подготовке к защите и по защите насел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материальных и культурных ценностей на территории РФ от опасностей, возникающ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 ведении военных 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вследствие этих действий, а такж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мирное врем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возникновении чрезвычайных ситуаций природного и техногенного харак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чи гражданской оборо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учение насел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ам защиты от опасностей, возникающих при ведении военных действий или вследствие этих действий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повещение насел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опасностях, возникающих в мирное и военн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чи гражданской оборо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селения, материальных и культурных цен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едоставл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селению средств коллективной и индивидуальной защиты (убежища, противогазы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оведение аварийно-спасательных работ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чи гражданской оборо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борьба с пожара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возникшими при ведении военных действий или вследствие эти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осстановление и поддержание поряд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йонах, пострадавших при Ч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рочное восстановление функционир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обходимых коммунальных служб в воен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1"/>
          <p:cNvSpPr/>
          <p:nvPr/>
        </p:nvSpPr>
        <p:spPr>
          <a:xfrm>
            <a:off x="838080" y="0"/>
            <a:ext cx="7910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уководство гражданской обороной в Российской Федерации осуществляет Правительство Российской Федерации. </a:t>
            </a:r>
            <a:br>
              <a:rPr sz="2200"/>
            </a:br>
            <a:br>
              <a:rPr sz="22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Государственную политику в области гражданской обороны осуществляе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едеральный орган исполнительной власти, уполномоченный Президентом Российской Федерации на решение задач в области гражданской обороны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(МЧС России).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www.76.mchs.gov.ru/upload/iblock/1e3/1e3a5a497f83c24a79f6cbb8b719227f.jpg"/>
          <p:cNvPicPr/>
          <p:nvPr/>
        </p:nvPicPr>
        <p:blipFill>
          <a:blip r:embed="rId1"/>
          <a:stretch/>
        </p:blipFill>
        <p:spPr>
          <a:xfrm>
            <a:off x="3124080" y="4572000"/>
            <a:ext cx="2862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5:44:45Z</dcterms:created>
  <dc:creator>максим</dc:creator>
  <dc:description/>
  <dc:language>en-US</dc:language>
  <cp:lastModifiedBy>Васько Александр Васильевич</cp:lastModifiedBy>
  <dcterms:modified xsi:type="dcterms:W3CDTF">2021-11-15T08:16:0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1d0000000000010243100207f6000400038000</vt:lpwstr>
  </property>
  <property fmtid="{D5CDD505-2E9C-101B-9397-08002B2CF9AE}" pid="3" name="Version">
    <vt:r8>1</vt:r8>
  </property>
</Properties>
</file>