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E871-60DB-49EE-ACE5-848BF5942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4E9C-7157-430C-A974-C19343C6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58EA-3DFA-442C-932F-9D59F3CEF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AF32-F0D5-487A-BE9F-D9CA8FA5C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4B15B-C48C-4723-B6F2-56B6855C7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796C-2298-4E36-9EAA-96337C7A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2ADE-9F27-4671-BAF6-F0760FC6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30FB-A33D-432B-B0A3-C6D848B5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9C2E-A4A5-4469-8D0C-A57D5F2E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8ED3-2905-4D7D-98E2-75D972F8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7510-0716-4BD0-8AA3-F81BC915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7221-2EBC-4772-B1A5-9CAD60BD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3D5D-399B-48FA-A748-12EE3E79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D8120-4012-4054-839D-23F8DF72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379CC-76B3-4603-9FC9-CE976D69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31EBD-1DD5-454C-9976-C5E5BC4DA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384A-0000-4DF6-ACDD-8BE82105D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9916B-39A2-4F53-9CB9-3001907A8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2097E-E8DB-4560-80C6-9B27A96B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DA9EB-9140-42B4-9C73-8611E160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6446C-D6AF-4348-A1B3-0ADAE71E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C76BE-E434-475D-83AC-A8BEB63C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B051-C95B-48EE-8E67-721F5AB0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F44EB-FF0C-4A27-8FF9-18BFC1AD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C858C-A1A1-49D2-A0BB-3EEC365F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805D4-8765-481F-8045-86F0938C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576D7-16D4-4762-9506-B1AF03BF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3BE7A-B45F-4A1F-B995-96B6A190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5F455-CE76-466A-B6D4-E157E8613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B15F9-FFBF-4BC3-A24C-7087E3B3C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4135B-CA0B-41F2-A2BD-277D33C0A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D0957-9011-4122-8149-8C73DFF5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6B712-273C-4BAD-A16F-00E0EAE0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54A9-6EBA-4BC9-A031-8A1B3461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3BF24-BCA4-4CB7-875E-AD79311C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92F70-9D6F-47D7-9BEC-5194CB2B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14820-8B92-4E04-8332-EAAFEFC6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833EC-32EE-4E46-B419-24D77C3C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DC914-5B36-43DE-BA65-2CF0C648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906F4-AF77-4EBD-8E25-3B084700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36705-BA12-4D01-9362-FAA0EE78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560D3-4930-4B6C-B8AE-541C788AE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42E48-654F-431E-86DE-A1064701F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EB19B-2C81-4487-8F0F-1329E9AB1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A99C-7E47-4FA7-9045-89C0F866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26048-0D64-4C02-921C-65F02688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FB32D-02A1-4215-AC72-ACAA1DDD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19C75-2E58-46A0-99D2-DF533A5E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8ED95-5DE1-4BF0-8214-59172549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A0548-3F45-4369-A8F9-A538471E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8B6E8-7DF3-4157-84EF-8292C916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E5B99-F20A-4B39-ABFB-F0D47789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1E17C-031F-466A-A6B9-7112AD12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A722E-7F88-47C4-A54E-5281D952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64FB3-365A-422C-BC93-FC50A6226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36FB-737D-4B72-8F91-1241447A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83116-F6E4-45C4-82C0-E7CCF5885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D5B13-BF50-4150-B4DE-853FCBE83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6EE70-6C64-4E65-AA66-C8C30F3B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F2A07-515B-42A3-96B7-91C79189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69F24-8BA3-4F65-A35B-18449FC6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CCC21-6D09-4FF3-BC8D-FF5F80E0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00635-8801-48EC-AC87-DC5A13DD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98D41-EFD0-4D89-9248-65413453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B43A7-920B-4CA4-B6EA-E8CCBFF5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DDAB7-22FD-4E9C-955A-5DA59D0D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A799-9DCC-4677-B32F-A92E75F2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A8DB7-1803-4911-AF10-4C7C0220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F7774-7E30-41BE-8BF7-EBF20D6FF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78AC5-3F99-4DC9-B691-24A372EE3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9B607-B4E0-44F8-8439-2E68AC753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84CF9-D01E-4C6E-B955-CCF2F32D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F9850-37AD-41BF-869C-FDA1B44C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FCED5-0190-4CDE-A805-B0C8FE11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3909D-C9D9-469E-B093-E39FD53C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52484-66A4-4555-91CB-3CF230DA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BA48A-0D2A-4AA8-A4EC-1B104E98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843F-EF3A-47D2-8BC4-80DFB38B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C87C4-3200-4A81-9D45-4ADF1B9B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B7320-7AF3-4B93-8EE6-FCCECA79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BA538-8EE2-435B-AA40-FFB174CB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27A6E-F70D-4971-BA44-C929A1FFB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71276-58D8-47C0-BAD0-E902E6712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8768-13E2-40D3-9367-0353F459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2E49-238C-4875-8585-EC7069A3F770}" type="slidenum">
              <a:rPr b="0" lang="ru-RU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1F6C-32BA-4BBB-884F-4C536BEF22D6}" type="slidenum">
              <a:rPr b="0" lang="ru-RU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AB85-66CB-43BD-86FF-1ACD6E3C12BE}" type="slidenum">
              <a:rPr b="0" lang="ru-RU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419A-282F-4534-A250-421DE01DDB0A}" type="slidenum">
              <a:rPr b="0" lang="ru-RU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BEA2-0671-42FB-AE3D-D568F5540076}" type="slidenum">
              <a:rPr b="0" lang="ru-RU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1D9E-4DBA-4E3E-877E-AE26543062F8}" type="slidenum">
              <a:rPr b="0" lang="ru-RU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fd6e2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4e7ed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79F9-F667-4C53-A97A-182767AFE89B}" type="slidenum">
              <a:rPr b="0" lang="ru-RU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91856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22ea4"/>
                </a:solidFill>
                <a:latin typeface="Corbel"/>
              </a:rPr>
              <a:t>Формирование биологических понятий средствами изобразительной наглядности у обучающихся с ограниченными возможностями здоровья.</a:t>
            </a:r>
            <a:br>
              <a:rPr sz="4300"/>
            </a:b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1434960" y="620280"/>
            <a:ext cx="7499520" cy="562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В ходе преподавания данного предмета и осуществляя поиск более эффективных видов изобразительной наглядности, для успешного усвоения понятий обучающимися, широко применяются различные приемы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rbel"/>
              </a:rPr>
              <a:t>Педагогический  рисунок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rbel"/>
              </a:rPr>
              <a:t>-линейный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rbel"/>
              </a:rPr>
              <a:t>-перспективный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rbel"/>
              </a:rPr>
              <a:t>-штриховой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rbel"/>
              </a:rPr>
              <a:t>Схемы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rbel"/>
              </a:rPr>
              <a:t>Таблицы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1434960" y="549000"/>
            <a:ext cx="749952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Грамотный педагогический рисунок развивает графи-ческое мышление, наблю-дательность, интерес к рисун-кам, повышает интерес и к самому предмету. Рисунок выполняется в процессе словесного пояснения педагога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rbel"/>
              </a:rPr>
              <a:t>Линейный</a:t>
            </a:r>
            <a:endParaRPr b="0" lang="en-US" sz="96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самый простой и распространён-ный. В нём предметы и явления изображаются одной сплошной линией без передачи светотеней и объёмной формы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1434960" y="476280"/>
            <a:ext cx="7499520" cy="57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rbel"/>
              </a:rPr>
              <a:t>перспективный</a:t>
            </a:r>
            <a:r>
              <a:rPr b="0" i="1" lang="ru-RU" sz="66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orbel"/>
              </a:rPr>
              <a:t>даёт более полное представление о пред-метах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900000" y="0"/>
            <a:ext cx="82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rbel"/>
              </a:rPr>
              <a:t>Штриховой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комбинирование коротких линий - (штрихов)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971280" y="0"/>
            <a:ext cx="849636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1434960" y="333000"/>
            <a:ext cx="7499520" cy="59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На уроках с успехом исполь-зуются схемы, которые поз-воляют лучше усвоить ма-териал, т.к. заключают в себя логическую после-довательность излагаемой  информации в виде рисунка и чертежей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434960" y="333000"/>
            <a:ext cx="7499520" cy="59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Задача учителя, используя схемы помочь ученикам создавать  определённые представления, научить их мыслить, сравнивать, анализировать, рассуждать, делать выводы, искать решения, т.к. схемы являются одной из наиболее доступных форм абстракции.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5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онятие </a:t>
            </a:r>
            <a:r>
              <a:rPr b="0" lang="ru-RU" sz="5200" spc="-1" strike="noStrike">
                <a:solidFill>
                  <a:srgbClr val="000000"/>
                </a:solidFill>
                <a:latin typeface="Arial"/>
                <a:ea typeface="Arial"/>
              </a:rPr>
              <a:t>-  </a:t>
            </a:r>
            <a:endParaRPr b="0" lang="en-US" sz="5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это отражение в сознании общих и существенных свойств, связей предметов и явлений окружающего мира. 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Дубровина И.В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434960" y="2421000"/>
            <a:ext cx="749952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rbel"/>
              </a:rPr>
              <a:t>ВИДЫ  СХЕМ</a:t>
            </a: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1434960" y="549000"/>
            <a:ext cx="749952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orbel"/>
              </a:rPr>
              <a:t>простая 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orbel"/>
              </a:rPr>
              <a:t>указываются понятия без пояснения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22ea4"/>
                </a:solidFill>
                <a:latin typeface="Corbel"/>
              </a:rPr>
              <a:t>Простая 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25056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войства вод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езцветная        без вкуса     без запах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342" name="Прямая со стрелкой 10"/>
          <p:cNvCxnSpPr/>
          <p:nvPr/>
        </p:nvCxnSpPr>
        <p:spPr>
          <a:xfrm>
            <a:off x="5651280" y="2133360"/>
            <a:ext cx="649800" cy="71964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43" name="Прямая со стрелкой 12"/>
          <p:cNvCxnSpPr/>
          <p:nvPr/>
        </p:nvCxnSpPr>
        <p:spPr>
          <a:xfrm flipH="1">
            <a:off x="2410920" y="2133360"/>
            <a:ext cx="1153440" cy="71964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44" name="Прямая со стрелкой 14"/>
          <p:cNvCxnSpPr/>
          <p:nvPr/>
        </p:nvCxnSpPr>
        <p:spPr>
          <a:xfrm>
            <a:off x="4355640" y="2060280"/>
            <a:ext cx="1080" cy="86436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rbel"/>
              </a:rPr>
              <a:t>цепочка 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orbel"/>
              </a:rPr>
              <a:t>в схеме понятия распо-лагаются по очеред-ности.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22ea4"/>
                </a:solidFill>
                <a:latin typeface="Corbel"/>
              </a:rPr>
              <a:t>Цепочка</a:t>
            </a:r>
            <a:r>
              <a:rPr b="0" lang="ru-RU" sz="4300" spc="-1" strike="noStrike">
                <a:solidFill>
                  <a:srgbClr val="c22ea4"/>
                </a:solidFill>
                <a:latin typeface="Corbel"/>
              </a:rPr>
              <a:t> 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ыхательная систем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осовая полост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лотк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Легкие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348" name="Прямая со стрелкой 8"/>
          <p:cNvCxnSpPr/>
          <p:nvPr/>
        </p:nvCxnSpPr>
        <p:spPr>
          <a:xfrm>
            <a:off x="4714920" y="1844640"/>
            <a:ext cx="2160" cy="72144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49" name="Прямая со стрелкой 10"/>
          <p:cNvCxnSpPr/>
          <p:nvPr/>
        </p:nvCxnSpPr>
        <p:spPr>
          <a:xfrm>
            <a:off x="4787640" y="2997000"/>
            <a:ext cx="1080" cy="64836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50" name="Прямая со стрелкой 12"/>
          <p:cNvCxnSpPr/>
          <p:nvPr/>
        </p:nvCxnSpPr>
        <p:spPr>
          <a:xfrm>
            <a:off x="4858920" y="4149360"/>
            <a:ext cx="1080" cy="86436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1434960" y="333000"/>
            <a:ext cx="7499520" cy="59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rbel"/>
              </a:rPr>
              <a:t>комбинированная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Наиболее эффективным приёмом на уроке является последовательная зарисовка в тетрадь схемы, которую учитель рисует на доске, т.е схема + рисунок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Так при  объяснении процесса развития бабочки – капустницы рекомендуется применять прием - педагогический рисунок в схеме. Учитель в ходе объяснения поэтапно зарисовывает, подписывает данный процесс в виде схемы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57200" y="-360"/>
            <a:ext cx="8686800" cy="7101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Ещё одно из эффективных наглядных средств, которое используется на уроках  биологии - таблица, в  которой последовательно заносится краткая информация об изучаемом объекте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25092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Учитель, излагая новый материал, одновременно с рассказом заполняет таблицу, в которой отражает основные понятия темы. Постепенно при обучении работе с таблицей возрастает доля  самостоятельности в выполнении заданий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ля активизации познавательной деятельности учащихся при работе с таблицами применяются следующие приёмы: подбор синонимов к названию таблицы и названию предметов изображенных на ней; составление рассказа и озаглавливание его; придумывание ситуации по опорным словам. Главное во всех этих заданиях - творческий, нестандартный подход к работе с таблице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..В. Савин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онятие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форма мышления, с помощью которой обобщаются существенные признаки предметов и явлений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ематическа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истемы органо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1523880" y="1484280"/>
          <a:ext cx="7151760" cy="4832280"/>
        </p:xfrm>
        <a:graphic>
          <a:graphicData uri="http://schemas.openxmlformats.org/drawingml/2006/table">
            <a:tbl>
              <a:tblPr/>
              <a:tblGrid>
                <a:gridCol w="2384640"/>
                <a:gridCol w="2384280"/>
                <a:gridCol w="23828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сист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Органы входящие в систе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Значение сист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125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ыхательн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осовая пол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ло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Бронх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Лег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96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ищеварительн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Желуд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еч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ишеч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ровенос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ердц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осу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ервн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пинной моз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оловной моз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ерв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1434960" y="333000"/>
            <a:ext cx="7499520" cy="59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равнительна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вудольные и однодольные расте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1523880" y="1773360"/>
          <a:ext cx="6096240" cy="3600360"/>
        </p:xfrm>
        <a:graphic>
          <a:graphicData uri="http://schemas.openxmlformats.org/drawingml/2006/table">
            <a:tbl>
              <a:tblPr/>
              <a:tblGrid>
                <a:gridCol w="1608120"/>
                <a:gridCol w="2455920"/>
                <a:gridCol w="20322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ризна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двудоль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однодоль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99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орневая сист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тержне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мочк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ве семядо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дна семядо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4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Жилкование листовых пластин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етчато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угов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араллельно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1434960" y="476280"/>
            <a:ext cx="7499520" cy="57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rbel"/>
              </a:rPr>
              <a:t>Комбинированная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Времена года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1523880" y="1916280"/>
          <a:ext cx="7151760" cy="4572000"/>
        </p:xfrm>
        <a:graphic>
          <a:graphicData uri="http://schemas.openxmlformats.org/drawingml/2006/table">
            <a:tbl>
              <a:tblPr/>
              <a:tblGrid>
                <a:gridCol w="1463760"/>
                <a:gridCol w="1513080"/>
                <a:gridCol w="2303280"/>
                <a:gridCol w="1871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Время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Осад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Раст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Характеристика по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с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Листья желтеют, опадают,  трава желте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ождли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Холодн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зи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*    . *    . *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****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Мороз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неж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Ме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ле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исунок дерева, трава, цв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Жар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олне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ес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*    *    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исунок дерева с почками, ручьи и тра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Тепл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етре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  <p:sp>
        <p:nvSpPr>
          <p:cNvPr id="362" name="Овал 4"/>
          <p:cNvSpPr/>
          <p:nvPr/>
        </p:nvSpPr>
        <p:spPr>
          <a:xfrm flipV="1">
            <a:off x="3132000" y="2637000"/>
            <a:ext cx="503280" cy="71280"/>
          </a:xfrm>
          <a:prstGeom prst="ellips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ая соединительная линия 6"/>
          <p:cNvSpPr/>
          <p:nvPr/>
        </p:nvSpPr>
        <p:spPr>
          <a:xfrm>
            <a:off x="3276720" y="2781360"/>
            <a:ext cx="0" cy="14292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ая соединительная линия 8"/>
          <p:cNvSpPr/>
          <p:nvPr/>
        </p:nvSpPr>
        <p:spPr>
          <a:xfrm>
            <a:off x="3564000" y="2781360"/>
            <a:ext cx="0" cy="216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ая соединительная линия 12"/>
          <p:cNvSpPr/>
          <p:nvPr/>
        </p:nvSpPr>
        <p:spPr>
          <a:xfrm>
            <a:off x="5364000" y="2565360"/>
            <a:ext cx="0" cy="64764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ая соединительная линия 14"/>
          <p:cNvSpPr/>
          <p:nvPr/>
        </p:nvSpPr>
        <p:spPr>
          <a:xfrm flipV="1">
            <a:off x="5364000" y="2707920"/>
            <a:ext cx="216000" cy="14436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ая соединительная линия 16"/>
          <p:cNvSpPr/>
          <p:nvPr/>
        </p:nvSpPr>
        <p:spPr>
          <a:xfrm flipH="1" flipV="1">
            <a:off x="5076720" y="2637000"/>
            <a:ext cx="287280" cy="7128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ая соединительная линия 18"/>
          <p:cNvSpPr/>
          <p:nvPr/>
        </p:nvSpPr>
        <p:spPr>
          <a:xfrm>
            <a:off x="5580000" y="2924280"/>
            <a:ext cx="144360" cy="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ая соединительная линия 21"/>
          <p:cNvSpPr/>
          <p:nvPr/>
        </p:nvSpPr>
        <p:spPr>
          <a:xfrm>
            <a:off x="5148360" y="2924280"/>
            <a:ext cx="144360" cy="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Овал 24"/>
          <p:cNvSpPr/>
          <p:nvPr/>
        </p:nvSpPr>
        <p:spPr>
          <a:xfrm>
            <a:off x="3276720" y="4365720"/>
            <a:ext cx="718920" cy="142920"/>
          </a:xfrm>
          <a:prstGeom prst="ellips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ая соединительная линия 26"/>
          <p:cNvSpPr/>
          <p:nvPr/>
        </p:nvSpPr>
        <p:spPr>
          <a:xfrm>
            <a:off x="5435640" y="4365720"/>
            <a:ext cx="0" cy="50328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ая соединительная линия 28"/>
          <p:cNvSpPr/>
          <p:nvPr/>
        </p:nvSpPr>
        <p:spPr>
          <a:xfrm flipV="1">
            <a:off x="5508720" y="4437000"/>
            <a:ext cx="358560" cy="216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ая соединительная линия 30"/>
          <p:cNvSpPr/>
          <p:nvPr/>
        </p:nvSpPr>
        <p:spPr>
          <a:xfrm flipH="1" flipV="1">
            <a:off x="5219280" y="4436640"/>
            <a:ext cx="144360" cy="14436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ая соединительная линия 32"/>
          <p:cNvSpPr/>
          <p:nvPr/>
        </p:nvSpPr>
        <p:spPr>
          <a:xfrm flipH="1" flipV="1">
            <a:off x="5579640" y="4292640"/>
            <a:ext cx="71640" cy="216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Выноска-облако 33"/>
          <p:cNvSpPr/>
          <p:nvPr/>
        </p:nvSpPr>
        <p:spPr>
          <a:xfrm>
            <a:off x="3203640" y="5229360"/>
            <a:ext cx="504720" cy="2872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Блок-схема: узел 34"/>
          <p:cNvSpPr/>
          <p:nvPr/>
        </p:nvSpPr>
        <p:spPr>
          <a:xfrm>
            <a:off x="3995640" y="5229360"/>
            <a:ext cx="289080" cy="144360"/>
          </a:xfrm>
          <a:prstGeom prst="flowChartConnector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ая соединительная линия 36"/>
          <p:cNvSpPr/>
          <p:nvPr/>
        </p:nvSpPr>
        <p:spPr>
          <a:xfrm flipH="1">
            <a:off x="3924000" y="5351400"/>
            <a:ext cx="114120" cy="936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ая соединительная линия 38"/>
          <p:cNvSpPr/>
          <p:nvPr/>
        </p:nvSpPr>
        <p:spPr>
          <a:xfrm>
            <a:off x="4140360" y="5373720"/>
            <a:ext cx="0" cy="216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ая соединительная линия 40"/>
          <p:cNvSpPr/>
          <p:nvPr/>
        </p:nvSpPr>
        <p:spPr>
          <a:xfrm>
            <a:off x="4241880" y="5351400"/>
            <a:ext cx="185760" cy="16524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ая соединительная линия 42"/>
          <p:cNvSpPr/>
          <p:nvPr/>
        </p:nvSpPr>
        <p:spPr>
          <a:xfrm>
            <a:off x="4241880" y="5249880"/>
            <a:ext cx="401400" cy="5076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ая соединительная линия 44"/>
          <p:cNvSpPr/>
          <p:nvPr/>
        </p:nvSpPr>
        <p:spPr>
          <a:xfrm flipH="1">
            <a:off x="3850920" y="5300640"/>
            <a:ext cx="144360" cy="7308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Выноска-облако 45"/>
          <p:cNvSpPr/>
          <p:nvPr/>
        </p:nvSpPr>
        <p:spPr>
          <a:xfrm flipV="1">
            <a:off x="3492360" y="6165720"/>
            <a:ext cx="503280" cy="216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ая соединительная линия 47"/>
          <p:cNvSpPr/>
          <p:nvPr/>
        </p:nvSpPr>
        <p:spPr>
          <a:xfrm>
            <a:off x="3564000" y="6381720"/>
            <a:ext cx="0" cy="216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ая соединительная линия 49"/>
          <p:cNvSpPr/>
          <p:nvPr/>
        </p:nvSpPr>
        <p:spPr>
          <a:xfrm>
            <a:off x="3924360" y="6381720"/>
            <a:ext cx="0" cy="14292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1434960" y="620280"/>
            <a:ext cx="7499520" cy="562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На этапе закрепления задания усложняются: первую половину таблицы в ходе объяснения материала заполняет учитель, а вторую обучающиеся самостоя-тельно во время работы с текстом учебника. Или учитель пишет в таблице понятие, а обучающиеся записывают пояснение понятий, делают зарисовки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1434960" y="404280"/>
            <a:ext cx="7499520" cy="584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изобразительной наглядности на уроках биологии значительно облегчает школьникам с нарушением интеллекта усвоение материала, повышает степень его осознания. Дети учатся использовать наглядные средства для получения знаний. Школьники упражняются в умении давать поясняющий текст при работе со схемами, рисунками, таблицами. Есть и другая сторона: ученик приобретает навыки оформления таблиц, схем, диаграмм, рисунков, позволяющих в иной форме, чем слово, представить те или иные данные. Систематическое применение таких приёмов формирует у обучающихся с нарушением интеллекта умение воспри-нимать объект во всём многообразии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r>
              <a:rPr b="0" lang="ru-RU" sz="3900" spc="-1" strike="noStrike">
                <a:solidFill>
                  <a:srgbClr val="c22ea4"/>
                </a:solidFill>
                <a:latin typeface="Corbel"/>
              </a:rPr>
              <a:t>ЭТАПЫ УСВОЕНИЯ ПОНЯТИЙ</a:t>
            </a:r>
            <a:endParaRPr b="0" lang="en-US" sz="3900" spc="-1" strike="noStrike">
              <a:solidFill>
                <a:srgbClr val="c22ea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*восприятие конкретных предметов;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*вовлечение в познание предшествующего опыта;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*умение наблюдать, понимать, осмысливать, обобщать, оречевлять;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1042560" y="333000"/>
            <a:ext cx="7891560" cy="59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При формировании биоло-гических понятий, нагляд-ность является важным составным моментов уро-ков биологии.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С помощью наглядных средств становится воз-можным: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620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создание чётких и конкретных обра-зов изучаемых объектов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облегчение усвоения учебного мате-риала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активизация мыслительной деятель-ность обучающихся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способствует развитию произволь-ного внимания, восприятия, памяти школьников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стимулирует процесс познания.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Наглядное обучение направляется на то, чтобы, с одной стороны, вызвать у ученика потребность к знанию, стимулировать работу мысли и, с другой стороны, обес-печить более тесное единство вос-приятия с абстрактным мышле-нием. Большое значение имеет правильное сочетание слова учителя и наглядности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мимо картин и объектов натуральной наглядности целесообразно использовать графические изображения в виде схем, таблиц, графиков, картосхем, усложняющихся как по форме, так и по со-держанию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рафические работы занимают особое мес-то на уроках естествознания, что объяс-няется их дидактической значимостью с одной стороны и коррекционным воз-действием на личность  ребенка с ОВЗ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5:26:47Z</dcterms:created>
  <dc:creator>Пользователь</dc:creator>
  <dc:description/>
  <dc:language>en-US</dc:language>
  <cp:lastModifiedBy>Пользователь</cp:lastModifiedBy>
  <dcterms:modified xsi:type="dcterms:W3CDTF">2019-08-20T13:44:12Z</dcterms:modified>
  <cp:revision>47</cp:revision>
  <dc:subject/>
  <dc:title>Формирование биологических понятий средствами изобразительной наглядности у учащихся с ограниченными возможностями здоровья.</dc:title>
</cp:coreProperties>
</file>