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D85-A2A2-4353-868A-4CD41E81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C98-AC79-4A8A-8A34-7605660C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54A-94F9-4E48-A750-D806EC22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505-1AF6-47C1-B14C-64E6B75F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8A7-9270-4468-B48C-EE2B881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310-BDFB-4954-98AC-C6F283A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A7C7-A2AC-4D8B-A440-E5D0C6F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3951-07E0-4B0B-86D6-0101047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577C-94CE-46E4-8058-99306E3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9369-4D53-4DE7-AC68-71A3CB0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1855-7C7E-41E8-9139-80B14DD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7EC-8504-4EE8-8976-1B4C623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1DA9-08F2-4D67-A6E9-2DA5979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C25A-9E6D-4162-8B67-B146DBC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7161-31FC-4C6C-879B-4C7882B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92F-7056-4E26-B004-6C828ED6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FE91-B805-494E-A4C1-E4287868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428E-66B3-40D8-845E-D3EFB0F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2A4D-7943-48C6-9E5F-B1B2EDC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9996-1FB3-46A9-9780-16E5A02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6E6C-AC9D-4C9B-8284-67C869A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0712-9160-49F0-8C9D-BA2C737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FE8-78FC-4525-B566-B3C2FBC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C1B2-E691-4EF4-AA24-040C709B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B86B-A6BC-4E60-85C9-9501161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C9F9-9721-4F46-8C19-FE3585A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5464-2998-4066-9A04-239407B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1E16-2470-4CAD-B9EC-BBB1BF7D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379C-F51D-4F95-A370-26C8AFD3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D6CB-FB54-405B-B991-CE458F5F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9D5C-6B14-4935-9204-F01EC7F2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A61B-1CB8-40D7-BE2B-D17C2016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2776-9667-410F-A7DA-6190B2EE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857-3BA0-4375-A27D-29271DEF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CE3B-E5FC-488E-A405-42076A7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8E9B-61ED-46ED-8222-102D393B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94DD-1D19-451D-A5C4-65799CD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31CD-D23B-4F0C-BF3D-C682DF6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8B30-5627-49E9-B703-001E24B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3365-F3AD-45C0-BECC-CFB7F71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E9F1-48EE-4304-9543-EFB95BC9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FF27-E08D-4B9B-8C93-EB35549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2E33-E75B-4EEA-935B-5542F6E7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FFFE-71B4-43CC-B857-844449FB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610-2762-49A5-9F0E-AC0AEC9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9F7D-F347-4A1E-986E-C68C0689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74FC-4081-4B2E-B5E8-951F798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AEAF-F542-4C05-A9AA-7126222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EB62-E523-47DE-897D-831330C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46DC-E88C-4053-8D41-BD00910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EE0E-AF82-426D-A055-CC984CE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8C2F-0D5F-4B3C-B190-FE7FBF0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2CA8-5B52-4D68-949B-C9B3A68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5486-37E6-4C48-A156-92CE29CD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3A0E-BFE9-4559-98D8-F5259201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CCD-0884-4181-81FE-C29AE18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D640-C6DE-41BA-B525-7A5E88FA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1A5C-1CFF-4BF2-9F06-74FECA0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36FC-501A-4574-BB9D-DD7FEFC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1E54-9FBF-456E-9730-A85CE68E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90AD-5A12-4BFA-88E8-A91DB0B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5D8D-B16C-4103-9708-2B120884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A172-7F47-46FF-9A22-AB1278FD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E311-5018-4785-92E8-247D5544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938F-0070-4FED-9ED4-B4274F2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E0BAB-C596-4F98-8FC0-E9537D4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0EE-E6E5-48FD-9D49-0CB18D2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7071-84CA-4D6E-8E7B-3EA01706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CA8F-BC2C-4624-8F95-B44338E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280D-E18A-4908-A852-B918C19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279F-9F79-4044-BC4B-82D11F8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32CF-2A1E-492C-AAF2-1B27B4FD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15506-2750-4B37-A6A4-F7B6063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ACD4-58A1-4959-B36D-5ECE24E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30B8-2703-4A35-9403-13D27E3F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F59A1-F792-4E24-AEF4-BB3DB2B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D01D-0507-4B36-ADBA-F1C2C10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361-69CF-4F98-9D82-B037F57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9F10-28FE-406D-8DB9-E785266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F2CA-AE38-4D23-AE60-06C7AC9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25B6-827E-40FA-B880-A01027A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6D9B-B889-402E-BA49-4292FF15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405F-A268-4641-BF8B-673599ED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FED-850E-4AF3-AC58-5BFDF26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105-06DA-4E97-A20D-0067255C8868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114F-B06D-40E8-91BC-3FB21E4E8CBA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500-2DDC-40A2-8BD2-7BF27792DA80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4AB4-84D5-44FC-89F8-C21668F160CB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DF09-A4B6-45E1-8EA1-E23E40A17B2D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27DE-432C-48A4-BD36-A6208CCF8148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141-6D09-4789-89EB-BCB4BD49F64C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Формирование биологических понятий средствами изобразительной наглядности у обучающихся с ограниченными возможностями здоровья.</a:t>
            </a:r>
            <a:br>
              <a:rPr sz="4300"/>
            </a:b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ходе преподавания данного предмета и осуществляя поиск более эффективных видов изобразительной наглядности, для успешного усвоения понятий обучающимися, широко применяются различные приемы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Педагогический  рисуно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линей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перспектив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штрихово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Таблицы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549000"/>
            <a:ext cx="7499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рамотный педагогический рисунок развивает графи-ческое мышление, наблю-дательность, интерес к рисун-кам, повышает интерес и к самому предмету. Рисунок выполняется в процессе словесного пояснения педагог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rbel"/>
              </a:rPr>
              <a:t>Линейный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ый простой и распространён-ный. В нём предметы и явления изображаются одной сплошной линией без передачи светотеней и объёмной форм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476280"/>
            <a:ext cx="74995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перспективный</a:t>
            </a:r>
            <a:r>
              <a:rPr b="0" i="1" lang="ru-RU" sz="6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даёт более полное представление о пред-метах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00000" y="0"/>
            <a:ext cx="82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Штрихово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комбинирование коротких линий - (штрихов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71280" y="0"/>
            <a:ext cx="849636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На уроках с успехом исполь-зуются схемы, которые поз-воляют лучше усвоить ма-териал, т.к. заключают в себя логическую после-довательность излагаемой  информации в виде рисунка и чертеже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дача учителя, используя схемы помочь ученикам создавать  определённые представления, научить их мыслить, сравнивать, анализировать, рассуждать, делать выводы, искать решения, т.к. схемы являются одной из наиболее доступных форм абстракции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5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ятие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endParaRPr b="0" lang="en-US" sz="5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это отражение в сознании общих и существенных свойств, связей предметов и явлений окружающего мира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убровина И.В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2421000"/>
            <a:ext cx="74995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rbel"/>
              </a:rPr>
              <a:t>ВИДЫ  СХЕМ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434960" y="549000"/>
            <a:ext cx="7499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простая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указываются понятия без пояснени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остая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ойства 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цветная        без вкуса     без запах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2" name="Прямая со стрелкой 10"/>
          <p:cNvCxnSpPr/>
          <p:nvPr/>
        </p:nvCxnSpPr>
        <p:spPr>
          <a:xfrm>
            <a:off x="5651280" y="2133360"/>
            <a:ext cx="649800" cy="719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3" name="Прямая со стрелкой 12"/>
          <p:cNvCxnSpPr/>
          <p:nvPr/>
        </p:nvCxnSpPr>
        <p:spPr>
          <a:xfrm flipH="1">
            <a:off x="2410920" y="2133360"/>
            <a:ext cx="1153440" cy="719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/>
          <p:nvPr/>
        </p:nvCxnSpPr>
        <p:spPr>
          <a:xfrm>
            <a:off x="4355640" y="2060280"/>
            <a:ext cx="1080" cy="864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цепочка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в схеме понятия распо-лагаются по очеред-ности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22ea4"/>
                </a:solidFill>
                <a:latin typeface="Corbel"/>
              </a:rPr>
              <a:t>Цепочка</a:t>
            </a: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ыхательн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совая пол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о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гк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8" name="Прямая со стрелкой 8"/>
          <p:cNvCxnSpPr/>
          <p:nvPr/>
        </p:nvCxnSpPr>
        <p:spPr>
          <a:xfrm>
            <a:off x="4714920" y="1844640"/>
            <a:ext cx="2160" cy="7214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9" name="Прямая со стрелкой 10"/>
          <p:cNvCxnSpPr/>
          <p:nvPr/>
        </p:nvCxnSpPr>
        <p:spPr>
          <a:xfrm>
            <a:off x="4787640" y="2997000"/>
            <a:ext cx="1080" cy="648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0" name="Прямая со стрелкой 12"/>
          <p:cNvCxnSpPr/>
          <p:nvPr/>
        </p:nvCxnSpPr>
        <p:spPr>
          <a:xfrm>
            <a:off x="4858920" y="4149360"/>
            <a:ext cx="1080" cy="864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омбинированная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иболее эффективным приёмом на уроке является последовательная зарисовка в тетрадь схемы, которую учитель рисует на доске, т.е схема + рисун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ак при  объяснении процесса развития бабочки – капустницы рекомендуется применять прием - педагогический рисунок в схеме. Учитель в ходе объяснения поэтапно зарисовывает, подписывает данный процесс в виде схем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-360"/>
            <a:ext cx="8686800" cy="7101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Ещё одно из эффективных наглядных средств, которое используется на уроках  биологии - таблица, в  которой последовательно заносится краткая информация об изучаемом объекте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5092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Учитель, излагая новый материал, одновременно с рассказом заполняет таблицу, в которой отражает основные понятия темы. Постепенно при обучении работе с таблицей возрастает доля  самостоятельности в выполнении задан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активизации познавательной деятельности учащихся при работе с таблицами применяются следующие приёмы: подбор синонимов к названию таблицы и названию предметов изображенных на ней; составление рассказа и озаглавливание его; придумывание ситуации по опорным словам. Главное во всех этих заданиях - творческий, нестандартный подход к работе с таблиц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..В. Савин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яти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форма мышления, с помощью которой обобщаются существенные признаки предметов и явлений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ат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ы орган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23880" y="1484280"/>
          <a:ext cx="7151760" cy="483228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рганы входящие в сис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че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ыха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совая по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о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рон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ег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ищевари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ишеч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овено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су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р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ин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р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ель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удольные и однодольные раст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523880" y="1773360"/>
          <a:ext cx="6096240" cy="3600360"/>
        </p:xfrm>
        <a:graphic>
          <a:graphicData uri="http://schemas.openxmlformats.org/drawingml/2006/table">
            <a:tbl>
              <a:tblPr/>
              <a:tblGrid>
                <a:gridCol w="1608120"/>
                <a:gridCol w="2455920"/>
                <a:gridCol w="20322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ву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дно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не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ержн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чк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ве семяд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дна семяд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илкование листовых пласти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тча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у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лл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34960" y="476280"/>
            <a:ext cx="74995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Комбинированна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3880" y="1916280"/>
          <a:ext cx="7151760" cy="4572000"/>
        </p:xfrm>
        <a:graphic>
          <a:graphicData uri="http://schemas.openxmlformats.org/drawingml/2006/table">
            <a:tbl>
              <a:tblPr/>
              <a:tblGrid>
                <a:gridCol w="1463760"/>
                <a:gridCol w="1513080"/>
                <a:gridCol w="2303280"/>
                <a:gridCol w="187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ремя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сад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ст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по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истья желтеют, опадают,  трава желт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ждл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ол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    . *    . *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***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роз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неж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 дерева, трава, ц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ар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лне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    *   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 дерева с почками, ручьи и 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п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тр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62" name="Овал 4"/>
          <p:cNvSpPr/>
          <p:nvPr/>
        </p:nvSpPr>
        <p:spPr>
          <a:xfrm flipV="1">
            <a:off x="3132000" y="2637000"/>
            <a:ext cx="503280" cy="7128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6"/>
          <p:cNvSpPr/>
          <p:nvPr/>
        </p:nvSpPr>
        <p:spPr>
          <a:xfrm>
            <a:off x="3276720" y="2781360"/>
            <a:ext cx="0" cy="1429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8"/>
          <p:cNvSpPr/>
          <p:nvPr/>
        </p:nvSpPr>
        <p:spPr>
          <a:xfrm>
            <a:off x="3564000" y="278136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"/>
          <p:cNvSpPr/>
          <p:nvPr/>
        </p:nvSpPr>
        <p:spPr>
          <a:xfrm>
            <a:off x="5364000" y="2565360"/>
            <a:ext cx="0" cy="6476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4"/>
          <p:cNvSpPr/>
          <p:nvPr/>
        </p:nvSpPr>
        <p:spPr>
          <a:xfrm flipV="1">
            <a:off x="5364000" y="2707920"/>
            <a:ext cx="216000" cy="1443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6"/>
          <p:cNvSpPr/>
          <p:nvPr/>
        </p:nvSpPr>
        <p:spPr>
          <a:xfrm flipH="1" flipV="1">
            <a:off x="5076720" y="2637000"/>
            <a:ext cx="28728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8"/>
          <p:cNvSpPr/>
          <p:nvPr/>
        </p:nvSpPr>
        <p:spPr>
          <a:xfrm>
            <a:off x="5580000" y="2924280"/>
            <a:ext cx="144360" cy="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1"/>
          <p:cNvSpPr/>
          <p:nvPr/>
        </p:nvSpPr>
        <p:spPr>
          <a:xfrm>
            <a:off x="5148360" y="2924280"/>
            <a:ext cx="144360" cy="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24"/>
          <p:cNvSpPr/>
          <p:nvPr/>
        </p:nvSpPr>
        <p:spPr>
          <a:xfrm>
            <a:off x="3276720" y="4365720"/>
            <a:ext cx="718920" cy="14292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26"/>
          <p:cNvSpPr/>
          <p:nvPr/>
        </p:nvSpPr>
        <p:spPr>
          <a:xfrm>
            <a:off x="5435640" y="4365720"/>
            <a:ext cx="0" cy="503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28"/>
          <p:cNvSpPr/>
          <p:nvPr/>
        </p:nvSpPr>
        <p:spPr>
          <a:xfrm flipV="1">
            <a:off x="5508720" y="4437000"/>
            <a:ext cx="35856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0"/>
          <p:cNvSpPr/>
          <p:nvPr/>
        </p:nvSpPr>
        <p:spPr>
          <a:xfrm flipH="1" flipV="1">
            <a:off x="5219280" y="4436640"/>
            <a:ext cx="144360" cy="1443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2"/>
          <p:cNvSpPr/>
          <p:nvPr/>
        </p:nvSpPr>
        <p:spPr>
          <a:xfrm flipH="1" flipV="1">
            <a:off x="5579640" y="4292640"/>
            <a:ext cx="7164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носка-облако 33"/>
          <p:cNvSpPr/>
          <p:nvPr/>
        </p:nvSpPr>
        <p:spPr>
          <a:xfrm>
            <a:off x="3203640" y="5229360"/>
            <a:ext cx="504720" cy="28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Блок-схема: узел 34"/>
          <p:cNvSpPr/>
          <p:nvPr/>
        </p:nvSpPr>
        <p:spPr>
          <a:xfrm>
            <a:off x="3995640" y="5229360"/>
            <a:ext cx="289080" cy="144360"/>
          </a:xfrm>
          <a:prstGeom prst="flowChartConnector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36"/>
          <p:cNvSpPr/>
          <p:nvPr/>
        </p:nvSpPr>
        <p:spPr>
          <a:xfrm flipH="1">
            <a:off x="3924000" y="5351400"/>
            <a:ext cx="114120" cy="936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38"/>
          <p:cNvSpPr/>
          <p:nvPr/>
        </p:nvSpPr>
        <p:spPr>
          <a:xfrm>
            <a:off x="4140360" y="537372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40"/>
          <p:cNvSpPr/>
          <p:nvPr/>
        </p:nvSpPr>
        <p:spPr>
          <a:xfrm>
            <a:off x="4241880" y="5351400"/>
            <a:ext cx="185760" cy="1652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42"/>
          <p:cNvSpPr/>
          <p:nvPr/>
        </p:nvSpPr>
        <p:spPr>
          <a:xfrm>
            <a:off x="4241880" y="5249880"/>
            <a:ext cx="401400" cy="507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44"/>
          <p:cNvSpPr/>
          <p:nvPr/>
        </p:nvSpPr>
        <p:spPr>
          <a:xfrm flipH="1">
            <a:off x="3850920" y="5300640"/>
            <a:ext cx="144360" cy="730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45"/>
          <p:cNvSpPr/>
          <p:nvPr/>
        </p:nvSpPr>
        <p:spPr>
          <a:xfrm flipV="1">
            <a:off x="3492360" y="6165720"/>
            <a:ext cx="503280" cy="21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47"/>
          <p:cNvSpPr/>
          <p:nvPr/>
        </p:nvSpPr>
        <p:spPr>
          <a:xfrm>
            <a:off x="3564000" y="638172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49"/>
          <p:cNvSpPr/>
          <p:nvPr/>
        </p:nvSpPr>
        <p:spPr>
          <a:xfrm>
            <a:off x="3924360" y="6381720"/>
            <a:ext cx="0" cy="1429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этапе закрепления задания усложняются: первую половину таблицы в ходе объяснения материала заполняет учитель, а вторую обучающиеся самостоя-тельно во время работы с текстом учебника. Или учитель пишет в таблице понятие, а обучающиеся записывают пояснение понятий, делают зарисов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образительной наглядности на уроках биологии значительно облегчает школьникам с нарушением интеллекта усвоение материала, повышает степень его осознания. Дети учатся использовать наглядные средства для получения знаний. Школьники упражняются в умении давать поясняющий текст при работе со схемами, рисунками, таблицами. Есть и другая сторона: ученик приобретает навыки оформления таблиц, схем, диаграмм, рисунков, позволяющих в иной форме, чем слово, представить те или иные данные. Систематическое применение таких приёмов формирует у обучающихся с нарушением интеллекта умение воспри-нимать объект во всём многообраз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ЭТАПЫ УСВОЕНИЯ ПОНЯТИЙ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восприятие конкретных предметов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вовлечение в познание предшествующего опыта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умение наблюдать, понимать, осмысливать, обобщать, оречевлять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78915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ри формировании биоло-гических понятий, нагляд-ность является важным составным моментов уро-ков биологии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С помощью наглядных средств становится воз-можным: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здание чётких и конкретных обра-зов изучаемых объект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блегчение усвоения учебного мате-риал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ктивизация мыслительной деятель-ность обучаю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пособствует развитию произволь-ного внимания, восприятия, памяти школьник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имулирует процесс познания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аглядное обучение направляется на то, чтобы, с одной стороны, вызвать у ученика потребность к знанию, стимулировать работу мысли и, с другой стороны, обес-печить более тесное единство вос-приятия с абстрактным мышле-нием. Большое значение имеет правильное сочетание слова учителя и наглядност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имо картин и объектов натуральной наглядности целесообразно использовать графические изображения в виде схем, таблиц, графиков, картосхем, усложняющихся как по форме, так и по со-держани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афические работы занимают особое мес-то на уроках естествознания, что объяс-няется их дидактической значимостью с одной стороны и коррекционным воз-действием на личность  ребенка с ОВ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26:47Z</dcterms:created>
  <dc:creator>Пользователь</dc:creator>
  <dc:description/>
  <dc:language>en-US</dc:language>
  <cp:lastModifiedBy>Пользователь</cp:lastModifiedBy>
  <dcterms:modified xsi:type="dcterms:W3CDTF">2019-08-20T13:44:12Z</dcterms:modified>
  <cp:revision>47</cp:revision>
  <dc:subject/>
  <dc:title>Формирование биологических понятий средствами изобразительной наглядности у учащихся с ограниченными возможностями здоровья.</dc:title>
</cp:coreProperties>
</file>