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395-E268-484F-82AB-D9BC2A9674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66D-A248-4A72-A794-7AEF076F2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C6E-CB90-4B32-8381-1003202D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A30-DC81-4B92-9275-AC73AFD5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554-E860-49C0-81FE-E511396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5E0-4EBE-42FF-924E-C69B100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D379-8A9C-4279-A4F3-ACCA4E3E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F60C-E8FC-41D9-B68A-00563D26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D6D3-EB46-4A74-B9DB-C2C2B36A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AA76-48FC-4002-8767-6D21901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B228-3D4F-49E1-AEDF-E32E133B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CAFA-5858-4CFA-99FB-6A1CFAE8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8867-C57D-4F1A-8AF1-E58105B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213-27C3-44D2-A638-DABBCAF6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1520-5480-4FC2-99F0-79FB54D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CD15-555E-416F-9830-249ABE2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12D-FF4B-4605-9CC8-C7447720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978F-AEA3-4FDB-BEB4-F59806E3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3C6-44A3-41B7-8C7E-6DC458C4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4D5A-7D7B-4A94-BFF8-91CED3F8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D6B9-323E-41BF-A942-ED5FF207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6D7B-5A1E-4FBB-8959-9FB2983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5634-DB61-4F3E-BB72-77E17E53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744F-13E7-44E5-9DE2-D6B721AB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F82-AFF9-49CA-9B6D-7937766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BA70-042A-46D5-A9E2-EDC13CC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E5F1-6AC8-4962-BC7F-2D6927D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B0D2-7B3E-4DD9-9C54-FFE93622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186A-4994-4BF4-A1E2-014DD0D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D4C3-93F2-4810-BD91-047AF301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537B-0684-42F9-AFD4-C0D9C9D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CF6E-4366-46BE-92F2-310142F1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7007-2534-47C6-9B49-E9E0D795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66B6-9365-4172-9C31-81E3970E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129E-6773-43D0-9067-1E5B098C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4DA-94BE-4A40-B9F7-71A7967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50A1-BCBB-48D6-B4CA-D1B1E9E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73124-1F43-4CCC-8630-DDDF9F9E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B9AF-3D79-4D36-89C6-84E8405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8373-6423-426D-9F29-0967AB6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71D9-D58B-41CF-B9F1-2EC8933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0DBC-92AB-499F-9C87-C30E6BD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6B2A-0DD3-4C69-A93F-26BFBFC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BAD2-CF10-42AB-A8C9-0884744F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ECC4-1E6F-46F8-9D08-92CC049C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460-E675-4FB6-8154-AD264D4C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56F-FC81-4B7F-8C5B-C702794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F41-920F-468E-8541-564C2B3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F8D-4391-4FDC-87B4-063DCF0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DE0-2EAD-4612-91EC-6148C21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55C7-B952-4BDA-92A8-FA5ECB0118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6A2-53B5-4E5E-B13F-C6CA1694739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9A0F-18EC-4232-9D42-2ED86C4256C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A702-4DF4-44DB-845E-05B67D91BB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9040" y="712800"/>
            <a:ext cx="8540640" cy="3036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Если видишь с  водорода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друг, та формула начнётся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о таких с десяток формул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ыучить тебе придётся!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он эта видишь с кислородом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Бескислородная вон та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о у них одна природа,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се с названьем кислота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И Н Ф О Р М А Ц И О Н Н А 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25" name="Organization Chart 48"/>
          <p:cNvGrpSpPr/>
          <p:nvPr/>
        </p:nvGrpSpPr>
        <p:grpSpPr>
          <a:xfrm>
            <a:off x="457200" y="1857240"/>
            <a:ext cx="8228520" cy="4465800"/>
            <a:chOff x="457200" y="1857240"/>
            <a:chExt cx="8228520" cy="4465800"/>
          </a:xfrm>
        </p:grpSpPr>
        <p:cxnSp>
          <p:nvCxnSpPr>
            <p:cNvPr id="226" name="_s1028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32240" y="2981880"/>
              <a:ext cx="893880" cy="2215440"/>
            </a:xfrm>
            <a:prstGeom prst="bentConnector3">
              <a:avLst>
                <a:gd name="adj1" fmla="val 12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029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6440" y="2981880"/>
              <a:ext cx="893880" cy="2216160"/>
            </a:xfrm>
            <a:prstGeom prst="bentConnector3">
              <a:avLst>
                <a:gd name="adj1" fmla="val 12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" name="_s1030"/>
            <p:cNvSpPr/>
            <p:nvPr/>
          </p:nvSpPr>
          <p:spPr>
            <a:xfrm>
              <a:off x="2673000" y="1857240"/>
              <a:ext cx="3797640" cy="178632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исл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457200" y="4536720"/>
              <a:ext cx="3797640" cy="178632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C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4888080" y="4536720"/>
              <a:ext cx="3797640" cy="178632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ислород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держащ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NO</a:t>
              </a:r>
              <a:r>
                <a:rPr b="1" lang="ru-RU" sz="3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</a:t>
              </a:r>
              <a:r>
                <a:rPr b="1" lang="en-US" sz="3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ru-RU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Классификация кислот по основност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2" name="Organization Chart 6"/>
          <p:cNvGrpSpPr/>
          <p:nvPr/>
        </p:nvGrpSpPr>
        <p:grpSpPr>
          <a:xfrm>
            <a:off x="457200" y="1935000"/>
            <a:ext cx="8228520" cy="4388400"/>
            <a:chOff x="457200" y="1935000"/>
            <a:chExt cx="8228520" cy="4388400"/>
          </a:xfrm>
        </p:grpSpPr>
        <p:cxnSp>
          <p:nvCxnSpPr>
            <p:cNvPr id="233" name="_s2052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40160" y="3021120"/>
              <a:ext cx="878400" cy="221544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2053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4000" y="3021120"/>
              <a:ext cx="878400" cy="22161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5" name="_s2054"/>
            <p:cNvSpPr/>
            <p:nvPr/>
          </p:nvSpPr>
          <p:spPr>
            <a:xfrm>
              <a:off x="2673000" y="1935000"/>
              <a:ext cx="3797640" cy="175536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кислот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2055"/>
            <p:cNvSpPr/>
            <p:nvPr/>
          </p:nvSpPr>
          <p:spPr>
            <a:xfrm>
              <a:off x="457200" y="4568040"/>
              <a:ext cx="3797640" cy="175536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дно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NO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,</a:t>
              </a: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HC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4888080" y="4568040"/>
              <a:ext cx="3797640" cy="175536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ного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0" lang="en-US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,</a:t>
              </a: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0" lang="ru-RU" sz="33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И Н Д И К А Т О Р Н А Я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4" descr="C:\Documents and Settings\Admin\Рабочий стол\Новая папка\DSC01580.JPG"/>
          <p:cNvPicPr/>
          <p:nvPr/>
        </p:nvPicPr>
        <p:blipFill>
          <a:blip r:embed="rId1"/>
          <a:stretch/>
        </p:blipFill>
        <p:spPr>
          <a:xfrm>
            <a:off x="642960" y="2071800"/>
            <a:ext cx="3649680" cy="4389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Рабочий стол\Новая папка\DSC01579.JPG"/>
          <p:cNvPicPr/>
          <p:nvPr/>
        </p:nvPicPr>
        <p:blipFill>
          <a:blip r:embed="rId2"/>
          <a:stretch/>
        </p:blipFill>
        <p:spPr>
          <a:xfrm>
            <a:off x="4857840" y="2071800"/>
            <a:ext cx="36432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r>
              <a:rPr b="0" lang="ru-RU" sz="7200" spc="-1" strike="noStrike">
                <a:solidFill>
                  <a:srgbClr val="04617b"/>
                </a:solidFill>
                <a:latin typeface="Calibri"/>
              </a:rPr>
              <a:t>ИНДИКАТОРНАЯ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ЭТА   ЖЁЛТАЯ   БУМАЖ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ВСЁ   ПОКАЖЕТ   БЕЗ   ТРУД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СИНЕЕТ   -   В   КОЛБЕ   ЩЁЛОЧЬ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ОКРАСНЕЕТ   -   КИСЛО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</a:t>
            </a: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ИСТОРИЧЕСКАЯ»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амая первая кислота, которую научился получать и использовать человек – уксусная кислот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ерная кислота  называется «матерью всех кислот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«Дегустационная»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се кислоты  кислые на вкус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ак вот из-за того, что они кислые, эти вещества давным-давно назвали кислотам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Значение   кисло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7" descr="витамин с"/>
          <p:cNvPicPr/>
          <p:nvPr/>
        </p:nvPicPr>
        <p:blipFill>
          <a:blip r:embed="rId1"/>
          <a:stretch/>
        </p:blipFill>
        <p:spPr>
          <a:xfrm>
            <a:off x="357120" y="2143080"/>
            <a:ext cx="4214880" cy="378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SUC50762"/>
          <p:cNvPicPr/>
          <p:nvPr/>
        </p:nvPicPr>
        <p:blipFill>
          <a:blip r:embed="rId2"/>
          <a:stretch/>
        </p:blipFill>
        <p:spPr>
          <a:xfrm>
            <a:off x="4500720" y="2143080"/>
            <a:ext cx="4286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i="1" lang="ru-RU" sz="5400" spc="-1" strike="noStrike">
                <a:solidFill>
                  <a:srgbClr val="04617b"/>
                </a:solidFill>
                <a:latin typeface="Calibri"/>
              </a:rPr>
              <a:t>К И С Л О Т Ы   В   П И Щ 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8" descr="022_057"/>
          <p:cNvPicPr/>
          <p:nvPr/>
        </p:nvPicPr>
        <p:blipFill>
          <a:blip r:embed="rId1"/>
          <a:stretch/>
        </p:blipFill>
        <p:spPr>
          <a:xfrm>
            <a:off x="500040" y="207180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22_099"/>
          <p:cNvPicPr/>
          <p:nvPr/>
        </p:nvPicPr>
        <p:blipFill>
          <a:blip r:embed="rId2"/>
          <a:stretch/>
        </p:blipFill>
        <p:spPr>
          <a:xfrm>
            <a:off x="4786200" y="2071800"/>
            <a:ext cx="38340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ОРГАНИЧЕСКИЕ  КИСЛОТ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9" descr="101195"/>
          <p:cNvPicPr/>
          <p:nvPr/>
        </p:nvPicPr>
        <p:blipFill>
          <a:blip r:embed="rId1"/>
          <a:stretch/>
        </p:blipFill>
        <p:spPr>
          <a:xfrm>
            <a:off x="714240" y="2214720"/>
            <a:ext cx="3929040" cy="4214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уксус"/>
          <p:cNvPicPr/>
          <p:nvPr/>
        </p:nvPicPr>
        <p:blipFill>
          <a:blip r:embed="rId2"/>
          <a:stretch/>
        </p:blipFill>
        <p:spPr>
          <a:xfrm>
            <a:off x="4857840" y="2286000"/>
            <a:ext cx="3714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К И С Л О Т Ы   В  П Р И Р О Д 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7" descr="Рисунок11"/>
          <p:cNvPicPr/>
          <p:nvPr/>
        </p:nvPicPr>
        <p:blipFill>
          <a:blip r:embed="rId1"/>
          <a:stretch/>
        </p:blipFill>
        <p:spPr>
          <a:xfrm>
            <a:off x="714240" y="1935000"/>
            <a:ext cx="364356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Рисунок12"/>
          <p:cNvPicPr/>
          <p:nvPr/>
        </p:nvPicPr>
        <p:blipFill>
          <a:blip r:embed="rId2"/>
          <a:stretch/>
        </p:blipFill>
        <p:spPr>
          <a:xfrm>
            <a:off x="4572000" y="1928880"/>
            <a:ext cx="4000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ЯДОВИТАЯ   КИСЛОТ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6" descr="Рисунок14"/>
          <p:cNvPicPr/>
          <p:nvPr/>
        </p:nvPicPr>
        <p:blipFill>
          <a:blip r:embed="rId1"/>
          <a:stretch/>
        </p:blipFill>
        <p:spPr>
          <a:xfrm>
            <a:off x="1785960" y="1935000"/>
            <a:ext cx="5572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4617b"/>
                </a:solidFill>
                <a:latin typeface="Calibri"/>
              </a:rPr>
              <a:t>МОЛОЧНАЯ   КИСЛОТ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6" descr="кефир"/>
          <p:cNvPicPr/>
          <p:nvPr/>
        </p:nvPicPr>
        <p:blipFill>
          <a:blip r:embed="rId1"/>
          <a:stretch/>
        </p:blipFill>
        <p:spPr>
          <a:xfrm>
            <a:off x="785880" y="1928880"/>
            <a:ext cx="7500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7:49:05Z</dcterms:created>
  <dc:creator>Admin</dc:creator>
  <dc:description/>
  <dc:language>en-US</dc:language>
  <cp:lastModifiedBy>Админ</cp:lastModifiedBy>
  <dcterms:modified xsi:type="dcterms:W3CDTF">2013-01-09T00:00:58Z</dcterms:modified>
  <cp:revision>12</cp:revision>
  <dc:subject/>
  <dc:title>К И С Л О Т Ы</dc:title>
</cp:coreProperties>
</file>