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A3A6-0F01-48D0-BB90-C51C9539D4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D1EB-F651-4309-A251-EAC1861911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F168-9F81-4ED9-B2E7-E31F51783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3DBD-44A2-4274-83DF-E67F7317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6FD1-B000-48CE-B48A-AF7455DAD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FD2D-84C2-4A25-82A5-7D70E9B82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EDC6-42D7-403B-9B85-A1FA1C178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8CB6-0BF3-43F3-919B-29ACCFCB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7343-B008-4945-B974-CFD62F05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ECC7-915F-4A16-A029-373F9E75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4718-6DA2-4E89-9F76-25CAFF15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6D35-79FE-4726-B0C6-54C85646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B74A-7B72-410B-8878-BFC6D0B0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3D24-A6E6-4FF6-9C6B-B3A3D9AF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B0B1-1850-4A81-B31B-3CCDCA7F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0616-DD3D-4027-9E14-A2DA24F3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59B3-D048-4990-94B3-494DFBB1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40D1-2A57-4276-BD6F-99CB32F84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6ED0-2CD3-46FC-B085-2C4970FCD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536DB-2546-4E13-AF78-F2A7A6ECB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8F907-15CD-4887-82A3-E499BE92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FD3FC-CEFA-4B92-98DC-7E909FC2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783B7-267A-4D70-9743-5E159136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FD6B1-7948-47DE-A909-FE79C705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EE74-05AF-4D34-9999-35B20DBF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0188E-7567-4B36-93BA-10AC5BE1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13A91-A76A-40F4-A6A8-35860D8B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0BE04-1DAA-4537-B2D0-41E99AED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C54BF-1048-4F22-8861-FF8CE010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B2240-B69C-4E75-A797-9B170AFF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663EA-18D6-48B2-BEDF-1F42F04C1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F451E-0B10-4F50-A86C-BACA68543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87807-D562-4DCB-8FCE-327A9F67C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71D53-0907-4C9E-80F1-96538FAE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21EF5-865A-4E8A-885A-7F89214B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8E3D-07AE-4466-9962-5144D2BD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BF78D-8B01-4D38-B0FF-FE942C90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918BC-5A0F-4243-B078-A5B8267F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D5DFE-F946-46E8-A2DF-BE2A766F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35947-E425-497F-A1BF-04344114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0AA2D-2994-4EF5-92D9-7FD4DBC5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351E2-BFFC-4446-9657-5D9187F7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0C7D4-4A8A-48BB-A29C-00EFDE5F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E7F06-1FCA-4C43-B5B5-952A5457C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74778-6FAA-4CA2-8C6C-6437D95F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1D8C-264A-4804-95F4-34D33FFF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0017-73A2-4AF6-8E7F-161CA486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373D-D649-47F8-9DEC-67BEA8EB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F6AD-01C0-4239-AD2C-1C99E446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B808-8B34-4436-AE6A-718972E4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9323-CE5E-4B65-8DC5-2259FC011B1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1C3E-9797-4D36-B82D-0901CB9D7C8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0668-A4FD-4695-A969-23818F4F17A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A318-12FF-4A15-AA73-0040261E19B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689040" y="712800"/>
            <a:ext cx="8540640" cy="30369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371600" y="2928600"/>
            <a:ext cx="64008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Если видишь с  водорода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Вдруг, та формула начнётся,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о таких с десяток формул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Выучить тебе придётся!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Вон эта видишь с кислородом,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Бескислородная вон та,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Но у них одна природа,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Все с названьем кислота</a:t>
            </a: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!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И Н Ф О Р М А Ц И О Н Н А 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25" name="Organization Chart 48"/>
          <p:cNvGrpSpPr/>
          <p:nvPr/>
        </p:nvGrpSpPr>
        <p:grpSpPr>
          <a:xfrm>
            <a:off x="457200" y="1857240"/>
            <a:ext cx="8228520" cy="4465800"/>
            <a:chOff x="457200" y="1857240"/>
            <a:chExt cx="8228520" cy="4465800"/>
          </a:xfrm>
        </p:grpSpPr>
        <p:cxnSp>
          <p:nvCxnSpPr>
            <p:cNvPr id="226" name="_s1028"/>
            <p:cNvCxnSpPr>
              <a:stCxn id="227" idx="0"/>
              <a:endCxn id="228" idx="2"/>
            </p:cNvCxnSpPr>
            <p:nvPr/>
          </p:nvCxnSpPr>
          <p:spPr>
            <a:xfrm flipV="1" rot="16200000">
              <a:off x="5232240" y="2981880"/>
              <a:ext cx="893880" cy="2215440"/>
            </a:xfrm>
            <a:prstGeom prst="bentConnector3">
              <a:avLst>
                <a:gd name="adj1" fmla="val 127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9" name="_s1029"/>
            <p:cNvCxnSpPr>
              <a:stCxn id="230" idx="0"/>
              <a:endCxn id="228" idx="2"/>
            </p:cNvCxnSpPr>
            <p:nvPr/>
          </p:nvCxnSpPr>
          <p:spPr>
            <a:xfrm flipH="1" flipV="1" rot="5400000">
              <a:off x="3016440" y="2981880"/>
              <a:ext cx="893880" cy="2216160"/>
            </a:xfrm>
            <a:prstGeom prst="bentConnector3">
              <a:avLst>
                <a:gd name="adj1" fmla="val 127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8" name="_s1030"/>
            <p:cNvSpPr/>
            <p:nvPr/>
          </p:nvSpPr>
          <p:spPr>
            <a:xfrm>
              <a:off x="2673000" y="1857240"/>
              <a:ext cx="3797640" cy="178632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кислот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1"/>
            <p:cNvSpPr/>
            <p:nvPr/>
          </p:nvSpPr>
          <p:spPr>
            <a:xfrm>
              <a:off x="457200" y="4536720"/>
              <a:ext cx="3797640" cy="178632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Бескислород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Cl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32"/>
            <p:cNvSpPr/>
            <p:nvPr/>
          </p:nvSpPr>
          <p:spPr>
            <a:xfrm>
              <a:off x="4888080" y="4536720"/>
              <a:ext cx="3797640" cy="178632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Кислород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держащ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NO</a:t>
              </a:r>
              <a:r>
                <a:rPr b="1" lang="ru-RU" sz="32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</a:t>
              </a:r>
              <a:r>
                <a:rPr b="1" lang="en-US" sz="32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O</a:t>
              </a:r>
              <a:r>
                <a:rPr b="1" lang="en-US" sz="32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r>
                <a:rPr b="1" lang="ru-RU" sz="3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Классификация кислот по основности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32" name="Organization Chart 6"/>
          <p:cNvGrpSpPr/>
          <p:nvPr/>
        </p:nvGrpSpPr>
        <p:grpSpPr>
          <a:xfrm>
            <a:off x="457200" y="1935000"/>
            <a:ext cx="8228520" cy="4388400"/>
            <a:chOff x="457200" y="1935000"/>
            <a:chExt cx="8228520" cy="4388400"/>
          </a:xfrm>
        </p:grpSpPr>
        <p:cxnSp>
          <p:nvCxnSpPr>
            <p:cNvPr id="233" name="_s2052"/>
            <p:cNvCxnSpPr>
              <a:stCxn id="234" idx="0"/>
              <a:endCxn id="235" idx="2"/>
            </p:cNvCxnSpPr>
            <p:nvPr/>
          </p:nvCxnSpPr>
          <p:spPr>
            <a:xfrm flipV="1" rot="16200000">
              <a:off x="5240160" y="3021120"/>
              <a:ext cx="878400" cy="2215440"/>
            </a:xfrm>
            <a:prstGeom prst="bentConnector3">
              <a:avLst>
                <a:gd name="adj1" fmla="val 1279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6" name="_s2053"/>
            <p:cNvCxnSpPr>
              <a:stCxn id="237" idx="0"/>
              <a:endCxn id="235" idx="2"/>
            </p:cNvCxnSpPr>
            <p:nvPr/>
          </p:nvCxnSpPr>
          <p:spPr>
            <a:xfrm flipH="1" flipV="1" rot="5400000">
              <a:off x="3024000" y="3021120"/>
              <a:ext cx="878400" cy="2216160"/>
            </a:xfrm>
            <a:prstGeom prst="bentConnector3">
              <a:avLst>
                <a:gd name="adj1" fmla="val 1279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5" name="_s2054"/>
            <p:cNvSpPr/>
            <p:nvPr/>
          </p:nvSpPr>
          <p:spPr>
            <a:xfrm>
              <a:off x="2673000" y="1935000"/>
              <a:ext cx="3797640" cy="175536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кислот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2055"/>
            <p:cNvSpPr/>
            <p:nvPr/>
          </p:nvSpPr>
          <p:spPr>
            <a:xfrm>
              <a:off x="457200" y="4568040"/>
              <a:ext cx="3797640" cy="175536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Однооснов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NO</a:t>
              </a:r>
              <a:r>
                <a:rPr b="0" lang="ru-RU" sz="33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3,</a:t>
              </a:r>
              <a:r>
                <a:rPr b="0" lang="ru-RU" sz="3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300" spc="-1" strike="noStrike">
                  <a:solidFill>
                    <a:srgbClr val="000000"/>
                  </a:solidFill>
                  <a:latin typeface="Tahoma"/>
                </a:rPr>
                <a:t>HCl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2056"/>
            <p:cNvSpPr/>
            <p:nvPr/>
          </p:nvSpPr>
          <p:spPr>
            <a:xfrm>
              <a:off x="4888080" y="4568040"/>
              <a:ext cx="3797640" cy="175536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Многооснов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</a:t>
              </a:r>
              <a:r>
                <a:rPr b="0" lang="ru-RU" sz="33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r>
                <a:rPr b="0" lang="en-US" sz="3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</a:t>
              </a:r>
              <a:r>
                <a:rPr b="0" lang="ru-RU" sz="33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r>
                <a:rPr b="0" lang="en-US" sz="33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,</a:t>
              </a:r>
              <a:r>
                <a:rPr b="0" lang="ru-RU" sz="3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</a:t>
              </a:r>
              <a:r>
                <a:rPr b="0" lang="ru-RU" sz="33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r>
                <a:rPr b="0" lang="en-US" sz="3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</a:t>
              </a:r>
              <a:r>
                <a:rPr b="0" lang="ru-RU" sz="33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r>
                <a:rPr b="0" lang="ru-RU" sz="3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И Н Д И К А Т О Р Н А Я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Picture 4" descr="C:\Documents and Settings\Admin\Рабочий стол\Новая папка\DSC01580.JPG"/>
          <p:cNvPicPr/>
          <p:nvPr/>
        </p:nvPicPr>
        <p:blipFill>
          <a:blip r:embed="rId1"/>
          <a:stretch/>
        </p:blipFill>
        <p:spPr>
          <a:xfrm>
            <a:off x="642960" y="2071800"/>
            <a:ext cx="3649680" cy="4389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C:\Documents and Settings\Admin\Рабочий стол\Новая папка\DSC01579.JPG"/>
          <p:cNvPicPr/>
          <p:nvPr/>
        </p:nvPicPr>
        <p:blipFill>
          <a:blip r:embed="rId2"/>
          <a:stretch/>
        </p:blipFill>
        <p:spPr>
          <a:xfrm>
            <a:off x="4857840" y="2071800"/>
            <a:ext cx="364320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            </a:t>
            </a:r>
            <a:r>
              <a:rPr b="0" lang="ru-RU" sz="7200" spc="-1" strike="noStrike">
                <a:solidFill>
                  <a:srgbClr val="04617b"/>
                </a:solidFill>
                <a:latin typeface="Calibri"/>
              </a:rPr>
              <a:t>ИНДИКАТОРНАЯ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ЭТА   ЖЁЛТАЯ   БУМАЖ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ВСЁ   ПОКАЖЕТ   БЕЗ   ТРУДА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ПОСИНЕЕТ   -   В   КОЛБЕ   ЩЁЛОЧЬ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ПОКРАСНЕЕТ   -   КИСЛОТ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«</a:t>
            </a:r>
            <a:r>
              <a:rPr b="0" lang="ru-RU" sz="8000" spc="-1" strike="noStrike">
                <a:solidFill>
                  <a:srgbClr val="04617b"/>
                </a:solidFill>
                <a:latin typeface="Calibri"/>
              </a:rPr>
              <a:t>ИСТОРИЧЕСКАЯ»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Самая первая кислота, которую научился получать и использовать человек – уксусная кислота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Серная кислота  называется «матерью всех кислот»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4617b"/>
                </a:solidFill>
                <a:latin typeface="Calibri"/>
              </a:rPr>
              <a:t>«Дегустационная»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Все кислоты  кислые на вкус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Так вот из-за того, что они кислые, эти вещества давным-давно назвали кислотами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</a:t>
            </a:r>
            <a:r>
              <a:rPr b="0" lang="ru-RU" sz="6000" spc="-1" strike="noStrike">
                <a:solidFill>
                  <a:srgbClr val="04617b"/>
                </a:solidFill>
                <a:latin typeface="Calibri"/>
              </a:rPr>
              <a:t>Значение   кислот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Picture 7" descr="витамин с"/>
          <p:cNvPicPr/>
          <p:nvPr/>
        </p:nvPicPr>
        <p:blipFill>
          <a:blip r:embed="rId1"/>
          <a:stretch/>
        </p:blipFill>
        <p:spPr>
          <a:xfrm>
            <a:off x="357120" y="2143080"/>
            <a:ext cx="4214880" cy="3786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SUC50762"/>
          <p:cNvPicPr/>
          <p:nvPr/>
        </p:nvPicPr>
        <p:blipFill>
          <a:blip r:embed="rId2"/>
          <a:stretch/>
        </p:blipFill>
        <p:spPr>
          <a:xfrm>
            <a:off x="4500720" y="2143080"/>
            <a:ext cx="428616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i="1" lang="ru-RU" sz="5400" spc="-1" strike="noStrike">
                <a:solidFill>
                  <a:srgbClr val="04617b"/>
                </a:solidFill>
                <a:latin typeface="Calibri"/>
              </a:rPr>
              <a:t>К И С Л О Т Ы   В   П И Щ Е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Picture 8" descr="022_057"/>
          <p:cNvPicPr/>
          <p:nvPr/>
        </p:nvPicPr>
        <p:blipFill>
          <a:blip r:embed="rId1"/>
          <a:stretch/>
        </p:blipFill>
        <p:spPr>
          <a:xfrm>
            <a:off x="500040" y="2071800"/>
            <a:ext cx="4000680" cy="3500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022_099"/>
          <p:cNvPicPr/>
          <p:nvPr/>
        </p:nvPicPr>
        <p:blipFill>
          <a:blip r:embed="rId2"/>
          <a:stretch/>
        </p:blipFill>
        <p:spPr>
          <a:xfrm>
            <a:off x="4786200" y="2071800"/>
            <a:ext cx="3834000" cy="35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ru-RU" sz="5400" spc="-1" strike="noStrike">
                <a:solidFill>
                  <a:srgbClr val="04617b"/>
                </a:solidFill>
                <a:latin typeface="Calibri"/>
              </a:rPr>
              <a:t>ОРГАНИЧЕСКИЕ  КИСЛОТЫ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Picture 9" descr="101195"/>
          <p:cNvPicPr/>
          <p:nvPr/>
        </p:nvPicPr>
        <p:blipFill>
          <a:blip r:embed="rId1"/>
          <a:stretch/>
        </p:blipFill>
        <p:spPr>
          <a:xfrm>
            <a:off x="714240" y="2214720"/>
            <a:ext cx="3929040" cy="4214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уксус"/>
          <p:cNvPicPr/>
          <p:nvPr/>
        </p:nvPicPr>
        <p:blipFill>
          <a:blip r:embed="rId2"/>
          <a:stretch/>
        </p:blipFill>
        <p:spPr>
          <a:xfrm>
            <a:off x="4857840" y="2286000"/>
            <a:ext cx="37148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04617b"/>
                </a:solidFill>
                <a:latin typeface="Calibri"/>
              </a:rPr>
              <a:t>К И С Л О Т Ы   В  П Р И Р О Д 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Picture 7" descr="Рисунок11"/>
          <p:cNvPicPr/>
          <p:nvPr/>
        </p:nvPicPr>
        <p:blipFill>
          <a:blip r:embed="rId1"/>
          <a:stretch/>
        </p:blipFill>
        <p:spPr>
          <a:xfrm>
            <a:off x="714240" y="1935000"/>
            <a:ext cx="3643560" cy="4389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Рисунок12"/>
          <p:cNvPicPr/>
          <p:nvPr/>
        </p:nvPicPr>
        <p:blipFill>
          <a:blip r:embed="rId2"/>
          <a:stretch/>
        </p:blipFill>
        <p:spPr>
          <a:xfrm>
            <a:off x="4572000" y="1928880"/>
            <a:ext cx="40006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ЯДОВИТАЯ   КИСЛОТА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Picture 6" descr="Рисунок14"/>
          <p:cNvPicPr/>
          <p:nvPr/>
        </p:nvPicPr>
        <p:blipFill>
          <a:blip r:embed="rId1"/>
          <a:stretch/>
        </p:blipFill>
        <p:spPr>
          <a:xfrm>
            <a:off x="1785960" y="1935000"/>
            <a:ext cx="557208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4617b"/>
                </a:solidFill>
                <a:latin typeface="Calibri"/>
              </a:rPr>
              <a:t>МОЛОЧНАЯ   КИСЛОТА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Picture 6" descr="кефир"/>
          <p:cNvPicPr/>
          <p:nvPr/>
        </p:nvPicPr>
        <p:blipFill>
          <a:blip r:embed="rId1"/>
          <a:stretch/>
        </p:blipFill>
        <p:spPr>
          <a:xfrm>
            <a:off x="785880" y="1928880"/>
            <a:ext cx="75009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9T07:49:05Z</dcterms:created>
  <dc:creator>Admin</dc:creator>
  <dc:description/>
  <dc:language>en-US</dc:language>
  <cp:lastModifiedBy>Админ</cp:lastModifiedBy>
  <dcterms:modified xsi:type="dcterms:W3CDTF">2013-01-09T00:00:58Z</dcterms:modified>
  <cp:revision>12</cp:revision>
  <dc:subject/>
  <dc:title>К И С Л О Т Ы</dc:title>
</cp:coreProperties>
</file>