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6E5-EDA4-44E4-A27B-F9035AFC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D2D-28FF-4D36-919B-0C26950F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9D5-5961-4299-9F04-55588C80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12F-27F0-41D9-8C4F-6D738958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EFE9-8514-4ABA-8D55-D43E4A37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7E1-ECCF-42C5-9477-8E83876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00F-AC96-4C1D-810F-72A27A1C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6C08-9D46-4714-A430-E532641B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06DB-9279-4414-8778-FCE98E16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F71-A305-4DFA-B093-C2486D7C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A825-FFF0-4A5A-AE7B-5C990A9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E28-F1E0-4CC2-B232-AE50F83D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68F9-F7B4-4905-9649-6936396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BBB0-6631-480A-8719-0ACF9D2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4853-D33F-41DF-8253-A4932B8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4AD2-C8F7-4922-9E46-AF35088A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4041-4E36-4459-82BE-73993D1C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A67B-DEF7-4737-A952-D49E9F5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D9D2-2511-4052-8A83-AADB060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C058-01E2-4894-816F-2ACA363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8494-9853-4A65-AB9C-718041E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3E0B-7E9D-4398-9C39-3D90E13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755-0A37-45E5-970B-5F0D68A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C169-D631-4BF8-ADB2-B79D3BD2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891D-F6C3-49DB-8046-B4DE1D74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66E7-F7BF-4D26-8E96-8D6F3CD4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649B-EAFC-4D02-AADE-1D200BC3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7432-C27D-4663-B54F-C9D1F7F2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500F-6CD6-4E8D-B1A4-EAB89156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C818-F91A-4236-A843-8A0BA08B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4920-4B56-4448-8E69-D3BDCE6D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1A7C-C1A2-4684-A341-90C3B800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36EC-0A1F-49B5-9484-AF2B2FBE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4AE-93B9-4ADF-806E-1972BEF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9C31-6DE3-4C5A-9FA6-1F47865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F3E6-8556-4F7B-8DC6-7379C22C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7C72-E713-43CA-8E3D-CCC4309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9FD0-39AA-4149-AFF7-13C4B261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E602-92CC-4016-9CFB-DE48786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FF69-EFDD-4427-85EC-24B1F29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8A3D-BE40-4AA5-9FE3-96A1BAC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9369-A57C-4141-B18C-ADDE3F79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0E8C-A755-4CAA-B5C6-00A82D12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4FC-42A4-481F-84C8-10BA0264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15C-491A-4978-9ED5-8AFDF55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E82-8841-4D74-B9EB-D6DC8144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A88-F73D-4965-B4E8-D2DFE572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6FE-2266-4D59-BF4F-31E5F9E6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2FE5-DCB4-429F-AD5F-9E0D449CF43A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9BBC-897D-43ED-A1A1-2091B062F610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8F4D-03CA-42FF-8C19-3471B6539341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453-3E9B-47EF-ACEA-F5A8C6E1070A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ssackstan.ru/uploads/posts/2009-01/1231175626_17553480_aleksey_strelkovskiy_u_kolodca_1878_szh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ohodd.ru/gal/d/2338-1/45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np-klub.narod.ru/pismo-prezidentu/pismo-prezidentu_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azeta.aif.ru/data/mags/np/689/pics/24_01_0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ipa-og.narod.ru/images/ger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Лист настро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721980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4060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Отношение к женщине у казаков всегда было особенным. Она являлась хранительницей семейного очага и традиций. Казачка ждала мужа домой. История помнит и боевые подвиги казачек 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Picture 2" descr="Воспитание казака"/>
          <p:cNvPicPr/>
          <p:nvPr/>
        </p:nvPicPr>
        <p:blipFill>
          <a:blip r:embed="rId1"/>
          <a:stretch/>
        </p:blipFill>
        <p:spPr>
          <a:xfrm>
            <a:off x="5835600" y="1539720"/>
            <a:ext cx="3087720" cy="3110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8920" y="1139760"/>
            <a:ext cx="52642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1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бы приготовить 3 головки сыра нужно взять 12 литров молока. Сколько молока потребуется, чтобы приготовить 9 таких головок  сыра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755640" y="3579840"/>
            <a:ext cx="5224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ужно сахара, чтобы сварить варенье из 10 кг вишни, если по рецепту на 4 кг ягод нужно 5 кг сахар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871560" y="5219640"/>
            <a:ext cx="457200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1 кг крупы получается 2,1 кг гречневой каши. Сколько нужно взять крупы, чтобы получить 63 кг каш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Казачка умела достойно встать с оружием в руках на защиту своих детей, куреня и станицы.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94120" y="146700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506520" indent="-5065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06520" indent="-506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ступление нового года вызывало естественное желание для казаков предсказать и как-то повлиять на будущее. Казачки лепили вареники, некоторые из них начиняли овечьей шерстью (к богатству), монетами (к деньгам), солью (к слезам), перцем (к горю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06520" indent="-506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зачка налепила 90 вареников.  из них 30% были предсказательными. Сколько было обычных вареников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Использование средств минерального происхождения в этномедицине кубанских каза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13000"/>
            <a:ext cx="364320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Часть доходов казаки получали из военной добычи, часть – жалование государственное. К хозяйственной жизни относились охота, рыболовство, земледелие и скотоводство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Picture 4" descr="Картинка 11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492280"/>
            <a:ext cx="3087720" cy="2187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68360" y="2491920"/>
            <a:ext cx="482904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500" spc="-1" strike="noStrike">
                <a:solidFill>
                  <a:srgbClr val="404040"/>
                </a:solidFill>
                <a:latin typeface="Trebuchet MS"/>
              </a:rPr>
              <a:t>Задача</a:t>
            </a:r>
            <a:r>
              <a:rPr b="0" i="1" lang="en-US" sz="2500" spc="-1" strike="noStrike">
                <a:solidFill>
                  <a:srgbClr val="404040"/>
                </a:solidFill>
                <a:latin typeface="Trebuchet MS"/>
              </a:rPr>
              <a:t> 5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8 коров в зимнее время казак ежедневно заготовляет 80 кг сена, 96 кг корнеплодов, 120 кг силоса. Определить ежедневный расход этих кормов для 18 коров</a:t>
            </a: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5" descr=""/>
          <p:cNvPicPr/>
          <p:nvPr/>
        </p:nvPicPr>
        <p:blipFill>
          <a:blip r:embed="rId1"/>
          <a:srcRect l="0" t="14288" r="0" b="0"/>
          <a:stretch/>
        </p:blipFill>
        <p:spPr>
          <a:xfrm>
            <a:off x="401760" y="1989000"/>
            <a:ext cx="6762600" cy="4089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ефлекс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во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15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анная презентация сделана с использованием задач, решив которые ученик узнает интересные факты из истории казачества. Математика присутствует во всех сферах жизни, в том числе и в истор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rcRect l="14565" t="0" r="13776" b="0"/>
          <a:stretch/>
        </p:blipFill>
        <p:spPr>
          <a:xfrm>
            <a:off x="250920" y="44280"/>
            <a:ext cx="864216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209160" cy="6918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9920" y="2106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Пропорция в быту казака.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и работ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авление задач по историческим факта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учение истории с помощью матема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накомство с интересными фактами из жизни казак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90c226"/>
                </a:solidFill>
                <a:latin typeface="Trebuchet MS"/>
              </a:rPr>
              <a:t>Казачество на протяжении веков являлось универсальным родом вооруженных сил. Про казаков говорили, что они рождались в седле. Во все времена они считались великолепными наездниками, не знавшими себе равных в искусстве джигитовки</a:t>
            </a:r>
            <a:r>
              <a:rPr b="0" lang="ru-RU" sz="14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51821413" descr="51821413"/>
          <p:cNvPicPr/>
          <p:nvPr/>
        </p:nvPicPr>
        <p:blipFill>
          <a:blip r:embed="rId1"/>
          <a:stretch/>
        </p:blipFill>
        <p:spPr>
          <a:xfrm>
            <a:off x="4500720" y="2276640"/>
            <a:ext cx="3809880" cy="245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1" name=""/>
          <p:cNvSpPr txBox="1"/>
          <p:nvPr/>
        </p:nvSpPr>
        <p:spPr>
          <a:xfrm>
            <a:off x="206280" y="2276640"/>
            <a:ext cx="44704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 казачьем полку было 320 казаков. Из них 75% - донских, остальные – кубанские. Подсчитайте сколько каких казаков было в пол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Общие вопросы жизни казаки они обсуждали на общем круге(собрании). Там же выбирались атаманы и старшины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4" descr="Картинка 21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4581360"/>
            <a:ext cx="2938320" cy="2136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64680" y="1117080"/>
            <a:ext cx="683748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400" spc="-1" strike="noStrike">
                <a:solidFill>
                  <a:srgbClr val="40404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 казачий круг собралось 40 казаков. Из них 8 казаков высокого чину. Какую часть всех казаков составляют высокопоставленные чины? Сколько процентов от всех собравшихся простых казаков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62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«Для того казак родится, чтоб царю на службе пригодиться» — гласит старинная казачья поговорка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Picture 4" descr="Картинка 101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484280"/>
            <a:ext cx="3548160" cy="218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3640" y="3670200"/>
            <a:ext cx="74595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 время тренировки по стрельбе казаки сделали 560 выстрелов. При этом 42 пули вообще не попали в мишени, 35 пуль попали «в молоко». Определите сколько процентов составляют: 1) пули, попавшие в зачет; 2) пули не попавшие в мишень 3) пули попавшие в молок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777960" y="3024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изкультминутк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395280" y="1052640"/>
            <a:ext cx="45720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парт мы быстро вс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зашаг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мы улыбнулис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-выше потянули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 – встали, сели – вс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инутку сил набрали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и ваши распрямит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ите, опустит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верните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парту вновь садите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4" descr="C:\Users\Артём\Desktop\мама\0000000001.jpg"/>
          <p:cNvPicPr/>
          <p:nvPr/>
        </p:nvPicPr>
        <p:blipFill>
          <a:blip r:embed="rId1"/>
          <a:stretch/>
        </p:blipFill>
        <p:spPr>
          <a:xfrm>
            <a:off x="4716360" y="1700280"/>
            <a:ext cx="295128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Казаки в союзе с Русским царством заселили низовья Волги, Яика и Терека, а также обширные территории в Сибири, и стали основой новых войск.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4" descr="Картинка 10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28880"/>
            <a:ext cx="3087720" cy="380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492360" y="2198520"/>
            <a:ext cx="466272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Задача </a:t>
            </a:r>
            <a:r>
              <a:rPr b="0" i="1" lang="en-US" sz="2000" spc="-1" strike="noStrike">
                <a:solidFill>
                  <a:srgbClr val="40404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Жалование Есаула составляло 75% от жалования Атамана. Сколько получал Атаман, если Есаул получал 73р 20к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5:48:44Z</dcterms:created>
  <dc:creator>user</dc:creator>
  <dc:description/>
  <dc:language>en-US</dc:language>
  <cp:lastModifiedBy>Ученик11</cp:lastModifiedBy>
  <dcterms:modified xsi:type="dcterms:W3CDTF">2022-12-08T11:48:21Z</dcterms:modified>
  <cp:revision>37</cp:revision>
  <dc:subject/>
  <dc:title>Слайд 1</dc:title>
</cp:coreProperties>
</file>