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2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04DD-D6A2-4624-A72A-6C52F7C0F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60F7-95D5-436D-9BEB-E14D1CE70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D1C0-2A59-4037-957F-20E13F520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4480-1F36-41B2-BC38-7ECA5EFA0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4CB42-7060-4DB9-B345-77983940F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6DAA6-AF69-4C52-B907-C53E1D0F3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B39B6-C746-4925-BF94-9852FDED5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F4C13-7764-488E-A1FA-E75413B36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4AE57-B44D-41FB-8C25-AA72E3511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51FF9-C346-4FA9-998C-4BA644960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C82C8-D7A5-4620-A4F4-5805E020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E02D-09E7-48F5-A28F-D4CE4A551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5FB44-334C-4830-831A-5AE71393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8CB01-3DDE-41EA-9B46-3AD99581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44F2C-99A5-46C7-A26B-3653AB388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3C64C-DD9C-452E-B3D1-2D4665E5F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D3532-3E38-43D0-93A3-F6C49E20F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DF0AD-FDBD-432D-BDDB-FA72E43B4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812E7-BA55-45F9-B377-DC7667DC9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700D5-88C1-4234-A740-9C22A4255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4DD85-AE93-4450-A50E-62D7EB932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4C7FC-28CD-4838-8164-326F50D69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08FC-E5F7-4231-B2D9-4E696E938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B754F-C5C7-49C5-96D9-D2ACCE2E2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5E3A3-B8E9-40A0-A58C-CAC11C48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0B28D-FC21-491C-AB07-84600AB1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AEC7B-404F-41C3-A99E-9AA5F094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3E57E-BF96-4631-A4E9-2F0356514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9E6B6-5211-46FB-98EA-1B6B69979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6178A-7914-4E89-8BF9-F403F871B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75EB8-E3E6-4E8E-80D1-8CCD76A6B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8D5A9-3D88-482A-A3AC-887E2B5AD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90B5F-9B64-4CF3-8D42-72E911721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FF6F-9B86-4468-99E0-1180770FB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CF624-AD8A-4AF0-9BAD-D67FB798B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9111D-96F3-4597-8B0A-25614887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84B0C-1505-452A-B19F-FD5575061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51497-D4F8-4B81-AE7E-CE0D2332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DDEC0-405B-4F33-B7B4-B2621447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3D3E6-6328-4882-9A34-91C9D5DF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52887-5DFD-4F11-A64A-624DB158E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7E9CD-4145-4F8E-940E-EE9A24425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13FCC-5EEC-4C37-A20C-C35FD909C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80C9-0BB9-4C68-B5A5-C13A958B4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4E2A-6E2B-4880-9F41-EFFE97B1F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7AD8-832A-4485-AE50-68C39DE5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849C-83FC-447F-99EC-2E56583A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525F-D106-4069-A477-A351AD0E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74E21-67CE-4E7B-9002-C3276F114D2D}" type="slidenum">
              <a:rPr b="0" lang="ru-RU" sz="900" spc="-1" strike="noStrike">
                <a:solidFill>
                  <a:srgbClr val="90c226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6EF3C-3089-4E76-8EF2-D19F254688D0}" type="slidenum">
              <a:rPr b="0" lang="ru-RU" sz="900" spc="-1" strike="noStrike">
                <a:solidFill>
                  <a:srgbClr val="90c226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4309F-89BD-49AD-B959-190FFC57E664}" type="slidenum">
              <a:rPr b="0" lang="ru-RU" sz="900" spc="-1" strike="noStrike">
                <a:solidFill>
                  <a:srgbClr val="90c226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C229-668A-435E-B36C-9C34B35EFFAF}" type="slidenum">
              <a:rPr b="0" lang="ru-RU" sz="900" spc="-1" strike="noStrike">
                <a:solidFill>
                  <a:srgbClr val="90c226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cossackstan.ru/uploads/posts/2009-01/1231175626_17553480_aleksey_strelkovskiy_u_kolodca_1878_szh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pohodd.ru/gal/d/2338-1/459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knp-klub.narod.ru/pismo-prezidentu/pismo-prezidentu_01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gazeta.aif.ru/data/mags/np/689/pics/24_01_00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kipa-og.narod.ru/images/gerb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Лист настроения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3" name="Рисунок 2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7219800" cy="311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9280" y="40608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90c226"/>
                </a:solidFill>
                <a:latin typeface="Trebuchet MS"/>
              </a:rPr>
              <a:t>Отношение к женщине у казаков всегда было особенным. Она являлась хранительницей семейного очага и традиций. Казачка ждала мужа домой. История помнит и боевые подвиги казачек </a:t>
            </a:r>
            <a:br>
              <a:rPr sz="1800"/>
            </a:br>
            <a:endParaRPr b="0" lang="en-US" sz="1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5" name="Picture 2" descr="Воспитание казака"/>
          <p:cNvPicPr/>
          <p:nvPr/>
        </p:nvPicPr>
        <p:blipFill>
          <a:blip r:embed="rId1"/>
          <a:stretch/>
        </p:blipFill>
        <p:spPr>
          <a:xfrm>
            <a:off x="5835600" y="1539720"/>
            <a:ext cx="3087720" cy="31100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178920" y="1139760"/>
            <a:ext cx="5264280" cy="33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дача 1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Чтобы приготовить 3 головки сыра нужно взять 12 литров молока. Сколько молока потребуется, чтобы приготовить 9 таких головок  сыра?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Прямоугольник 1"/>
          <p:cNvSpPr/>
          <p:nvPr/>
        </p:nvSpPr>
        <p:spPr>
          <a:xfrm>
            <a:off x="755640" y="3579840"/>
            <a:ext cx="522432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дача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нужно сахара, чтобы сварить варенье из 10 кг вишни, если по рецепту на 4 кг ягод нужно 5 кг сахара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Прямоугольник 2"/>
          <p:cNvSpPr/>
          <p:nvPr/>
        </p:nvSpPr>
        <p:spPr>
          <a:xfrm>
            <a:off x="871560" y="5219640"/>
            <a:ext cx="4572000" cy="15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дача 3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 1 кг крупы получается 2,1 кг гречневой каши. Сколько нужно взять крупы, чтобы получить 63 кг каши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90c226"/>
                </a:solidFill>
                <a:latin typeface="Trebuchet MS"/>
              </a:rPr>
              <a:t>Казачка умела достойно встать с оружием в руках на защиту своих детей, куреня и станицы.</a:t>
            </a:r>
            <a:endParaRPr b="0" lang="en-US" sz="1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894120" y="1467000"/>
            <a:ext cx="403848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06520" indent="-50652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506520" indent="-50652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i="1" lang="ru-RU" sz="2000" spc="-1" strike="noStrike">
                <a:solidFill>
                  <a:srgbClr val="404040"/>
                </a:solidFill>
                <a:latin typeface="Trebuchet MS"/>
              </a:rPr>
              <a:t>Задача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506520" indent="-5065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Наступление нового года вызывало естественное желание для казаков предсказать и как-то повлиять на будущее. Казачки лепили вареники, некоторые из них начиняли овечьей шерстью (к богатству), монетами (к деньгам), солью (к слезам), перцем (к горю)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506520" indent="-5065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Казачка налепила 90 вареников.  из них 30% были предсказательными. Сколько было обычных вареников?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1" name="Picture 2" descr="Использование средств минерального происхождения в этномедицине кубанских казаков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413000"/>
            <a:ext cx="3643200" cy="44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90c226"/>
                </a:solidFill>
                <a:latin typeface="Trebuchet MS"/>
              </a:rPr>
              <a:t>Часть доходов казаки получали из военной добычи, часть – жалование государственное. К хозяйственной жизни относились охота, рыболовство, земледелие и скотоводство</a:t>
            </a:r>
            <a:endParaRPr b="0" lang="en-US" sz="1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3" name="Picture 4" descr="Картинка 11 из 35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2492280"/>
            <a:ext cx="3087720" cy="21877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468360" y="2491920"/>
            <a:ext cx="4829040" cy="26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ru-RU" sz="2500" spc="-1" strike="noStrike">
                <a:solidFill>
                  <a:srgbClr val="404040"/>
                </a:solidFill>
                <a:latin typeface="Trebuchet MS"/>
              </a:rPr>
              <a:t>Задача</a:t>
            </a:r>
            <a:r>
              <a:rPr b="0" i="1" lang="en-US" sz="2500" spc="-1" strike="noStrike">
                <a:solidFill>
                  <a:srgbClr val="404040"/>
                </a:solidFill>
                <a:latin typeface="Trebuchet MS"/>
              </a:rPr>
              <a:t> 5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ля 8 коров в зимнее время казак ежедневно заготовляет 80 кг сена, 96 кг корнеплодов, 120 кг силоса. Определить ежедневный расход этих кормов для 18 коров</a:t>
            </a:r>
            <a:r>
              <a:rPr b="0" lang="ru-RU" sz="1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Рисунок 5" descr=""/>
          <p:cNvPicPr/>
          <p:nvPr/>
        </p:nvPicPr>
        <p:blipFill>
          <a:blip r:embed="rId1"/>
          <a:srcRect l="0" t="14288" r="0" b="0"/>
          <a:stretch/>
        </p:blipFill>
        <p:spPr>
          <a:xfrm>
            <a:off x="401760" y="1989000"/>
            <a:ext cx="6762600" cy="408960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Рефлексия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выводы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09120" y="2160360"/>
            <a:ext cx="6348600" cy="155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Данная презентация сделана с использованием задач, решив которые ученик узнает интересные факты из истории казачества. Математика присутствует во всех сферах жизни, в том числе и в истор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Рисунок 1" descr=""/>
          <p:cNvPicPr/>
          <p:nvPr/>
        </p:nvPicPr>
        <p:blipFill>
          <a:blip r:embed="rId1"/>
          <a:srcRect l="14565" t="0" r="13776" b="0"/>
          <a:stretch/>
        </p:blipFill>
        <p:spPr>
          <a:xfrm>
            <a:off x="250920" y="44280"/>
            <a:ext cx="8642160" cy="677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Рисунок 1" descr=""/>
          <p:cNvPicPr/>
          <p:nvPr/>
        </p:nvPicPr>
        <p:blipFill>
          <a:blip r:embed="rId1"/>
          <a:stretch/>
        </p:blipFill>
        <p:spPr>
          <a:xfrm>
            <a:off x="0" y="-23760"/>
            <a:ext cx="9209160" cy="69181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29920" y="210636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90c226"/>
                </a:solidFill>
                <a:latin typeface="Trebuchet MS"/>
              </a:rPr>
              <a:t>Пропорция в быту казака.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Цели работы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оставление задач по историческим фактам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Изучение истории с помощью математик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Знакомство с интересными фактами из жизни казаков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90c226"/>
                </a:solidFill>
                <a:latin typeface="Trebuchet MS"/>
              </a:rPr>
              <a:t>Казачество на протяжении веков являлось универсальным родом вооруженных сил. Про казаков говорили, что они рождались в седле. Во все времена они считались великолепными наездниками, не знавшими себе равных в искусстве джигитовки</a:t>
            </a:r>
            <a:r>
              <a:rPr b="0" lang="ru-RU" sz="1400" spc="-1" strike="noStrike">
                <a:solidFill>
                  <a:srgbClr val="90c226"/>
                </a:solidFill>
                <a:latin typeface="Trebuchet MS"/>
              </a:rPr>
              <a:t>.</a:t>
            </a:r>
            <a:endParaRPr b="0" lang="en-US" sz="14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0" name="p51821413" descr="51821413"/>
          <p:cNvPicPr/>
          <p:nvPr/>
        </p:nvPicPr>
        <p:blipFill>
          <a:blip r:embed="rId1"/>
          <a:stretch/>
        </p:blipFill>
        <p:spPr>
          <a:xfrm>
            <a:off x="4500720" y="2276640"/>
            <a:ext cx="3809880" cy="2455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21" name=""/>
          <p:cNvSpPr txBox="1"/>
          <p:nvPr/>
        </p:nvSpPr>
        <p:spPr>
          <a:xfrm>
            <a:off x="206280" y="2276640"/>
            <a:ext cx="447048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>
                <a:solidFill>
                  <a:srgbClr val="404040"/>
                </a:solidFill>
                <a:latin typeface="Trebuchet MS"/>
              </a:rPr>
              <a:t>Задача </a:t>
            </a:r>
            <a:r>
              <a:rPr b="0" i="1" lang="en-US" sz="2000" spc="-1" strike="noStrike">
                <a:solidFill>
                  <a:srgbClr val="404040"/>
                </a:solidFill>
                <a:latin typeface="Trebuchet MS"/>
              </a:rPr>
              <a:t>1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1" lang="ru-RU" sz="2000" spc="-1" strike="noStrike">
                <a:solidFill>
                  <a:srgbClr val="404040"/>
                </a:solidFill>
                <a:latin typeface="Trebuchet MS"/>
              </a:rPr>
              <a:t>В казачьем полку было 320 казаков. Из них 75% - донских, остальные – кубанские. Подсчитайте сколько каких казаков было в полку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90c226"/>
                </a:solidFill>
                <a:latin typeface="Trebuchet MS"/>
              </a:rPr>
              <a:t>Общие вопросы жизни казаки они обсуждали на общем круге(собрании). Там же выбирались атаманы и старшины</a:t>
            </a:r>
            <a:endParaRPr b="0" lang="en-US" sz="1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3" name="Picture 4" descr="Картинка 218 из 35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16360" y="4581360"/>
            <a:ext cx="2938320" cy="21369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364680" y="1117080"/>
            <a:ext cx="6837480" cy="35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ctr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ru-RU" sz="2400" spc="-1" strike="noStrike">
                <a:solidFill>
                  <a:srgbClr val="404040"/>
                </a:solidFill>
                <a:latin typeface="Trebuchet MS"/>
              </a:rPr>
              <a:t>Задача </a:t>
            </a:r>
            <a:r>
              <a:rPr b="0" i="1" lang="en-US" sz="2400" spc="-1" strike="noStrike">
                <a:solidFill>
                  <a:srgbClr val="404040"/>
                </a:solidFill>
                <a:latin typeface="Trebuchet MS"/>
              </a:rPr>
              <a:t>2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     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На казачий круг собралось 40 казаков. Из них 8 казаков высокого чину. Какую часть всех казаков составляют высокопоставленные чины? Сколько процентов от всех собравшихся простых казаков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62472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90c226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90c226"/>
                </a:solidFill>
                <a:latin typeface="Trebuchet MS"/>
              </a:rPr>
              <a:t>«Для того казак родится, чтоб царю на службе пригодиться» — гласит старинная казачья поговорка</a:t>
            </a:r>
            <a:endParaRPr b="0" lang="en-US" sz="1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6" name="Picture 4" descr="Картинка 101 из 35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63640" y="1484280"/>
            <a:ext cx="3548160" cy="21859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323640" y="3670200"/>
            <a:ext cx="745956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ru-RU" sz="2000" spc="-1" strike="noStrike">
                <a:solidFill>
                  <a:srgbClr val="404040"/>
                </a:solidFill>
                <a:latin typeface="Trebuchet MS"/>
              </a:rPr>
              <a:t>Задача </a:t>
            </a:r>
            <a:r>
              <a:rPr b="0" i="1" lang="en-US" sz="2000" spc="-1" strike="noStrike">
                <a:solidFill>
                  <a:srgbClr val="404040"/>
                </a:solidFill>
                <a:latin typeface="Trebuchet MS"/>
              </a:rPr>
              <a:t>3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о время тренировки по стрельбе казаки сделали 560 выстрелов. При этом 42 пули вообще не попали в мишени, 35 пуль попали «в молоко». Определите сколько процентов составляют: 1) пули, попавшие в зачет; 2) пули не попавшие в мишень 3) пули попавшие в молоко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5"/>
          <p:cNvSpPr/>
          <p:nvPr/>
        </p:nvSpPr>
        <p:spPr>
          <a:xfrm>
            <a:off x="777960" y="30240"/>
            <a:ext cx="460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Физкультминутка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Прямоугольник 6"/>
          <p:cNvSpPr/>
          <p:nvPr/>
        </p:nvSpPr>
        <p:spPr>
          <a:xfrm>
            <a:off x="395280" y="1052640"/>
            <a:ext cx="4572000" cy="44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-за парт мы быстро встал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а месте зашагал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потом мы улыбнулись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ше-выше потянулись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и – встали, сели – встал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минутку сил набрались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ечи ваши распрямите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нимите, опустите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раво, влево повернитес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за парту вновь садитес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0" name="Picture 4" descr="C:\Users\Артём\Desktop\мама\0000000001.jpg"/>
          <p:cNvPicPr/>
          <p:nvPr/>
        </p:nvPicPr>
        <p:blipFill>
          <a:blip r:embed="rId1"/>
          <a:stretch/>
        </p:blipFill>
        <p:spPr>
          <a:xfrm>
            <a:off x="4716360" y="1700280"/>
            <a:ext cx="2951280" cy="295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90c226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90c226"/>
                </a:solidFill>
                <a:latin typeface="Trebuchet MS"/>
              </a:rPr>
              <a:t>Казаки в союзе с Русским царством заселили низовья Волги, Яика и Терека, а также обширные территории в Сибири, и стали основой новых войск.</a:t>
            </a:r>
            <a:br>
              <a:rPr sz="1800"/>
            </a:br>
            <a:endParaRPr b="0" lang="en-US" sz="1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2" name="Picture 4" descr="Картинка 108 из 35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928880"/>
            <a:ext cx="3087720" cy="38052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3492360" y="2198520"/>
            <a:ext cx="4662720" cy="25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ctr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ru-RU" sz="2000" spc="-1" strike="noStrike">
                <a:solidFill>
                  <a:srgbClr val="404040"/>
                </a:solidFill>
                <a:latin typeface="Trebuchet MS"/>
              </a:rPr>
              <a:t>Задача </a:t>
            </a:r>
            <a:r>
              <a:rPr b="0" i="1" lang="en-US" sz="2000" spc="-1" strike="noStrike">
                <a:solidFill>
                  <a:srgbClr val="404040"/>
                </a:solidFill>
                <a:latin typeface="Trebuchet MS"/>
              </a:rPr>
              <a:t>4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    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Жалование Есаула составляло 75% от жалования Атамана. Сколько получал Атаман, если Есаул получал 73р 20к?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5T15:48:44Z</dcterms:created>
  <dc:creator>user</dc:creator>
  <dc:description/>
  <dc:language>en-US</dc:language>
  <cp:lastModifiedBy>Ученик11</cp:lastModifiedBy>
  <dcterms:modified xsi:type="dcterms:W3CDTF">2022-12-08T11:48:21Z</dcterms:modified>
  <cp:revision>37</cp:revision>
  <dc:subject/>
  <dc:title>Слайд 1</dc:title>
</cp:coreProperties>
</file>