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FD3-3D0C-4978-B413-3CE2D905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C0B-5520-4BFB-8A06-6CD0DA4D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834-A3BD-4134-A559-5FA2749E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0E4-4743-47EF-B4F2-C81CC759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C609-400A-4BBC-83D1-58576474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DF4-BD4E-4D1A-9DE2-7EB1509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9ADF-ED89-45CC-9DE7-E408C6F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33D8-23A5-4225-8D9A-47AB2E46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FFC5-E953-41F7-8CB1-D3EE7D6A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DE1D-EF3B-4932-A070-8CFBE774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FB58-7E18-41E9-822A-65747B0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17F-98ED-4444-BB95-E71883E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38F6-06D0-4363-B8B8-11F9085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A3C2-D526-4958-91F4-79EED68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E4E1-803D-48F4-BAFB-BC69522F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3F3-A5F6-4783-A4A1-01E2829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D12-AC05-4E60-A255-2471F705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CC6-A16C-4F56-A1B6-09D99FFD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F29-AD8E-45F4-B0EE-14E2F1BE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467-8FC0-4253-89FE-7FA53189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51E-57A0-4E8C-974B-D21115E9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993-7624-4EA6-A434-32AACAE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9D0-8694-458C-A3B9-7CED866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7C5-5AC8-4197-824D-3A1C8CA9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A0E5-4848-48AB-A232-492AF27D77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703C-63F6-4E4F-A53F-08A658B1A91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Развитие логического мышления у детей дошкольного возраста в процессе игр с нестандартным дидактическим материалом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бош Наталия Владимир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крестики-нолик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ак обычная игра, которую рисуют на листочках. Игроки по очереди прилепляют на свободные клетки поля кружки с изображениями крестиков и ноликов. Выиграет тот, кто первым выстроит в ряд 3 своих нолика (крестика) по вертикале, горизонтали или диагона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ажнение «Учимся считать, сравнивать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предложить детям прилепить на пустом поле от 1 до 9 кружков с цифрами, ноликами или крестиками. И также познакомить их с понятиями «поровну», «больше», «меньше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Иг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де находится крестик (нолик), скажи и покажи?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того чтобы уточнить пространственные представления, можно предложить ребёнку прилепить 1 крестик и 1 нолик, и спросить, что находится справа, а что – слева. Так же можно расположить одну фигуру под другой, при этом попросить ребёнка словесно обозначить взаиморасположение фигур. Так же это задание можно усложнить: педагог говорит в каком направлении надо передвинуть фигуру, при этом ребёнок выполняет инструкцию педаго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ая головоломка квадрат «Тетрис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шать логические задач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амять, мышление, внимание, воображе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етскую самостоятельность в решении поставленных задач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вариативное мышление, умение аргументировать свои высказы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дидактическая игра-головоломка напоминает собой тетрис, но не плоский, а объёмный. Представляет собой основание с 9-ю столбиками и 15 фигурных дета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– плоские, разной длины, с разным числом отверст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од игр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Тетрис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необходимо уложить 15 фигурных деталей на столбики расположенные в 3 ряда по 3 в каждом, не допуская пустот между ними и «свисающих» ча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гре 5 рядов фигурных деталей, каждый ряд состоит из 3-х детале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ть игры заключается в заполнении пространства квадрата, фигурами различной формы и ц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738562083474.mp4" descr=""/>
          <p:cNvPicPr/>
          <p:nvPr/>
        </p:nvPicPr>
        <p:blipFill>
          <a:blip r:embed="rId1"/>
          <a:stretch/>
        </p:blipFill>
        <p:spPr>
          <a:xfrm>
            <a:off x="-685800" y="54000"/>
            <a:ext cx="10742760" cy="6804000"/>
          </a:xfrm>
          <a:prstGeom prst="rect">
            <a:avLst/>
          </a:prstGeom>
          <a:ln w="0">
            <a:noFill/>
          </a:ln>
        </p:spPr>
      </p:pic>
      <p:pic>
        <p:nvPicPr>
          <p:cNvPr id="120" name="Pesnya_pro_detskij_sad_-_Detskij_sad_-_A._Filippenko_(iPleer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52280"/>
            <a:ext cx="784872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особое место в процессе развития логического мышления отводится математическим заданиям. Это обосновано тем, что ни одна другая наука не даёт возможность глубокого и осмысленного перехода от наглядно-действенного к образному, а, затем, и к логическому мышлению. Кроме того, математические знания предполагают изучение в чистом виде процессов анализа и синтеза через классификацию, группирование, сравнение, что даёт ребёнку возможность самому выводить новые знания из уже известных, или вновь узнаваемых во всех существующих направлениях нау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ошкольника мыслить логически – означает вооружить его необходимыми инструментами для успешного обучения в школе, научить рационально и продуманно вести себя в любой ситуации, находить выход из трудного положения, целесообразно вести себя в социуме и природе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152280"/>
            <a:ext cx="7772400" cy="59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процесс обучения дошкольников с помощью нестандартного дидактического материала идет через игру и игровые упражн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позволяют организовать сложный процесс освоения знаний в интересной для ребёнка форме, придавая умственной деятельности увлекательный, занимательный характе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могут непосредственно включаться в занятие или проходить в свободное от занятий время как индивидуально, так и с небольшой подгруппой де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логических иг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витие логического мышления, как основы интеллектуального развития дошкольников в процессе развивающей игры.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и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учать поддерживать отношения сотрудничества с окружающими людь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ать логическим приемам работы с объектом или множеством (сравнения, обобщения, абстрагирования, деления, анализа, синтез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) на материале логических блоков Дьенеша, палочек Кюзенера, кубиков Никитин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45720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я о математических понятиях алгорит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и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произвольность воображения, внимания, памяти,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остранственное мышление, сенсомоторную координацию у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способность комбинировать как основу творче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умение работать по инструкции; планировать и отслеживать результат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15228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ы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ть комфортный эмоциональный микроклимат, в котором каждый ребенок чувствует себя принятым, защищенным и успешны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ть проявление инициативы, любознательности, отзывчивости, самостоятельности, настойчивости каждого ребе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имулировать интерес к самостоятельному освоению игр, изображений, материалов, инструментов, техник, созданию нового образ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ать игровую культуру детям и взросл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638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дактическая логическая игра «Крестики-нолик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логического мышления у детей 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зовательные задач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детей с правилами игры в «Крестики-нолики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лять у старших дошкольников умения различать понятия «вертикально», «горизонтально» и «по диагонали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ть логическими операци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3000" y="152280"/>
            <a:ext cx="7812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ие 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и совершенствовать у детей старшего дошкольного возраста пространственные представл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у детей устойчивый навык к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мыслительные операции, восприятие, память, внима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мелкой моторики рук, развитию внимания, логического мышления, памяти и речи детей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ные задачи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зывать радостные эмо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готовление настольной игры «Крестики-нолики» своими ру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79292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анная дидактическая игра связана крючком из пряжи белого и голубого цвета, коврик и кружки с крестиками и ноликами, также кружки с цифрами из тесьмы розового цвета, разноцветные цветки, липучка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</cp:lastModifiedBy>
  <dcterms:modified xsi:type="dcterms:W3CDTF">2022-12-08T17:20:5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