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BB4-649D-41A8-9D6B-705AC065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440-7BE1-448C-83BF-3AC63B1D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74A-D41E-4140-A7A0-11B063A3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2D7-6073-456B-B1C3-C93450EF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C433-7A6E-4F61-B6AA-9BC46DAD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5F67-D07A-4304-93E5-1072C27D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15D3-73BC-4ABB-B1F8-F9BFF55B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E50C-3D46-4713-A312-732E97B3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6D55-DF66-4817-90F2-06FAA792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2A6F-678C-4900-A015-C110F69B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7611-A82E-43C5-86EA-FA54CA57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018-8A2F-4640-BE18-C61A8E41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3642-EDB9-4D1D-AA91-48623AE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8082-F6C1-4403-AC7A-198E70A9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2216-8F83-4A33-9C9A-0941B1C5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858B-BBC5-4672-A4B5-EF31E01D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A21C-8CC9-4F97-B095-FF3B1126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BB1-4077-4DB1-A4C4-A7B22654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646-D4D9-4190-84C8-9D08641B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58B-B192-4D0E-9A11-42992C61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40C-BF11-4BAC-8788-8E0FA4EC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DE7-3EEF-49F3-9406-E8E03615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1B2-6552-4019-9076-10BA9B0E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09C-591E-4EE2-926F-5A3E4AB0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99F9-4E3A-40D8-A65B-AEA9ED9C93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876D-3CE6-4F18-9742-618F17E6AAE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Развитие логического мышления у детей дошкольного возраста в процессе игр с нестандартным дидактическим материалом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бош Наталия Владимиро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а «крестики-нолик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как обычная игра, которую рисуют на листочках. Игроки по очереди прилепляют на свободные клетки поля кружки с изображениями крестиков и ноликов. Выиграет тот, кто первым выстроит в ряд 3 своих нолика (крестика) по вертикале, горизонтали или диагона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ажнение «Учимся считать, сравнивать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но предложить детям прилепить на пустом поле от 1 до 9 кружков с цифрами, ноликами или крестиками. И также познакомить их с понятиями «поровну», «больше», «меньше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Иг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де находится крестик (нолик), скажи и покажи?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того чтобы уточнить пространственные представления, можно предложить ребёнку прилепить 1 крестик и 1 нолик, и спросить, что находится справа, а что – слева. Так же можно расположить одну фигуру под другой, при этом попросить ребёнка словесно обозначить взаиморасположение фигур. Так же это задание можно усложнить: педагог говорит в каком направлении надо передвинуть фигуру, при этом ребёнок выполняет инструкцию педаго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ая головоломка квадрат «Тетрис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ешать логические задач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амять, мышление, внимание, воображен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детскую самостоятельность в решении поставленных задач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вариативное мышление, умение аргументировать свои высказы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дидактическая игра-головоломка напоминает собой тетрис, но не плоский, а объёмный. Представляет собой основание с 9-ю столбиками и 15 фигурных дета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и – плоские, разной длины, с разным числом отверст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90720" y="38088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а «Тетрис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необходимо уложить 15 фигурных деталей на столбики расположенные в 3 ряда по 3 в каждом, не допуская пустот между ними и «свисающих» ча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игре 5 рядов фигурных деталей, каждый ряд состоит из 3-х детале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ть игры заключается в заполнении пространства квадрата, фигурами различной формы и ц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738562083474.mp4" descr=""/>
          <p:cNvPicPr/>
          <p:nvPr/>
        </p:nvPicPr>
        <p:blipFill>
          <a:blip r:embed="rId1"/>
          <a:stretch/>
        </p:blipFill>
        <p:spPr>
          <a:xfrm>
            <a:off x="-685800" y="54000"/>
            <a:ext cx="10742760" cy="6804000"/>
          </a:xfrm>
          <a:prstGeom prst="rect">
            <a:avLst/>
          </a:prstGeom>
          <a:ln w="0">
            <a:noFill/>
          </a:ln>
        </p:spPr>
      </p:pic>
      <p:pic>
        <p:nvPicPr>
          <p:cNvPr id="120" name="Pesnya_pro_detskij_sad_-_Detskij_sad_-_A._Filippenko_(iPleer.co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52280"/>
            <a:ext cx="7848720" cy="59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особое место в процессе развития логического мышления отводится математическим заданиям. Это обосновано тем, что ни одна другая наука не даёт возможность глубокого и осмысленного перехода от наглядно-действенного к образному, а, затем, и к логическому мышлению. Кроме того, математические знания предполагают изучение в чистом виде процессов анализа и синтеза через классификацию, группирование, сравнение, что даёт ребёнку возможность самому выводить новые знания из уже известных, или вновь узнаваемых во всех существующих направлениях нау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пасибо за внимание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ошкольника мыслить логически – означает вооружить его необходимыми инструментами для успешного обучения в школе, научить рационально и продуманно вести себя в любой ситуации, находить выход из трудного положения, целесообразно вести себя в социуме и природе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90720" y="152280"/>
            <a:ext cx="7772400" cy="59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процесс обучения дошкольников с помощью нестандартного дидактического материала идет через игру и игровые упражн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позволяют организовать сложный процесс освоения знаний в интересной для ребёнка форме, придавая умственной деятельности увлекательный, занимательный характе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могут непосредственно включаться в занятие или проходить в свободное от занятий время как индивидуально, так и с небольшой подгруппой де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 логических игр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витие логического мышления, как основы интеллектуального развития дошкольников в процессе развивающей игры.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учающие 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учать поддерживать отношения сотрудничества с окружающими людь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ать логическим приемам работы с объектом или множеством (сравнения, обобщения, абстрагирования, деления, анализа, синтез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) на материале логических блоков Дьенеша, палочек Кюзенера, кубиков Никитин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457200"/>
            <a:ext cx="777240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ть представления о математических понятиях алгорит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ие 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произвольность воображения, внимания, памяти, по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ть пространственное мышление, сенсомоторную координацию у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способность комбинировать как основу творчест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умение работать по инструкции; планировать и отслеживать результат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15228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ные 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ть комфортный эмоциональный микроклимат, в котором каждый ребенок чувствует себя принятым, защищенным и успешны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ощрять проявление инициативы, любознательности, отзывчивости, самостоятельности, настойчивости каждого ребе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имулировать интерес к самостоятельному освоению игр, изображений, материалов, инструментов, техник, созданию нового образ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ать игровую культуру детям и взрослы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14200"/>
            <a:ext cx="8638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дактическая логическая игра «Крестики-нолики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логического мышления у детей стар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зовательные задач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детей с правилами игры в «Крестики-нолики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еплять у старших дошкольников умения различать понятия «вертикально», «горизонтально» и «по диагонали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ладеть логическими операци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3000" y="152280"/>
            <a:ext cx="7812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ие 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ть и совершенствовать у детей старшего дошкольного возраста пространственные представл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ть у детей устойчивый навык к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мыслительные операции, восприятие, память, вниман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мелкой моторики рук, развитию внимания, логического мышления, памяти и речи детей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ные задачи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зывать радостные эмо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готовление настольной игры «Крестики-нолики» своими рук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779292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анная дидактическая игра связана крючком из пряжи белого и голубого цвета, коврик и кружки с крестиками и ноликами, также кружки с цифрами из тесьмы розового цвета, разноцветные цветки, липучка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ия</cp:lastModifiedBy>
  <dcterms:modified xsi:type="dcterms:W3CDTF">2022-12-08T17:20:5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