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A9BF-3F16-406A-A8B1-54E209BA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8D5E-105E-4D57-A631-BD260D41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6AA-23C2-4BA1-B333-ABD6001B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604-A40B-466B-B840-DA7AEF22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363E-BFDA-4BCC-9981-BFA84C07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58E7-661E-4F5A-9837-AB822171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8215-708C-4F19-88ED-7CB06B26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30A2-14E9-42B3-B723-388AE2F9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0117-3381-47AC-A4E4-87882F12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AA19-5E66-4F3D-BD78-A3D60FAD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E080-4D07-4494-922F-AC687168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7CA0-406C-4385-995C-74D9D899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24DA-38EF-4B58-83C2-EF268631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0D5E-4EE6-4A46-BC5D-951E667F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C859-3BF7-4BBF-86A8-80B23AF8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2360-A2C1-4471-B019-6D6D1653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EBC8-0262-46ED-A3EB-70DF7C2F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253A1-EA02-4BED-ABA8-0285AE6D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230DC-136B-4FA5-8975-32315220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5448B-D8F4-47CA-A094-B256B996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9A9FE-026C-48A2-A716-6F23EF9D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7E3FC-844D-4753-9E32-F9CCDE75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83AF-14F5-485B-BDB7-B5E49C65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03B24-E329-4247-B732-E322DC28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7C6CA-E473-4D96-93D2-B874C2F4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50AE5-99B0-4023-AEB7-0AD4C5ED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08FC9-DFAE-4560-ADBB-607D6F27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1D396-B728-4189-8B47-A20C2EF8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85515-0A79-4C55-8D13-06B7FF5A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A2903-F987-4365-AD79-C2853644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432DC-62C5-4F17-AB1B-C8BB2214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3EB1A-ED93-4EC1-91DE-FB149E4B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DBEF2-709F-4783-95AA-3254614A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4376-3397-46A9-86DE-3D243910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27D8B-09F8-47C0-9031-D9519DA7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2A8C5-809B-4E19-AAD1-344EFE69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15152-70B7-4415-9E98-94644F95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45E0A-50C3-41C9-863E-E94A146E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699A7-1215-43F8-A344-F02E2A03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CC16C-8993-436F-9F46-1223B94D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5D059-3396-4732-9526-2ECA032F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182DB-3612-499B-A84B-A4A4F4D1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D36D9-B42F-423B-AE78-BD50103E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9A73F-2907-45D3-9CBA-B399F142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715-D532-4DB1-9BCC-7E1031EC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0E267-21C2-4957-B082-6A8045FE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7F093-9B53-4E29-8045-BA98B16A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12519-531A-4575-9618-868C287A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B0FFA-8DA0-443E-BE5A-7952D537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A60B3-829F-4F78-AE07-B8EBE611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16C7B-9369-4ADE-A0D0-B984A211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E205F-BDEA-4E73-AB4B-022760F0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B6028-E858-4440-A552-C0427639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7BD8E-F52B-4736-A40C-132A32C9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BCDAD-EC00-4C68-A836-64181979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1C4E-CCE0-4033-87B4-2828796A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2F652-382F-4F84-9123-EC50F73C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C7574-2843-4249-975B-AE2996F3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4C3A0-4D6E-4D31-9273-52A6EBCD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9840B-5CF0-4F98-9F0B-95117081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B6450-459E-4A27-9CF4-7CD09D2D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48340-E4E1-4CD5-82B0-3DD5DACA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F65EB-E181-4D12-B9B7-2627451D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E5B2E-D2F5-4831-9230-B954351A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D3B9B-88CA-4CAF-AB53-8CA1D365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2F2D6-BC43-4E23-87D8-7899DF1A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CA90-B99A-4EE2-9AF6-9F677FEA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18110-9798-4A9A-A45E-7368B078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40134-091E-4A5E-A2CC-AE4DD027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76059-1AF5-4E6F-8678-6A0B65FA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0184B-EA63-4356-85B5-8685E818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34F56-E9E0-4ADA-99FE-F8C91C1D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E518F-3128-4A6F-A48F-EF37FFBC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BA585-F6F5-41F3-8FB1-0876179E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D10FD-7645-4AF1-9225-03717507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52B02-AEC7-40E7-9597-BFA708EB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EB654-7061-40EE-88FA-773CC540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504-0850-4E10-8C30-B57EEBD7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FB45A-C45F-4CCD-A13E-5158D16D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F9BBD-85DD-422B-B57D-B70CB85C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682BA-3017-4BB4-8C12-A73C5B26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67261-9049-4343-88D3-8F3A33CD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84930-D1A2-4CF6-9DC3-DFA30164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989-8EC3-4DA7-9F98-33F4ADE5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3DE1-0644-40D7-B584-1ED869D67B3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AA07-E157-4CCF-8402-A397BADB010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9B35-CF37-4270-97D9-0428A2E62AE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1CF5-DE32-4EFC-8BCB-75D5A3359A7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103A-79F7-4420-86CA-34CFB2C0FC1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DEC9-0AEB-4AE5-B78F-F793D35A4D6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84FA-3097-43E6-932C-504CF6BDCD0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40872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юмень – главный город Тюменской област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6" name="Объект 3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59152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амятники Тюмен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4167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амятники Тюмен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4167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29008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ост влюбленных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603680" cy="3070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Мост влюбленных, Мост влюбленных, Любительская съемка, Тюмень."/>
          <p:cNvPicPr/>
          <p:nvPr/>
        </p:nvPicPr>
        <p:blipFill>
          <a:blip r:embed="rId2"/>
          <a:stretch/>
        </p:blipFill>
        <p:spPr>
          <a:xfrm>
            <a:off x="4427640" y="3753000"/>
            <a:ext cx="450036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Объект 3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095880" cy="40654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0" name="Объект 3" descr=""/>
          <p:cNvPicPr/>
          <p:nvPr/>
        </p:nvPicPr>
        <p:blipFill>
          <a:blip r:embed="rId2"/>
          <a:stretch/>
        </p:blipFill>
        <p:spPr>
          <a:xfrm>
            <a:off x="1474920" y="2276640"/>
            <a:ext cx="60958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66440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Объект 3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96160" cy="44974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ndara"/>
              </a:rPr>
              <a:t>Город Тюмень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Это большой , красивый и чистый город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1" name="Объект 5" descr=""/>
          <p:cNvPicPr/>
          <p:nvPr/>
        </p:nvPicPr>
        <p:blipFill>
          <a:blip r:embed="rId1"/>
          <a:stretch/>
        </p:blipFill>
        <p:spPr>
          <a:xfrm>
            <a:off x="395280" y="1362240"/>
            <a:ext cx="824724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Достопримечательности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юмен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7644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Цирк города Тюмен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Объект 6" descr=""/>
          <p:cNvPicPr/>
          <p:nvPr/>
        </p:nvPicPr>
        <p:blipFill>
          <a:blip r:embed="rId1"/>
          <a:stretch/>
        </p:blipFill>
        <p:spPr>
          <a:xfrm>
            <a:off x="789120" y="3429000"/>
            <a:ext cx="3597120" cy="26971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4832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Памятник железнодорожникам фронта и тыла в Тюмен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6" name="Объект 7" descr=""/>
          <p:cNvPicPr/>
          <p:nvPr/>
        </p:nvPicPr>
        <p:blipFill>
          <a:blip r:embed="rId2"/>
          <a:stretch/>
        </p:blipFill>
        <p:spPr>
          <a:xfrm>
            <a:off x="4645080" y="3503520"/>
            <a:ext cx="38224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База отдыха города Тюмень «Верхний бор»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Объект 9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68436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квер памятник Сибирским кошкам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54696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Городской пар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" descr="Награды парка в Тюмени."/>
          <p:cNvPicPr/>
          <p:nvPr/>
        </p:nvPicPr>
        <p:blipFill>
          <a:blip r:embed="rId1"/>
          <a:stretch/>
        </p:blipFill>
        <p:spPr>
          <a:xfrm>
            <a:off x="324000" y="1125360"/>
            <a:ext cx="4354200" cy="28846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Городской парк культуры и отдыха в Тюмени."/>
          <p:cNvPicPr/>
          <p:nvPr/>
        </p:nvPicPr>
        <p:blipFill>
          <a:blip r:embed="rId2"/>
          <a:stretch/>
        </p:blipFill>
        <p:spPr>
          <a:xfrm>
            <a:off x="4716360" y="1557360"/>
            <a:ext cx="4057920" cy="30481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В темное время суток включаются многочисленные фонари, делая сквер... "/>
          <p:cNvPicPr/>
          <p:nvPr/>
        </p:nvPicPr>
        <p:blipFill>
          <a:blip r:embed="rId3"/>
          <a:stretch/>
        </p:blipFill>
        <p:spPr>
          <a:xfrm>
            <a:off x="900000" y="3860640"/>
            <a:ext cx="4211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амятники Тюмен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2895840" cy="38606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6300720" y="1700280"/>
            <a:ext cx="2640240" cy="39607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3203640" y="1484280"/>
            <a:ext cx="29289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4T07:45:35Z</dcterms:created>
  <dc:creator>Админ</dc:creator>
  <dc:description/>
  <dc:language>en-US</dc:language>
  <cp:lastModifiedBy>Людмила</cp:lastModifiedBy>
  <dcterms:modified xsi:type="dcterms:W3CDTF">2022-12-08T17:48:42Z</dcterms:modified>
  <cp:revision>10</cp:revision>
  <dc:subject/>
  <dc:title>Город Тюмень. </dc:title>
</cp:coreProperties>
</file>