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298-6013-4FB6-B914-D6DABA17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199-BD92-4479-81DA-1C67EE7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795-609D-4287-97F1-DA504F29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5CF-B707-45A7-85E8-A3CD92B8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D9D3-7275-4165-BD7E-4C8B04C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393-7C21-4051-AEAD-34A055B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A6E-CC0E-4F9C-96A8-6DF0004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8549-3E45-4891-8660-E156E8E5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F765-BD7B-49E7-ACA3-5DB8156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F2DA-E442-4642-922D-058D3F5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0E4E-B7D3-464F-AF83-F54A977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A82-5471-405A-807E-14DC4D6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8C0-466C-4215-AF7D-31625D1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98E-0C04-4C51-973F-154114A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97EE-EE8C-42F4-BC77-1D7E2E7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A1D-0B98-4804-BE09-783C496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E5B-FFC9-4F7C-82E0-8F5EAC88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3823-FFC0-487E-BD8D-1AE0B05C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6410-38E8-4035-87CA-2239AB17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3A2F-7AA4-4A53-8447-20A2A8C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A241-A0E2-4DF8-9E2E-A785F44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9F2B-DD50-4E53-9281-165453A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72B-98D7-47EA-AF7F-E064192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8F97-79D5-4427-88CF-A127D598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5D32-5D22-4FFA-BD94-069E10D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E8C9-B090-462B-8A3A-0E16AF7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6CA8-642E-4F48-81E9-04925F2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2CD8-9FAC-4126-9493-D3368CF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B90F-F9D8-4E74-A0A5-43440CED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2D0C-DFCC-4528-BCDC-ED82CC5C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DBAF-828C-48B2-B7E9-605E1F26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38AD-5E2F-416C-A175-898D8BB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5E42-9C49-4326-B770-93A833F9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951-13FE-4F1F-941A-22E221C7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E85F-8701-4AE8-91D6-F526464D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05E8-664C-449F-9D0C-50D48F2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6A59-B4AC-464E-A71B-2E2C86A8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2A21-4023-4A2E-91E4-78ACC47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8E1B-B343-413E-8539-E368E89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24CC-0FBF-40D3-986D-6EF8539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6067-B766-4DA8-9940-164F0DE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37CE-5A1A-4EF5-802A-DB3EB4BC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5BAC-77A6-40EA-BDCA-0BDFAC4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0823-7ED9-479C-BF94-07C841DA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387-A958-4687-BF59-EA55A0B3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7C5E-1016-4ABA-9348-BF450B5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CA819-D273-49B1-A0D3-2743203A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74675-DFC7-4EC0-A634-77E9763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35B4-A55F-4738-B094-BB60BD6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10F0-2778-4F98-B56A-B58A53F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A1F0-0959-446B-9C49-CB0363B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DD48-A28E-4EB3-8904-584F31F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5A7A-9D49-4686-A50E-F3C3662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B884-2CE9-4859-A986-ACE31DAD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1227-F2B7-4510-9C9A-901F38B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3C8-52EA-4037-92FF-1054836D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8222B-9ACA-4060-BF94-A373CFC6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02DE-E87D-4568-A7C0-D385D321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06C4-2605-4705-996B-5817CF2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7E72-148E-4658-B00E-B73C4687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9B8D-8DFD-46E9-BCD2-3FB5070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D4B9-3499-42FA-B528-A0DA6E99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68C7-86B1-4365-9CCB-14A7761F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8277-D109-466F-894A-5193B07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0A26-9580-4920-8CE6-67A00BC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5064-EA90-4292-A197-2BF5E21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F3C-9D16-4424-BE5F-8C3CBC5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6A5F-E40A-4303-B366-264108E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946F-0B36-474F-9E1B-26971E53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8106-C903-4B9E-8BB9-16A146EE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CC405-AFB9-4875-8CF1-451561E2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2540-D3A2-4D42-9E5D-4D9CB49E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D34E2-D955-45B3-BF3B-44CF0E7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928A-4E4F-4ED8-9632-4A82120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DC41-3D78-4E71-8D32-A0BC118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CE13-6B4F-4737-A4B3-83F3B543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967D-0565-4BC2-8378-D79A767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039-0F9E-4395-BC18-C9CF1D3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C44E-3E43-4C73-9AB8-F30F821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BE37-E7A1-48CA-9F86-2313F5F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BF10D-E5F4-46D0-87BB-2F7048E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C55B-74F7-405C-9061-FFE9F0B6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617E-28E4-47D5-8A87-A529FD77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282-20FE-4786-9A69-F5F3859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AA27-CA49-4411-9261-026BF5A788F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1F23-E363-4F6F-93FF-D9376981FD3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152-3CD4-475A-8FCC-F693804400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26A-88F9-4D73-8DD8-468184BD2E5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AF2B-1C39-4A9C-BBFE-9850ACD620E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3A1-AFA7-4243-9FAB-07C7BD7AFE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68AA-E977-4A4C-9704-B951E70CC6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юмень – главный город Тюменской област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5915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167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16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9008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ст влюбленны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03680" cy="3070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Мост влюбленных, Мост влюбленных, Любительская съемка, Тюмень."/>
          <p:cNvPicPr/>
          <p:nvPr/>
        </p:nvPicPr>
        <p:blipFill>
          <a:blip r:embed="rId2"/>
          <a:stretch/>
        </p:blipFill>
        <p:spPr>
          <a:xfrm>
            <a:off x="4427640" y="3753000"/>
            <a:ext cx="45003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095880" cy="4065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Объект 3" descr=""/>
          <p:cNvPicPr/>
          <p:nvPr/>
        </p:nvPicPr>
        <p:blipFill>
          <a:blip r:embed="rId2"/>
          <a:stretch/>
        </p:blipFill>
        <p:spPr>
          <a:xfrm>
            <a:off x="1474920" y="227664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644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96160" cy="44974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ndara"/>
              </a:rPr>
              <a:t>Город Тюмень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Это большой , красивый и чистый город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Объект 5" descr=""/>
          <p:cNvPicPr/>
          <p:nvPr/>
        </p:nvPicPr>
        <p:blipFill>
          <a:blip r:embed="rId1"/>
          <a:stretch/>
        </p:blipFill>
        <p:spPr>
          <a:xfrm>
            <a:off x="395280" y="1362240"/>
            <a:ext cx="82472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Достопримечательност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юм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Цирк города Тюмен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Объект 6" descr=""/>
          <p:cNvPicPr/>
          <p:nvPr/>
        </p:nvPicPr>
        <p:blipFill>
          <a:blip r:embed="rId1"/>
          <a:stretch/>
        </p:blipFill>
        <p:spPr>
          <a:xfrm>
            <a:off x="789120" y="3429000"/>
            <a:ext cx="3597120" cy="26971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Памятник железнодорожникам фронта и тыла в Тюмен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7" descr="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База отдыха города Тюмень «Верхний бор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9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8436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квер памятник Сибирским кошкам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546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ородской пар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" descr="Награды парка в Тюмени."/>
          <p:cNvPicPr/>
          <p:nvPr/>
        </p:nvPicPr>
        <p:blipFill>
          <a:blip r:embed="rId1"/>
          <a:stretch/>
        </p:blipFill>
        <p:spPr>
          <a:xfrm>
            <a:off x="324000" y="1125360"/>
            <a:ext cx="4354200" cy="2884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Городской парк культуры и отдыха в Тюмени."/>
          <p:cNvPicPr/>
          <p:nvPr/>
        </p:nvPicPr>
        <p:blipFill>
          <a:blip r:embed="rId2"/>
          <a:stretch/>
        </p:blipFill>
        <p:spPr>
          <a:xfrm>
            <a:off x="4716360" y="1557360"/>
            <a:ext cx="4057920" cy="3048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В темное время суток включаются многочисленные фонари, делая сквер... "/>
          <p:cNvPicPr/>
          <p:nvPr/>
        </p:nvPicPr>
        <p:blipFill>
          <a:blip r:embed="rId3"/>
          <a:stretch/>
        </p:blipFill>
        <p:spPr>
          <a:xfrm>
            <a:off x="900000" y="386064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95840" cy="3860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2640240" cy="3960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07:45:35Z</dcterms:created>
  <dc:creator>Админ</dc:creator>
  <dc:description/>
  <dc:language>en-US</dc:language>
  <cp:lastModifiedBy>Людмила</cp:lastModifiedBy>
  <dcterms:modified xsi:type="dcterms:W3CDTF">2022-12-08T17:48:42Z</dcterms:modified>
  <cp:revision>10</cp:revision>
  <dc:subject/>
  <dc:title>Город Тюмень. </dc:title>
</cp:coreProperties>
</file>